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9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819520"/>
            <a:ext cx="7089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Interfejs IEEE 488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440" y="4952880"/>
            <a:ext cx="7086600" cy="16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Historia standardu; własności interfejsu;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magistrala GPIB;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urządzenie i jego interfejs; rodzaje komunikatów;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funkcje interfejsowe 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Komunikaty na magistrali GPIB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200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omunikaty interfejsowe – rozkazy interfejsow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sy nadawania i odbioru dany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kazy ustawiające specyficzne stany zasobów funkcjonalnych interfejs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ki ASCII, którym przypisano szczególne znaczenie w odniesieniu do interfejsu GPI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omunikaty urządzeniow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ty programujące zasoby funkcjonalne urządzeń (podzakres, funkcję pomiarową, itp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ty odpowiedzi urządzeń ( wyniki pomiarów, stan ustawienia zasobu funkcjonalneg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jczęściej teksty w postaci ciągu znaków ASC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65400" cy="799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Komunikat interfejsowy (wielo-liniowy)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26" name="4012d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11480" cy="138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4267080" y="2895480"/>
            <a:ext cx="76212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3797280"/>
            <a:ext cx="82296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Komunikat interfejsowy 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iąg znaków ASCII, którym przypisano szczególne znaczenie w odniesieniu do interfejsu GPIB. Ich zadaniem jest ustawienie określonego stanu zasobów funkcjonalnych interfejsu urządzeń dołączonych do magistrali GPI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p.      ?_ 3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adresowanie urządze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adresowanie jednego z urządzeń do odbio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adresowanie jednego z urządzeń do nada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munikat interfejsowy wysyła zawsze kontroler bieżący interfejs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9440" y="5524200"/>
            <a:ext cx="812880" cy="559080"/>
            <a:chOff x="1549440" y="5524200"/>
            <a:chExt cx="812880" cy="559080"/>
          </a:xfrm>
        </p:grpSpPr>
        <p:sp>
          <p:nvSpPr>
            <p:cNvPr id="130" name=""/>
            <p:cNvSpPr/>
            <p:nvPr/>
          </p:nvSpPr>
          <p:spPr>
            <a:xfrm>
              <a:off x="1549440" y="571500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5905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3280" y="608328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816200" y="55368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943280" y="55368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49440" y="552420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Komunikat urządzeniowy (tekstowy)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19320" y="1981080"/>
            <a:ext cx="7543800" cy="2462040"/>
            <a:chOff x="1219320" y="1981080"/>
            <a:chExt cx="7543800" cy="2462040"/>
          </a:xfrm>
        </p:grpSpPr>
        <p:grpSp>
          <p:nvGrpSpPr>
            <p:cNvPr id="138" name=""/>
            <p:cNvGrpSpPr/>
            <p:nvPr/>
          </p:nvGrpSpPr>
          <p:grpSpPr>
            <a:xfrm>
              <a:off x="1219320" y="1981080"/>
              <a:ext cx="7543800" cy="1371600"/>
              <a:chOff x="1219320" y="1981080"/>
              <a:chExt cx="7543800" cy="1371600"/>
            </a:xfrm>
          </p:grpSpPr>
          <p:sp>
            <p:nvSpPr>
              <p:cNvPr id="139" name=""/>
              <p:cNvSpPr/>
              <p:nvPr/>
            </p:nvSpPr>
            <p:spPr>
              <a:xfrm>
                <a:off x="1219320" y="1981080"/>
                <a:ext cx="7543800" cy="1371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5640" y="2819160"/>
                <a:ext cx="2209680" cy="4287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unkcje pomiarowe, np.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DC, CDC, VAC, CAC, RES, ...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57600" y="2819160"/>
                <a:ext cx="2362320" cy="4287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odzakresy pomiarowe, np.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1, 1, 10, 100, 1000, ...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72200" y="2819160"/>
                <a:ext cx="2210040" cy="4287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zas całkowania, np. 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01, 0.1, 1, 10, ...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62640" y="2057040"/>
                <a:ext cx="251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rządzenie pomiarow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26760" y="2438280"/>
                <a:ext cx="681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.................................................  Zasoby funkcjonalne urządzenia .............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55760" y="4074840"/>
              <a:ext cx="61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&lt;Nagłówek&gt; [&lt;separator&gt;] &lt;argument&gt; [&lt;terminator&gt;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057400" y="2971440"/>
              <a:ext cx="0" cy="106704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057400" y="2971440"/>
              <a:ext cx="1676520" cy="106704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057400" y="2971440"/>
              <a:ext cx="4191120" cy="106704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14600" y="3199680"/>
              <a:ext cx="2209680" cy="838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724280" y="3199680"/>
              <a:ext cx="0" cy="838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724280" y="3199680"/>
              <a:ext cx="1752840" cy="838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5800" y="4495680"/>
            <a:ext cx="830592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Nagłów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znak alfabetu lub słowo kluczowe, wybiera zasób funkcjonaln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Separator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dzieli komunikat na nagłówek i argument; zwykle znak spacji; stosowany opcjonalni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Argumen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znak cyfry lub zapis dziesiątkowy liczby; ustala żądany stan zasobu funkcjonalneg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3300"/>
                </a:solidFill>
                <a:latin typeface="Arial"/>
              </a:rPr>
              <a:t>Terminator polece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określony arbitralnie znak ASCII; najczęściej znak &lt;NL&gt;; stosowany opcjonal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p.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2R3A2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lub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unction VDC; Range 19; Aperture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Linie magistrali GPIB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54" name="1412d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965400" cy="326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74120" y="5562720"/>
            <a:ext cx="4071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6 linii sygnał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 linii GND (linie skrętki z linią sygnałow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 linia masy (Grou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 linia ekranu (Shiel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2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287028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Linia IFC oraz REN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58" name="3" descr=""/>
          <p:cNvPicPr/>
          <p:nvPr/>
        </p:nvPicPr>
        <p:blipFill>
          <a:blip r:embed="rId1"/>
          <a:stretch/>
        </p:blipFill>
        <p:spPr>
          <a:xfrm>
            <a:off x="2222640" y="2057400"/>
            <a:ext cx="48006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4" descr=""/>
          <p:cNvPicPr/>
          <p:nvPr/>
        </p:nvPicPr>
        <p:blipFill>
          <a:blip r:embed="rId2"/>
          <a:stretch/>
        </p:blipFill>
        <p:spPr>
          <a:xfrm>
            <a:off x="2090880" y="4437000"/>
            <a:ext cx="4960800" cy="1336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87480" y="3529080"/>
            <a:ext cx="76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FC (Interface Clear) zeruje funkcje interfejsowe urządzeń oraz aktywizuje funkcję kontroli biężącej urządzenia pełniącego rolę kontrolera głównego syste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39760" y="5827680"/>
            <a:ext cx="73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N (Remote Enable) wymusza programowanie lokalne urządzeń ( z płyty czołowej)  lub umożliwia przejście do stanu programowania zdalnego (danymi z interfejsu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Linia ATN oraz SRQ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63" name="6" descr=""/>
          <p:cNvPicPr/>
          <p:nvPr/>
        </p:nvPicPr>
        <p:blipFill>
          <a:blip r:embed="rId1"/>
          <a:stretch/>
        </p:blipFill>
        <p:spPr>
          <a:xfrm>
            <a:off x="2128680" y="4359240"/>
            <a:ext cx="4961160" cy="1211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6080" y="3503520"/>
            <a:ext cx="70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8880" y="337644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 linii ATN określa rodzaj komunikatu na szynie DIO.  Tryb rozkazowy lub danych podczas transferu bajtu szyną 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640" y="5688000"/>
            <a:ext cx="81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 L linii SRQ oznacza zgłoszenie żądania obsługi przez jedno z urządzeń dołączonych do magistrali. Stan linii monitoruje kontroler bieżący interfejs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5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4960800" cy="1349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Linia EOI (END)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69" name=""/>
          <p:cNvSpPr/>
          <p:nvPr/>
        </p:nvSpPr>
        <p:spPr>
          <a:xfrm>
            <a:off x="775800" y="380844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ec komunikatu danych (EN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9360" y="2233440"/>
            <a:ext cx="689544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ia EOI jest używana prze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awcę danych do sygnalizacji końca komunikatu dany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roler bieżący do realizacji odpytania równoległego urządze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7" descr=""/>
          <p:cNvPicPr/>
          <p:nvPr/>
        </p:nvPicPr>
        <p:blipFill>
          <a:blip r:embed="rId1"/>
          <a:stretch/>
        </p:blipFill>
        <p:spPr>
          <a:xfrm>
            <a:off x="1874880" y="4390920"/>
            <a:ext cx="4960800" cy="1782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Linia EOI (Identify)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73" name="8" descr=""/>
          <p:cNvPicPr/>
          <p:nvPr/>
        </p:nvPicPr>
        <p:blipFill>
          <a:blip r:embed="rId1"/>
          <a:stretch/>
        </p:blipFill>
        <p:spPr>
          <a:xfrm>
            <a:off x="2001960" y="3095640"/>
            <a:ext cx="4960800" cy="1782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30760" y="244944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yfikacja stanu urządze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240" y="540864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powiedź urządzenia to jednobitowa informacja statusowa – 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Linie sterowania transferem bajt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77" name="1412d" descr=""/>
          <p:cNvPicPr/>
          <p:nvPr/>
        </p:nvPicPr>
        <p:blipFill>
          <a:blip r:embed="rId1"/>
          <a:stretch/>
        </p:blipFill>
        <p:spPr>
          <a:xfrm>
            <a:off x="622440" y="1955880"/>
            <a:ext cx="3965400" cy="326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505400" y="2309760"/>
            <a:ext cx="441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2213"/>
                </a:solidFill>
                <a:latin typeface="Arial"/>
              </a:rPr>
              <a:t>DAV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–  ważność bajtu na szynie D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gnał wystawia nadawca komunika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ych lub rozkazu ( talker lub control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2213"/>
                </a:solidFill>
                <a:latin typeface="Arial"/>
              </a:rPr>
              <a:t>NRF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gotowość odbiorców bajt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jego odbior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2213"/>
                </a:solidFill>
                <a:latin typeface="Arial"/>
              </a:rPr>
              <a:t>NDA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odbiorcy zaakceptowali baj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najdujący się aktualnie na szynie 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400" y="534528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 linii </a:t>
            </a:r>
            <a:r>
              <a:rPr b="0" lang="pl-PL" sz="1800" spc="-1" strike="noStrike">
                <a:solidFill>
                  <a:srgbClr val="e32213"/>
                </a:solidFill>
                <a:latin typeface="Arial"/>
              </a:rPr>
              <a:t>NDAC i NRF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jest określony przez urządzenia dołączone do magistrali i aktywnie uczestniczące w odbiorze bajtu.  Wszystkie podczas transferu komunikatu interfejsowego natomiast zaadresowane do odbioru podczas transferu komunikatu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Funkcje interfejsowe odpowiedzialne za transfer bajt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81" name=""/>
          <p:cNvSpPr/>
          <p:nvPr/>
        </p:nvSpPr>
        <p:spPr>
          <a:xfrm>
            <a:off x="581040" y="1905120"/>
            <a:ext cx="856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H – źródło handshake’u, układ odpowiedzialny za synchronizowanie wystawiania bajtu na szynę DIO oraz generację sygnału DA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H – akceptor handshake’u, układ odpowiedzialny za synchronizację odbioru bajtu oraz sterowanie liniami NRFD i NDA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 logiczny na tych liniach jest iloczynem odpowiednio stanów gotowości i akceptacji urządzeń dołączonych do magistra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9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7391520" cy="1873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Historia standardu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657600"/>
            <a:ext cx="78487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dard firmowy HP-IB (Hewlett-Packard)</a:t>
            </a:r>
            <a:r>
              <a:rPr b="0" lang="pl-PL" sz="1800" spc="-1" strike="noStrike">
                <a:solidFill>
                  <a:srgbClr val="e3221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dard IEEE488 (USA) oraz standard ogólny IEC-625.   Normalizacja  warstwy fizycznej (działanie, komunikaty interfejsowe, protokoł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dard IEEE488.2 (USA) oraz standard ogólny IEC-625.2. Normalizacja syntaktyki komunikatów, protokołów obsługi urządzenia, systemu raportowania stanu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wa SCPI; ujednolicenie nazewnictwa komunikat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nie szybkiego transferu – HS4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209680"/>
            <a:ext cx="8153640" cy="1282680"/>
            <a:chOff x="609480" y="2209680"/>
            <a:chExt cx="8153640" cy="1282680"/>
          </a:xfrm>
        </p:grpSpPr>
        <p:sp>
          <p:nvSpPr>
            <p:cNvPr id="87" name=""/>
            <p:cNvSpPr/>
            <p:nvPr/>
          </p:nvSpPr>
          <p:spPr>
            <a:xfrm>
              <a:off x="838080" y="2895480"/>
              <a:ext cx="792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2743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0" y="2743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1320" y="2743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880" y="2743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480" y="3124080"/>
              <a:ext cx="815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70              1975               1980                        1987        1990       19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2743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2209680"/>
              <a:ext cx="78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e32213"/>
                  </a:solidFill>
                  <a:latin typeface="Arial"/>
                </a:rPr>
                <a:t>A                    B                                                     C              D           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2400" y="2743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S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84" name="10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4046400" cy="2822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81480" y="205740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W1=TACS or SPAS or C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fejs urządzenia jest nadawcą danych lub kontrolerem bieżąc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W2=ATN and Not(CACS or CTRS) or Not ATN and Not(TACS or S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fejs urządzenia nie jest ani nadawcą ani kontrole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04680" y="5065560"/>
            <a:ext cx="781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SGN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gotów do transferu bajtu; wstaw do rejestru wyjściowego nowy baj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nb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nowy bajt dostępny w rejestrze wyjściow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RF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odbiorcy gotowi do odbioru (T1=2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DA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odbiorcy odczytali baj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SWN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bajt przekaza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A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88" name="11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468680" cy="250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38080" y="4660920"/>
            <a:ext cx="8077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rd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rządzenie potwierdza gotowość do odbior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ACR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interfejs urządzenia zgłasza gotowość do odbioru (linia NRF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DAV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nadawca zgłasza ważność bajtu na szynie 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ACD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wpis bajtu do rejestru wejściow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</a:rPr>
              <a:t>AWN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otwierdzenie akceptacji bajtu (linia NDA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wie wersje prac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yb rozkazowy oraz tryb danych z zaadresowaniem do odbior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7760" y="1839960"/>
            <a:ext cx="740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TN or LADS or LACS – tryb rozkazowy lub interfejs urządzenia zaadresowany do odbior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Diagram czasowy transfer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92" name="12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932440" cy="2732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5410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 transferu określa najwolniejsze urządzenie; nadawca danych lub jeden z odbiorc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óźnienie 2usek można w pewnych warunkach zredukować i wówczas można uzyskać szybkość transferu większą od 500kB/s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Rzeczywista szybkość transferu bajtów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95" name="13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3989160" cy="1496880"/>
          </a:xfrm>
          <a:prstGeom prst="rect">
            <a:avLst/>
          </a:prstGeom>
          <a:ln w="0">
            <a:noFill/>
          </a:ln>
        </p:spPr>
      </p:pic>
      <p:pic>
        <p:nvPicPr>
          <p:cNvPr id="196" name="14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257640" cy="3097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984960" y="5257800"/>
            <a:ext cx="360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kres dotyczy rozwiązania karty interfejsu do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korzystującej układ uPD7210 z zastosowani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Nazewnictwo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666880"/>
            <a:ext cx="83059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pularne określenia stosowane w literaturze techniczn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rebuchet MS"/>
              </a:rPr>
              <a:t>HP-IB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– nazwa firmowa - Hewlett-Packard Interface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rebuchet MS"/>
              </a:rPr>
              <a:t>GPIB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 - określenie magistrali – General Purpose Interface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rebuchet MS"/>
              </a:rPr>
              <a:t>IEEE-488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– oznaczenie dokumentu normalizacyjnego org. IEEE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rebuchet MS"/>
              </a:rPr>
              <a:t>IEC-625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– oznaczenie dokumentu normalizacyjnego org. I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Trebuchet MS"/>
              </a:rPr>
              <a:t>IEEE-488.2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– oznaczenie dokumentu normalizacyjnego; stosowane w opisach urządzeń do zaznaczenia zgodności ich wykonania  w zakresie sterowania zdalnego z standardami IEEE-488.1 i IEEE-488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łasności interfejs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4495680"/>
            <a:ext cx="60962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uktura magistralowa z 8-mio bitową szyną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 15 urządzeń na wspólnej magistr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aksymalna długość połączeń &lt;= 20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ransfer asynchroniczny. Do 1MB/sek ; dla HS488 do 8MB/s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ogika ujemna; poziomy napięć zgodne z technologią TT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mages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3276720" cy="2443320"/>
          </a:xfrm>
          <a:prstGeom prst="rect">
            <a:avLst/>
          </a:prstGeom>
          <a:ln w="0">
            <a:noFill/>
          </a:ln>
        </p:spPr>
      </p:pic>
      <p:pic>
        <p:nvPicPr>
          <p:cNvPr id="102" name="1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2193840" cy="3417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Kabel interfejsow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04" name="cable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4038480" cy="3179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16560" y="57150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-4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4-styk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2280" y="556272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C-6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5-stykó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mages2" descr=""/>
          <p:cNvPicPr/>
          <p:nvPr/>
        </p:nvPicPr>
        <p:blipFill>
          <a:blip r:embed="rId2"/>
          <a:stretch/>
        </p:blipFill>
        <p:spPr>
          <a:xfrm>
            <a:off x="2438280" y="5181480"/>
            <a:ext cx="1905120" cy="1675080"/>
          </a:xfrm>
          <a:prstGeom prst="rect">
            <a:avLst/>
          </a:prstGeom>
          <a:ln w="0">
            <a:noFill/>
          </a:ln>
        </p:spPr>
      </p:pic>
      <p:pic>
        <p:nvPicPr>
          <p:cNvPr id="108" name="2" descr=""/>
          <p:cNvPicPr/>
          <p:nvPr/>
        </p:nvPicPr>
        <p:blipFill>
          <a:blip r:embed="rId3"/>
          <a:stretch/>
        </p:blipFill>
        <p:spPr>
          <a:xfrm>
            <a:off x="609480" y="2133720"/>
            <a:ext cx="2239920" cy="3211560"/>
          </a:xfrm>
          <a:prstGeom prst="rect">
            <a:avLst/>
          </a:prstGeom>
          <a:ln w="0">
            <a:noFill/>
          </a:ln>
        </p:spPr>
      </p:pic>
      <p:pic>
        <p:nvPicPr>
          <p:cNvPr id="109" name="8" descr=""/>
          <p:cNvPicPr/>
          <p:nvPr/>
        </p:nvPicPr>
        <p:blipFill>
          <a:blip r:embed="rId4"/>
          <a:stretch/>
        </p:blipFill>
        <p:spPr>
          <a:xfrm>
            <a:off x="7010280" y="1981080"/>
            <a:ext cx="2024280" cy="3353040"/>
          </a:xfrm>
          <a:prstGeom prst="rect">
            <a:avLst/>
          </a:prstGeom>
          <a:ln w="0">
            <a:noFill/>
          </a:ln>
        </p:spPr>
      </p:pic>
      <p:pic>
        <p:nvPicPr>
          <p:cNvPr id="110" name="14050" descr=""/>
          <p:cNvPicPr/>
          <p:nvPr/>
        </p:nvPicPr>
        <p:blipFill>
          <a:blip r:embed="rId5"/>
          <a:stretch/>
        </p:blipFill>
        <p:spPr>
          <a:xfrm>
            <a:off x="4419720" y="6095880"/>
            <a:ext cx="2971800" cy="513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Kabel interfejsowy standardu IEEE-488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2" name="ieee-3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526440" cy="4275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Podstawowe własności interfejsowe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2767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Trebuchet MS"/>
              </a:rPr>
              <a:t>Odbiorca (L – listener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Urządzenie zaadresowane do odbioru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 systemie może być kilku odbiorców równocześ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Odbiorca(-y) odbiera dane wysyłane przez aktualnego nadawc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Trebuchet MS"/>
              </a:rPr>
              <a:t>Nadawca (T – talker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Urządzenie zaadresowane do wysłania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 systemie może istnieć w danej chwili tylko jeden nadaw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Jako dane rozumie się tutaj komunikaty programujące funkcje urządzeniowe oraz odpowiedzi urządzeń, w tym także wyniki pomiarów wykonanych przez urządz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3962160" cy="1317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sterowania interfejsem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971800"/>
            <a:ext cx="7848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Kontroler bieżący system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rządzenie z aktywną funkcją sterowania interfejsem syste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unkcja sterowania bieżącego dotyczy możliwości adresowania urządzeń do odbioru i nadawania oraz wysyłania rozkazów interfejs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unkcja ta może być aktywna w danej chwili tylko w jednym urządzeniu systemu. Urządzenie może przekazać kontrolę bieżącą do innego urządzenia systemu, posiadającego własność sterowania interfej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Kontroler główny system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dpowiada za sterowanie podstawowe systemu (IFC i RE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pośród kilku potencjalnych kontrolerów bieżących, jeden musi być wyznaczony do roli kontrolera głównego. Funkcji tej nie może przekazać innemu urząd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Kontroler główny rozpoczyna pracę systemu i on też staje się w tym momencie kontrolerem bieżąc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3497040" cy="107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Kontroler systemu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581280"/>
            <a:ext cx="842472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Kontrolerem nazywamy urządzenie systemu, które steruje całym systemem pomiarow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ruje zasobami funkcjonalnymi urządzeń a także ich funkcjami interfejsowy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o ostatnie ma zapewnić przede wszystkim połączenie komunikacyjne pomiędzy wybranymi urządzeniami systemu (adresowanie urządzeń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ajczęściej wszystkie te funkcje pełni jedno urządzenie – kompu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rządzenie pomiarowe może też być kontrolerem systemu. Interfejs takiego urządzenia musi posiadać funkcję kontrolera interfejs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012c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949840" cy="1382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1:50Z</dcterms:created>
  <dc:creator>Kasprzak</dc:creator>
  <dc:description/>
  <dc:language>en-US</dc:language>
  <cp:lastModifiedBy>Kasprzak Bogdan</cp:lastModifiedBy>
  <dcterms:modified xsi:type="dcterms:W3CDTF">2006-05-10T20:06:32Z</dcterms:modified>
  <cp:revision>80</cp:revision>
  <dc:subject/>
  <dc:title>Zasady sterowania urządzeniami systemów pomiarowych.</dc:title>
</cp:coreProperties>
</file>