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864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864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1280" y="630000"/>
            <a:ext cx="8424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5996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864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5996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864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630000"/>
            <a:ext cx="8424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7640"/>
            <a:ext cx="2340000" cy="4986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03280" y="480960"/>
            <a:ext cx="8640720" cy="129240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773360"/>
            <a:ext cx="503280" cy="508464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622520"/>
            <a:ext cx="1655640" cy="5235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-17640"/>
            <a:ext cx="7740720" cy="164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55640" y="1628640"/>
            <a:ext cx="7524720" cy="522936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73080" y="2130120"/>
            <a:ext cx="708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3a1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2819520"/>
            <a:ext cx="70898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Interfejs IEEE 488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28800" y="5486400"/>
            <a:ext cx="708984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3a1"/>
                </a:solidFill>
                <a:latin typeface="Trebuchet MS"/>
              </a:rPr>
              <a:t>Funkcja kontroli.</a:t>
            </a: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Stan CSBS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133720"/>
            <a:ext cx="807696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tan CSBS ustawia tryb danych interfejsu (ATN=0) umożliwiając transfer danych pomiędzy nadawcą i odbiorcam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fejs kontrolera może działać wtedy według jednego z trzech sposobó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troler jest nadawcą danych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troler jest odbiorcą danych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troler nie bierze udziału w transferze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 zrealizowaniu transferu kontroler musi opuścić stan CSBS i ustawić ponownie stan CACS. Dysponuje dwoma komunikatami polecającymi wykonanie tej operacj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buClr>
                <a:srgbClr val="e322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e32213"/>
                </a:solidFill>
                <a:latin typeface="Arial"/>
              </a:rPr>
              <a:t>tca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– (Take control asynchronously) przejmij kontrolę asynchroniczn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buClr>
                <a:srgbClr val="e322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e32213"/>
                </a:solidFill>
                <a:latin typeface="Arial"/>
              </a:rPr>
              <a:t>tcs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– (Take control synchronously) przejmij kontrolę synchroniczn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jście nie może popsuć transferu dany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troler jest nadawcą danych; Można zastosować tylko </a:t>
            </a:r>
            <a:r>
              <a:rPr b="1" lang="pl-PL" sz="1200" spc="-1" strike="noStrike">
                <a:solidFill>
                  <a:srgbClr val="cc3300"/>
                </a:solidFill>
                <a:latin typeface="Arial"/>
              </a:rPr>
              <a:t>tca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w połączeniu z sprawdzeniem stanu funkcji SH (funkcja poza stanami SDYS i STR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troler jest odbiorcą danych; Można zastosować </a:t>
            </a:r>
            <a:r>
              <a:rPr b="1" lang="pl-PL" sz="1200" spc="-1" strike="noStrike">
                <a:solidFill>
                  <a:srgbClr val="cc3300"/>
                </a:solidFill>
                <a:latin typeface="Arial"/>
              </a:rPr>
              <a:t>tcs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, który zapewni właściwy moment wyjścia ze stanu CS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troler nie bierze udziału w transferze danych. </a:t>
            </a:r>
            <a:r>
              <a:rPr b="1" lang="pl-PL" sz="1200" spc="-1" strike="noStrike">
                <a:solidFill>
                  <a:srgbClr val="009900"/>
                </a:solidFill>
                <a:latin typeface="Arial"/>
              </a:rPr>
              <a:t>Tylko tca, ale brak właściwych środków synchronizacji gwarantujących zachowanie poprawnego transferu ostatniego bajt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wyższe uwagi dotyczą zarówno kończenia procedur transferu danych jak również chwilowego przerwania go na czas wykonania procedury przerwaniowej, np. związanej z wystąpieniem SRQ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Synchroniczne wyjście z trybu danych </a:t>
            </a: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2514600"/>
            <a:ext cx="396252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e32213"/>
                </a:solidFill>
                <a:latin typeface="Arial"/>
              </a:rPr>
              <a:t>tcs ^ ANRS = TRUE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  wtedy, gdy zakończy się transfer bajtu;   wszystkie urządzenia odbierające (w tym także sterujące) zameldowały akceptację bajtu a nadawca zdjął sygnał ważności bajtu DA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runek przejścia staje się prawdziwy w przerwie pomiędzy zakończeniem nadawania bajtu N a wyprowadzeniem następnego N+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kie łagodne przerwanie transmisji pozwala wrócić do niej i kontynuować przekazanie komunikatu z zachowaniem ciągłości strumienia bajtó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p. chwilowe przerwanie wynikające z potrzeby rozpoznania przyczyny żądania obsług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con9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3989520" cy="4228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Przejście ze stanu CSBS do CACS </a:t>
            </a: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2057400"/>
            <a:ext cx="4419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tca - zadziała zawsze, ale nie jest w stanie zagwarantować ciągłości strumienia bajtów przekazywanego komunikatu w warunkach przerwania i powrotu do przerwanej transmisj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Jest potrzebne w warunkach, gdy urządzenie sterujące nadaje komunikat lub nie bierze udziału w transmisj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9960" y="4684680"/>
            <a:ext cx="8093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e322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2213"/>
                </a:solidFill>
                <a:latin typeface="Arial"/>
              </a:rPr>
              <a:t>Stan CSW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ustawia linię ATN w stanie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e322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2213"/>
                </a:solidFill>
                <a:latin typeface="Arial"/>
              </a:rPr>
              <a:t>T7 (0.5us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– opóźnienie gwarantujące wycofanie się nadajnika z procesu nadawania po wystąpieniu ATN=1, ale przed wejściem do stanu CACS. Nadajnik odcina swój bufor wyjściowy od szyny DIO, ustawia SH w stanie spoczynkowym i dopiero w tych warunkach kontroler może rozpocząć nadawanie rozkazó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e322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2213"/>
                </a:solidFill>
                <a:latin typeface="Arial"/>
              </a:rPr>
              <a:t>T9 (1.5us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– opóźnienie gwarantujące powrót do stanu spoczynkowego po odpytaniu równoległym. Urządzenia muszą zaprzestać wysyłania odpowiedzi przed powrotem funkcji C do stanu CA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con10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3581640" cy="24703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Odpytywanie równoległe </a:t>
            </a: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6019920"/>
            <a:ext cx="7848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9 (1.5us) – opóźnienie zapewniające wycofanie się urządzeń z wydawania odpowiedzi (odcięcie bufora PP od szyny DIO) przed uzyskaniem stanu CACS, który odblokowuje wyjście bufora rozkazowego oraz funkcję SH kontroler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con11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5051520" cy="4103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495680" y="1981080"/>
            <a:ext cx="44197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2213"/>
                </a:solidFill>
                <a:latin typeface="Arial"/>
              </a:rPr>
              <a:t>rpp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– ( </a:t>
            </a:r>
            <a:r>
              <a:rPr b="1" lang="pl-PL" sz="1400" spc="-1" strike="noStrike">
                <a:solidFill>
                  <a:srgbClr val="e32213"/>
                </a:solidFill>
                <a:latin typeface="Arial"/>
              </a:rPr>
              <a:t>Request parallel poll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) komunikat lokalny urządzenia ( </a:t>
            </a: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true lub false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), który wymusza odpowiednie ustawienie funkcji C do zrealizowania odpytania równoległego i następnie jego zakończen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PWS – stan przejściowy zapewniający ustalenie odpowiedzi na liniach DIO (czas trwania &gt; 2usek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PPS – odpowiedzi ustalone i kontroler może odczytać stan szyny D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Przekazanie kontroli </a:t>
            </a: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26" name=""/>
          <p:cNvSpPr/>
          <p:nvPr/>
        </p:nvSpPr>
        <p:spPr>
          <a:xfrm>
            <a:off x="7299360" y="445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con13" descr=""/>
          <p:cNvPicPr/>
          <p:nvPr/>
        </p:nvPicPr>
        <p:blipFill>
          <a:blip r:embed="rId1"/>
          <a:stretch/>
        </p:blipFill>
        <p:spPr>
          <a:xfrm>
            <a:off x="1143000" y="1863720"/>
            <a:ext cx="7010280" cy="49942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Diagram czasowy przekazania kontroli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29" name="con12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640560" cy="4411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Bezwzględne odebranie kontroli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31" name=""/>
          <p:cNvSpPr/>
          <p:nvPr/>
        </p:nvSpPr>
        <p:spPr>
          <a:xfrm>
            <a:off x="679320" y="5867280"/>
            <a:ext cx="657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Kontroler systemu każdej chwili może przejąć kontrolę nad systemem za pomocą IFC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Jednocześnie uaktywnia się jego funkcja C5 - kontroli bieżąc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con3c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3292200" cy="3407040"/>
          </a:xfrm>
          <a:prstGeom prst="rect">
            <a:avLst/>
          </a:prstGeom>
          <a:ln w="0">
            <a:noFill/>
          </a:ln>
        </p:spPr>
      </p:pic>
      <p:pic>
        <p:nvPicPr>
          <p:cNvPr id="133" name="con14a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3954600" cy="1874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H="1" flipV="1">
            <a:off x="3428640" y="2286000"/>
            <a:ext cx="1676520" cy="129528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343040" y="3733920"/>
            <a:ext cx="2133720" cy="45720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3505320" y="4114800"/>
            <a:ext cx="838080" cy="7632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057400" y="4191120"/>
            <a:ext cx="228600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057400" y="4191120"/>
            <a:ext cx="2286000" cy="76176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ebd5"/>
                </a:solidFill>
                <a:latin typeface="Arial"/>
              </a:rPr>
              <a:t>Procedura przekazania kontroli wg. iEEE-488.2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1981080"/>
            <a:ext cx="79250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rządzenie, które chce uzyskać sterowanie systemem ustawia bit RQC – Request control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swoim standardowym rejestrze zdarzeń oraz doprowadza do wystawienia SRQ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ktualny kontroler w reakcji na sprawdzenie przyczyny żądania obsługi wykona procedurę przekazania kontroli, która składa się z dwóch częś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3124080"/>
            <a:ext cx="769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19044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Kontroler przekazujący sterowanie wysyła polecenie *PCB &lt;NR1&gt; do urządzenia,    które ma uzyskać kontrolę. Polecenie przekazuje numer urządzenia (adres) , które przekaże kontrolę.  W ten sposób urządzenie , które uzyska kontrolę wie gdzie ją później zwróci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Urządzenie przekazujące kontrolę wykonuje typową procedurę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9320" indent="-45720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Adresuje do nadawania urządzenie , które ma otrzymać kontrol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9320" indent="-45720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Wystawia rozkaz TCT, który realizuje operację uaktywnienia C5 we wskazanym urządzeniu oraz deaktywację C5 w urządzeniu przekazującym sterowan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486400"/>
            <a:ext cx="8153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e32213"/>
                </a:solidFill>
                <a:latin typeface="Arial"/>
              </a:rPr>
              <a:t>Polecenie *PCB (Pass Control Back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*PCB  &lt;NR1&gt;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 dla adresowania jednobajtowego; numer urządzenia na magistr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*PCB  &lt;NR1&gt;, &lt;NR1&gt;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 dla adresowania dwubajtowego; odpowiednio numer podstawowy i rozszerzają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  <a:ea typeface="Arial"/>
              </a:rPr>
              <a:t>tandardow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  <a:ea typeface="Arial"/>
              </a:rPr>
              <a:t> rejestr zdarzeń 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– bit RQC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2133720"/>
            <a:ext cx="28958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PON – Power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URQ – User request </a:t>
            </a:r>
            <a:r>
              <a:rPr b="1" lang="pl-PL" sz="1400" spc="-1" strike="noStrike">
                <a:solidFill>
                  <a:srgbClr val="e32213"/>
                </a:solidFill>
                <a:latin typeface="Arial"/>
              </a:rPr>
              <a:t>(rzadk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CME – Command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EXE – Execution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DDE – Device dependent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QYE – Query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RQC – Request control </a:t>
            </a:r>
            <a:r>
              <a:rPr b="1" lang="pl-PL" sz="1400" spc="-1" strike="noStrike">
                <a:solidFill>
                  <a:srgbClr val="e32213"/>
                </a:solidFill>
                <a:latin typeface="Arial"/>
              </a:rPr>
              <a:t>(gdy 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OPC – Operation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Poleceni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*ese    5   -&gt;  0000 0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stat4a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5337360" cy="40924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Uaktywnienie funkcji odbioru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47" name="adr6" descr=""/>
          <p:cNvPicPr/>
          <p:nvPr/>
        </p:nvPicPr>
        <p:blipFill>
          <a:blip r:embed="rId1"/>
          <a:stretch/>
        </p:blipFill>
        <p:spPr>
          <a:xfrm>
            <a:off x="2666880" y="4495680"/>
            <a:ext cx="3448080" cy="2124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76720" y="3048120"/>
            <a:ext cx="1828800" cy="1676160"/>
          </a:xfrm>
          <a:custGeom>
            <a:avLst/>
            <a:gdLst/>
            <a:ahLst/>
            <a:rect l="l" t="t" r="r" b="b"/>
            <a:pathLst>
              <a:path w="1136" h="1024">
                <a:moveTo>
                  <a:pt x="0" y="64"/>
                </a:moveTo>
                <a:cubicBezTo>
                  <a:pt x="440" y="32"/>
                  <a:pt x="880" y="0"/>
                  <a:pt x="1008" y="160"/>
                </a:cubicBezTo>
                <a:cubicBezTo>
                  <a:pt x="1136" y="320"/>
                  <a:pt x="808" y="880"/>
                  <a:pt x="768" y="1024"/>
                </a:cubicBezTo>
              </a:path>
            </a:pathLst>
          </a:custGeom>
          <a:noFill/>
          <a:ln w="9360">
            <a:solidFill>
              <a:srgbClr val="e3221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905120"/>
            <a:ext cx="80773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rządzenie z aktywną funkcją C5 może uaktywniać swoją funkcję odbioru za pomocą komunikatów lokalnych ; z pominięciem wystawiania adresu na magistralę GPIB. Nie ma i nie może być podobnych możliwości dotyczących funkcji nadawc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tosuje się dwa komunikaty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buClr>
                <a:srgbClr val="e322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2213"/>
                </a:solidFill>
                <a:latin typeface="Arial"/>
              </a:rPr>
              <a:t>ltn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– (listen) odbiera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buClr>
                <a:srgbClr val="e322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2213"/>
                </a:solidFill>
                <a:latin typeface="Arial"/>
              </a:rPr>
              <a:t>lun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– (local unlisten) nie odbiera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Można je użyć tylko w stanie aktywnego sterowania (CACS funkcji C5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munikat ltn nie wpływa na stan funkcji nadawcy (T/T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3429000"/>
            <a:ext cx="3657600" cy="2616120"/>
          </a:xfrm>
          <a:custGeom>
            <a:avLst/>
            <a:gdLst/>
            <a:ahLst/>
            <a:rect l="l" t="t" r="r" b="b"/>
            <a:pathLst>
              <a:path w="2304" h="1648">
                <a:moveTo>
                  <a:pt x="576" y="0"/>
                </a:moveTo>
                <a:cubicBezTo>
                  <a:pt x="288" y="616"/>
                  <a:pt x="0" y="1232"/>
                  <a:pt x="288" y="1440"/>
                </a:cubicBezTo>
                <a:cubicBezTo>
                  <a:pt x="576" y="1648"/>
                  <a:pt x="1440" y="1448"/>
                  <a:pt x="2304" y="1248"/>
                </a:cubicBezTo>
              </a:path>
            </a:pathLst>
          </a:custGeom>
          <a:noFill/>
          <a:ln w="9360">
            <a:solidFill>
              <a:srgbClr val="e3221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Podstawowe składniki funkcji C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638680"/>
            <a:ext cx="784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rządzen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 posiadając funkcję C może inicjalizować ją za pomocą komunikatów lokalnych uzyskując możliwość sterowania całym systemem interfejsowym a tym samym również systemem pomiarowy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con6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5639040" cy="3611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91320" y="2209680"/>
            <a:ext cx="3352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Kolejność akcji obejmowania sterowani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 aktywny 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 aktywny C2 i 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ktywny stan C2 uaktywnia C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Podfunkcja C1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3962520"/>
            <a:ext cx="7848720" cy="15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rządzenie posiadające interfejs z funkcją C może za pomocą komunikatu lokalnego </a:t>
            </a:r>
            <a:r>
              <a:rPr b="1" lang="pl-PL" sz="1400" spc="-1" strike="noStrike">
                <a:solidFill>
                  <a:srgbClr val="e32213"/>
                </a:solidFill>
                <a:latin typeface="Arial"/>
              </a:rPr>
              <a:t>rsc (true lub false)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ustawiać żądany stan podfunkcji C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stanie SACS  funkcja C może wykorzystać swoje własności sterowania systemem, a urządzenie staje się kontrolerem systemowy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rsc – Request system control; - wymagane sterowanie syste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7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2663640" cy="9144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ebd5"/>
                </a:solidFill>
                <a:latin typeface="Arial"/>
              </a:rPr>
              <a:t>System wielokontrolerowy</a:t>
            </a:r>
            <a:r>
              <a:rPr b="1" lang="pl-PL" sz="2400" spc="-1" strike="noStrike">
                <a:solidFill>
                  <a:srgbClr val="ffebd5"/>
                </a:solidFill>
                <a:latin typeface="Arial"/>
                <a:ea typeface="Arial"/>
              </a:rPr>
              <a:t> </a:t>
            </a:r>
            <a:r>
              <a:rPr b="1" lang="pl-PL" sz="2400" spc="-1" strike="noStrike">
                <a:solidFill>
                  <a:srgbClr val="ffebd5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267080"/>
            <a:ext cx="8153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Tylko w jednym urządzeniu z funkcją C może być aktywna podfunkcja C1 (stan SAC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Własność ta jest przypisana na stałe do jednego z potencjalnych kontrolerów w systemie wielo-kontrolerowy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Kontroler ten jest nazywany kontrolerem systemu i on inicjalizuje pracę całego interfejs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on14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4057560" cy="17604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Podfunkcje C2 i C3 (C1 w stanie SACS)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5257800"/>
            <a:ext cx="830556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tan SACS odblokowuje podfunkcje C2 i C3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munikat lokalny </a:t>
            </a:r>
            <a:r>
              <a:rPr b="1" lang="pl-PL" sz="1200" spc="-1" strike="noStrike">
                <a:solidFill>
                  <a:srgbClr val="e32213"/>
                </a:solidFill>
                <a:latin typeface="Arial"/>
              </a:rPr>
              <a:t>sic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(Send interface clear – true or false) pozwala ustawić stan linii IFC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Czas T8 zapewnia minimalny czas trwania IFC=1 – 100usek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munikat lokalny </a:t>
            </a:r>
            <a:r>
              <a:rPr b="1" lang="pl-PL" sz="1200" spc="-1" strike="noStrike">
                <a:solidFill>
                  <a:srgbClr val="e32213"/>
                </a:solidFill>
                <a:latin typeface="Arial"/>
              </a:rPr>
              <a:t>sre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(Send remote enable – true or false) pozwala ustawić stan linii REN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Czas T8 zapewnia 100usek opóźnienie ustawienia REN=1 po uzyskaniu SACS. Stan REN=1 pojawi się z opóźnieniem co najmniej 100usek w stosunku do sygnału zerowania IF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con8a" descr=""/>
          <p:cNvPicPr/>
          <p:nvPr/>
        </p:nvPicPr>
        <p:blipFill>
          <a:blip r:embed="rId1"/>
          <a:stretch/>
        </p:blipFill>
        <p:spPr>
          <a:xfrm>
            <a:off x="1697040" y="1846440"/>
            <a:ext cx="5749920" cy="31651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Podfunkcje C2 i C3 (C1 w stanie SNAS)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5410080"/>
            <a:ext cx="83059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 SNAS = not SACS blokuje podfunkcje C2 i C3 i nie mogą one oddziaływać na stan linii IFC i 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kcje C2 i C3 są utrzymywane w stanach spoczynkowych ( odpowiednio SIIS oraz SRIS 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con8b" descr=""/>
          <p:cNvPicPr/>
          <p:nvPr/>
        </p:nvPicPr>
        <p:blipFill>
          <a:blip r:embed="rId1"/>
          <a:stretch/>
        </p:blipFill>
        <p:spPr>
          <a:xfrm>
            <a:off x="1697040" y="1846440"/>
            <a:ext cx="5749920" cy="31651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Start sterowania (kontroler systemowy)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01" name=""/>
          <p:cNvSpPr/>
          <p:nvPr/>
        </p:nvSpPr>
        <p:spPr>
          <a:xfrm>
            <a:off x="1203480" y="3541680"/>
            <a:ext cx="733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con3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5965920" cy="3622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2120" y="5715000"/>
            <a:ext cx="7864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acę systemu rozpoczyna urządzenie, którego interfejs ma aktywną funkcję kontroli głównej ( </a:t>
            </a:r>
            <a:r>
              <a:rPr b="1" lang="en-US" sz="1400" spc="-1" strike="noStrike">
                <a:solidFill>
                  <a:srgbClr val="e32213"/>
                </a:solidFill>
                <a:latin typeface="Arial"/>
              </a:rPr>
              <a:t>C1 w stanie SAC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 rezultacie generacji IFC uaktywnia się </a:t>
            </a:r>
            <a:r>
              <a:rPr b="1" lang="en-US" sz="1400" spc="-1" strike="noStrike">
                <a:solidFill>
                  <a:srgbClr val="e32213"/>
                </a:solidFill>
                <a:latin typeface="Arial"/>
              </a:rPr>
              <a:t>kontroler aktualny – uzyskuje zdolność sterowania linią AT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( najpierw stan CACS ustawiający ATN=1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Start sterowania (kontroler niesystemowy)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05" name=""/>
          <p:cNvSpPr/>
          <p:nvPr/>
        </p:nvSpPr>
        <p:spPr>
          <a:xfrm>
            <a:off x="1203480" y="3541680"/>
            <a:ext cx="733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5486400"/>
            <a:ext cx="7864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ntroler dodatkowy w systemie wielokontrolerowym (C1 – nieaktywne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Funkcje C2 i C3 są zablokowan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FC wysłane przez kontroler systemowy sprowadza </a:t>
            </a:r>
            <a:r>
              <a:rPr b="1" lang="pl-PL" sz="1400" spc="-1" strike="noStrike">
                <a:solidFill>
                  <a:srgbClr val="e32213"/>
                </a:solidFill>
                <a:latin typeface="Arial"/>
              </a:rPr>
              <a:t>funkcję C5 do stanu spoczynkowego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(CIDS); </a:t>
            </a: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prawdziwy warunek zerujący IFC and not SACS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con3b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612040" cy="34513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Stan CAC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09" name="con4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149720" cy="4583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95680" y="1905120"/>
            <a:ext cx="449604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2213"/>
                </a:solidFill>
                <a:latin typeface="Arial"/>
              </a:rPr>
              <a:t>Stan CAC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awia ATN=1 czyli  tryb rozkazowy interfejsu. Kontroler uzyskuje możliwość adresowania urządzeń oraz realizacji różnych procedur rozkaz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blokowuje wyjście bufora rozkazów na szynę DIO. Przez bufor rozkazowy możliwy jest transfer adresów i rozkazów interfejs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blokowuje funkcję SH interfejsu kontrol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4114800"/>
            <a:ext cx="411480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Stan CS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ts (Go to standby) –  ustaw tryb danych (ATN=0), aby pozwolić przekazać dane pomiędzy wyznaczonym nadawcą i odbiorcam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jście do stanu CSBS nastąpi dopiero wtedy, gdy funkcja SH opuści stany SDYS i STRS, czyli zakończył się transfer bajtu, przy którym wystąpił komunikat g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bezpieczenie przed przerwaniem transferu bajtu rozkazowego w nieodpowiednim momenc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4:21:50Z</dcterms:created>
  <dc:creator>Kasprzak</dc:creator>
  <dc:description/>
  <dc:language>en-US</dc:language>
  <cp:lastModifiedBy>Kasprzak Bogdan</cp:lastModifiedBy>
  <dcterms:modified xsi:type="dcterms:W3CDTF">2006-05-07T18:55:01Z</dcterms:modified>
  <cp:revision>149</cp:revision>
  <dc:subject/>
  <dc:title>Zasady sterowania urządzeniami systemów pomiarowych.</dc:title>
</cp:coreProperties>
</file>