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819520"/>
            <a:ext cx="7089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Interfejs IEEE 488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5486400"/>
            <a:ext cx="70898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Współczesne rozwiązania ASIC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Zmiana trybu pracy TNT 4882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1203480" y="35416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10080"/>
            <a:ext cx="784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an końcówki Mode w chwili zerowania sprzętowego wyznacza wyjściowy tryb pracy   (Turbo + 9914 lub Turbo + 721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 pomocą poleceń sw7210 oraz sw9914 można zmienić wyjściowy tryb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wienie bitu ONEC rejestru HSSEL wymusza jednoukładowy tryb pracy (One Chip Mod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268960" cy="3178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Właściwości GPIB układ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1203480" y="35416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895480"/>
            <a:ext cx="7864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Właściwości interfejsu GPIB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SH1    AH1    T5 lub TE5    L3 lub LE3    SR1    RL1    PP1 lub PP2    DC1    DT1    C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2 – trójstanowe nadajniki sygnałów linii magistrali (otwarty kolektor podczas odpytywania równoległeg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munikat nie jest wysyłany przy braku odbiorc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ożliwy transfer HS488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utomatyczna detekcja EOS oraz NL (nowa lini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Właściwości sprzężenia z CP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203480" y="35416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514600"/>
            <a:ext cx="786420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Times New Roman"/>
              </a:rPr>
              <a:t>Właściwości interfejsu CPU – TNT48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Bufor FIFO zapewniający dużą szybkość transferu; Transfer dużych bloków danych pomiędzy CPU a buforem FIFO. Sprzętowe sterowanie transferem bajtów pomiędzy FIFO a GP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ransfer 8/16 bitowy pomiędzy CPU a buforem FIFO. Automatyczne pakowanie bajtów w słowa oraz rozpakowywanie słów w baj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Możliwość wykorzystania DMA na styku CPU a TNT488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32-bitowy wewnętrzny licznik transferowanych bajtó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pecjalne układy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last byt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redukujące narzuty programowe związane z transferem końcowego bajtu komunikatu danyc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ozbudowany system przerwań, w tym programowalne przerwania zegarow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ońcówki sygnałów statusowych układu interfejsowego (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Talk, Listen, SRQ, REM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orównanie przepustowośc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36" name="4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121520" cy="3325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Arial"/>
              </a:rPr>
              <a:t>Rozwiązanie sprzętowe – Generic Mode TNT4882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38" name="5" descr=""/>
          <p:cNvPicPr/>
          <p:nvPr/>
        </p:nvPicPr>
        <p:blipFill>
          <a:blip r:embed="rId1"/>
          <a:stretch/>
        </p:blipFill>
        <p:spPr>
          <a:xfrm>
            <a:off x="1523880" y="1839960"/>
            <a:ext cx="6172200" cy="5018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orównanie liczby rejestrów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1127160" y="3998880"/>
            <a:ext cx="740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7488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438280"/>
          <a:ext cx="8128080" cy="31244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  <a:gridCol w="2032200"/>
              </a:tblGrid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uPD 7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NAT 7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TNT 48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Liczba rejestrów R/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dostępnych bezpośred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Liczba rejestrów ukryt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Liczba wejść adresow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rodukty firmy INES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743200"/>
          <a:ext cx="8076960" cy="3962520"/>
        </p:xfrm>
        <a:graphic>
          <a:graphicData uri="http://schemas.openxmlformats.org/drawingml/2006/table">
            <a:tbl>
              <a:tblPr/>
              <a:tblGrid>
                <a:gridCol w="6933960"/>
                <a:gridCol w="1143000"/>
              </a:tblGrid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PIB (IEEE-488.2) Chips without GPIB transcei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721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L 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9914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L 40 or PLCC 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PIB (IEEE-488.2) Chips with included GPIB </a:t>
                      </a:r>
                      <a:r>
                        <a:rPr b="1" lang="pl-PL" sz="1400" spc="-1" strike="noStrike">
                          <a:solidFill>
                            <a:srgbClr val="e32213"/>
                          </a:solidFill>
                          <a:latin typeface="Arial"/>
                        </a:rPr>
                        <a:t>transceivers (75160 + 7516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7210 LD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L 40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9914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L 40 or PLCC 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D-72010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-pin QFP) </a:t>
                      </a: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lker/Listener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pl-PL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specially for instru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C-72010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-pin QFP) Controller + Talker/Liste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ISA-72010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-pin QFP) + 16-bit ISA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PCMCIA-72010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-pin QFP) + PCMCIA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ines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268280" cy="1920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Arial"/>
              </a:rPr>
              <a:t>Struktura układów iGPIB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47" name="acea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8258040" cy="4038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098960" y="1916280"/>
            <a:ext cx="183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żdy po 255 bajt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19720" y="2209680"/>
            <a:ext cx="761760" cy="76212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419720" y="2209680"/>
            <a:ext cx="761760" cy="129564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Arial"/>
              </a:rPr>
              <a:t>Układ firmy Measurement Computing</a:t>
            </a:r>
            <a:r>
              <a:rPr b="1" lang="pl-PL" sz="2400" spc="-1" strike="noStrike">
                <a:solidFill>
                  <a:srgbClr val="000000"/>
                </a:solidFill>
                <a:latin typeface="KAJGOI+Arial,Bold"/>
              </a:rPr>
              <a:t> </a:t>
            </a:r>
            <a:r>
              <a:rPr b="1" lang="pl-PL" sz="2400" spc="-1" strike="noStrike">
                <a:solidFill>
                  <a:srgbClr val="ffebd5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52" name="cb7210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67640" cy="4898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Własności układu CB7210.2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828800"/>
            <a:ext cx="838188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ełnia IEEE Standard 488.2-1992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1, source handshake ;   AH1, acceptor handsh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5 or TE5, talker or extended talker ;   L3 or LE3, listener or extended liste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R1, service 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L1, remote lo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P1 or PP2, parallel poll, remote or local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C1, device clear ;  DT1, device trig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1-C5, controller, al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gramowalna szybkość transferu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 rejestrów , 8 odczyt / 8 zapis oraz rejestry ukr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rejestry adres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tekcja MTA, MLA, MSA (my talk/my listen/my secondary addres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adresy dla urządz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matyczna detekcja komunikatu 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matyczne przetwarzanie rozkazów  (IEEE Standard 488-78) oraz możliwość odczytu rozkazów niezdefiniow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żliwość stosowania 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matyczna obsługa nadajników/odbiorników I/O (współpracuje z produktami Texas Instruments/Motorola/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gar od 1 MHz do </a:t>
            </a:r>
            <a:r>
              <a:rPr b="0" lang="pl-PL" sz="1200" spc="-1" strike="noStrike">
                <a:solidFill>
                  <a:srgbClr val="e32213"/>
                </a:solidFill>
                <a:latin typeface="Arial"/>
              </a:rPr>
              <a:t>2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32213"/>
                </a:solidFill>
                <a:latin typeface="Arial"/>
              </a:rPr>
              <a:t>Można monitorować stan wszystkich linii sterujących magist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stępne opóźnienia T1 : 2000, 500, </a:t>
            </a:r>
            <a:r>
              <a:rPr b="0" lang="pl-PL" sz="1200" spc="-1" strike="noStrike">
                <a:solidFill>
                  <a:srgbClr val="e32213"/>
                </a:solidFill>
                <a:latin typeface="Arial"/>
              </a:rPr>
              <a:t>350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5V pojedyncze zasilanie; techn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patybilny z 8080/85/8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stępne wykonania obudów : 40 Pin DIP oraz </a:t>
            </a:r>
            <a:r>
              <a:rPr b="0" lang="pl-PL" sz="1200" spc="-1" strike="noStrike">
                <a:solidFill>
                  <a:srgbClr val="e32213"/>
                </a:solidFill>
                <a:latin typeface="Arial"/>
              </a:rPr>
              <a:t>44 Pin TQFP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32213"/>
                </a:solidFill>
                <a:latin typeface="Arial"/>
              </a:rPr>
              <a:t>W stosunku do NEC uPD7210 dodaje własności  488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ff"/>
                </a:solidFill>
                <a:latin typeface="Arial"/>
              </a:rPr>
              <a:t>Zaprojektowany w VHDL; kod źródłowy jest dostępny (do zakupienia; koszty licencj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Układ TNT4882</a:t>
            </a:r>
            <a:r>
              <a:rPr b="1" lang="en-US" sz="2400" spc="-1" strike="noStrike">
                <a:solidFill>
                  <a:srgbClr val="ffebd5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firmy N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572000"/>
            <a:ext cx="868680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NT4882 jest jednoukładową realizacją interfejsu IEEE488 o własności nadawania i odbioru (T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 celu uzyskania dużej przepustowości zastosowano specjalny bufor FIFO oraz dodatkowo protokół dużej szybkości transmisji danych HS488 (z możliwością  jego włączenia lub wyłączeni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kład posiada wbudowane nadajniki/odbiorniki sygnałów linii interfejs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lastyczny interfejs do CPU pozwala łatwo dołączyć układ do każdego 16- lub  8-bitowego mikroproceso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66680" y="1828800"/>
            <a:ext cx="7280280" cy="2320920"/>
            <a:chOff x="1066680" y="1828800"/>
            <a:chExt cx="7280280" cy="2320920"/>
          </a:xfrm>
        </p:grpSpPr>
        <p:pic>
          <p:nvPicPr>
            <p:cNvPr id="87" name="0a" descr=""/>
            <p:cNvPicPr/>
            <p:nvPr/>
          </p:nvPicPr>
          <p:blipFill>
            <a:blip r:embed="rId1"/>
            <a:stretch/>
          </p:blipFill>
          <p:spPr>
            <a:xfrm>
              <a:off x="1066680" y="1828800"/>
              <a:ext cx="7280280" cy="23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flipV="1">
              <a:off x="2209680" y="2971800"/>
              <a:ext cx="76320" cy="83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286000" y="3124080"/>
              <a:ext cx="0" cy="91440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7400" y="2743200"/>
              <a:ext cx="380880" cy="380880"/>
            </a:xfrm>
            <a:prstGeom prst="ellipse">
              <a:avLst/>
            </a:prstGeom>
            <a:noFill/>
            <a:ln w="9360">
              <a:solidFill>
                <a:srgbClr val="e32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Nowe własności układu CB7210.2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05120"/>
            <a:ext cx="809316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datkowe rejestry ukryte udostępniają szereg nowych możliwości układu CB7210.2 w stosunku do  uPD72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hy te są niewidoczne i obojętne, jeśli układ pracuje z oprogramowaniem opracowanym dla uPD721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owe możliwości układu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żliwość monitorowania stanu wszystkich linii sterowania magistrali GP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żliwość monitorowania stanów wszystkich funkcji interfejsowych układ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pewnienie wymagań IEEE488.2 w stosunku do obsługi funkcji S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prowadzenie opóźnienia 350nsek do listy możliwych wartości opóźnień (500, 2000nsek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stat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4983120" cy="2046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80040" y="4800600"/>
            <a:ext cx="3063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stęp do tych rejestrów odbywa się poprzez Rejestr Strony (Register Page) , który jest jednym z dodanych rejestrów w grupie rejestrów ukrytych (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uxiliary Mode register)</a:t>
            </a:r>
            <a:r>
              <a:rPr b="0" lang="pl-PL" sz="1400" spc="-1" strike="noStrike">
                <a:solidFill>
                  <a:srgbClr val="000000"/>
                </a:solidFill>
                <a:latin typeface="KAJGPK+TimesNew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562360" y="5257800"/>
            <a:ext cx="533160" cy="30492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562360" y="5257800"/>
            <a:ext cx="533160" cy="106668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Konfiguracje wyprowadzeń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71500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NT4882 posiada dwie różne konfiguracje wyprowadzeń  – </a:t>
            </a: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ogólną oraz ISA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, obie 100 pinow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. Konfiguracja ogólna pozwala na dołączenie układu do dowolnego CPU; druga umożliwia dołączenie bezpośrednie do magistrali ISA bez potrzeby stosowania dodatkowych układó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kład określa rodzaj zastosowanej konfiguracji na podstawie lokalizacji końcówek zasilania VDD oraz masy G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Konfiguracja ogólna – piny 56 i 59 GND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Konfiguracja ISA – piny 56 i 59 VDD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1828800"/>
            <a:ext cx="9086760" cy="3726000"/>
            <a:chOff x="0" y="1828800"/>
            <a:chExt cx="9086760" cy="3726000"/>
          </a:xfrm>
        </p:grpSpPr>
        <p:pic>
          <p:nvPicPr>
            <p:cNvPr id="94" name="0b" descr="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9086760" cy="372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2971800" y="2666520"/>
              <a:ext cx="4952880" cy="304920"/>
              <a:chOff x="2971800" y="2666520"/>
              <a:chExt cx="4952880" cy="304920"/>
            </a:xfrm>
          </p:grpSpPr>
          <p:sp>
            <p:nvSpPr>
              <p:cNvPr id="96" name=""/>
              <p:cNvSpPr/>
              <p:nvPr/>
            </p:nvSpPr>
            <p:spPr>
              <a:xfrm flipV="1">
                <a:off x="3276720" y="2666520"/>
                <a:ext cx="0" cy="304920"/>
              </a:xfrm>
              <a:prstGeom prst="line">
                <a:avLst/>
              </a:prstGeom>
              <a:ln w="9360">
                <a:solidFill>
                  <a:srgbClr val="e3221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971800" y="2666520"/>
                <a:ext cx="0" cy="304920"/>
              </a:xfrm>
              <a:prstGeom prst="line">
                <a:avLst/>
              </a:prstGeom>
              <a:ln w="9360">
                <a:solidFill>
                  <a:srgbClr val="e3221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924680" y="2666520"/>
                <a:ext cx="0" cy="304920"/>
              </a:xfrm>
              <a:prstGeom prst="line">
                <a:avLst/>
              </a:prstGeom>
              <a:ln w="9360">
                <a:solidFill>
                  <a:srgbClr val="e3221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620120" y="2666520"/>
                <a:ext cx="0" cy="304920"/>
              </a:xfrm>
              <a:prstGeom prst="line">
                <a:avLst/>
              </a:prstGeom>
              <a:ln w="9360">
                <a:solidFill>
                  <a:srgbClr val="e3221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Architektura TNT4882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362320"/>
            <a:ext cx="83059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NT 4882 zawiera w sobie trzy układy AS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524"/>
              </a:spcBef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NAT 488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realizujący interfejs IEEE488.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urbo488 – układ zwiększający przepustowość łącza interfejsoweg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dajniki/odbiorniki sygnałów linii interfejs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czas pracy elementy tych układów mogą zostać logicznie połączone na dwa sposoby : jednoukładowy (one-chip mode) lub dwuukładowy (two-chip mod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kład </a:t>
            </a: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NAT 488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zawiera oprócz nowych rejestrów zapewniających mu unikalne cechy użytkowe także zestawy rejestrów identyczne jak  uPD7210 i  TMS9914.  Wybierając odpowiedni tryb pracy można wykorzystać, po drobnych modyfikacjach, opracowane wcześniej oprogramowanie dla uPD7210 lub  TMS9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kład może funkcjonować w jednym z trzech trybów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Turbo + 7210 Mode (two-chip m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Turbo + 9914 Mode (two-chip m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One-Chip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Architektura trybu TNT4882 Two-Chip</a:t>
            </a:r>
            <a:r>
              <a:rPr b="0" i="1" lang="pl-PL" sz="2400" spc="-1" strike="noStrike">
                <a:solidFill>
                  <a:srgbClr val="ffebd5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(np. Turbo+7210)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03" name="2b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8229600" cy="393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72400" y="5867280"/>
            <a:ext cx="1066680" cy="762120"/>
          </a:xfrm>
          <a:prstGeom prst="wedgeRoundRectCallout">
            <a:avLst>
              <a:gd name="adj1" fmla="val -44643"/>
              <a:gd name="adj2" fmla="val -12062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1040" y="6172200"/>
            <a:ext cx="2023200" cy="459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zybki transfer pomięd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U a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6160" y="5867280"/>
            <a:ext cx="26604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przętowe sterowanie transfe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jtów pomiędz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IFO a rejestrami DataOut / Da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48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6019920"/>
            <a:ext cx="1676520" cy="547920"/>
          </a:xfrm>
          <a:prstGeom prst="rect">
            <a:avLst/>
          </a:prstGeom>
          <a:solidFill>
            <a:srgbClr val="ffe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uje 7210 lub 9914 ale posiada też liczne rozszerz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447920" y="2819160"/>
            <a:ext cx="0" cy="3352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885840" y="3581280"/>
            <a:ext cx="685800" cy="228600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343040" y="2743200"/>
            <a:ext cx="228600" cy="312408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552720" y="4495680"/>
            <a:ext cx="1600200" cy="1524240"/>
          </a:xfrm>
          <a:prstGeom prst="line">
            <a:avLst/>
          </a:prstGeom>
          <a:ln w="9360">
            <a:solidFill>
              <a:srgbClr val="7812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Tryb Turbo+7210 ; nadanie komunikat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13" name="2b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6934320" cy="3314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91120" y="5638680"/>
            <a:ext cx="3657600" cy="990720"/>
          </a:xfrm>
          <a:prstGeom prst="wedgeRectCallout">
            <a:avLst>
              <a:gd name="adj1" fmla="val -64064"/>
              <a:gd name="adj2" fmla="val -199199"/>
            </a:avLst>
          </a:prstGeom>
          <a:solidFill>
            <a:srgbClr val="ffd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U wpisuje wieloznakowy komunikat do rejestru FIFO. Maszyna stanów przenosi  znak z FIFO do układu NAT4882 a ten realizuje jego transfer do odbiorców ,itd. aż do przesłania całego komunikatu z FI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Tryb Turbo+7210 ; odbiór komunikat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16" name="2b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6934320" cy="331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43400" y="5638680"/>
            <a:ext cx="3657600" cy="838440"/>
          </a:xfrm>
          <a:prstGeom prst="wedgeRectCallout">
            <a:avLst>
              <a:gd name="adj1" fmla="val -66495"/>
              <a:gd name="adj2" fmla="val -241476"/>
            </a:avLst>
          </a:prstGeom>
          <a:solidFill>
            <a:srgbClr val="ffd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 4882 odczytuje znak z magistrali GPIB. Maszyna stanów przenosi odczytany znak do bufora FIFO. Po odbiorze całego komunikatu, CPU odczytuje zawartość FI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Architektura trybu TNT4882 One-Chip Mode</a:t>
            </a:r>
            <a:r>
              <a:rPr b="0" lang="pl-PL" sz="2400" spc="-1" strike="noStrike">
                <a:solidFill>
                  <a:srgbClr val="ffebd5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19" name="2a" descr=""/>
          <p:cNvPicPr/>
          <p:nvPr/>
        </p:nvPicPr>
        <p:blipFill>
          <a:blip r:embed="rId1"/>
          <a:stretch/>
        </p:blipFill>
        <p:spPr>
          <a:xfrm>
            <a:off x="990720" y="2801880"/>
            <a:ext cx="7619760" cy="405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63880" y="1981080"/>
            <a:ext cx="647316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jście FIFO dołączone bezpośrednio do nadajników linii podczas nadawania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jście FIFO dołączone bezpośrednio do odbiorników linii podczas odbioru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2362320"/>
            <a:ext cx="762120" cy="68580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Architektura trybu TNT4882 One-Chip Mode</a:t>
            </a:r>
            <a:r>
              <a:rPr b="0" lang="pl-PL" sz="2400" spc="-1" strike="noStrike">
                <a:solidFill>
                  <a:srgbClr val="ffebd5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23" name="2a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943600" cy="3164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9880" y="5486400"/>
            <a:ext cx="3657600" cy="990720"/>
          </a:xfrm>
          <a:prstGeom prst="wedgeRectCallout">
            <a:avLst>
              <a:gd name="adj1" fmla="val -52606"/>
              <a:gd name="adj2" fmla="val -223555"/>
            </a:avLst>
          </a:prstGeom>
          <a:solidFill>
            <a:srgbClr val="ffd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O jest bezpośrednio dołączony do GPIB. Maszyna stanów nie jest potrzebna do transferu znaków z FIFO na GPI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t to prostsza i szybsza architektura w porównaniu z poprzedni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21:50Z</dcterms:created>
  <dc:creator>Kasprzak</dc:creator>
  <dc:description/>
  <dc:language>en-US</dc:language>
  <cp:lastModifiedBy>Kasprzak</cp:lastModifiedBy>
  <dcterms:modified xsi:type="dcterms:W3CDTF">2006-05-11T13:51:41Z</dcterms:modified>
  <cp:revision>179</cp:revision>
  <dc:subject/>
  <dc:title>Zasady sterowania urządzeniami systemów pomiarowych.</dc:title>
</cp:coreProperties>
</file>