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A16-0CA5-4317-89FC-0DFC49F2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E37-2031-4C1C-9F33-AD29E65F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85A-BEB4-4C5E-89F5-9DF26BD3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5B27-4CF9-46F0-BF9F-98A41E0B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F8F-AF6A-4180-8522-DFDE1126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093-0C97-499D-BF3B-4EE35BBA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48A-5347-4780-982A-7B306B1D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57C-724F-4DE1-9528-C66F6187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0786-07CD-4843-863C-DFEDA1D7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2F7F-DAEB-4A87-A64D-BD99973E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BE8-89E3-4038-9DF6-EA1D6054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46C-39C9-41DE-AE8C-DD50B57C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EC6B-C1FD-4C25-A962-7644B886F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Podstawowe węzły VI</a:t>
            </a:r>
            <a:br>
              <a:rPr sz="2400"/>
            </a:b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(wykład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węzeł budowania tab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0880" y="914400"/>
          <a:ext cx="830592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30592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99"/>
                </a:solidFill>
                <a:latin typeface="Times New Roman"/>
              </a:rPr>
              <a:t>Paleta funkcji –węzły działań na strukturach (klastrac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33520" y="990720"/>
            <a:ext cx="3124080" cy="2684520"/>
            <a:chOff x="533520" y="990720"/>
            <a:chExt cx="3124080" cy="2684520"/>
          </a:xfrm>
        </p:grpSpPr>
        <p:graphicFrame>
          <p:nvGraphicFramePr>
            <p:cNvPr id="149" name=""/>
            <p:cNvGraphicFramePr/>
            <p:nvPr/>
          </p:nvGraphicFramePr>
          <p:xfrm>
            <a:off x="609840" y="1067040"/>
            <a:ext cx="3047760" cy="260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840" y="1067040"/>
                      <a:ext cx="3047760" cy="26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533520" y="990720"/>
              <a:ext cx="3048120" cy="26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990720" y="5638680"/>
            <a:ext cx="3886200" cy="838440"/>
          </a:xfrm>
          <a:prstGeom prst="wedgeRectCallout">
            <a:avLst>
              <a:gd name="adj1" fmla="val -50532"/>
              <a:gd name="adj2" fmla="val -323486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ała klastrow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ylko skorupa stałej. Wymaga wciągnięcia do niej stałych definiujących typy danych pól klast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676520"/>
            <a:ext cx="2971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1066680"/>
            <a:ext cx="4419360" cy="1219320"/>
          </a:xfrm>
          <a:prstGeom prst="wedgeRectCallout">
            <a:avLst>
              <a:gd name="adj1" fmla="val -70583"/>
              <a:gd name="adj2" fmla="val 25000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ęzły składania struktury z elementów oraz rozkładania struktury na elementy składow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czbę wejść lub wyjść węzła można dowolnie rozszerza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żna zrealizować złożenie struktury z nadaniem jej polom nazw. Ułatwia to manipulowanie strukturam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3809880"/>
            <a:ext cx="3886200" cy="685800"/>
          </a:xfrm>
          <a:prstGeom prst="wedgeRectCallout">
            <a:avLst>
              <a:gd name="adj1" fmla="val -94976"/>
              <a:gd name="adj2" fmla="val -118750"/>
            </a:avLst>
          </a:prstGeom>
          <a:solidFill>
            <a:srgbClr val="ffffff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ęzeł zamiany klastra w tablicę (wszystkie pola struktury muszą być jednego typu)  i węzeł operacji odwrotn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3048120"/>
            <a:ext cx="1447560" cy="457200"/>
          </a:xfrm>
          <a:prstGeom prst="ellipse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743200"/>
            <a:ext cx="3886200" cy="685800"/>
          </a:xfrm>
          <a:prstGeom prst="wedgeRectCallout">
            <a:avLst>
              <a:gd name="adj1" fmla="val -123731"/>
              <a:gd name="adj2" fmla="val -78703"/>
            </a:avLst>
          </a:prstGeom>
          <a:solidFill>
            <a:srgbClr val="ffff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ęzeł budowy tablicy klastrów z tablic wejściowych. N-ty klaster tablicy wyjściowej składa się z n-tych elementów tablic wejści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4876920"/>
            <a:ext cx="3886200" cy="533160"/>
          </a:xfrm>
          <a:prstGeom prst="wedgeRectCallout">
            <a:avLst>
              <a:gd name="adj1" fmla="val -95138"/>
              <a:gd name="adj2" fmla="val -465476"/>
            </a:avLst>
          </a:prstGeom>
          <a:solidFill>
            <a:srgbClr val="ffffff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ęzeł buduje z każdego elementu wejściowego klaster i składa je w  tablic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99"/>
                </a:solidFill>
                <a:latin typeface="Times New Roman"/>
              </a:rPr>
              <a:t>Paleta funkcji –węzły operacji stringow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676520" y="2362320"/>
            <a:ext cx="3124080" cy="2438280"/>
            <a:chOff x="1676520" y="2362320"/>
            <a:chExt cx="3124080" cy="2438280"/>
          </a:xfrm>
        </p:grpSpPr>
        <p:graphicFrame>
          <p:nvGraphicFramePr>
            <p:cNvPr id="161" name=""/>
            <p:cNvGraphicFramePr/>
            <p:nvPr/>
          </p:nvGraphicFramePr>
          <p:xfrm>
            <a:off x="1752840" y="2381400"/>
            <a:ext cx="3047760" cy="241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840" y="2381400"/>
                      <a:ext cx="3047760" cy="24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1676520" y="2362320"/>
              <a:ext cx="3124080" cy="24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952880" y="1295280"/>
            <a:ext cx="3810240" cy="457200"/>
          </a:xfrm>
          <a:prstGeom prst="wedgeRectCallout">
            <a:avLst>
              <a:gd name="adj1" fmla="val -111125"/>
              <a:gd name="adj2" fmla="val 298958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ęzeł składania stringu z kilku tekstó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czbę wejść węzła można dowolnie rozszerza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343400"/>
            <a:ext cx="3504960" cy="3049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5638680"/>
            <a:ext cx="1600200" cy="304920"/>
          </a:xfrm>
          <a:prstGeom prst="wedgeRectCallout">
            <a:avLst>
              <a:gd name="adj1" fmla="val 1291"/>
              <a:gd name="adj2" fmla="val -371875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łe tekst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2819520"/>
            <a:ext cx="3581640" cy="838080"/>
          </a:xfrm>
          <a:prstGeom prst="wedgeRectCallout">
            <a:avLst>
              <a:gd name="adj1" fmla="val -73712"/>
              <a:gd name="adj2" fmla="val 27273"/>
            </a:avLst>
          </a:prstGeom>
          <a:solidFill>
            <a:srgbClr val="ffffff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wersja danych numerycznych do zapisów tekstowych w formacie dziesiątkowym, heksalnym lub oktalnym oraz konwersje odwrot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066680"/>
            <a:ext cx="3124080" cy="106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27" y="2314"/>
                </a:moveTo>
                <a:lnTo>
                  <a:pt x="-2788" y="2314"/>
                </a:lnTo>
                <a:lnTo>
                  <a:pt x="-2788" y="48150"/>
                </a:lnTo>
                <a:lnTo>
                  <a:pt x="6640" y="59689"/>
                </a:lnTo>
              </a:path>
            </a:pathLst>
          </a:custGeom>
          <a:solidFill>
            <a:srgbClr val="ffffff"/>
          </a:solidFill>
          <a:ln w="28440">
            <a:solidFill>
              <a:srgbClr val="cc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can From String – przetwarza tekst do danych według zadeklarowanego formatu , np. tekst zapisu liczby na wartość numeryczną int, unsigned, long, float, double it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4800600"/>
            <a:ext cx="2855880" cy="1295280"/>
          </a:xfrm>
          <a:prstGeom prst="borderCallout2">
            <a:avLst>
              <a:gd name="adj1" fmla="val 18750"/>
              <a:gd name="adj2" fmla="val -8333"/>
              <a:gd name="adj3" fmla="val 8824"/>
              <a:gd name="adj4" fmla="val -25680"/>
              <a:gd name="adj5" fmla="val -57231"/>
              <a:gd name="adj6" fmla="val -103166"/>
            </a:avLst>
          </a:prstGeom>
          <a:solidFill>
            <a:srgbClr val="ffffff"/>
          </a:solidFill>
          <a:ln w="2844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Format Into String – przetwarza dane według zadeklarowanego formatu do zapisów tekstowych, np. dane numeryczne int czy double do zapisu dziesiątkowego tekstowego z określoną precyzj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99"/>
                </a:solidFill>
                <a:latin typeface="Times New Roman"/>
              </a:rPr>
              <a:t>Paleta funkcji –węzły Format Into String i Scan From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7200" y="1139760"/>
            <a:ext cx="8305920" cy="5032440"/>
            <a:chOff x="457200" y="1139760"/>
            <a:chExt cx="8305920" cy="503244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57200" y="1139760"/>
              <a:ext cx="5257800" cy="50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876920" y="2895480"/>
              <a:ext cx="0" cy="762120"/>
            </a:xfrm>
            <a:prstGeom prst="line">
              <a:avLst/>
            </a:prstGeom>
            <a:ln w="64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4419720"/>
              <a:ext cx="4496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5e89"/>
                  </a:solidFill>
                  <a:latin typeface="Arial"/>
                </a:rPr>
                <a:t>Konwersję kończy spacja przed tekstem 23.456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5e89"/>
                  </a:solidFill>
                  <a:latin typeface="Arial"/>
                </a:rPr>
                <a:t>Bez operatora %.; otrzyma się wartość 1 !!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67080" y="4495680"/>
              <a:ext cx="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209320" y="4648320"/>
              <a:ext cx="205740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105520" y="2895480"/>
              <a:ext cx="38088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486400" y="2743200"/>
            <a:ext cx="350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5e89"/>
                </a:solidFill>
                <a:latin typeface="Arial"/>
              </a:rPr>
              <a:t>Operator  %.; decyduje, że zapis tekstowy użyje kropk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685800" y="1295280"/>
          <a:ext cx="74674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74674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99"/>
                </a:solidFill>
                <a:latin typeface="Times New Roman"/>
              </a:rPr>
              <a:t>Przykład (wykorzystanie węzłów z grupy Analy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523880" y="1371600"/>
          <a:ext cx="5867640" cy="52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71600"/>
                    <a:ext cx="5867640" cy="52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99"/>
                </a:solidFill>
                <a:latin typeface="Times New Roman"/>
              </a:rPr>
              <a:t>Przykład 2 (wykorzystanie węzłów z grupy Analy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143000" y="1295280"/>
          <a:ext cx="68659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68659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rzykła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Węzeł diagr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3000"/>
            <a:ext cx="80010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ęzeł operacyjny jest elementem diagramu odpowiedzialnym za przetwarzanie dostarczonych mu danych i wydanie rezultatów tego przetworzen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LabVIEW dysponuje węzłami podstawowymi oraz standardowymi i rozszerzającymi bibliotekami węzłów zdefiniowanych jako podprogramy – czyli sub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ęzły podstawowe są reprezentowane przez żółte ikony z czarnym rysunkiem. Nie można ich edytować w celu modyfikacji ich działania. Ich cechy są ustal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4191120"/>
            <a:ext cx="800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ęzły będące podprogramami (subVI) są reprezentowane przez ikony w innych kolorach i jeśli ich dostawca nie zablokował edycji można oglądać ich konstrukcję oraz modyfikować budow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219320" y="3352680"/>
          <a:ext cx="6019560" cy="7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01956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828800" y="5257800"/>
          <a:ext cx="525780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5257800"/>
                    <a:ext cx="52578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 standardowe grupy węzł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62320" y="1219320"/>
          <a:ext cx="193032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219320"/>
                    <a:ext cx="19303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"/>
          <p:cNvGrpSpPr/>
          <p:nvPr/>
        </p:nvGrpSpPr>
        <p:grpSpPr>
          <a:xfrm>
            <a:off x="2514240" y="1752120"/>
            <a:ext cx="1600560" cy="1600560"/>
            <a:chOff x="2514240" y="1752120"/>
            <a:chExt cx="1600560" cy="1600560"/>
          </a:xfrm>
        </p:grpSpPr>
        <p:sp>
          <p:nvSpPr>
            <p:cNvPr id="53" name=""/>
            <p:cNvSpPr/>
            <p:nvPr/>
          </p:nvSpPr>
          <p:spPr>
            <a:xfrm>
              <a:off x="2514600" y="1752480"/>
              <a:ext cx="0" cy="1600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14600" y="3352680"/>
              <a:ext cx="1066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581280" y="2819160"/>
              <a:ext cx="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2819160"/>
              <a:ext cx="533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14800" y="1752120"/>
              <a:ext cx="0" cy="1066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514240" y="175248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7760" y="3428640"/>
            <a:ext cx="1067040" cy="1981440"/>
            <a:chOff x="3047760" y="3428640"/>
            <a:chExt cx="1067040" cy="1981440"/>
          </a:xfrm>
        </p:grpSpPr>
        <p:sp>
          <p:nvSpPr>
            <p:cNvPr id="60" name=""/>
            <p:cNvSpPr/>
            <p:nvPr/>
          </p:nvSpPr>
          <p:spPr>
            <a:xfrm>
              <a:off x="3048120" y="3429000"/>
              <a:ext cx="0" cy="19810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8120" y="5410080"/>
              <a:ext cx="1066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114800" y="3428640"/>
              <a:ext cx="0" cy="19810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047760" y="3429000"/>
              <a:ext cx="1066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514600" y="3429000"/>
            <a:ext cx="457200" cy="1447920"/>
            <a:chOff x="2514600" y="3429000"/>
            <a:chExt cx="457200" cy="1447920"/>
          </a:xfrm>
        </p:grpSpPr>
        <p:sp>
          <p:nvSpPr>
            <p:cNvPr id="65" name=""/>
            <p:cNvSpPr/>
            <p:nvPr/>
          </p:nvSpPr>
          <p:spPr>
            <a:xfrm>
              <a:off x="2514600" y="3429000"/>
              <a:ext cx="0" cy="144792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14600" y="4876920"/>
              <a:ext cx="4572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971800" y="3429000"/>
              <a:ext cx="0" cy="144792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514600" y="3429000"/>
              <a:ext cx="4572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657600" y="2895480"/>
            <a:ext cx="457200" cy="457200"/>
            <a:chOff x="3657600" y="2895480"/>
            <a:chExt cx="457200" cy="457200"/>
          </a:xfrm>
        </p:grpSpPr>
        <p:sp>
          <p:nvSpPr>
            <p:cNvPr id="70" name=""/>
            <p:cNvSpPr/>
            <p:nvPr/>
          </p:nvSpPr>
          <p:spPr>
            <a:xfrm>
              <a:off x="3657600" y="2895480"/>
              <a:ext cx="0" cy="45720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57600" y="3352680"/>
              <a:ext cx="4572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114800" y="2895480"/>
              <a:ext cx="0" cy="45720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657600" y="2895480"/>
              <a:ext cx="4572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486400" y="990720"/>
            <a:ext cx="2514600" cy="2057400"/>
          </a:xfrm>
          <a:prstGeom prst="wedgeRoundRectCallout">
            <a:avLst>
              <a:gd name="adj1" fmla="val -104925"/>
              <a:gd name="adj2" fmla="val 5787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Węzły podstawow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Struktury konstrukcyj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Funkcje numerycz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Funkcje logicz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peracje string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peracje tab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peracje na klastr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Funkcje porówn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Funkcje czas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3505320"/>
            <a:ext cx="4267080" cy="3047760"/>
          </a:xfrm>
          <a:prstGeom prst="wedgeRoundRectCallout">
            <a:avLst>
              <a:gd name="adj1" fmla="val -61606"/>
              <a:gd name="adj2" fmla="val -35310"/>
              <a:gd name="adj3" fmla="val 16667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Węzły specjalistycz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Waveform ( przebiegi czasowe: źródła i para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sygnałów,  FFT, ...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Analiza sygnałów ( generacja, analiza w domen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czasowej i częstotliwościowej, filtracja,okna 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Matematyczne ( aproksymacja, całkowani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różniczkowanie, ekstrema, miejsca zerow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funkcje probabilistyczne i statystyczne, ...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bsługa aplikacji ( referencje, węzły własn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i metod, funkcje obsługi menu, ...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Grafika i dźwię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Generacja raportó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Zaawansowane ( wywołanie funkcji DL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synchronizacja, konwersja danych, ..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676520"/>
            <a:ext cx="2133720" cy="1676160"/>
          </a:xfrm>
          <a:prstGeom prst="wedgeRoundRectCallout">
            <a:avLst>
              <a:gd name="adj1" fmla="val 58777"/>
              <a:gd name="adj2" fmla="val 94699"/>
              <a:gd name="adj3" fmla="val 16667"/>
            </a:avLst>
          </a:prstGeom>
          <a:solidFill>
            <a:srgbClr val="ffffff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cc6600"/>
                </a:solidFill>
                <a:latin typeface="Arial"/>
              </a:rPr>
              <a:t>Węzły I/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peracje plik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bsługa kart D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bsługa przyrządó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Komunikacja sieci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activeX, TCP, UD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Socked, 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 węzły numeryczn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62120" y="1981080"/>
            <a:ext cx="7848000" cy="4300560"/>
            <a:chOff x="762120" y="1981080"/>
            <a:chExt cx="7848000" cy="4300560"/>
          </a:xfrm>
        </p:grpSpPr>
        <p:sp>
          <p:nvSpPr>
            <p:cNvPr id="79" name=""/>
            <p:cNvSpPr/>
            <p:nvPr/>
          </p:nvSpPr>
          <p:spPr>
            <a:xfrm>
              <a:off x="4800600" y="2057400"/>
              <a:ext cx="3809520" cy="42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Konwersje typu dan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Funkcje trygonometrycz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Potęgi i logarytm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Operacje na danych zespolonych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Typowe stał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Proste jednoargumentowe wyrażen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Definiowanie stałych wyliczen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Definiowanie stałej numeryczne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762120" y="1981080"/>
              <a:ext cx="3200040" cy="3124080"/>
              <a:chOff x="762120" y="1981080"/>
              <a:chExt cx="3200040" cy="3124080"/>
            </a:xfrm>
          </p:grpSpPr>
          <p:sp>
            <p:nvSpPr>
              <p:cNvPr id="81" name=""/>
              <p:cNvSpPr/>
              <p:nvPr/>
            </p:nvSpPr>
            <p:spPr>
              <a:xfrm>
                <a:off x="762120" y="1981080"/>
                <a:ext cx="3200040" cy="3124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2" name=""/>
              <p:cNvGraphicFramePr/>
              <p:nvPr/>
            </p:nvGraphicFramePr>
            <p:xfrm>
              <a:off x="838080" y="2057400"/>
              <a:ext cx="3123720" cy="2963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38080" y="2057400"/>
                        <a:ext cx="3123720" cy="296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4" name=""/>
            <p:cNvSpPr/>
            <p:nvPr/>
          </p:nvSpPr>
          <p:spPr>
            <a:xfrm flipH="1">
              <a:off x="3809520" y="2209680"/>
              <a:ext cx="990360" cy="53352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733200" y="2666880"/>
              <a:ext cx="1066680" cy="6098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3809520" y="3048120"/>
              <a:ext cx="990360" cy="68580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809520" y="3505320"/>
              <a:ext cx="990360" cy="68580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733200" y="3962520"/>
              <a:ext cx="1066680" cy="6094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3200400" y="4724280"/>
              <a:ext cx="1599840" cy="45720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286000" y="4723920"/>
              <a:ext cx="2514240" cy="8384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676160" y="4800240"/>
              <a:ext cx="3124080" cy="76212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2640" y="4876560"/>
              <a:ext cx="3657240" cy="114300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04920" y="114300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5e89"/>
                </a:solidFill>
                <a:latin typeface="Arial"/>
              </a:rPr>
              <a:t>Węzły numeryczne realizują działania arytmetyczne, trygonometryczne, logarytmowania, potęgowania, operacje na liczbach zespolonych oraz konwersje liczb z jednego typu do inn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 polimorfizm węzłów numerycz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066680"/>
            <a:ext cx="8458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Węzły numeryczne są poliformiczne, czyli mogą funkcjonować na argumentach różnego typu dostosowując swoje działanie do typu danych wejściow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Argumenty węzłów numerycznych mogą być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skalarami liczbowym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tablicami lub klastrami liczbowym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tablicami klastrów liczbow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371600" y="2743200"/>
          <a:ext cx="60022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43200"/>
                    <a:ext cx="60022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65320" y="4156200"/>
            <a:ext cx="20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99"/>
                </a:solidFill>
                <a:latin typeface="Times New Roman"/>
              </a:rPr>
              <a:t>Paleta funkcji – polimorfizm węzłów numerycznych (c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44792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5e89"/>
                </a:solidFill>
                <a:latin typeface="Arial"/>
              </a:rPr>
              <a:t>Węzeł mnożenia też cechuje polimorfizm, ale nie oznacza to, że wykona mnożenie macierzy, jeśli dostanie dane w postaci tablic dwuwymiarow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057400" y="2133720"/>
            <a:ext cx="5867280" cy="3200400"/>
            <a:chOff x="2057400" y="2133720"/>
            <a:chExt cx="5867280" cy="3200400"/>
          </a:xfrm>
        </p:grpSpPr>
        <p:graphicFrame>
          <p:nvGraphicFramePr>
            <p:cNvPr id="102" name=""/>
            <p:cNvGraphicFramePr/>
            <p:nvPr/>
          </p:nvGraphicFramePr>
          <p:xfrm>
            <a:off x="2057400" y="2895840"/>
            <a:ext cx="4543200" cy="1781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2895840"/>
                      <a:ext cx="4543200" cy="17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"/>
            <p:cNvSpPr/>
            <p:nvPr/>
          </p:nvSpPr>
          <p:spPr>
            <a:xfrm>
              <a:off x="3962160" y="2133720"/>
              <a:ext cx="3962520" cy="533520"/>
            </a:xfrm>
            <a:prstGeom prst="wedgeRoundRectCallout">
              <a:avLst>
                <a:gd name="adj1" fmla="val -53125"/>
                <a:gd name="adj2" fmla="val 167856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nożenie odpowiadających sobie pól tabl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 = A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 * B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n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19360" y="4800960"/>
              <a:ext cx="2895840" cy="533160"/>
            </a:xfrm>
            <a:prstGeom prst="wedgeRoundRectCallout">
              <a:avLst>
                <a:gd name="adj1" fmla="val -66120"/>
                <a:gd name="adj2" fmla="val -137796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nożenie macier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k=0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nk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 * B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57200" y="5715000"/>
            <a:ext cx="84582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Uwag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ontroluj co dostajesz z funkcji polimorficznej w konkretnej sytuacji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iększość węzłów VI cechuje się polimorfizm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węzły boolow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38280" y="4800600"/>
          <a:ext cx="382932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800600"/>
                    <a:ext cx="382932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80880" y="3200400"/>
            <a:ext cx="84582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Węzły boolowskie realizują działania logiczne lub arytmetykę bitow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Argumenty węzłów mogą być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349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skalarami wartości boolowskich lub numerycznych całkowitych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349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tablicami lub klastrami wartości boolowskich lub numerycznych całkowitych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349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tablicami klastrów wartości boolowskich lub numerycznych całkowit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Jeśli węzeł dostanie dane całkowite, wówczas realizuje arytmetykę bitową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990720"/>
          <a:ext cx="2286000" cy="21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990720"/>
                    <a:ext cx="228600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57200" y="1371600"/>
            <a:ext cx="251460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209680"/>
            <a:ext cx="2438280" cy="3812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666880"/>
            <a:ext cx="1143000" cy="381240"/>
          </a:xfrm>
          <a:prstGeom prst="ellipse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990720"/>
            <a:ext cx="3429000" cy="533160"/>
          </a:xfrm>
          <a:prstGeom prst="wedgeRectCallout">
            <a:avLst>
              <a:gd name="adj1" fmla="val -61388"/>
              <a:gd name="adj2" fmla="val 98810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X and Y      X or Y      X xor Y      not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X nand Y    X nor Y    X nxor Y    not X  or 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1676520"/>
            <a:ext cx="3429000" cy="1218960"/>
          </a:xfrm>
          <a:prstGeom prst="wedgeRectCallout">
            <a:avLst>
              <a:gd name="adj1" fmla="val -119675"/>
              <a:gd name="adj2" fmla="val 6509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nd elementów tablicy boolowskie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 elementów tablicy boolowskie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czba do tablicy boolowskiej (9  -&gt; 001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blica boolowska do liczby  (001001 -&gt; 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na boolowska do liczby 0 lub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2743200"/>
            <a:ext cx="1752480" cy="304920"/>
          </a:xfrm>
          <a:prstGeom prst="wedgeRectCallout">
            <a:avLst>
              <a:gd name="adj1" fmla="val -133060"/>
              <a:gd name="adj2" fmla="val -10416"/>
            </a:avLst>
          </a:prstGeom>
          <a:solidFill>
            <a:srgbClr val="ffffff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łe boolowsk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761760" y="4876920"/>
            <a:ext cx="1600920" cy="457920"/>
          </a:xfrm>
          <a:prstGeom prst="bentConnector3">
            <a:avLst>
              <a:gd name="adj1" fmla="val 494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węzły porówna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3657600"/>
            <a:ext cx="87631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Argumenty węzłów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90360">
              <a:lnSpc>
                <a:spcPct val="100000"/>
              </a:lnSpc>
              <a:spcBef>
                <a:spcPts val="300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muszą być tego samego typu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90360">
              <a:lnSpc>
                <a:spcPct val="100000"/>
              </a:lnSpc>
              <a:spcBef>
                <a:spcPts val="300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mogą być skalarami , klastrami , tablicam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90360">
              <a:lnSpc>
                <a:spcPct val="100000"/>
              </a:lnSpc>
              <a:spcBef>
                <a:spcPts val="300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można porównywać skalar danego typu  z klastrem lub tablicą tego samego typu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90360">
              <a:lnSpc>
                <a:spcPct val="100000"/>
              </a:lnSpc>
              <a:spcBef>
                <a:spcPts val="300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wynikiem porównania jest skalar boolowski albo klaster lub tablica wartości boolowskich. Zależy to od ustawionego trybu pracy węzł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8600" y="838080"/>
            <a:ext cx="8153280" cy="2616120"/>
            <a:chOff x="228600" y="838080"/>
            <a:chExt cx="8153280" cy="2616120"/>
          </a:xfrm>
        </p:grpSpPr>
        <p:grpSp>
          <p:nvGrpSpPr>
            <p:cNvPr id="123" name=""/>
            <p:cNvGrpSpPr/>
            <p:nvPr/>
          </p:nvGrpSpPr>
          <p:grpSpPr>
            <a:xfrm>
              <a:off x="533520" y="838080"/>
              <a:ext cx="3200400" cy="2616120"/>
              <a:chOff x="533520" y="838080"/>
              <a:chExt cx="3200400" cy="2616120"/>
            </a:xfrm>
          </p:grpSpPr>
          <p:graphicFrame>
            <p:nvGraphicFramePr>
              <p:cNvPr id="124" name=""/>
              <p:cNvGraphicFramePr/>
              <p:nvPr/>
            </p:nvGraphicFramePr>
            <p:xfrm>
              <a:off x="533520" y="914040"/>
              <a:ext cx="3200400" cy="2540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3520" y="914040"/>
                        <a:ext cx="3200400" cy="2540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6" name=""/>
              <p:cNvSpPr/>
              <p:nvPr/>
            </p:nvSpPr>
            <p:spPr>
              <a:xfrm>
                <a:off x="533520" y="838080"/>
                <a:ext cx="3200400" cy="259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04920" y="2286000"/>
              <a:ext cx="2057400" cy="60948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67080" y="838080"/>
              <a:ext cx="1752840" cy="381240"/>
            </a:xfrm>
            <a:prstGeom prst="wedgeRectCallout">
              <a:avLst>
                <a:gd name="adj1" fmla="val -82518"/>
                <a:gd name="adj2" fmla="val 147500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ęzły porówna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1523880"/>
              <a:ext cx="3886200" cy="838440"/>
            </a:xfrm>
            <a:prstGeom prst="wedgeRectCallout">
              <a:avLst>
                <a:gd name="adj1" fmla="val -107925"/>
                <a:gd name="adj2" fmla="val 66856"/>
              </a:avLst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ybór y = war? X1 : X2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ksimum i minimum ( y1=max(x,y); y2=min(x,y) 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rawdzenie czy x jest w zadanym zakresi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5680" y="2895480"/>
              <a:ext cx="3657600" cy="533520"/>
            </a:xfrm>
            <a:prstGeom prst="wedgeRectCallout">
              <a:avLst>
                <a:gd name="adj1" fmla="val -72958"/>
                <a:gd name="adj2" fmla="val -43152"/>
              </a:avLst>
            </a:prstGeom>
            <a:solidFill>
              <a:srgbClr val="ffffff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Sprawdzenie rodzaju znaku (cyfra dziesiętna, hex, oktalna, biała spacja itp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880" y="2352600"/>
              <a:ext cx="3267360" cy="1044720"/>
            </a:xfrm>
            <a:custGeom>
              <a:avLst/>
              <a:gdLst/>
              <a:ahLst/>
              <a:rect l="l" t="t" r="r" b="b"/>
              <a:pathLst>
                <a:path w="2058" h="658">
                  <a:moveTo>
                    <a:pt x="951" y="368"/>
                  </a:moveTo>
                  <a:cubicBezTo>
                    <a:pt x="672" y="376"/>
                    <a:pt x="499" y="379"/>
                    <a:pt x="236" y="373"/>
                  </a:cubicBezTo>
                  <a:cubicBezTo>
                    <a:pt x="154" y="344"/>
                    <a:pt x="201" y="400"/>
                    <a:pt x="87" y="411"/>
                  </a:cubicBezTo>
                  <a:cubicBezTo>
                    <a:pt x="38" y="442"/>
                    <a:pt x="31" y="442"/>
                    <a:pt x="0" y="486"/>
                  </a:cubicBezTo>
                  <a:cubicBezTo>
                    <a:pt x="27" y="512"/>
                    <a:pt x="17" y="546"/>
                    <a:pt x="26" y="560"/>
                  </a:cubicBezTo>
                  <a:cubicBezTo>
                    <a:pt x="35" y="574"/>
                    <a:pt x="48" y="564"/>
                    <a:pt x="52" y="568"/>
                  </a:cubicBezTo>
                  <a:cubicBezTo>
                    <a:pt x="55" y="574"/>
                    <a:pt x="48" y="581"/>
                    <a:pt x="52" y="586"/>
                  </a:cubicBezTo>
                  <a:cubicBezTo>
                    <a:pt x="65" y="602"/>
                    <a:pt x="130" y="619"/>
                    <a:pt x="148" y="630"/>
                  </a:cubicBezTo>
                  <a:cubicBezTo>
                    <a:pt x="193" y="657"/>
                    <a:pt x="232" y="641"/>
                    <a:pt x="279" y="647"/>
                  </a:cubicBezTo>
                  <a:cubicBezTo>
                    <a:pt x="329" y="654"/>
                    <a:pt x="395" y="640"/>
                    <a:pt x="445" y="647"/>
                  </a:cubicBezTo>
                  <a:cubicBezTo>
                    <a:pt x="492" y="657"/>
                    <a:pt x="460" y="635"/>
                    <a:pt x="567" y="656"/>
                  </a:cubicBezTo>
                  <a:cubicBezTo>
                    <a:pt x="675" y="657"/>
                    <a:pt x="979" y="658"/>
                    <a:pt x="1091" y="656"/>
                  </a:cubicBezTo>
                  <a:cubicBezTo>
                    <a:pt x="1139" y="657"/>
                    <a:pt x="1188" y="643"/>
                    <a:pt x="1240" y="643"/>
                  </a:cubicBezTo>
                  <a:cubicBezTo>
                    <a:pt x="1397" y="640"/>
                    <a:pt x="1554" y="652"/>
                    <a:pt x="1711" y="647"/>
                  </a:cubicBezTo>
                  <a:cubicBezTo>
                    <a:pt x="1739" y="646"/>
                    <a:pt x="1807" y="619"/>
                    <a:pt x="1824" y="608"/>
                  </a:cubicBezTo>
                  <a:cubicBezTo>
                    <a:pt x="1846" y="593"/>
                    <a:pt x="1895" y="600"/>
                    <a:pt x="1886" y="591"/>
                  </a:cubicBezTo>
                  <a:cubicBezTo>
                    <a:pt x="1905" y="570"/>
                    <a:pt x="1925" y="553"/>
                    <a:pt x="1946" y="534"/>
                  </a:cubicBezTo>
                  <a:cubicBezTo>
                    <a:pt x="1964" y="518"/>
                    <a:pt x="1929" y="568"/>
                    <a:pt x="1946" y="551"/>
                  </a:cubicBezTo>
                  <a:cubicBezTo>
                    <a:pt x="1952" y="545"/>
                    <a:pt x="1972" y="534"/>
                    <a:pt x="1972" y="534"/>
                  </a:cubicBezTo>
                  <a:cubicBezTo>
                    <a:pt x="1989" y="500"/>
                    <a:pt x="2007" y="498"/>
                    <a:pt x="2034" y="472"/>
                  </a:cubicBezTo>
                  <a:cubicBezTo>
                    <a:pt x="2058" y="366"/>
                    <a:pt x="2051" y="256"/>
                    <a:pt x="2025" y="146"/>
                  </a:cubicBezTo>
                  <a:cubicBezTo>
                    <a:pt x="2009" y="79"/>
                    <a:pt x="1918" y="38"/>
                    <a:pt x="1859" y="23"/>
                  </a:cubicBezTo>
                  <a:cubicBezTo>
                    <a:pt x="1754" y="0"/>
                    <a:pt x="1590" y="18"/>
                    <a:pt x="1519" y="23"/>
                  </a:cubicBezTo>
                  <a:cubicBezTo>
                    <a:pt x="1448" y="28"/>
                    <a:pt x="1458" y="35"/>
                    <a:pt x="1432" y="50"/>
                  </a:cubicBezTo>
                  <a:cubicBezTo>
                    <a:pt x="1415" y="64"/>
                    <a:pt x="1384" y="90"/>
                    <a:pt x="1362" y="111"/>
                  </a:cubicBezTo>
                  <a:cubicBezTo>
                    <a:pt x="1348" y="158"/>
                    <a:pt x="1350" y="200"/>
                    <a:pt x="1301" y="215"/>
                  </a:cubicBezTo>
                  <a:cubicBezTo>
                    <a:pt x="1269" y="237"/>
                    <a:pt x="1259" y="281"/>
                    <a:pt x="1222" y="294"/>
                  </a:cubicBezTo>
                  <a:cubicBezTo>
                    <a:pt x="1205" y="329"/>
                    <a:pt x="1135" y="332"/>
                    <a:pt x="1126" y="346"/>
                  </a:cubicBezTo>
                  <a:cubicBezTo>
                    <a:pt x="1113" y="367"/>
                    <a:pt x="1100" y="331"/>
                    <a:pt x="1079" y="348"/>
                  </a:cubicBezTo>
                  <a:cubicBezTo>
                    <a:pt x="1072" y="354"/>
                    <a:pt x="1048" y="360"/>
                    <a:pt x="1039" y="364"/>
                  </a:cubicBezTo>
                  <a:cubicBezTo>
                    <a:pt x="1030" y="369"/>
                    <a:pt x="1039" y="345"/>
                    <a:pt x="1030" y="350"/>
                  </a:cubicBezTo>
                  <a:cubicBezTo>
                    <a:pt x="1022" y="354"/>
                    <a:pt x="1004" y="375"/>
                    <a:pt x="1000" y="383"/>
                  </a:cubicBezTo>
                  <a:cubicBezTo>
                    <a:pt x="997" y="389"/>
                    <a:pt x="945" y="365"/>
                    <a:pt x="951" y="368"/>
                  </a:cubicBezTo>
                  <a:close/>
                </a:path>
              </a:pathLst>
            </a:custGeom>
            <a:noFill/>
            <a:ln w="2844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" y="1295280"/>
              <a:ext cx="3657600" cy="990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1600200" y="5029200"/>
          <a:ext cx="5410080" cy="16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029200"/>
                    <a:ext cx="541008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590920" y="4952880"/>
            <a:ext cx="457200" cy="1067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4952880"/>
            <a:ext cx="3808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węzły operacji tablicow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1143000"/>
            <a:ext cx="2467080" cy="2895480"/>
            <a:chOff x="1295280" y="1143000"/>
            <a:chExt cx="2467080" cy="2895480"/>
          </a:xfrm>
        </p:grpSpPr>
        <p:graphicFrame>
          <p:nvGraphicFramePr>
            <p:cNvPr id="139" name=""/>
            <p:cNvGraphicFramePr/>
            <p:nvPr/>
          </p:nvGraphicFramePr>
          <p:xfrm>
            <a:off x="1295280" y="1218960"/>
            <a:ext cx="2467080" cy="281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1218960"/>
                      <a:ext cx="2467080" cy="281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>
              <a:off x="1295280" y="1143000"/>
              <a:ext cx="2438640" cy="289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419720" y="1371600"/>
            <a:ext cx="3962160" cy="914400"/>
          </a:xfrm>
          <a:prstGeom prst="wedgeRectCallout">
            <a:avLst>
              <a:gd name="adj1" fmla="val -108092"/>
              <a:gd name="adj2" fmla="val 42013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duj tablicę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czbę wejść węzła można dowolnie rozszerza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ziałanie węzła zależy od rodzaju argumentów wejściowych oraz ustawionego trybu jego p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5029200"/>
            <a:ext cx="3886200" cy="838080"/>
          </a:xfrm>
          <a:prstGeom prst="wedgeRectCallout">
            <a:avLst>
              <a:gd name="adj1" fmla="val -115768"/>
              <a:gd name="adj2" fmla="val -209282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ła tablicow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lko skorupa tablicy. Wymaga wciągnięcia do niej stałych definiujących typ danych pól tab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1:31:54Z</dcterms:created>
  <dc:creator>Kasprzak Bogdan</dc:creator>
  <dc:description/>
  <dc:language>en-US</dc:language>
  <cp:lastModifiedBy>Kasprzak</cp:lastModifiedBy>
  <dcterms:modified xsi:type="dcterms:W3CDTF">2006-10-11T14:53:06Z</dcterms:modified>
  <cp:revision>50</cp:revision>
  <dc:subject/>
  <dc:title>Paleta narzędzi</dc:title>
</cp:coreProperties>
</file>