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4F1-4B11-481A-B714-76D5F4B0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9F7-C78D-43C4-AD76-F261522E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A90-F3DE-4804-BAE2-27D908F3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516-8294-458C-A47B-5756AFC9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74B-1DEB-4F87-BFEF-3C1D104F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D46-40C9-4A58-BB80-2FAB25D8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F8C5-F619-4857-8DE9-B5FF03C5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196-63C8-4151-981B-F2E047DC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C32-F77B-47C0-9D32-FDABCECE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6C9-28DB-451D-A8D3-B17DA2B6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3F0-72CE-48AE-A8FB-5B0B9DF0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77C-A6B9-4E79-8376-61B9429A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839D-18B8-4FC3-8C53-01D4009E9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267080"/>
            <a:ext cx="838188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utomat skończony jest jednym z podstawowych modeli projektowania aplikacji w LabView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rchitekturę automatu skończonego można zastosować do projektowania złożonych algorytmów opisanych przez diagramy stanów lub diagramy przepływow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ojekt wykorzystujący architekturę automatu skończonego charakteryzuje si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zejrzystością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Łatwością dokumentowania rozwiązania aplikacj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Łatwością modyfikowania i tym samym wykorzystania w nowych warunkach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 skończon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066680"/>
            <a:ext cx="830556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cc6600"/>
                </a:solidFill>
                <a:latin typeface="Arial"/>
              </a:rPr>
              <a:t>Automat skończony jest modelem matematycznym systemu dyskretnego działającego w dyskretnych chwilach czasu. Jego działanie jest określone na zbiorach skończonych sygnałów wejściowych, stanów wewnętrznych i sygnałów wyjściowych. Automat skończony można zrealizować sprzętowo lub programow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Trzy podstawowe pojęcia automat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Stan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charakterystyczny status systemu. W odniesieniu do systemów pomiarowych dotyczący zwykle zakresu realizowanych zadań , np. inicjalizacji, akwizycji danych, archiwizacji danych, oczekiwania na akcje użytkownika it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Zdarzenie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zaistnienie faktu wpływającego na stan systemu, np. przekroczenie limitu kontrolowanego parametru, akcja użytkownika, błąd obliczeń itd.  Ogólnie zdarzenie może być zdarzeniem zewnętrznym lub wewnętrznym, generowanym przez autom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Akcja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odpowiedź systemu na zdarzenie, która zależy od aktualnego stanu systemu  i zaistniałego zdarzen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upowanie nastawników w kl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r0c0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583320" cy="2822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14400" y="4419720"/>
            <a:ext cx="7864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stawnik w postaci klastra posiada terminal wejściowy dostarczający stany wszystkich jego nastawników ( integracja danych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laster w tym przykładzie jest złożony z pól tego samego typ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żna go prosto przekształcić w tablicę jednowymiarową, której kolejne pola podają stany przycisków Acquire, Analyze i Sto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szukanie aktywnego przycis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r0c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840800" cy="2822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9960" y="4917960"/>
            <a:ext cx="81691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ęzeł przeszukiwania tablicy poszukuje pierwszego wystąpienia zadeklarowanej wartości (tutaj TRU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raca indeks pozycji lub –1, jeśli tablica nie zawiera szukanej wartoś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dostarcza wartości  :  -1, 0, 1 lub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acja programowa apl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r0d" descr=""/>
          <p:cNvPicPr/>
          <p:nvPr/>
        </p:nvPicPr>
        <p:blipFill>
          <a:blip r:embed="rId1"/>
          <a:stretch/>
        </p:blipFill>
        <p:spPr>
          <a:xfrm>
            <a:off x="165240" y="1531800"/>
            <a:ext cx="8812080" cy="3794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2240" y="5299200"/>
            <a:ext cx="80168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ętla 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wiera konstrukcję 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cas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której ramki stanowią realizację przyjętych stanów aplik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ażda ramka określa następny realizowany stan. Przekazywanie nowego stanu do następnej iteracji pętli zapewnia rejestr przesuwn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alizacja programowa aplikacji (c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r0e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819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371600"/>
            <a:ext cx="794088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iona metoda posiada kilka istotnych w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t nieefektywna, ponieważ wymaga ciągłego monitorowania stanu nastawników (niezależnie od ich stanu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byt częste monitorowanie niepotrzebnie obciąża proces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byt rzadka kontrola stanu nastawników prowadzi do nieefektywnej obsługi aplikacji. Brak reakcji na działania operatora lub bardzo opóźniona reakcja. Inna kolejność wykonania zleceń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3886200"/>
            <a:ext cx="253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cc99"/>
                </a:solidFill>
                <a:latin typeface="Arial"/>
              </a:rPr>
              <a:t>Pokaz działania aplika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724280"/>
            <a:ext cx="80931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rdziej efektywne i łatwiejsze projektowanie interfejsu użytkownika uzyskuje się w środowiskach pozwalających wykorzystać zdarze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bsługa zdarzeń jest dostępna w LabVIEW począwszy od wersji 6.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darz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9960" y="1565280"/>
            <a:ext cx="7788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cja użytkownika wykonana za pomocą urządzeń systemu (myszka, klawiatura) wywołuje zdarze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definiowano trzy klasy zdarzeń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lik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iektów kontrol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r3a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349800" cy="1782720"/>
          </a:xfrm>
          <a:prstGeom prst="rect">
            <a:avLst/>
          </a:prstGeom>
          <a:ln w="0">
            <a:noFill/>
          </a:ln>
        </p:spPr>
      </p:pic>
      <p:pic>
        <p:nvPicPr>
          <p:cNvPr id="124" name="r3b" descr=""/>
          <p:cNvPicPr/>
          <p:nvPr/>
        </p:nvPicPr>
        <p:blipFill>
          <a:blip r:embed="rId2"/>
          <a:stretch/>
        </p:blipFill>
        <p:spPr>
          <a:xfrm>
            <a:off x="4572000" y="5334120"/>
            <a:ext cx="3360600" cy="1279440"/>
          </a:xfrm>
          <a:prstGeom prst="rect">
            <a:avLst/>
          </a:prstGeom>
          <a:ln w="0">
            <a:noFill/>
          </a:ln>
        </p:spPr>
      </p:pic>
      <p:pic>
        <p:nvPicPr>
          <p:cNvPr id="125" name="r3" descr=""/>
          <p:cNvPicPr/>
          <p:nvPr/>
        </p:nvPicPr>
        <p:blipFill>
          <a:blip r:embed="rId3"/>
          <a:stretch/>
        </p:blipFill>
        <p:spPr>
          <a:xfrm>
            <a:off x="4572000" y="2362320"/>
            <a:ext cx="3349800" cy="960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V="1">
            <a:off x="2209680" y="2743200"/>
            <a:ext cx="2210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676520" y="3962160"/>
            <a:ext cx="2743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53341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y zdar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r3b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3360960" cy="1279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14400" y="304812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Zdarzenia powiadamiając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są zgłaszane, gdy akcja użytkownika jest już kompletna, np. zmienione ustawienie nastawnika, zwolnienie klucza klawiatury, zwolnienie mysz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Zdarzenia filtrowa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są zgłaszane w czasie akcji użytkownika i ich dane mogą być programowo zmienione lub zgłoszenie można odrzucić, np. przyciśnięcie klucza klawiatury lub mysz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1676520"/>
            <a:ext cx="2844720" cy="2819160"/>
          </a:xfrm>
          <a:custGeom>
            <a:avLst/>
            <a:gdLst/>
            <a:ahLst/>
            <a:rect l="l" t="t" r="r" b="b"/>
            <a:pathLst>
              <a:path w="1792" h="1776">
                <a:moveTo>
                  <a:pt x="0" y="1776"/>
                </a:moveTo>
                <a:cubicBezTo>
                  <a:pt x="560" y="1652"/>
                  <a:pt x="1120" y="1528"/>
                  <a:pt x="1392" y="1344"/>
                </a:cubicBezTo>
                <a:cubicBezTo>
                  <a:pt x="1664" y="1160"/>
                  <a:pt x="1792" y="896"/>
                  <a:pt x="1632" y="672"/>
                </a:cubicBezTo>
                <a:cubicBezTo>
                  <a:pt x="1472" y="448"/>
                  <a:pt x="952" y="224"/>
                  <a:pt x="43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14880" y="2286000"/>
            <a:ext cx="888840" cy="774720"/>
          </a:xfrm>
          <a:custGeom>
            <a:avLst/>
            <a:gdLst/>
            <a:ahLst/>
            <a:rect l="l" t="t" r="r" b="b"/>
            <a:pathLst>
              <a:path w="560" h="488">
                <a:moveTo>
                  <a:pt x="24" y="480"/>
                </a:moveTo>
                <a:cubicBezTo>
                  <a:pt x="12" y="484"/>
                  <a:pt x="0" y="488"/>
                  <a:pt x="72" y="480"/>
                </a:cubicBezTo>
                <a:cubicBezTo>
                  <a:pt x="144" y="472"/>
                  <a:pt x="376" y="472"/>
                  <a:pt x="456" y="432"/>
                </a:cubicBezTo>
                <a:cubicBezTo>
                  <a:pt x="536" y="392"/>
                  <a:pt x="560" y="304"/>
                  <a:pt x="552" y="240"/>
                </a:cubicBezTo>
                <a:cubicBezTo>
                  <a:pt x="544" y="176"/>
                  <a:pt x="480" y="88"/>
                  <a:pt x="408" y="48"/>
                </a:cubicBezTo>
                <a:cubicBezTo>
                  <a:pt x="336" y="8"/>
                  <a:pt x="168" y="8"/>
                  <a:pt x="120" y="0"/>
                </a:cubicBez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obsługi zdar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809880"/>
            <a:ext cx="809316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wiera kilka ramek obsługujących wybrane zdarzenia lub grupy zdarze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żda ramka zawiera poddiagram realizowany po zdarzeniu aktywizującym wykonanie danej ramki struktu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ktura oczekuje na wystąpienie określonych zdarzeń przez zadeklarowany okres czasu; tutaj 500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śli w zadeklarowanym czasie wystąpi zdarzenie, struktura wykonuje diagram ramki związany z tym zdarzeniem. W przeciwnym razie wykonywana jest ramka przeterminowan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 ramki może korzystać z danych opisujących zdarzen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ista może dodać nową ramkę oraz zdefiniować i konfigurować zdarzenia aktywizujące tę ramk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r1a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416088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y struktury obsługi zdar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r2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4419720" cy="2693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46280" y="4384800"/>
            <a:ext cx="809280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elektor wyboru ramki umożliwia przeglądanie ramek struktury a etykieta ramki zawiera określenie zdarzenia aktywizującego widoczną ramkę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erminal czasu przeterminowania służy do określenia czasu oczekiwania struktury na zdarzenie. Domyślnie jest mu przypisana wartość  –1 oznaczająca nieograniczone oczekiwanie na zdarzenie. Jeśli jest podany konkretny czas, a zdarzenie nie wystąpi , wtedy wykonywana jest ramka przeterminowania (Timeout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lementy struktury obsługi zdarzeń (c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r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4419720" cy="2694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480" y="4191120"/>
            <a:ext cx="8093160" cy="22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Węzeł danych opisujących zdarzenie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. Zakres dostępnych danych zależy od rodzaju zdarzenia. Zawsze dostępny jest czas wystąpienia zdarzenia oraz typ zdarzenia. Liczba dostępnych danych w zakresie dostępnych dla danego zdarzenia może być regulowana przez modyfikowanie rozmiaru węzł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Węzeł filtrowania danych wyjściowych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pozwala na modyfikację danych dotyczących zdarzenia. Filtracja jest dostępna tylko dla zdarzeń filtrowanych a zakres modyfikacji zależy od rodzaju zdarzen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LabView wyższe od 6.1 obsługuje także zdarzenia dynamiczne. Struktura obsługi zdarzeń w tych wersjach dysponuje dodatkowo terminalami zdarzeń dynamicznych.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opisu automatu – diagram stan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2280" y="1371600"/>
            <a:ext cx="8686800" cy="4600440"/>
            <a:chOff x="152280" y="1371600"/>
            <a:chExt cx="8686800" cy="4600440"/>
          </a:xfrm>
        </p:grpSpPr>
        <p:sp>
          <p:nvSpPr>
            <p:cNvPr id="46" name=""/>
            <p:cNvSpPr/>
            <p:nvPr/>
          </p:nvSpPr>
          <p:spPr>
            <a:xfrm>
              <a:off x="5181480" y="1371600"/>
              <a:ext cx="3657600" cy="29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3333cc"/>
                  </a:solidFill>
                  <a:latin typeface="Arial"/>
                </a:rPr>
                <a:t>Podczas działania automat znajduje się w jednym ze stanów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3333cc"/>
                  </a:solidFill>
                  <a:latin typeface="Arial"/>
                </a:rPr>
                <a:t>Z aktualnego stanu może przejść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Tylko do jednego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Jednego z kilku możliwyc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3333cc"/>
                  </a:solidFill>
                  <a:latin typeface="Arial"/>
                </a:rPr>
                <a:t>Decyzja dotycząca przejścia bazuje zwykle na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anych wejściowych od użytkownika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Algorytmach decyzyjnych realizowanych w bieżącym stani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7" name=""/>
            <p:cNvGraphicFramePr/>
            <p:nvPr/>
          </p:nvGraphicFramePr>
          <p:xfrm>
            <a:off x="152280" y="1371600"/>
            <a:ext cx="5029200" cy="460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371600"/>
                      <a:ext cx="5029200" cy="460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/>
            <p:nvPr/>
          </p:nvSpPr>
          <p:spPr>
            <a:xfrm flipH="1" flipV="1">
              <a:off x="2209320" y="1905120"/>
              <a:ext cx="34290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876200" y="2590920"/>
              <a:ext cx="76212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3733560" y="3276720"/>
              <a:ext cx="1905120" cy="4572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657240" y="4038480"/>
              <a:ext cx="1981440" cy="6858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3733920"/>
            <a:ext cx="830592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ęzeł danych zdarzenia 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Value Changed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Typ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Typ zdarze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Tim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Wartość czasu w chwili wystąpienia zdarzenia (w m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CtrlRef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Referencja do obiektu kontrolnego będącego źródłem zdarzenia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OldVal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Wartość obiektu kontrolnego przed zmian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NewVal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– Wartość obiektu kontrolnego po zmianie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ęzeł danych zdarz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r4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8179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ęzeł danych zdarzenia (c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r5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69744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22240" y="5070600"/>
            <a:ext cx="78645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Char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dostarcza wartość kodu ASCII wciśniętego klucza klawiatu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yjście </a:t>
            </a: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Char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pozwala zmienić kod na inny. W ten sposób można np. zapewnić dostarczenie tekstu zapisanego zawsze wielkimi literam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yjście </a:t>
            </a: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Discard?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pozwala anulować zdarzenie. Wprowadzenie wartości True do tego wyjścia spowoduje wyeliminowanie efektu przytrzymania klawisz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z obsługą zdar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r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6022800" cy="3235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80720" y="2133720"/>
            <a:ext cx="10310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sta ram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01992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4952880"/>
            <a:ext cx="78487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ruktura obsługi zdarzeń jest objęta pętlą wh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 ten sposób zapewnia się ciągłą obsługę zachodzących zdarzeń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ażda ramka dostarcza wartość boolowską dla terminala kontynuacji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ki przykładowej struktury obsługi zdarze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r7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564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z zastosowaniem sterowania zdarzeni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r8" descr=""/>
          <p:cNvPicPr/>
          <p:nvPr/>
        </p:nvPicPr>
        <p:blipFill>
          <a:blip r:embed="rId1"/>
          <a:stretch/>
        </p:blipFill>
        <p:spPr>
          <a:xfrm>
            <a:off x="187200" y="1905120"/>
            <a:ext cx="88804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r9" descr=""/>
          <p:cNvPicPr/>
          <p:nvPr/>
        </p:nvPicPr>
        <p:blipFill>
          <a:blip r:embed="rId1"/>
          <a:stretch/>
        </p:blipFill>
        <p:spPr>
          <a:xfrm>
            <a:off x="762120" y="411120"/>
            <a:ext cx="7669080" cy="64468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304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ogram z zastosowaniem sterowania zdarzeniami (c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ada realizacji automatu w Lab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3520" y="2743200"/>
            <a:ext cx="8381520" cy="3666600"/>
            <a:chOff x="533520" y="2743200"/>
            <a:chExt cx="8381520" cy="3666600"/>
          </a:xfrm>
        </p:grpSpPr>
        <p:graphicFrame>
          <p:nvGraphicFramePr>
            <p:cNvPr id="55" name=""/>
            <p:cNvGraphicFramePr/>
            <p:nvPr/>
          </p:nvGraphicFramePr>
          <p:xfrm>
            <a:off x="533520" y="2743200"/>
            <a:ext cx="8381520" cy="366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743200"/>
                      <a:ext cx="8381520" cy="366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2532960" y="3066840"/>
              <a:ext cx="2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532960" y="4042080"/>
              <a:ext cx="23040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40960" y="4529880"/>
              <a:ext cx="23040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992640" y="3554640"/>
              <a:ext cx="30744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6992640" y="4448520"/>
              <a:ext cx="30744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76920" y="1295280"/>
            <a:ext cx="83142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Implementacja automatu wykorzystuj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Pętlę while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– do zapewnienia zdolności ciągłego wykonywania kodu aż do wystąpienia warunku zakończeni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Strukturę CASE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– do zdefiniowania stanów automatu i działań w nich realizowanych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Rejestr przesuwny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– do zapamiętania informacji dotyczącej przejścia do następnego stanu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Kod przejścia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(stała enumeryczna) – do zdefiniowania stanów automatu w kategoriach wartoś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85800" y="1219320"/>
          <a:ext cx="480060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48006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838080" y="4038480"/>
          <a:ext cx="4191120" cy="16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038480"/>
                    <a:ext cx="419112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reślenie stanu następ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819520"/>
            <a:ext cx="312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) Rozwiązanie przejścia z jednym możliwym stanem następny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7913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) Rozwiązanie przejścia do jednego z dwóch możliwych stanów następn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67280" y="1828800"/>
          <a:ext cx="225756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1828800"/>
                    <a:ext cx="22575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5334120" y="4038480"/>
          <a:ext cx="2361960" cy="212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4038480"/>
                    <a:ext cx="236196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kreślenie stanu następnego (c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05740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) Rozwiązanie przejścia do jednego z kilku możliwych stanów następn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105520" y="1143000"/>
          <a:ext cx="3581280" cy="27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143000"/>
                    <a:ext cx="3581280" cy="27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57200" y="3733920"/>
          <a:ext cx="6805440" cy="27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733920"/>
                    <a:ext cx="680544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 flipV="1">
            <a:off x="2971800" y="2437920"/>
            <a:ext cx="350532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iegi samodokument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66680" y="2971800"/>
          <a:ext cx="426744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42674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4572000"/>
            <a:ext cx="739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Aby wykorzystać licznik iteracji do sterowania wyborem stanu trzeba wykonać konwersję danej numerycznej na enumeryczną określonego typ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219320"/>
            <a:ext cx="792468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Przykład automatu sekwencyjneg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Przechodzi przez stany w jednoznacznie określonej kolejnoś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bór stanu można dokonać na podstawie numeru iteracji pętli realizującej autom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tykiety ramek konstrukcji CASE są określone numerami wybierającym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zyli tak jakby nadać stanom automatu nic nie mówiące nazwy 0, 1, 2 it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nacznie korzystniej jest utworzyć stałą enumeryczną ( utworzyć odpowiadający typ !!! ) z wartościami przypisanymi do stanów automat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495680" y="4952880"/>
          <a:ext cx="289584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952880"/>
                    <a:ext cx="2895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wiązanie samodokumentują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00200" y="1523880"/>
            <a:ext cx="6248160" cy="5105160"/>
            <a:chOff x="1600200" y="1523880"/>
            <a:chExt cx="6248160" cy="5105160"/>
          </a:xfrm>
        </p:grpSpPr>
        <p:graphicFrame>
          <p:nvGraphicFramePr>
            <p:cNvPr id="90" name=""/>
            <p:cNvGraphicFramePr/>
            <p:nvPr/>
          </p:nvGraphicFramePr>
          <p:xfrm>
            <a:off x="1600200" y="1523880"/>
            <a:ext cx="6248160" cy="510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1523880"/>
                      <a:ext cx="6248160" cy="510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2003400" y="2984760"/>
              <a:ext cx="0" cy="89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03400" y="4365720"/>
              <a:ext cx="0" cy="892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767280" y="2823120"/>
              <a:ext cx="726480" cy="1055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767280" y="4609440"/>
              <a:ext cx="726480" cy="81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48760" y="1686240"/>
              <a:ext cx="0" cy="32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7760" y="4284720"/>
              <a:ext cx="0" cy="405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67440" y="123048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wa równoważne rozwiązani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kacja z interaktywnym interfejsem użytkow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447920"/>
            <a:ext cx="8077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Architektura automatu skończonego jest przydatna w konstrukcji aplikacji z interaktywnym interfejsem użytkownik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Z założenia interfejs steruje realizacją aplikacji –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koncepcja aplikacji jako wirtualnego urządzenia</a:t>
            </a: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Akcje użytkownika dotyczą wykonania pewnych specyficznych działań w aplikacji, które są związane z pewnym stanem aplikacji, np. inicjalizacją aplikacji, akwizycją danych, analizą danych, zapisem danych itp. Działanie aplikacji daje się opisać grafem stanów, a aplikację zbudować w postaci automatu skończon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4191120"/>
            <a:ext cx="807696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tosuje się różne  wzorce projektowe, np.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Automat z cyklicznym pollingowaniem stanu interfejsu użytkownika (bardzo popularn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Automat z definiowaniem kolejki stanów (interfejs użytkownika tworzy kolejkę stanów, która jest następnie realizowana przez automa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Automat wykorzystujący przerwania od zdarzeń (przeciwieństwo cyklicznego pollingowania interfejsu użytkownik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utomat z pollingowaniem interfejsu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4876920"/>
            <a:ext cx="34448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rzy przyciski boolowsk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quire – wykonaj zebranie dany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nalyze – wykonaj analizę dany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top – zakończ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r0a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4422600" cy="4446720"/>
          </a:xfrm>
          <a:prstGeom prst="rect">
            <a:avLst/>
          </a:prstGeom>
          <a:ln w="0">
            <a:noFill/>
          </a:ln>
        </p:spPr>
      </p:pic>
      <p:pic>
        <p:nvPicPr>
          <p:cNvPr id="105" name="r0b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19321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0:34:39Z</dcterms:created>
  <dc:creator>Kasprzak Bogdan</dc:creator>
  <dc:description/>
  <dc:language>en-US</dc:language>
  <cp:lastModifiedBy>Kasprzak Bogdan</cp:lastModifiedBy>
  <dcterms:modified xsi:type="dcterms:W3CDTF">2006-11-19T17:47:16Z</dcterms:modified>
  <cp:revision>41</cp:revision>
  <dc:subject/>
  <dc:title>Struktura obsługi zdarzeń</dc:title>
</cp:coreProperties>
</file>