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174F-F8FE-4569-BF7A-657B7AB574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jlepiej użyć diagramów by wyciągnąć wnio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54D-0E3A-4F1B-B07A-D2324DE7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DA9-41E1-43DF-A672-B544A3DA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AA3-C49C-40D7-BE74-50CBD64E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E17-F9AF-4F75-B96E-8F3C2700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9A7B-47C3-4428-A430-73AD565B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78E5-8676-40FE-A2E2-2C87E2B0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BA0D-021E-4160-98AE-22C19E38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E940-509A-437C-B7E3-B124D461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C53A-FD9E-4417-9D6B-434C5FD6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4015-AACF-48BB-830A-A502F95C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A47D-40B0-4BAC-8F11-FB14CCD2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CEF-6B9E-4D2D-B1CD-063A5A44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2251-0172-4432-98DD-685771A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3AD6-C303-480D-9225-A8BD0139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1FAE-AD3C-4883-ACA0-9AD44572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3F42-48C3-4783-AB24-82A88F87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ACD1-B942-4820-838D-79CE3D46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41F-E90D-466D-AC65-2E449A81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8A6-692B-414C-AD2B-44AFFDF8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11F-0CAB-4E52-BDAA-FD2DCAE2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4D5-9CE5-437D-9439-EC57B211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5C8-E7AB-4EC9-8941-0C42FD5A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985-FF6F-4E11-B152-E8F3793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06C-4F2A-457D-A6B9-1A5DE44D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BFE3-00FC-468B-B322-4AC621017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7C25-14EF-4689-8332-E14737F20E0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AI2/szybkosc-wiedza.gif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hyperlink" Target="http://www.staff.ncl.ac.uk/nikolas.lloyd/games/wason.htm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I2/chess-plot.jpg" TargetMode="External"/><Relationship Id="rId2" Type="http://schemas.openxmlformats.org/officeDocument/2006/relationships/hyperlink" Target="file:///AI2/chess-plot.jpg" TargetMode="External"/><Relationship Id="rId3" Type="http://schemas.openxmlformats.org/officeDocument/2006/relationships/hyperlink" Target="file:///AI2/chess-plot.jpg" TargetMode="External"/><Relationship Id="rId4" Type="http://schemas.openxmlformats.org/officeDocument/2006/relationships/hyperlink" Target="file:///AI2/chess-plot.jpg" TargetMode="External"/><Relationship Id="rId5" Type="http://schemas.openxmlformats.org/officeDocument/2006/relationships/hyperlink" Target="file:///AI2/chess-plot.jpg" TargetMode="External"/><Relationship Id="rId6" Type="http://schemas.openxmlformats.org/officeDocument/2006/relationships/hyperlink" Target="file:///AI2/chess-plot.jpg" TargetMode="External"/><Relationship Id="rId7" Type="http://schemas.openxmlformats.org/officeDocument/2006/relationships/hyperlink" Target="file:///AI2/ai-power.jp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AI2/szybk-pam.jpg" TargetMode="External"/><Relationship Id="rId2" Type="http://schemas.openxmlformats.org/officeDocument/2006/relationships/hyperlink" Target="file:///AI2/power1000.jpg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21640" cy="1440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Sztuczna Inteligencja</a:t>
            </a:r>
            <a:br>
              <a:rPr sz="4400"/>
            </a:b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Szukanie, gry i ludzkie myśl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łodzisław 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atedra Informatyki Stosowanej UM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oogle: 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o: większe wyzwan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3924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ruchów w Go to średnio 260 (szachy tylko 35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partii: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26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szachy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12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różnych pozycji na planszy: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17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szachy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46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chniki szukania są mało przydatne: obecne programy są kiepskie na standardowej planszy 19x19, ale na poziomie mistrzowskim na planszach 9x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ierwszy program w 1968 roku, najlepszy obecnie Go4++ napisał M. Reiss, program jest znacznie lepszy od swojego twór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nieczne do dobrego grania w Go je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ozpoznawanie struktur (typ lokalnych konfiguracj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czenie maszynow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trategie i planowanie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etody reprezentacje wiedzy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groda 1 mln $ dla programu, który pokona mistrza z Taiwan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Szukanie a ludzkie myślen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1532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ak ludzie rozwiązują problemy wymagające myślenia? Intuicj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zachy: człowiek stosuje „zmodyfikowane progresywne pogłębianie”, ograniczone poszukiwanie w głą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cena w oparciu 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heurysty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 doświadczen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uicja = o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gromna pamięć, rozpoznawan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wzorc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inne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graniczenia sprzętow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niż A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iczba pamiętanych „prototypowych” wzorców ~ 50.0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istrz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achow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o 5-se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ekspozycj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kłada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średnio 23 figury z 25 na pokazanych pozycjach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nowicjusz 3 lub 4 figu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Figury ułożone przypadkowo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taka sama liczba błę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ybki test poziomu gry w sza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Badania psychologicz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acja 5 sekund, ruchy oczu mistrza i nowicjus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524560" cy="1752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6248520" cy="1581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3733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acja dłuższa, od nowicjusza do mistr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jwiększe różnice są w czasach reakcji i liczbie prawidłowo zapamiętanych fig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96160" cy="3848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Szukanie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a ludzkie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myślen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echanizm „porcjowania” przy pamiętaniu złożonych struktu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mała pamięć robocza wymaga ciągłego porcj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ziała to trochę jak kompilacja przyrostow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achy: uczenie + pamięć, rozpoznawanie wzorców, ocena sytuacji oparta na pamięc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waga skupiona jest (rozwijana jest gałąź grafu) na obszarach słabszych, ocena wzrokowa wzorców strukt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ert lepiej rozpoznaje i lepiej pamięta, ale tylko istotne struktury, znane z doświadczenia, a nie struktury przypad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rcjowanie jest wykorzystywane w mnemotech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eligencja jest ściśle związana z sytuacją, domeną wiedzy.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łudzenia zmysł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mysły często nas zwodzą, np. na tych obrazk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328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568680" cy="345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łudzenia kognityw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czytaj zdan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FINISHED FILES ARE THE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SULT OF YEARS OF SCIENTIF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C STUDY COMBIN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THE EXPERIENCE OF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raz policz ile jest liter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F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tym zdaniu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licz je TYLKO RAZ, nie cofaj się i nie powtarzaj licze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aradoksy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 ludzk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o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 myśleni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yślenie przebiega schematycznie, możliwe są złudzenia poznawcze.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ykład wnioskowania łatwy, trudniejszy i b. trudny (niemożliw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Każdy człowiek jest ssa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okrates jest człowie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429000"/>
            <a:ext cx="67816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niosek: Sokrates jest ssa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chemat: A =&gt; B, C=&gt;A, więc C=&gt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516640"/>
            <a:ext cx="64771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niosek: żaden Rurytanin nie jest żeglar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chemat: ~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 =&gt; B, C=&gt;A, więc  ~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 =&gt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508640"/>
            <a:ext cx="63248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Żaden rolnik nie jest żeglar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szyscy Rurytanie to roln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Niemożliw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Wszyscy członkowie gabinetu to złodzi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Żaden muzyk nie jest członkiem gabin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niosek: ... muzycy ??? złodziej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Test karciany (Wason 19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83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a jednej stronie kart są cyfry, na drugiej lite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Które karty należy obrócić, by sprawdzić prawdziwość reguły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jeśli jest samogłoska to cyfra jest parzys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16000" y="3213000"/>
            <a:ext cx="6480360" cy="1434600"/>
            <a:chOff x="1116000" y="3213000"/>
            <a:chExt cx="6480360" cy="1434600"/>
          </a:xfrm>
        </p:grpSpPr>
        <p:sp>
          <p:nvSpPr>
            <p:cNvPr id="139" name=""/>
            <p:cNvSpPr/>
            <p:nvPr/>
          </p:nvSpPr>
          <p:spPr>
            <a:xfrm>
              <a:off x="111600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4472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508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>
              <a:hlinkClick r:id="rId1" action="ppaction://hlinksldjump"/>
            </p:cNvPr>
            <p:cNvSpPr/>
            <p:nvPr/>
          </p:nvSpPr>
          <p:spPr>
            <a:xfrm>
              <a:off x="6588000" y="3213000"/>
              <a:ext cx="100836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4360" y="4941720"/>
            <a:ext cx="784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le minimalnie kart trzeba przewróci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taff.ncl.ac.uk/nikolas.lloyd/games/wason.html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ariant Was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125000"/>
            <a:ext cx="8283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W barze piją różni ludzie a nadchodzi polic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rzy stolikach mam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ijących gin, nieznany wi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ijących sok pomarańczowy, nieznany wie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Dorosły, nie wiadomo co p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Młodociany, nie wiadomo co pi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16000" y="3789360"/>
            <a:ext cx="6480360" cy="1434600"/>
            <a:chOff x="1116000" y="3789360"/>
            <a:chExt cx="6480360" cy="1434600"/>
          </a:xfrm>
        </p:grpSpPr>
        <p:sp>
          <p:nvSpPr>
            <p:cNvPr id="147" name=""/>
            <p:cNvSpPr/>
            <p:nvPr/>
          </p:nvSpPr>
          <p:spPr>
            <a:xfrm>
              <a:off x="111600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472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508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&gt;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8000" y="3789360"/>
              <a:ext cx="100836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&lt;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4360" y="558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go trzeba sprawdzić by się upewnić, że tylko dorośli piją alkohol? Znacznie łatwiej jest zgadnąć w tej sytu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Co będ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Gry planszowe.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ukanie i ludzkie myślenie.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aradoksy kognityw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Reprezentacja wiedzy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Martwić się czy n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3924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Załóżmy, że w Polsce 1 na 1000 osób ma wirusa HI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owy test polegający na badaniu śliny, o dokładności 99.5%, wprowadzono do obowiązkowych badań okresowy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Test wypadł pozytywn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Jakie jest prawdopodobieństwo, że osoba ma HIV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aradoks Monty H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nty Hall Paradox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, czyli przykład złudzenia kognityw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tosowany np. w teleturnieju „idź na całość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Reguły zabaw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amy 3 kubk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i złota monetę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ychodzisz z pokoju, ja pod jednym z kubków ukrywam monetę. Wracasz i wybierasz jeden z kubków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Ja, wiedząc, pod którym jest moneta, odkrywam jeden z </a:t>
            </a:r>
            <a:r>
              <a:rPr b="0" lang="pl-PL" sz="2000" spc="-1" strike="noStrike">
                <a:solidFill>
                  <a:srgbClr val="ffff00"/>
                </a:solidFill>
                <a:latin typeface="Arial"/>
                <a:ea typeface="Arial"/>
              </a:rPr>
              <a:t>pustych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kubków.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asz teraz szansę zmienić swoją decyzję i pozostać przy już wybranym kubku lub wybrać pozostał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876920"/>
            <a:ext cx="82296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zy najlepszą strategią je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wsze trzymanie się pierwotnego wybor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wsze zmi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zy przypadkowy wybó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nio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15364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yślenie jest rzeczą trudną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ościej jest używać schema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Tylko w kontekście naturalnych sytuacji myśl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zychodzi nam ła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19640" y="3789360"/>
            <a:ext cx="2286000" cy="1965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arc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52, Samuel, pierwszy program uczący się gry w warcaby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2, Chinook (J. Schaeffer, UoA) wygrywa US. Open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ogram używa szukania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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Symbo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strzostwa człowiek-maszyna, Londyn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. Marion Tinsley, wygrał z Chinookiem 4-2, 33 remi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to 8-proc. stacji Silicon Graphics 4D/480, 256 MB RAM, baza danych wszystkich końcówek z 1-7 figurami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awie połowa wszystkich partii z 8 figurami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4, remis 1-1 i 18 remisów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5, wygrana Chinooka 1-0 i 31 remis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to komputera SGI z 512 MB 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Trik-trak, 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210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rik-trak (backgammon), popularny w Japonii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wiera element niepewności (rzut kostką)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80, program BKG wygrał raz z mistrzem świata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2, program Tesauro, techniki jak dla warcabów + uczenie się (sieć neuronowa) lepszych ocen, ranking wśród 3 najlepszych graczy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5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ogistello zwycięż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mistrz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świata Takeshi Murakami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6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ogram grał parę tygodni sam z sobą poprawiając swoje funkcje oceny heurystycz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strzowskie rezultaty w wielu grach osiągnięto dopiero w latach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oc obliczeniowa to warunek konieczny, ale nie wystarczający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– ogól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85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tatyczna ocena sytuacji na plansz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icz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figu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wartość figur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położen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figur, możliwości ruch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unkcja oceny: sum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obierz wsp.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leżność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liczb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a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 ruchów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 -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sił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istrz świata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800 punk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zewidywania na: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5 pełnych ruchów (10 poziomów)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500 punk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d 5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0 poziom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am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00 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oziom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la 10 ruch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k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500 punkt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k. 35 ruchów/poziom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heurystyk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redukują to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poz;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1000 ocen/sek, 150 sek/ruch, b=35, ok. 3-4 ruchy - nowicjus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leżność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akość-szybkość obliczeń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443640" y="2133720"/>
            <a:ext cx="2409840" cy="21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– obcinanie alfa-b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Strategia obcinania </a:t>
            </a: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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ignoruj mało obiecujące gałęzi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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kres dolny do oceny Max, </a:t>
            </a:r>
            <a:br>
              <a:rPr sz="2100"/>
            </a:b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 – kres górny do oceny Mi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547640" y="3068640"/>
            <a:ext cx="5715000" cy="2908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- histor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58, 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erwszy program szachow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Alex Bernste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zkocki międzynarodowy mistrz szachow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funduje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nagrod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la programu, który ogra go chociaż raz na cztery part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1985 roku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grał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szystk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cztery part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85, HiTech wśród najlepszych 800 graczy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ceniał ok. 10 mln pozycji, w 1988 roku wygrał z arcymistrz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el+IBM: szachy to dobra reklama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994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hess Genius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na PC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entium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kil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 raz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wyciężył Gary Kasparov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; c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s grania ograniczo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o 25 minut na zawodnika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6 – Deep Blue przegrał z Kasparowem 2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7 – Deep Blue wygrał 3.5:2.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002 – program Deep Fritz na PC remisuje z Vladimirem Kramnik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z 2 miesiące Kramink trenował z programem Deep Fri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Deep Thought i Deep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eep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T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hought,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d 1985 roku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4 student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USA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(T. Hsu, T. Anantharaman, M. Campbell, A. Nowatzyk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rogram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eep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lue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(nowsz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eep Though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o gry w szach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3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oceso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BM RS6000/SP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56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cenia 200-1000 milionów pozycj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ek!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uża 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bliote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otwarć i końców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eep Thought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– szukanie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lfa-bet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o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0 ruch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skomplikowanych sytuacj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ep Blue - ok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4 ruch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3000 punkt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pobił Kasparov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eakcja prasy – potworna szybkość i pamięć zwyciężył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ózg: 10.000 razy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iększa pamięć/szybkość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więc to uwagi bez sens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oc już nadchodz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i będzie z nami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Ostatni mecz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32288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Kasporov vs. X3D Deep Fritz jun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Nowy Jork, listopad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ecz zakończył się remisem; główną atrakcją była gra w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irtualnej rzeczywistości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mputer, na którym zainstalowany był program Fritz był około 100 raz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427560" cy="250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05360"/>
            <a:ext cx="8064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olniejszy niż Deep Blue i do tego zajęty generowaniem obrazu w 3 wymiarach, nic więc dziwnego, że mecz zakończył się remis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C stoi w kącie ... następny taki mecz odbędzie się z programem działającym w telefonie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0:23:55Z</dcterms:created>
  <dc:creator>W. Duch</dc:creator>
  <dc:description/>
  <dc:language>en-US</dc:language>
  <cp:lastModifiedBy>W. Duch</cp:lastModifiedBy>
  <dcterms:modified xsi:type="dcterms:W3CDTF">2007-05-16T13:09:44Z</dcterms:modified>
  <cp:revision>89</cp:revision>
  <dc:subject/>
  <dc:title>Szukanie, gry i ludzkie myślenie</dc:title>
</cp:coreProperties>
</file>