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FC1-4C1B-4ADB-AFDE-2E89F2DD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B0A-C6E5-462A-AFF4-0D1BF4A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18F-B20F-4167-BFA8-60655279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B1B-6799-41F2-978C-D2DFD13D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441-C5AB-4123-B68F-C18B3C18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3E9-2F98-4B6F-9363-1FF2AB43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7FE-4659-4EF7-9977-C95506E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74A-8376-4F02-B45C-85AF786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4D7-4AF6-423D-8C63-2E1CDE74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3D6-673D-42BF-BEA6-C86DD3E0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CDB-476C-4DED-AB72-24BEA39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3C5-1341-41EE-B00C-9A216E4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F890-190B-49B2-832A-D9F954E8A85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1720" y="1219320"/>
            <a:ext cx="76201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Konstrukcja klasyfikatorów minimalnoodległościowych </a:t>
            </a:r>
            <a:br>
              <a:rPr sz="4000"/>
            </a:br>
            <a:r>
              <a:rPr b="0" i="1" lang="pl-PL" sz="4000" spc="-1" strike="noStrike">
                <a:solidFill>
                  <a:srgbClr val="3333cc"/>
                </a:solidFill>
                <a:latin typeface="Arial"/>
              </a:rPr>
              <a:t>o strukturze sieci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ymon Grabowsk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edra Informatyki Stosowanej P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raków, październik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2857680" cy="80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4724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motor: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rof. dr hab. inż. Dominik Sank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ersja kompromisowa algorytmu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iast „pełnego” rozcięcia przestrzeni, przeprowadzamy hiperpłaszczyzny tylko c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ty punkt z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 na każdej współrzędnej (wymaga to policzenia odległ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–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 dodatkowych punktów dla każdej współrzędn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0DB-A502-4354-9A3C-34A863ADC7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9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867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 wymiary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276720"/>
            <a:ext cx="2286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Implementacja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++ (g++ 2.95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Test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eleron 533 MHz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84 MB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nux 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5791320" cy="262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8406000" cy="216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B78-4399-4576-8AEE-FF2881753D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 wymiarów, 1000 próbek w zbiorze odniesi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04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6232320" cy="2835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77240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DCF-4C85-45DC-80A3-145971326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Własności proponowanego algorytmu (podsumowanie)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dzo wysokie (wykładnicze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koszta wstępnej obróbki —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praktyczne ograniczenie zastosowań do wymiarów 3–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szukania tylko jednego najbliższego sąsi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do metryki miej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bliniowość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najgorszym przypad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yczność (parametr kompromisu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st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951-135B-4D23-BDA1-DE0C31F5EB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najprostsza i najszybsza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rsja reguły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-N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N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sze przyspieszenie klasyfikacji typu 1-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siągam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 pomocy redukcji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jbardziej znane algorytm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ukcji zbioru odniesi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Harta (196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owda’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hna’y (197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Gatesa (197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Changa (197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Tomeka (197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2338560" cy="218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00600" y="55627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zykładowa reduk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CA1-4823-46B3-9AA5-17EAB980DC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457200"/>
            <a:ext cx="74678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Cechy algorytmu redukcji Skalak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1994)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babilistyczny (w klasie algorytmów typ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random mutation hill climb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dukcja do zadanej liczby prób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gwarantuje zgodności zbioru zredukowa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344400"/>
            <a:ext cx="830556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Skalak1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pl-PL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los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próbek ze zbioru odniesienia S do zbioru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redukowanego R i estymuj jakość otrzymanego zbior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mutacji; mutacja polega na wylosowani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jednej próbki z R i jednej z S\R; jeśli zamiana tych próbek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mniejsza estymowany błąd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920-B2C3-4E76-B848-9AD3A912A0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0" y="914400"/>
            <a:ext cx="38862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838080"/>
            <a:ext cx="868680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rocedura Skalak2(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0" lang="en-US" sz="3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Skalak1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ykonaj w pętl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tacji polegających teraz na zmiani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sowej współrzędnej (tj. cechy) losowej próbki z 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o 0.5 lub –0.5; jeśli mutacja zmniejsza estymowany błą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klasyfikacji, to ją zaakceptuj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03848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zystkie opisane algorytmy generują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jedync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lobalny) zbiór zredukow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ternatywne podejście w niniejszej pracy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zbiór zredukowan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ybierany konteksto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okalni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la danej prób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0A9-2903-4AA0-A0F2-F97C9F4F9F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7621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Łączenie klasyfikator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combining classifie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— przedmiot intensywnych badań od początku lat 90. XX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905120"/>
            <a:ext cx="815328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Trzy zasadniczo odmienne podejś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łosowanie (np. większościowe) zespołu klasyfikatorów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Hansen i Salamon, 1990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wada: czas klasyfikacj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oporcjonalny do liczby klasyfikatorów składowych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okalny wybór klasyfikator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oods i in., 1997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ada: trudność określenia (szybkiego) kryteriu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yboru klasyfikato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lasyfikator kaskad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paydi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ynak, 19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łatwe” oceniane są przez szybki klasyfikator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próbki „trudniejsze” przechodzą do następnych etapów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z wolniejszymi, lecz dokładniejszymi klasyfikatoram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C23-181D-4398-AA4B-CAD775D09B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457200"/>
            <a:ext cx="7620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dwa schematy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lokalnego wyboru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bioru zredukowa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la reguły 1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)  schemat z partycjonowani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strzeni płaszczyzna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 schemat z klasteryzacją zbioru odniesi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09680" y="2895480"/>
            <a:ext cx="5143680" cy="240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533412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Podział zbioru na: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a) regiony przy pomocy płaszczyzn;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(b) klastry, np. metodą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k 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średn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AA8-654B-447D-A7BB-A215E2F621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762120"/>
            <a:ext cx="5257800" cy="5331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861048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uczenia w schemacie </a:t>
            </a:r>
            <a:br>
              <a:rPr sz="3200"/>
            </a:b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klasteryzacja+Skalak(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L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dziel zbiór odniesienia na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skupisk (klastrów)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pomocy metody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średni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ygeneruj „globalnie”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zbiorów zredukowan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(procedura Skalak1 lub Skalak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dla każdego klastra estymuj jakość klasyfikacji regułą 1-NN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przy użyciu poszczególnych zb. zredukowanych.  Skojarz z każdym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klastrem najlepszy dla niego klasyfikator (tj. zbiór zredukowany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114800"/>
            <a:ext cx="79246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Procedura klasyfikacji próbki </a:t>
            </a:r>
            <a:r>
              <a:rPr b="0" i="1" lang="pl-PL" sz="32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licz odległości od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środków ciężkości wszystkich klastrów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i wybierz klaster najbliższy zgodnie z tym kryteriu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zypisz 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do klasy zwracanej przez klasyfikator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 skojarzony z najbliższym klastre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0492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439-DB6A-4B7E-8CD3-FD6847A863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457200"/>
            <a:ext cx="8001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Klasyfikac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ustalanie etykiet klas rozpoznawanych obi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ele p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ybkie klasyfikato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redukcja informacji wejściowej, efektywne struktury dany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tory dokład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 pewien korzystny kompromis między szybkością a jakości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Zakres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adzorow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śli dany jest zbiór uczący (baza wiedz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syfikacj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ieparametrycz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k apriorycznego modelu probabilistyczn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ymetryczna funkcja str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każda pomyłka jednakowo kosztow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30492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996-1061-4391-BAFF-9A670633F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78200" y="2173320"/>
            <a:ext cx="3551400" cy="576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533520"/>
            <a:ext cx="4038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tor 1-N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 – brak redukcji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– Hart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 – Gowda-Krishna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 – Skalak1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 – Skalak2;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 – klasteryzacja + Skalak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4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496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elkość zbioru zredukowan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0600" y="5943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ąd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85800"/>
            <a:ext cx="380988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0000"/>
                </a:solidFill>
                <a:latin typeface="Arial"/>
              </a:rPr>
              <a:t>Zbiór danych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rdzenie ferrytow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y uczące po 1400 próbek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562720"/>
            <a:ext cx="990720" cy="27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5486400"/>
            <a:ext cx="1067040" cy="304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AFB-9D44-4691-BC56-A566FEEE2B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1219320"/>
            <a:ext cx="6705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skość sąsiadó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ład geometryczny sąsiadów w przestrzen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„wokół” próbki testow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952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ktyczne definicje symetrycznego sąsiedztwa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1996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ha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in.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8098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ignoruje aspekt położe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adów w przestrz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25C-F2BA-4FA9-B622-C44CBC9F09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scentrowanych sąsiad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 Nearest Centroid Neighbor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) —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chez i in., 1997; koncepcja NCN: Chaudhuri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k-NCN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791320" cy="3741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5715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guł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FBE-C0B8-4DA5-8B80-A449F207E6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2666880"/>
            <a:ext cx="23623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914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0948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ponujemy stochastyczną regułę </a:t>
            </a:r>
            <a:br>
              <a:rPr sz="2400"/>
            </a:b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Near Surrounding Neighbor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SN)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tóra optymalizuje oba kryteria używane przez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2133720"/>
            <a:ext cx="807732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gory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-NSN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jdź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centrowanych sąsiadów (NCN)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ętli próbuj zastępować losowego sąsiad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losową próbką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e zbioru odniesienia, o ile jest on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ołożona bliżej próbk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jeśli środek ciężkośc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nowego układu sąsiadów leży bliżej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ż przed zamian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D8F-7918-43FB-B8D9-6F5A72675C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106640"/>
            <a:ext cx="769608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0000"/>
                </a:solidFill>
                <a:latin typeface="Arial"/>
              </a:rPr>
              <a:t>zbiory da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dzenie ferrytow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trola jakości w zakładach Polfer w W-w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903 próbki, 30 cech, 8 kl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 losowych partycji na zb. uczący (1400 próbek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testowy (4503 próbk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ęć zbiorów d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University of California, Irvine (UCI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Bupa, Glass, Iris, Pima, Wi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-krotna walidacja skroś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zystkie dane postandaryzowa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ryka miejs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E7-B2A3-4466-8323-C997FD9EA8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biór Iris w rzucie dwuwymiarowym (cechy 3 i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828800"/>
          <a:ext cx="7619760" cy="287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39220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923-8417-4F46-AC88-81CC9CD98E9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4572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594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6777000" cy="2463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4572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8288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Błędy [%]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zbiorz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er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743200"/>
            <a:ext cx="198108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3886200"/>
            <a:ext cx="2590920" cy="4557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B49-3B77-474B-8512-793CDADA26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52480" y="3581280"/>
            <a:ext cx="64008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053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Klasyfikator </a:t>
            </a:r>
            <a:r>
              <a:rPr b="0" i="1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voting k</a:t>
            </a:r>
            <a:r>
              <a:rPr b="0" lang="de-DE" sz="3200" spc="-1" strike="noStrike">
                <a:solidFill>
                  <a:srgbClr val="a50021"/>
                </a:solidFill>
                <a:latin typeface="Arial"/>
                <a:ea typeface="Times New Roman"/>
              </a:rPr>
              <a:t>-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962520"/>
            <a:ext cx="87631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ginalna reguł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 korzysta z jednej wartośc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bierane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wykle przy pomocy metody minus jednego elemen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d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ymowana optymalna war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ametr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ie musi gwaranto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jlepszej ja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 w zadan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mała przestrzeń możliw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nowany klasyfikator zwiększa przestrzeń rozpatrywanych model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ygładza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80880"/>
            <a:ext cx="57150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, iż słyszeliście jakąś rzecz nie powinno być jeszcze prawidłem waszego wierzenia; tak dalece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ż nie powinniście w nic uwierzyć nie wprawiwszy się wprzód w taki stan, jak gdybyście nigdy tego nie usłysze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 Pascal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057400"/>
            <a:ext cx="8382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gumentowano w szeroko cytowanej pracy (Breiman, 1996)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ż klasyfikatorów minimalnoodległościowych (NN) nie można pomyślnie wykorzystać w schematach sieciowych z uwagi na ich stabiln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prawdy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5FF-3ACC-4C15-B2C5-D3AF6B2C93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38188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4038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łosowanie 3 klasyfikatorów typu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716256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nalogiczne schematy z głosowanie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proponowaliśmy dla reguł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eciwieństwie do większości klasyfikatorów równoległych,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strat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prędkości klasyfik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tosunku do „pojedynczego” klasyfikatora jest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umiarkowa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w przypadk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</a:t>
            </a:r>
            <a:r>
              <a:rPr b="0" lang="pl-PL" sz="1800" spc="-1" strike="noStrike">
                <a:solidFill>
                  <a:srgbClr val="a50021"/>
                </a:solidFill>
                <a:latin typeface="Arial"/>
              </a:rPr>
              <a:t>zaniedbywal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BE0-D80D-4ED6-9C28-F616C7E0D4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990720"/>
            <a:ext cx="82296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roponowana rodzina klasyfikatorów kaskad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Cel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y kompromis między jakości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czasem klasyfik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Idea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wie fazy klasyfikacj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ierwsz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klasyfikator szybsz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rty na głosowaniu (równoległy); jako kryteriu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kazujące „łatwą” próbkę przyjęto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jednogłośn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ę zespołu komponentów z pierwszej fazy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drugi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azie wolny, lecz dokładny klasyfikator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,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lub ich wersj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votin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4E9-12DD-42DF-A809-2E8CD8532D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lasyfikatory minimalnoodległościowe: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guła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N, jej warianty i klasyfikatory pokre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76520"/>
            <a:ext cx="63248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alet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ptotyczna optymalnoś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zwyczaj dobra jakość w prakty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tota, podatność na modyfik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ady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na klasyfikac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żliwość na zbędne cech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ła przestrzeń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ozpatrywanych mode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1523880"/>
            <a:ext cx="3047760" cy="1326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 typy klasyfikatoró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ci neuronow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zewa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k-NN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3581280" cy="257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2880" y="5715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Klasyfikacja próbki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regułą 3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E83-E97C-4CA4-9CF1-4EC5A57038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384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640" y="685800"/>
            <a:ext cx="80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umy rang klasyfikatorów na pięciu zbiorach U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niejsze wartości są korzystniej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5562360" cy="493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4495680"/>
            <a:ext cx="5867640" cy="1524240"/>
          </a:xfrm>
          <a:prstGeom prst="parallelogram">
            <a:avLst>
              <a:gd name="adj" fmla="val 96239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395-C8BE-4B46-BFD5-50ABBD631B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324480" y="533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182880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962520"/>
            <a:ext cx="30456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15200" y="3962520"/>
            <a:ext cx="304920" cy="1523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D7A-4928-45B8-8481-A36FA17798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746280"/>
            <a:ext cx="883908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ksperymenty z doborem parametrów dla schemat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lokalnym wyborem zbioru odniesienia (metoda klasteryzacji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liczba klastrów, wielkość każdego zbioru zredukowanego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ozważenie zmiany strategii uczenia w algorytmie Skalak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miar jakości poszczególnych klasyfikatorów skł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lasyfikatorach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SN (postrzeganych jak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klasyfikatory równoległe), a także korelacji między nimi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szerzenie zaproponowanej rodziny klasyfikatorów kaskadow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(np. wprowadzenie algorytmów trójetapowych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01B-7C28-41E1-B0F9-F6A6B23CE6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09480" y="533520"/>
            <a:ext cx="800100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ministic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c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est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bo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ch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anhatta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I Konferencja „Komputerowe Syste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awania”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Y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łków k/Karpacza, maj 2001, str. 375–379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 with the k-NCN decision rul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X Konferencj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październik 2001, str. 307–31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ple k-NN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IEEE Conference TCSET’2002, Lviv-Slavs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2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223–225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y wybór zredukowanego zbioru odniesieni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narium nt. „Przetwarzanie i analiza sygnałów w systemach wizji i sterowania”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łok k/Bełchatow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czerwiec 2002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.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142–147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 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M. Baranowsk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cja algorytmu szybkiego deterministycznego szukania najbliższego sąsiada w metryce miejski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erencj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Sieci i Systemy Informatyczne”, Łódź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aździernik 2002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99–5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95F-3544-4248-87ED-EB0BA73CC1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533520"/>
            <a:ext cx="80010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Literatura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mily of cascade NN-like classifier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503–506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t reduction for nearest neighbor classifiers under different speed requirement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International IEEE Conference on Experience of Designing and Application of CAD Systems in Microelectronics (CADSM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viv–Slavs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krai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uty 2003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. 465–4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B. Sokołowska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over multiple k-NN and k-NCN classifiers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tection of respiration patholog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onferencja „Komputerowe Systemy Rozpoznawania” (KOSYR 2003), Miłków k/Karpacza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aj 2003, str. 363–36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owards decision rule based on closer symmetric neighborhoo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iocybernetics and Biomedical Engineering,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Vol. 23, No. 3, lipiec 2003, str. 39–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z. Grabowski,</a:t>
            </a:r>
            <a:r>
              <a:rPr b="0" lang="pl-PL" sz="1800" spc="-1" strike="noStrike">
                <a:solidFill>
                  <a:srgbClr val="3333cc"/>
                </a:solidFill>
                <a:latin typeface="Times New Roman"/>
              </a:rPr>
              <a:t> A. Jóźwik, C.-H. Che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Nearest neighbor decision rul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for pixel classification in remote sens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rozdział monografii „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iers of Remote Sensing Info Processing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Patt, World Scientific Publishing Co. Pte. Ltd., Singapu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lipiec 200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D16-0052-4286-A980-5D6D6B125F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8080" y="129528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ęść prac wykonywanych było w ramach grantu NATO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tyczącego analizy zdjęć lotniczych (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remote sensing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ownik: prof. C.-H. Chen z N.Dartmouth Coll., MA, USA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spółwykonawcy: dr A. Jóźwik, Sz. Grabowsk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airhaven, czerwi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Fairhaven%20-%20prof%20Chen,%20dr%20Jozwik%20and%20SzG-cropped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46256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2C7-27BC-48EA-A4B8-7A1EA1C68B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136600" y="682560"/>
          <a:ext cx="4869000" cy="549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6600" y="682560"/>
                    <a:ext cx="486900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EC8-C4CD-423C-94A6-E66B12D020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762120"/>
            <a:ext cx="8077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godność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consistency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 zbioru zredukowanego </a:t>
            </a:r>
            <a:br>
              <a:rPr sz="24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z oryginalnym zbiorem odniesienia (def.):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prawna klasyfikacja wszystkich prób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oryginalnego zbio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053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ększość algorytmów redukcji gwarantuje zgodność zbioru zredukowanego ze zbiorem oryginaln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zgodność jest „dobrym” kryteri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10-96A8-41DE-AD1E-5E901A8443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ilka faktów dotyczących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 bada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formułowanie problemu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dal daleko do satysfakcjonujących algorytm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orytmów z subliniowy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w najgorszym przypadk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kleństwo wymiarowości” („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urse of dimensionalit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3200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rzybliżone szukanie najbliższego sąsiada</a:t>
            </a:r>
            <a:br>
              <a:rPr sz="2800"/>
            </a:b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Approximate Nearest Neighbor Search (A-NNS)</a:t>
            </a:r>
            <a:r>
              <a:rPr b="0" lang="pl-PL" sz="22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7242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„prawdziwy” najbliższy sąsiad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ersja oryginalna problemu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xact NN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iecujące wyniki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dyk i Motwani, 1998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shilevitz i in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114800"/>
            <a:ext cx="601992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NN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q,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jeże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24280" y="4114800"/>
                <a:ext cx="2590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B21-0D5D-4688-879D-7C58EEE6B25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610480" cy="2004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143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Wyniki testów, c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5812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biór IRIS: 4 wymiary, 150 prób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6FE-D363-43B5-8E2F-4C68085E87A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00400"/>
            <a:ext cx="6248520" cy="3124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57200"/>
            <a:ext cx="632448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Główne kierunki modyfikacji reguły </a:t>
            </a:r>
            <a:r>
              <a:rPr b="1" i="1" lang="pl-PL" sz="24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metod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głosow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ważon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(Dudani, 197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dyfika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etyki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np. rozmyt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uczeniem (Jóźwik, 198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rzucanie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niepewny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predykcji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Tomek, 1976; Jóźwik i in., 199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zybkie szukani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najbliższych sąsiad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problem postawiony w: Minsky i Papert, 1969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edukcj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oru ucząc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Hart, 1968, i ok. 30 dalszych pra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chematy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równoległ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Skalak, 1997; Alpaydin, 199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a 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symetrycznego sąsiedztw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udhur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6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chez i in., 199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1E3-1E03-4859-A7FD-BCBA466B9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verfitting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783560" cy="1854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440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Zjawisko przeuczenia 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overfitting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114800"/>
            <a:ext cx="83818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órą płaszczyznę rozdzielającą klas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oru uczącego należy wybrać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jedyncza odstająca od pozostałych (ang.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outly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próbk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 znaczący wpływ na wyuczone granice decyzy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łaszczyzna (b) prawdopodobnie lepiej odpow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kładowi prawdopodobieństw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581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żliwe hipotezy dla tego samego zbi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2286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awdziwa inteligencja polega na tym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y wiedzieć kiedy przestać myśl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A67-8FB2-48C6-A6D0-84E8126A1A3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abelka-Slok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562720" cy="5186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556272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dzenie ferrytowe: liczności zbiorów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zredukowanych i błędy klasyf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685800"/>
            <a:ext cx="31240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postrzeże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lepsza jakość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 braku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łabe wyni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arta i G-K (kryterium zgodności wątpliw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dyfikacja Skalaka przydatna przy agresywnej redukcj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kalny wybór zb. zred. poprawia jakość – zwłaszcza przy bardzo ostrych wymaganiach szybkościowy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chematach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lokalnych” mniejszy błąd przy silniejszej redukcji (!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8600"/>
            <a:ext cx="114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BAA-5A15-4808-9DFE-8CF799DE48B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685800"/>
            <a:ext cx="7543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Schematy dekompozycji zadania wielodecyzyj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óźwik-Vernazza, 198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reira-Mayoraz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5257800" cy="2652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523880" y="48006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danie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decyzyjne, decyzja w wyniku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głosowania sieci dychotomize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638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chemat Moreiry-Mayoraza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orrecting Classifier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— w głosowaniu uczestniczą tylko (przypuszczalnie) adekwatne klasyfikatory składow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08D-C198-496E-AFE2-DEFD8A239F1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6019560" cy="244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590920" y="2971800"/>
            <a:ext cx="6019560" cy="24717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8600" y="9144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łędy (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o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C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SN (100, 5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2500 iteracj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33526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Arial"/>
              </a:rPr>
              <a:t>Odch. stand. (%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metod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100, 500 i 2500 iteracji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zbiorach U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765-5188-4BAA-98D1-187B38C11B1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248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14400" y="914400"/>
          <a:ext cx="7315200" cy="36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14400"/>
                    <a:ext cx="731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487692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ne ferrytowe.  Średnia liczba najbliższych sąsiadów 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 obrębie promieni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tego sąsiada NCN,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3.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26708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762120"/>
            <a:ext cx="2057400" cy="398880"/>
          </a:xfrm>
          <a:prstGeom prst="rect">
            <a:avLst/>
          </a:prstGeom>
          <a:solidFill>
            <a:srgbClr val="f6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siedz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DEC-FF04-45AA-9617-BA18C9F581D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14400" y="685800"/>
            <a:ext cx="73915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Wniosk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oferują wyższą jakość klas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ż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N;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SN średnio lepsz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kompozycja zadania wielodecyzyjnego atrakcyjną techniką poprawy jakośc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schemat M-M przeważnie lepsz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to uwzględniać nie tylko bliskość sąsiadów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e i „kształt” ich układ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koncepcja symetrycznego sąsiedztw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F06-1CEC-4EF4-AA0C-72B63881E83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9480" y="762120"/>
            <a:ext cx="7925040" cy="55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voting k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-N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ucze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odziel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zbiór uczący na losowe połowy;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każdym przypadku jedna połowa zbioru będzi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biorem konstrukcyjnym, zaś druga walidacyjny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najdź optymalne wartości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dla każdego zbioru konstrukcyjnego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z estymacją błędu na odpowiednim zbiorze walidacyjny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Faza klasyfikacj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klasyfikuj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krotnie próbkę testową przy użyci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reguły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l-PL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=1..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i otrzymaj finalną decyzję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w wyniku prostego głosowan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4E7-5800-4599-8C98-A0184E9A49E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0880" y="990720"/>
            <a:ext cx="45720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91120" cy="2405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62520" y="4800600"/>
            <a:ext cx="4876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óbka testowa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b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praw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ypisana do klasy „krz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ków”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e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zystk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asyfikatory s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ow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NN, o il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i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≥ 3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.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4479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Zaleta użycia metody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voting k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-NN </a:t>
            </a:r>
            <a:br>
              <a:rPr sz="2000"/>
            </a:b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w pierwszej fazie klasyfikatora kaskadow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2E4-0150-420C-B74A-0D9F37E3ED8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14600" y="1447920"/>
            <a:ext cx="449568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Konkretne algorytm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kalak) +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C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N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ting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NS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228600"/>
            <a:ext cx="10666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99A-0E23-483D-943C-D417764F2C0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228600"/>
            <a:ext cx="883908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lany na przyszłość (m. in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ymentować z doborem parametrów dla schematu z lokalny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yborem zbioru odniesienia (metoda klasteryzacji, liczba klastrów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wielkość każdego zbioru zredukowane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ażyć zmianę strategii uczenia w algorytmie Skalak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Oryginalny algorytm genetyczny, z racji stosowania tylko jednego operator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genetycznego (mutacja), może mieć trudności z wyjściem z lokalnego minim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erzyć jakość poszczególnych klasyfikatorów składowych w klasyfikator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,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CN 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SN (postrzeganych jako klasyfikatory równoległe)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a także korelację między nim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implementować „brakujące” połączenia opisywanych schemat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algorytmami dekompozycyjnymi dla zadań wielodecyzyjnych.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Rozważyć użycie selekcji cech dla podzadań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analizować skuteczność techniki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voting 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NN przy różnych liczebności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espołu komponentów i różnych metodach podziału zbioru ucząc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na część konstrukcyjną i walidacyjną.  Wziąć pod uwagę możliwy schema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z ważonym głosowaniem, np. w duchu idei Grossmana i Williamsa (1999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dla schematu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bagging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D47-8F79-46FC-B4D5-663B02A7DF3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8001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a50021"/>
                </a:solidFill>
                <a:latin typeface="Arial"/>
              </a:rPr>
              <a:t>Tezy rozprawy doktorski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niskich wymiarach (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5) możliwe jest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najdowanie najbliższego sąsiad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 deterministycznym subliniowym czasie w metryce miejskiej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kalny wybór zredukowanego zbioru odniesienia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rowadzi do osiągnięcia wyższej jakości klasyfika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niż oferowana przez pojedynczy zbiór zredukowany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zwłaszcza przy bardzo wysokich wymagania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zybkościowych nałożonych na klasyfikację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e jest stworzenie równoleg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ej sieci klasyfikatoró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typu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adó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os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wy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predykcj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klasyfikator bazowy przy umiarkowanym spowolnieniu klasyfikacji, um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liwiaj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ej ponadto, w p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ł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zeniu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z koncepc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j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tzw. symetrycznego 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owanie klasyfikatorów kaskadowych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o korzystnych relacjach szyb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do jako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i klasyfikacji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C5E-0549-4316-B203-1252E0660E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914400"/>
            <a:ext cx="830592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ory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repozytorium Uniwersytetu Kalifornijskiego w Irv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achine Learning Repository, University of California, Irvine) (Merz i Murphy, 199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wszechnie wykorzystywane w literaturze przedmio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p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wykrywania schor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oby w populacji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kie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w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nych z nad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waniem alkoholu.  P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erwszych cech to wyniki testów krw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tomiast ostatnia cecha to liczba jednostek alkoholu przyjmowa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dnio w c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u doby przez badanego 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z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Glas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ó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rodzajów sz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(okienne, samochodowe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c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yfikowanych na podstawie za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ok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nych pierwiastków chemicz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. in. krzemu, sodu i wapnia).  Zbiór zgromadzony przez kryminologó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 Home Office Forensic Science Service w Reading w Wielkiej Brytan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r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próbek trzech podgatunków kos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, klasyfikowanych na podstawie czterech geometrycznych cech (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 oraz 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szero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ć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ka r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ny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popularyzowany przez Fishera (1936)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B3A-96EE-4090-829A-38E936DE3A7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914400"/>
            <a:ext cx="83059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Zbiory UCI, c.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im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odnos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zadania rozpoznania symptomów cukrzy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oparciu o kryteria przy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 przez Świato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rganizac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drowia (WHO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ne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gromadzone na podstawie bad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pulacji Indian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 plemienia Pima (okolice Phoenix w Arizonie, US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rozpoznania jednego z trzech gatunków win 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k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odstawie cech wyekstrahowanych w wyniku analizy chemicznej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4B8-B4A8-46C2-9F48-85644AFB03C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errite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kontroli jak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 ferrytow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produkowane w za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ach Polfer w Warszawie.  Obraz danego rdzenia analizowany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iksel po pikslu, a zatem obiektami two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i zbió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jedyncze piksle obrazu powierzchni rdzenia.  Wy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one klasy stwierdza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dany piksel nal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 dobrej (nieuszkodzonej) 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rdzenia, do 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t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o jednego z sz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u rodzajów defektów.  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k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y pik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ekstrahowane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 jego 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edztwa (histogram jasn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i momenty 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ych stopn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dobrane w taki sposób, aby ich war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 w niewielkim tylko stopni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mieni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s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zy obrotach danego rdzenia ferrytowego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ny opis zbioru zawiera praca (Nieniewski i in., 199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5EA-3188-4C9F-8CB9-3A0BFE946BF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57200" y="914400"/>
            <a:ext cx="83059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Inne zbiory, c.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s —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biór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 detekcji obiektów (pól upraw) na zd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iach lotniczych wykonanych w rejonie Feltwell w Wielkiej Brytanii.  Rozr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a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a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y t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le uprawne marchwi, ziemniaka, buraka cukrowego, pszenicy oraz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cier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chy opisu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 obiekty pozyski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z dwóch sensorów: optycznego i radarowego.  Zbiór ten opisany zos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ardziej szczeg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wo w pracach (Roli, 1996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(Grabowski i in., 2003).  Dane niniejsze wykorzystywane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 w grancie N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r PST.CLG.977258 (2001–2002) dotyc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ym zastosow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eparametrycznych meto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ozpoznawania obrazów w aplikacjach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mote sensi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tórego kierownikiem b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of. C.-H. Chen z N. Dartmouth Coll., MA, US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sp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ykonawcami dr Adam Jó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ik i autor niniejszej rozprawy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DCE-4CD0-44E3-B57D-4618B4D66DA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33520" y="1523880"/>
            <a:ext cx="7924320" cy="3981600"/>
            <a:chOff x="533520" y="1523880"/>
            <a:chExt cx="7924320" cy="3981600"/>
          </a:xfrm>
        </p:grpSpPr>
        <p:grpSp>
          <p:nvGrpSpPr>
            <p:cNvPr id="305" name=""/>
            <p:cNvGrpSpPr/>
            <p:nvPr/>
          </p:nvGrpSpPr>
          <p:grpSpPr>
            <a:xfrm>
              <a:off x="541080" y="1526400"/>
              <a:ext cx="7907400" cy="3975480"/>
              <a:chOff x="541080" y="1526400"/>
              <a:chExt cx="7907400" cy="39754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41080" y="1526400"/>
                <a:ext cx="2340720" cy="496800"/>
                <a:chOff x="541080" y="1526400"/>
                <a:chExt cx="2340720" cy="4968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5960" y="1526400"/>
                  <a:ext cx="21909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biór dany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80" y="1526400"/>
                  <a:ext cx="2340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882160" y="1526400"/>
                <a:ext cx="1854720" cy="496800"/>
                <a:chOff x="2882160" y="1526400"/>
                <a:chExt cx="1854720" cy="496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95740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kl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8821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737600" y="1526400"/>
                <a:ext cx="1855440" cy="496800"/>
                <a:chOff x="4737600" y="1526400"/>
                <a:chExt cx="1855440" cy="496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81284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 cec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737600" y="1526400"/>
                  <a:ext cx="185544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593760" y="1526400"/>
                <a:ext cx="1854720" cy="496800"/>
                <a:chOff x="6593760" y="1526400"/>
                <a:chExt cx="1854720" cy="496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8280" y="1526400"/>
                  <a:ext cx="170424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czba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óbe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93760" y="1526400"/>
                  <a:ext cx="1854720" cy="4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1080" y="2023200"/>
                <a:ext cx="2340720" cy="386280"/>
                <a:chOff x="541080" y="2023200"/>
                <a:chExt cx="2340720" cy="386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5960" y="20232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up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1080" y="20232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882160" y="2023200"/>
                <a:ext cx="1854720" cy="386280"/>
                <a:chOff x="2882160" y="2023200"/>
                <a:chExt cx="1854720" cy="386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95740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8821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737600" y="2023200"/>
                <a:ext cx="1855440" cy="386280"/>
                <a:chOff x="4737600" y="2023200"/>
                <a:chExt cx="1855440" cy="386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81284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737600" y="20232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593760" y="2023200"/>
                <a:ext cx="1854720" cy="386280"/>
                <a:chOff x="6593760" y="2023200"/>
                <a:chExt cx="1854720" cy="386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668280" y="20232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593760" y="20232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41080" y="2409480"/>
                <a:ext cx="2340720" cy="386280"/>
                <a:chOff x="541080" y="2409480"/>
                <a:chExt cx="2340720" cy="386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15960" y="24094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las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41080" y="24094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882160" y="2409480"/>
                <a:ext cx="1854720" cy="386280"/>
                <a:chOff x="2882160" y="2409480"/>
                <a:chExt cx="1854720" cy="386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95740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821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737600" y="2409480"/>
                <a:ext cx="1855440" cy="386280"/>
                <a:chOff x="4737600" y="2409480"/>
                <a:chExt cx="1855440" cy="3862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1284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37600" y="24094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593760" y="2409480"/>
                <a:ext cx="1854720" cy="386280"/>
                <a:chOff x="6593760" y="2409480"/>
                <a:chExt cx="1854720" cy="386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668280" y="24094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3760" y="24094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1080" y="2796120"/>
                <a:ext cx="2340720" cy="386640"/>
                <a:chOff x="541080" y="2796120"/>
                <a:chExt cx="2340720" cy="386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5960" y="2796120"/>
                  <a:ext cx="219096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41080" y="2796120"/>
                  <a:ext cx="2340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882160" y="2796120"/>
                <a:ext cx="1854720" cy="386640"/>
                <a:chOff x="2882160" y="2796120"/>
                <a:chExt cx="1854720" cy="386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95740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821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737600" y="2796120"/>
                <a:ext cx="1855440" cy="386640"/>
                <a:chOff x="4737600" y="2796120"/>
                <a:chExt cx="1855440" cy="386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81284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37600" y="2796120"/>
                  <a:ext cx="185544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593760" y="2796120"/>
                <a:ext cx="1854720" cy="386640"/>
                <a:chOff x="6593760" y="2796120"/>
                <a:chExt cx="1854720" cy="386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8280" y="2796120"/>
                  <a:ext cx="1704240" cy="38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93760" y="2796120"/>
                  <a:ext cx="1854720" cy="38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41080" y="3182760"/>
                <a:ext cx="2340720" cy="386280"/>
                <a:chOff x="541080" y="3182760"/>
                <a:chExt cx="2340720" cy="386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615960" y="31827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m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1080" y="31827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882160" y="3182760"/>
                <a:ext cx="1854720" cy="386280"/>
                <a:chOff x="2882160" y="3182760"/>
                <a:chExt cx="1854720" cy="3862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5740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8821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737600" y="3182760"/>
                <a:ext cx="1855440" cy="386280"/>
                <a:chOff x="4737600" y="3182760"/>
                <a:chExt cx="1855440" cy="3862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81284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737600" y="31827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93760" y="3182760"/>
                <a:ext cx="1854720" cy="386280"/>
                <a:chOff x="6593760" y="3182760"/>
                <a:chExt cx="1854720" cy="386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668280" y="31827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6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3760" y="31827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1080" y="3569400"/>
                <a:ext cx="2340720" cy="386280"/>
                <a:chOff x="541080" y="3569400"/>
                <a:chExt cx="2340720" cy="386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15960" y="35694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1080" y="35694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882160" y="3569400"/>
                <a:ext cx="1854720" cy="386280"/>
                <a:chOff x="2882160" y="3569400"/>
                <a:chExt cx="1854720" cy="386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95740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8821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737600" y="3569400"/>
                <a:ext cx="1855440" cy="386280"/>
                <a:chOff x="4737600" y="3569400"/>
                <a:chExt cx="1855440" cy="3862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81284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737600" y="35694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593760" y="3569400"/>
                <a:ext cx="1854720" cy="386280"/>
                <a:chOff x="6593760" y="3569400"/>
                <a:chExt cx="1854720" cy="3862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668280" y="35694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593760" y="35694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541080" y="3956040"/>
                <a:ext cx="2340720" cy="386280"/>
                <a:chOff x="541080" y="3956040"/>
                <a:chExt cx="2340720" cy="386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615960" y="395604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41080" y="395604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82160" y="3956040"/>
                <a:ext cx="1854720" cy="386280"/>
                <a:chOff x="2882160" y="3956040"/>
                <a:chExt cx="1854720" cy="386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95740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821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737600" y="3956040"/>
                <a:ext cx="1855440" cy="386280"/>
                <a:chOff x="4737600" y="3956040"/>
                <a:chExt cx="1855440" cy="386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81284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37600" y="395604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593760" y="3956040"/>
                <a:ext cx="1854720" cy="386280"/>
                <a:chOff x="6593760" y="3956040"/>
                <a:chExt cx="1854720" cy="386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8280" y="395604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90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93760" y="395604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541080" y="4342680"/>
                <a:ext cx="2340720" cy="386280"/>
                <a:chOff x="541080" y="4342680"/>
                <a:chExt cx="2340720" cy="386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5960" y="434268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itesOl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41080" y="434268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882160" y="4342680"/>
                <a:ext cx="1854720" cy="386280"/>
                <a:chOff x="2882160" y="4342680"/>
                <a:chExt cx="1854720" cy="3862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95740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821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737600" y="4342680"/>
                <a:ext cx="1855440" cy="386280"/>
                <a:chOff x="4737600" y="4342680"/>
                <a:chExt cx="1855440" cy="386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81284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37600" y="434268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593760" y="4342680"/>
                <a:ext cx="1854720" cy="386280"/>
                <a:chOff x="6593760" y="4342680"/>
                <a:chExt cx="1854720" cy="386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668280" y="434268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8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593760" y="434268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41080" y="4728960"/>
                <a:ext cx="2340720" cy="386280"/>
                <a:chOff x="541080" y="4728960"/>
                <a:chExt cx="2340720" cy="386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15960" y="472896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B8.PA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41080" y="472896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882160" y="4728960"/>
                <a:ext cx="1854720" cy="386280"/>
                <a:chOff x="2882160" y="4728960"/>
                <a:chExt cx="1854720" cy="386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95740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821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737600" y="4728960"/>
                <a:ext cx="1855440" cy="386280"/>
                <a:chOff x="4737600" y="4728960"/>
                <a:chExt cx="1855440" cy="3862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81284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737600" y="472896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593760" y="4728960"/>
                <a:ext cx="1854720" cy="386280"/>
                <a:chOff x="6593760" y="4728960"/>
                <a:chExt cx="1854720" cy="386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668280" y="472896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29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593760" y="472896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41080" y="5115600"/>
                <a:ext cx="2340720" cy="386280"/>
                <a:chOff x="541080" y="5115600"/>
                <a:chExt cx="2340720" cy="386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15960" y="5115600"/>
                  <a:ext cx="219096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mot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41080" y="5115600"/>
                  <a:ext cx="2340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882160" y="5115600"/>
                <a:ext cx="1854720" cy="386280"/>
                <a:chOff x="2882160" y="5115600"/>
                <a:chExt cx="1854720" cy="386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95740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8821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4737600" y="5115600"/>
                <a:ext cx="1855440" cy="386280"/>
                <a:chOff x="4737600" y="5115600"/>
                <a:chExt cx="1855440" cy="386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481284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737600" y="5115600"/>
                  <a:ext cx="185544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593760" y="5115600"/>
                <a:ext cx="1854720" cy="386280"/>
                <a:chOff x="6593760" y="5115600"/>
                <a:chExt cx="1854720" cy="3862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8280" y="5115600"/>
                  <a:ext cx="17042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93760" y="5115600"/>
                  <a:ext cx="1854720" cy="38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533520" y="1523880"/>
              <a:ext cx="7924320" cy="3981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762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harakterystyka użytych zbiorów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C63-D80B-446A-BAD3-C6B8337D838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1676520" y="1447920"/>
            <a:ext cx="5715000" cy="4757760"/>
            <a:chOff x="1676520" y="1447920"/>
            <a:chExt cx="5715000" cy="4757760"/>
          </a:xfrm>
        </p:grpSpPr>
        <p:sp>
          <p:nvSpPr>
            <p:cNvPr id="430" name=""/>
            <p:cNvSpPr/>
            <p:nvPr/>
          </p:nvSpPr>
          <p:spPr>
            <a:xfrm>
              <a:off x="167652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600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9600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454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6492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4544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6492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143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420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143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3420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328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276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8328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2760" y="23652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52560" y="18410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040" y="18410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5256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72040" y="23652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600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6520" y="302076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6492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4200" y="3020760"/>
              <a:ext cx="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4793400" y="3020760"/>
              <a:ext cx="90900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923720" y="3020760"/>
              <a:ext cx="194832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64920" y="3807000"/>
              <a:ext cx="2207880" cy="30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łosowanie większościow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4200" y="4200480"/>
              <a:ext cx="0" cy="3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4360" y="472464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34200" y="472464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4360" y="5248800"/>
              <a:ext cx="519480" cy="52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4200" y="5248800"/>
              <a:ext cx="519480" cy="52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0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7540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443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1324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82520" y="1447920"/>
              <a:ext cx="90900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lasyfikator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5812560"/>
              <a:ext cx="155844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yzja końcow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5335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Realizacja funkcji XOR przy pomocy sieci klasyfikatorów 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z prostym głosowan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F91-3A4E-494A-A602-454F0DA1CFD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1752480" y="2286000"/>
            <a:ext cx="4876920" cy="838080"/>
            <a:chOff x="1752480" y="2286000"/>
            <a:chExt cx="4876920" cy="838080"/>
          </a:xfrm>
        </p:grpSpPr>
        <p:sp>
          <p:nvSpPr>
            <p:cNvPr id="471" name=""/>
            <p:cNvSpPr/>
            <p:nvPr/>
          </p:nvSpPr>
          <p:spPr>
            <a:xfrm>
              <a:off x="1752480" y="2286000"/>
              <a:ext cx="4876920" cy="838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0" y="236232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04920" y="228600"/>
            <a:ext cx="8839080" cy="58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Podsumowanie i wnio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niskich wymiarach możliwe jest szukanie najbliższego sąsiad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czasie subliniowym w liczności zbioru w najgorszym przypadku; prezentowany algorytm dopuszcza użycie współczynnika kompromisu między szybkością szukania a kosztem wstępnej obróbk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kalny wybór zredukowanego zbioru odniesienia oferu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ższą jakość klasyfikacji niż klasyfikatory opart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 pojedynczym zbiorze zredukowanym (podejście klasycz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metryczne sąsiedztwo” to nowy sposób poprawy jak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dzinie klasyfikatorów minimalnoodległościowych.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prezentowana reguł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SN optymalizuje oba kryter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żywane w klasyfikatorze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C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a jest wersja reguły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NN z wieloma wartościam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yższa jakość klasyfikacji za cenę minimalnego spowolnien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cepcje z p. 3 i 4 pozwalają na projektowanie klasyfikatorów kaskadowych o korzystnych relacjach szybkości do jakości klasyf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52480" y="1066680"/>
            <a:ext cx="4876920" cy="838440"/>
            <a:chOff x="1752480" y="1066680"/>
            <a:chExt cx="4876920" cy="838440"/>
          </a:xfrm>
        </p:grpSpPr>
        <p:sp>
          <p:nvSpPr>
            <p:cNvPr id="475" name=""/>
            <p:cNvSpPr/>
            <p:nvPr/>
          </p:nvSpPr>
          <p:spPr>
            <a:xfrm>
              <a:off x="2286000" y="11430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52480" y="1066680"/>
              <a:ext cx="4876920" cy="83844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752480" y="3657600"/>
            <a:ext cx="4876920" cy="2056680"/>
            <a:chOff x="1752480" y="3657600"/>
            <a:chExt cx="4876920" cy="2056680"/>
          </a:xfrm>
        </p:grpSpPr>
        <p:sp>
          <p:nvSpPr>
            <p:cNvPr id="479" name=""/>
            <p:cNvSpPr/>
            <p:nvPr/>
          </p:nvSpPr>
          <p:spPr>
            <a:xfrm>
              <a:off x="2286000" y="384480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4000" spc="-1" strike="noStrike">
                  <a:solidFill>
                    <a:srgbClr val="3333cc"/>
                  </a:solidFill>
                  <a:latin typeface="Arial Black"/>
                </a:rPr>
                <a:t>TEZA 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2480" y="3657600"/>
              <a:ext cx="4876920" cy="2056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F1D-29E9-42A4-AF8D-E89B68D430A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752480" y="609480"/>
            <a:ext cx="5352840" cy="1828800"/>
            <a:chOff x="1752480" y="609480"/>
            <a:chExt cx="5352840" cy="1828800"/>
          </a:xfrm>
        </p:grpSpPr>
        <p:grpSp>
          <p:nvGrpSpPr>
            <p:cNvPr id="482" name=""/>
            <p:cNvGrpSpPr/>
            <p:nvPr/>
          </p:nvGrpSpPr>
          <p:grpSpPr>
            <a:xfrm>
              <a:off x="1757160" y="612360"/>
              <a:ext cx="5343480" cy="1821600"/>
              <a:chOff x="1757160" y="612360"/>
              <a:chExt cx="5343480" cy="18216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757160" y="612360"/>
                <a:ext cx="1781280" cy="607320"/>
                <a:chOff x="1757160" y="612360"/>
                <a:chExt cx="1781280" cy="6073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180144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7571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538440" y="612360"/>
                <a:ext cx="1780920" cy="607320"/>
                <a:chOff x="3538440" y="612360"/>
                <a:chExt cx="1780920" cy="6073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58272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538440" y="61236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319360" y="612360"/>
                <a:ext cx="1781280" cy="607320"/>
                <a:chOff x="5319360" y="612360"/>
                <a:chExt cx="1781280" cy="6073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364000" y="61236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j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19360" y="61236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1757160" y="1219680"/>
                <a:ext cx="1781280" cy="607320"/>
                <a:chOff x="1757160" y="1219680"/>
                <a:chExt cx="1781280" cy="6073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80144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poprawna 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71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538440" y="1219680"/>
                <a:ext cx="1780920" cy="607320"/>
                <a:chOff x="3538440" y="1219680"/>
                <a:chExt cx="1780920" cy="607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58272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538440" y="1219680"/>
                  <a:ext cx="178092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319360" y="1219680"/>
                <a:ext cx="1781280" cy="607320"/>
                <a:chOff x="5319360" y="1219680"/>
                <a:chExt cx="1781280" cy="6073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364000" y="1219680"/>
                  <a:ext cx="1692360" cy="60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19360" y="1219680"/>
                  <a:ext cx="1781280" cy="60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1757160" y="1827000"/>
                <a:ext cx="1781280" cy="606960"/>
                <a:chOff x="1757160" y="1827000"/>
                <a:chExt cx="1781280" cy="6069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80144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odpowied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D(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ę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na (0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7571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538440" y="1827000"/>
                <a:ext cx="1780920" cy="606960"/>
                <a:chOff x="3538440" y="1827000"/>
                <a:chExt cx="1780920" cy="606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58272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538440" y="1827000"/>
                  <a:ext cx="178092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319360" y="1827000"/>
                <a:ext cx="1781280" cy="606960"/>
                <a:chOff x="5319360" y="1827000"/>
                <a:chExt cx="1781280" cy="6069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364000" y="1827000"/>
                  <a:ext cx="1692360" cy="60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319360" y="1827000"/>
                  <a:ext cx="1781280" cy="60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0" name=""/>
            <p:cNvSpPr/>
            <p:nvPr/>
          </p:nvSpPr>
          <p:spPr>
            <a:xfrm>
              <a:off x="1752480" y="609480"/>
              <a:ext cx="535284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523880" y="2590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rawdopodobieństwa;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419720" y="3276720"/>
                <a:ext cx="2057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1219320" y="3581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półczynnik Yule’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2120" y="4537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ółczynnik korel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657600" y="4267080"/>
                <a:ext cx="4495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39625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521000" y="5373720"/>
                <a:ext cx="2514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029200" y="5334120"/>
                <a:ext cx="14400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762120" y="601992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g: C.A.Shipp &amp; L.I.Kuncheva, „Relationships between combination methods and measures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 diversity in combining classifiers”, Information Fusion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ol. 3, No. 2, str. 135–148.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31D-8C64-42AE-B8CA-50CBA2D2AE04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67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a50021"/>
                </a:solidFill>
                <a:latin typeface="Arial"/>
              </a:rPr>
              <a:t>Szukanie najbliższego sąsiada </a:t>
            </a:r>
            <a:br>
              <a:rPr sz="3200"/>
            </a:b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(NNS – </a:t>
            </a:r>
            <a:r>
              <a:rPr b="0" i="1" lang="pl-PL" sz="2400" spc="-1" strike="noStrike">
                <a:solidFill>
                  <a:srgbClr val="a50021"/>
                </a:solidFill>
                <a:latin typeface="Arial"/>
              </a:rPr>
              <a:t>Nearest Neighbor Search</a:t>
            </a: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)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sk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t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ejśc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biór P = {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pl-P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} (dany „off-line”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estrzeni X z funkcją odległośc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f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óbka testow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prezentowana „on-line”)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danie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okonać takiej wstępnej obróbki zbioru P, aby możliwe było szybkie znajdowanie najbliższego sąsiad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 P.  Przegląd zupełny 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rute for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 wymaga czasu O(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ymiar przestrzeni X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Fakt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wiele alg. z subliniowym 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em szuk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w najgorszym przypadku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w wysokich wymiarach nadal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brak dobrych algorytmów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03848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Potrzeby:</a:t>
            </a:r>
            <a:br>
              <a:rPr sz="2800"/>
            </a:br>
            <a:br>
              <a:rPr sz="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graniczenie z g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czasu szuk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(możliwe w niskich wymiarach);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prostota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CD2-C44F-4AAE-90DE-7DE6185E1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08080" y="4876920"/>
            <a:ext cx="27432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bkin i Lipton (1976), Yao i Yao (1985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garwal i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, Mato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š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k (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larkson (1988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iser (1993):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a50021"/>
                </a:solidFill>
                <a:latin typeface="Arial"/>
              </a:rPr>
              <a:t>Algorytm proponowany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stępna obrób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ukanie 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współczynnik kompromi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Algorytmy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NNS </a:t>
            </a: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z czasem szukania </a:t>
            </a:r>
            <a:br>
              <a:rPr sz="2800"/>
            </a:br>
            <a:r>
              <a:rPr b="0" lang="pl-PL" sz="2800" spc="-1" strike="noStrike">
                <a:solidFill>
                  <a:srgbClr val="a50021"/>
                </a:solidFill>
                <a:latin typeface="Arial"/>
              </a:rPr>
              <a:t>subliniowym w </a:t>
            </a:r>
            <a:r>
              <a:rPr b="0" i="1" lang="pl-PL" sz="2800" spc="-1" strike="noStrike">
                <a:solidFill>
                  <a:srgbClr val="a50021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57800" y="2286000"/>
                <a:ext cx="1474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257800" y="2819520"/>
                <a:ext cx="1946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029200" y="4114800"/>
                <a:ext cx="1371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029200" y="3581280"/>
                <a:ext cx="987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172200" y="4800600"/>
                <a:ext cx="1227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62520" y="5410080"/>
                <a:ext cx="3473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/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FC5-D255-4F9D-8362-C73322A40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metryka miejska (Manhatta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95480" y="990720"/>
                <a:ext cx="33148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762120" y="22860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a50021"/>
                </a:solidFill>
                <a:latin typeface="Arial"/>
              </a:rPr>
              <a:t>Kluczowa własność metryki miejskiej:</a:t>
            </a:r>
            <a:br>
              <a:rPr sz="28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dowolnych punktów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276720"/>
                <a:ext cx="5973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162920" y="3276720"/>
                <a:ext cx="1179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743200" cy="215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8D5-C705-4F16-B08F-425A6887A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Jedna z próbek 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..NN(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) jest najbliższym sasiadem </a:t>
            </a:r>
            <a:r>
              <a:rPr b="0" i="1" lang="pl-PL" sz="20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. Wierzchołek v</a:t>
            </a:r>
            <a:r>
              <a:rPr b="0" lang="pl-PL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3333cc"/>
                </a:solidFill>
                <a:latin typeface="Arial"/>
              </a:rPr>
              <a:t> jest (przypadkowo) miejscem położenia pewnej próbki (która jest oczywiście NN tego wierzchoł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1143000"/>
          <a:ext cx="10217160" cy="39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143000"/>
                    <a:ext cx="1021716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228600"/>
            <a:ext cx="9907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z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rzykład dwuwymiar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6400800"/>
            <a:ext cx="7162560" cy="291960"/>
          </a:xfrm>
          <a:prstGeom prst="rect">
            <a:avLst/>
          </a:prstGeom>
          <a:solidFill>
            <a:srgbClr val="f6ff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808080"/>
                </a:solidFill>
                <a:latin typeface="Arial"/>
              </a:rPr>
              <a:t>Sz. Grabowski, </a:t>
            </a:r>
            <a:r>
              <a:rPr b="0" i="1" lang="pl-PL" sz="1300" spc="-1" strike="noStrike">
                <a:solidFill>
                  <a:srgbClr val="808080"/>
                </a:solidFill>
                <a:latin typeface="Arial"/>
              </a:rPr>
              <a:t>Konstrukcja klasyfikatorów minimalnoodległościowych o strukturze sieciowe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4A-B236-4FDB-BDFA-8E07AC8166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8:05:40Z</dcterms:created>
  <dc:creator>Szymon Grabowski</dc:creator>
  <dc:description/>
  <dc:language>en-US</dc:language>
  <cp:lastModifiedBy>Szymon Grabowski</cp:lastModifiedBy>
  <dcterms:modified xsi:type="dcterms:W3CDTF">2003-10-11T21:27:05Z</dcterms:modified>
  <cp:revision>167</cp:revision>
  <dc:subject/>
  <dc:title>Prezentacja programu PowerPoint</dc:title>
</cp:coreProperties>
</file>