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20.png" ContentType="image/png"/>
  <Override PartName="/ppt/media/image21.wmf" ContentType="image/x-wmf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FAA-90FD-42ED-AE99-CD16EA4B32C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proponowanie wariantu </a:t>
            </a:r>
            <a:r>
              <a:rPr b="0" lang="pl-PL" sz="1200" spc="-1" strike="noStrike">
                <a:solidFill>
                  <a:srgbClr val="99cc00"/>
                </a:solidFill>
                <a:latin typeface="Arial"/>
              </a:rPr>
              <a:t>obliczeń ewolucyjn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do projektowania procedur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ytm ewolucyjny utrzymuje i modyfikuje zbiór (populację) roboczych rozwiązań (osobników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e rozwiązanie reprezentuje (koduje) konkretną procedurę ekstrakcji c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mulowana ewolucja tworzy nowe „pokolenia” rozwiązań o coraz lepszej jakoś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kość rozwiązania mierzona jego skutecznością (dopasowaniem, ang.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), tu: trafność klasyfikowania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echy charakterystyczne/trudnośc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sokie zaszumienie obraz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rak cech typu krawędź, płaszczyzna – obraz składa się praktycznie z odizolowanych pun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Zadanie: identyfikacja pojazd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 danych: Baz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TAR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ilkanaście typów pojazdów wojskowych Czołgi, transportery opancerzone, wozy bojowe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óżne azymuty, ok. 200-300 obrazów/pojaz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dzielczość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op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kąt elewacj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Active sen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ykorzystuje ruch obserwatora (samolot) oraz zjawisko Dopplera do polepszenia (kątowej) zdolności rozdzielczej (zwłaszcza w płaszczyźnie poziom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ozpoznawanie oparte na cechach (f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ture-based recognition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): brak bazy modeli rozpoznawanych obiek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cznie IR, ale u nas tego nie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ycyjnie: podejscia wektorowe + algorytmy numeryczne, raczej off-lin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ywacje; zle ustrukuralizowana informacja, specyfika przegladarek Interne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ot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zymy do przedstawiania struktury w wyszukanych dokument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y sie nie tylko jakosc grupowania ale tez opisy grup/skup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: STC, pracujacy na fraz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o Lepszy, choc to subiektyw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-sensitive learning, but with unknow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= 11 na 2004 + 14 na br. I kolej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e form życia, ewolucji i koewolucji, optymalizacji, percepcji środow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wolucyjna synteza programów analizy i rozpoznawania obraz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częściej pewna wielkość agregatow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p. średnia jasność obszaru, ilościowa charakterystyka tekstury, stopień okrągłości obi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lasyfikator staje się częścią systemu rozpoznając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distinction betwe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extrac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e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17AB-5799-4F69-BC4F-A720510E6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19E3-FD56-4EB1-8860-784D7A649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B4C8-FBBD-442D-A46B-28C4C4132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5CD7-3EBB-43E5-97C1-9BF17EDA0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3B95-5BF8-41D6-91F2-3D6B6AA7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F2819-65DD-4E18-9D1E-005529B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575D0-5BD5-41F0-B5BC-D84AB8D0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D488B-150C-406B-B368-11FD038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5C37D-E091-4D5B-ABDB-FEA5CDE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F6185-2B99-4640-AE69-A680A87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9FA6E-FD71-48C9-B05C-0DC24070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B115-46B5-4272-8A67-3CA4D0D5A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70403-674E-4EB7-8129-8E541F4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6B71-D036-4F50-AF65-EF628B2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59BB6-0496-4BBE-8D85-FD8EB065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329B-5F9E-4E82-A165-9232520C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248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2760" y="162828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184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248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2760" y="4110120"/>
            <a:ext cx="27334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DA3E0-690B-4CFD-8B10-4D1A0C8B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D54E-AF34-4013-A936-2231BD24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DD52-27C3-4DBF-AE73-8AF0732FE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1553-20D0-487C-AB8B-01FE270F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9760" y="188640"/>
            <a:ext cx="848988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7326-4C65-47A6-8E51-2CCC54F4E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9E12-23C1-49A7-AC71-B104A3510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411012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2918-71A2-471B-B222-F9F12CB02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142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1840" y="4110120"/>
            <a:ext cx="8489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4B9B-E84B-4742-98F1-03994A206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1341360"/>
            <a:ext cx="842472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6453360"/>
            <a:ext cx="8496000" cy="0"/>
          </a:xfrm>
          <a:prstGeom prst="line">
            <a:avLst/>
          </a:prstGeom>
          <a:ln w="3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23640" y="6524280"/>
            <a:ext cx="7848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88000" y="6524280"/>
            <a:ext cx="576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A9CC-CD14-4A65-AF79-2ED4C7C91551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266920" y="6524280"/>
            <a:ext cx="46101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524280"/>
            <a:ext cx="190512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51C-EAA2-4097-99A7-1B79262E3554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Algorytmy przekształcania reprezentacji danych dla systemów uczących si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85720" y="40604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akład Inteligentnych Systemów Wspomagania Decyzj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Instytut Informatyk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litechnika Poznań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46200" y="3068640"/>
            <a:ext cx="849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4360" y="4689360"/>
            <a:ext cx="1332000" cy="13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66640" y="2760840"/>
            <a:ext cx="652644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nt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3 T11C 050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truktywna ind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9705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zacja konstrukcji cech poprzez włączenie jej w proces uczenia się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Jednoczesna konstrukc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dzy klasyfikacyjnej, 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ocedur ekstrakcji cec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iększość zastosowań dotyczy uczenia maszynow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33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2"/>
              <a:endCxn id="135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37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"/>
            <p:cNvCxnSpPr>
              <a:stCxn id="139" idx="2"/>
              <a:endCxn id="137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35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35" idx="2"/>
              <a:endCxn id="142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6902280" y="3657600"/>
            <a:ext cx="1828800" cy="914400"/>
            <a:chOff x="6902280" y="3657600"/>
            <a:chExt cx="1828800" cy="914400"/>
          </a:xfrm>
        </p:grpSpPr>
        <p:sp>
          <p:nvSpPr>
            <p:cNvPr id="142" name=""/>
            <p:cNvSpPr/>
            <p:nvPr/>
          </p:nvSpPr>
          <p:spPr>
            <a:xfrm>
              <a:off x="6902280" y="3657600"/>
              <a:ext cx="1828800" cy="60948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Wektor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>
              <a:stCxn id="142" idx="2"/>
              <a:endCxn id="139" idx="0"/>
            </p:cNvCxnSpPr>
            <p:nvPr/>
          </p:nvCxnSpPr>
          <p:spPr>
            <a:xfrm flipV="1" rot="10800000">
              <a:off x="7815960" y="42667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9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38560" y="3733920"/>
            <a:ext cx="198144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5" idx="0"/>
            <a:endCxn id="135" idx="1"/>
          </p:cNvCxnSpPr>
          <p:nvPr/>
        </p:nvCxnSpPr>
        <p:spPr>
          <a:xfrm flipH="1" flipV="1" rot="5400000">
            <a:off x="6065640" y="2972880"/>
            <a:ext cx="72468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1"/>
          </p:cNvCxnSpPr>
          <p:nvPr/>
        </p:nvCxnSpPr>
        <p:spPr>
          <a:xfrm flipH="1" rot="16200000">
            <a:off x="6046560" y="4096800"/>
            <a:ext cx="762840" cy="79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48D9-E811-48A1-AD03-99782D852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75248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2362320" cy="41148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2"/>
            <a:endCxn id="153" idx="0"/>
          </p:cNvCxnSpPr>
          <p:nvPr/>
        </p:nvCxnSpPr>
        <p:spPr>
          <a:xfrm flipH="1" rot="16200000">
            <a:off x="5451480" y="3774600"/>
            <a:ext cx="1632600" cy="876960"/>
          </a:xfrm>
          <a:prstGeom prst="bentConnector3">
            <a:avLst>
              <a:gd name="adj1" fmla="val 1321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048120" y="5638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80988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y obrazów uczący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7" idx="1"/>
            <a:endCxn id="158" idx="3"/>
          </p:cNvCxnSpPr>
          <p:nvPr/>
        </p:nvCxnSpPr>
        <p:spPr>
          <a:xfrm flipV="1" rot="10800000">
            <a:off x="6628680" y="233964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086600" y="190512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8600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02920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25383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9955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6668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28195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5812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17268" y="3545"/>
                </a:moveTo>
                <a:arcTo wR="-9720" hR="-9720" stAng="-2896907" swAng="-18703093"/>
                <a:lnTo>
                  <a:pt x="0" y="10800"/>
                </a:lnTo>
                <a:arcTo wR="10800" hR="10800" stAng="10800000" swAng="18703093"/>
                <a:lnTo>
                  <a:pt x="1816" y="20877"/>
                </a:lnTo>
                <a:lnTo>
                  <a:pt x="1554" y="16302"/>
                </a:lnTo>
                <a:lnTo>
                  <a:pt x="6128" y="16040"/>
                </a:lnTo>
                <a:close/>
              </a:path>
            </a:pathLst>
          </a:cu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ęt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2743200"/>
            <a:ext cx="457200" cy="4572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18148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220968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429000"/>
            <a:ext cx="2209680" cy="2209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cja osobników – proced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209680"/>
            <a:ext cx="2209680" cy="5335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lgorytm 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81952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562640"/>
            <a:ext cx="1066680" cy="390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47149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4410000"/>
            <a:ext cx="1371600" cy="3920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cedur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09580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4943520"/>
            <a:ext cx="106704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5172120"/>
            <a:ext cx="106668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oce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4334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448632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2818800"/>
            <a:ext cx="990720" cy="533160"/>
          </a:xfrm>
          <a:prstGeom prst="downArrow">
            <a:avLst>
              <a:gd name="adj1" fmla="val 50000"/>
              <a:gd name="adj2" fmla="val 3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52" idx="1"/>
          </p:cNvCxnSpPr>
          <p:nvPr/>
        </p:nvCxnSpPr>
        <p:spPr>
          <a:xfrm flipV="1">
            <a:off x="2819520" y="2840760"/>
            <a:ext cx="2210400" cy="168372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3" idx="1"/>
            <a:endCxn id="176" idx="3"/>
          </p:cNvCxnSpPr>
          <p:nvPr/>
        </p:nvCxnSpPr>
        <p:spPr>
          <a:xfrm rot="10800000">
            <a:off x="2818800" y="4676040"/>
            <a:ext cx="2210400" cy="6962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76F6-67AD-4F65-B399-A6CE343E57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Koewolucyjne programowanie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69920"/>
            <a:ext cx="3581280" cy="4114800"/>
          </a:xfrm>
          <a:prstGeom prst="rect">
            <a:avLst/>
          </a:prstGeom>
          <a:solidFill>
            <a:srgbClr val="a3b2c1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nkcja oceniają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589040"/>
            <a:ext cx="2362320" cy="46483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Algorytm koewolu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4" idx="2"/>
            <a:endCxn id="185" idx="0"/>
          </p:cNvCxnSpPr>
          <p:nvPr/>
        </p:nvCxnSpPr>
        <p:spPr>
          <a:xfrm flipH="1" rot="16200000">
            <a:off x="5451480" y="3992040"/>
            <a:ext cx="1632600" cy="876960"/>
          </a:xfrm>
          <a:prstGeom prst="bentConnector3">
            <a:avLst>
              <a:gd name="adj1" fmla="val 1760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6781680" y="4027320"/>
            <a:ext cx="1676520" cy="762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chy obrazów uczący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8" idx="1"/>
            <a:endCxn id="189" idx="3"/>
          </p:cNvCxnSpPr>
          <p:nvPr/>
        </p:nvCxnSpPr>
        <p:spPr>
          <a:xfrm flipV="1" rot="10800000">
            <a:off x="6628680" y="2557080"/>
            <a:ext cx="457920" cy="51840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7086600" y="2122560"/>
            <a:ext cx="1295280" cy="8697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biór ucząc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2503440"/>
            <a:ext cx="1600200" cy="111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bliczen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ech dla przykład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cząc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5246640"/>
            <a:ext cx="335268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 użyteczności procedury ekstrakcji c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7558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21300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2884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303696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189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2046240"/>
            <a:ext cx="2133360" cy="99072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57840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5167440"/>
            <a:ext cx="2133360" cy="99360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ula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j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5718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Repre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692680"/>
            <a:ext cx="1828800" cy="392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3"/>
            <a:endCxn id="200" idx="1"/>
          </p:cNvCxnSpPr>
          <p:nvPr/>
        </p:nvCxnSpPr>
        <p:spPr>
          <a:xfrm flipV="1">
            <a:off x="2819520" y="3379320"/>
            <a:ext cx="381600" cy="251064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202" idx="3"/>
            <a:endCxn id="203" idx="3"/>
          </p:cNvCxnSpPr>
          <p:nvPr/>
        </p:nvCxnSpPr>
        <p:spPr>
          <a:xfrm flipV="1">
            <a:off x="2819520" y="3150720"/>
            <a:ext cx="381600" cy="915120"/>
          </a:xfrm>
          <a:prstGeom prst="bentConnector3">
            <a:avLst>
              <a:gd name="adj1" fmla="val 3116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205" idx="1"/>
          </p:cNvCxnSpPr>
          <p:nvPr/>
        </p:nvCxnSpPr>
        <p:spPr>
          <a:xfrm>
            <a:off x="2819520" y="2766960"/>
            <a:ext cx="381600" cy="155880"/>
          </a:xfrm>
          <a:prstGeom prst="bentConnector3">
            <a:avLst>
              <a:gd name="adj1" fmla="val 49952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1108080" y="4656240"/>
            <a:ext cx="1541520" cy="392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5360" y="3112920"/>
            <a:ext cx="1541520" cy="3924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03640"/>
            <a:ext cx="1828800" cy="3906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pre</a:t>
            </a:r>
            <a:r>
              <a:rPr b="0" lang="pl-PL" sz="2000" spc="-1" strike="noStrike">
                <a:solidFill>
                  <a:srgbClr val="003366"/>
                </a:solidFill>
                <a:latin typeface="Arial Narrow"/>
              </a:rPr>
              <a:t>zentant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2732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1892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951360"/>
            <a:ext cx="1371600" cy="392040"/>
          </a:xfrm>
          <a:prstGeom prst="flowChartProcess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sobni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875040"/>
            <a:ext cx="45720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4027320"/>
            <a:ext cx="45720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3009600" y="2998800"/>
            <a:ext cx="6858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2427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kstrakcji c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856120"/>
            <a:ext cx="1904760" cy="381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185" idx="1"/>
            <a:endCxn id="210" idx="3"/>
          </p:cNvCxnSpPr>
          <p:nvPr/>
        </p:nvCxnSpPr>
        <p:spPr>
          <a:xfrm rot="10800000">
            <a:off x="2818800" y="4217400"/>
            <a:ext cx="2210400" cy="1372320"/>
          </a:xfrm>
          <a:prstGeom prst="bentConnector3">
            <a:avLst>
              <a:gd name="adj1" fmla="val 49991"/>
            </a:avLst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74B7-0614-457D-AEFC-C859C32D77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paśmie widzialny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417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OIL-20 – Columbia Image Libr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brazy 20 obiektów codziennego użyt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óżne widoki tego samego obiektu (72 obrazy/obiek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1840" y="2440080"/>
            <a:ext cx="4170240" cy="31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CE66-9E8C-46F9-BA41-DBBFEA283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g.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ynthetic Aperture Radar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SAR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 im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291132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2280" y="375120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75400" y="376236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48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6400" y="375120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3520" y="59500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75400" y="59500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52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37816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384280" y="4351320"/>
            <a:ext cx="2225880" cy="1486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4572000" y="4351320"/>
            <a:ext cx="2289240" cy="1487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6823080" y="2176560"/>
            <a:ext cx="222552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4600440" y="2176560"/>
            <a:ext cx="2225880" cy="148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6838920" y="4351320"/>
            <a:ext cx="2228760" cy="147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8A3B-34E7-4687-B2FB-ECB03B99B9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stosowanie: Rozpoznawanie obiektów w obrazach radar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ska rozdzielczość, znaczne zaszumienie, brak cech typu krawęd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0160" y="2211480"/>
            <a:ext cx="219204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0" t="0" r="718" b="0"/>
          <a:stretch/>
        </p:blipFill>
        <p:spPr>
          <a:xfrm>
            <a:off x="2419200" y="2211480"/>
            <a:ext cx="22147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869160" y="2211480"/>
            <a:ext cx="2198520" cy="220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90440" y="4495680"/>
            <a:ext cx="21938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291132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2280" y="40402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R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5400" y="405144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348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4651200" y="2211480"/>
            <a:ext cx="2192400" cy="220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5216400" y="40402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2419200" y="4495680"/>
            <a:ext cx="221004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297180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651200" y="4495680"/>
            <a:ext cx="2206800" cy="220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869160" y="4495680"/>
            <a:ext cx="2184480" cy="218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5213520" y="6324480"/>
            <a:ext cx="103968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75400" y="6324480"/>
            <a:ext cx="1040040" cy="30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TR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ACD3-76F7-4747-898A-4B71DD44A8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Wyniki osiągnięte w ramach realizacji zadania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713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utomatyczna synteza kompletnego systemu rozpoznawania obrazó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soka trafność rozpozna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wybranych konfiguracjach wariant koewolucyjny osiąga większe wartości trafności klasyfikowa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stosowania w zróżnicowanych zadaniach praktycz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dane zastosowania do zadań uczenia maszynowe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niki podsumowane m.in. w rozprawie habilitacyjnej i publikacjach, w tym IEEE Transactions SM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912C-DCD9-47F2-835E-E1BB3AB5D1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2: Metody badania dynamiki procesów ewolucyjnych i koewolucyjny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sparcie dla zadania 1: Rozwój metod ewolucyjnych i koewolucyjnych do dekompozycji problemu przekształcania reprezentacji danych ucząc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(genami i fenami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krywanie stagnacji i momentów przełomow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wiązanie wartości funkcji oceny (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fitnes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informacją o strukturze przestrzeni rozwiąza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4985-D641-4CD8-9F71-AE7AFC58D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08000" y="1555920"/>
            <a:ext cx="1873080" cy="1771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2487600" y="1698480"/>
            <a:ext cx="1868400" cy="2000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86200" y="1555920"/>
            <a:ext cx="4249800" cy="2301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7928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2620800" y="3643200"/>
            <a:ext cx="2373480" cy="288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79280" y="2419200"/>
            <a:ext cx="8785440" cy="2800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dentyfikacja związków pomiędzy fragmentami opisu rozwiązań i samych rozwiązań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(genami i fena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D5263-7BC7-4068-920D-CA21B9793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8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6320" y="166680"/>
            <a:ext cx="8915400" cy="6512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71800" y="487692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358128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2971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1828800"/>
            <a:ext cx="457200" cy="457200"/>
          </a:xfrm>
          <a:prstGeom prst="ellipse">
            <a:avLst/>
          </a:prstGeom>
          <a:noFill/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560" y="1216440"/>
            <a:ext cx="3708360" cy="9169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iza procesu ewolucyjnego i związków pomiędzy osobnikami-rozwiązania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DBB5E-D23B-4746-9E40-3036760D8B1C}" type="slidenum">
              <a:t>19</a:t>
            </a:fld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esp</a:t>
            </a: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ó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rzy Stefanowsk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 kierow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hab.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zysztof Krawi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ek Jelo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iej Komosiń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rmina Masłows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ert Susma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gr inż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wid Wei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kres realizacj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aj 2004 – Październik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akłady: 210 t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063440" cy="14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1F21-4B8B-4362-B6C2-CCCAE6184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wiązanie wartości funkcji oceny z informacją o strukturze przestrzeni rozwiąza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Wizualizacja przebiegu ewolucj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anim" descr=""/>
          <p:cNvPicPr/>
          <p:nvPr/>
        </p:nvPicPr>
        <p:blipFill>
          <a:blip r:embed=""/>
          <a:stretch/>
        </p:blipFill>
        <p:spPr>
          <a:xfrm>
            <a:off x="1835280" y="2205000"/>
            <a:ext cx="550548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9322-B9C2-4F64-931D-9264C6C23B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2200" y="1484280"/>
            <a:ext cx="84898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uże wolumeny danych elektronicznych w Internecie: strony internetowe, archiwa elektroniczne, e-mails, wiadomości prasow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Wyszukiwanie konkretnej informacji oraz eksploracja struktury zbioru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ykorzystanie algorytmów grupowania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identyfikacja grup podobnych dokumen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tychczasowe algorytmy (stosowane w I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w automatycznym tworzeniu opisów tematycznych znajdowanych grup dokument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nne spojrzenie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rupowanie opis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 tylko grupowanie lecz także tworzenie zróżnicowanych i czytelnych opisów grup dokumentów podobnych tematycz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3: Nowe algorytmy grupowania dokumentów tekstowych i stron Internetow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2CB6-6569-4CEA-9D16-BA53D4D073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773360"/>
            <a:ext cx="561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prowadzenie algorytmu Ling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11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Grupowanie opisowe przede wszystki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ników wyszukiwarek internetowych.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ieg algorytm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uj najpierw fraz będących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brymi kandydatami na opis grup dokumentów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pecyficzn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ekstrakcja fraz i słów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strukcja zróżnicowanych pojęć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gólnych w modelu wektorowym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dekompozycja SV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szukiwanie podobieństwa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ybranych pojęć i kandydatów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na opis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9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ydział dokumentów do grup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40672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773240" y="5589720"/>
            <a:ext cx="424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ngo—Concept-Driven Algorithm for Cluster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arch Results.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EEE Intelligent Systems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ejście „description comes first”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Algorytm Lin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C220-C42D-4EA9-B952-3454FB1140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mplementacja algorytmu dostępna w systemie Carrot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81040" y="2009880"/>
            <a:ext cx="7981920" cy="45147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rzykład użycia algorytmu Lingo – grupowanie wyników zapytania podanego przez użytkownika`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E830-A941-45BD-B2C0-28E3622CBF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Ocena eksperymentalna algorytmu Lingo na  zbiorach testowych zawierających wiele kategorii dobrze zdefiniowanych dokumentów WWW i ich opisów (tworzonych manulanie) pochodzących z repozytorium Open Directory Projec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równanie z innymi algorytmami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ingo prowadzi do czytelniejszych i bardziej zróżnicowanych opisów grup dokumentów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lepiej identyfikuje powiązane tematy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w mniejszym stopniu dokonuje rozłożenia dokumentów z oryginalnej pojedynczej kategorii do różnych grup tematycznych w strukturze odkrytych skupień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adania na uwzględnieniem specyfiki języka polskiego w grupowaniu dokumentów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opracowano koncepcje własnego „lematyzatora”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0120" y="189000"/>
            <a:ext cx="848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Inne badania w ramach zadania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6283-BBAB-4527-9845-796306A925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Badania w tok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09800" y="1847880"/>
            <a:ext cx="2787480" cy="4311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648320" y="2529000"/>
            <a:ext cx="4163760" cy="48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648320" y="4448160"/>
            <a:ext cx="4163760" cy="1571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49E2-2109-45EE-9F5C-A8EC5E93323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4: Metody przekształcania reprezentacji danych uczących w rozpoznawaniu obrazów i widzeniu komputerow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24000" y="1628640"/>
          <a:ext cx="485748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8640"/>
                    <a:ext cx="485748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48000" y="2066760"/>
            <a:ext cx="575316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204E-6876-4FF7-ADB0-0B15B0DCEB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5: Badania nad integracją metod automatycznej selekcji atrybutów z </a:t>
            </a:r>
            <a:r>
              <a:rPr b="0" lang="pl-PL" sz="2000" spc="-1" strike="noStrike">
                <a:solidFill>
                  <a:srgbClr val="ff0000"/>
                </a:solidFill>
                <a:latin typeface="Verdana"/>
              </a:rPr>
              <a:t>klasyfikatorami złożonymi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640" y="1959120"/>
            <a:ext cx="818208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ace na zwiększeniem trafności systemów integrujących zbiór „bazowych” klasyfikatorów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zebadano użycie różnych strategii wyboru podzbiorów atrybutów w złożonych systemów klasyfikujących (głównie „bagging” i </a:t>
            </a:r>
            <a:r>
              <a:rPr b="0" i="1" lang="pl-PL" sz="17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pl-PL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konano integracji wybranych strategii wyboru podzbiorów atrybutów z mechanizmem tworzenia podzbiorów przykładów uczących dla konstrukcji klasyfikatorów składowych w metodzie „bagging”.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56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</a:rPr>
              <a:t>Eksperymenty obliczeniowe na wielu problema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38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ieżące badania nad zmianami sposoby wypracowywania decyzji końcowej systemu złożonego </a:t>
            </a:r>
            <a:r>
              <a:rPr b="0" lang="pl-PL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selekcja podzbioru klasyfikatorów bazowyc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88B0-A6C0-4E0B-B573-EF437F97F2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danie 6: Zaproponowanie nowych algorytmów konstrukcji klasyfikatorów dla rozpoznawania wybranej klasy (w toku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adania nad trudnymi problemami uczenia, w których występuje silne </a:t>
            </a:r>
            <a:r>
              <a:rPr b="0" lang="pl-PL" sz="1800" spc="-1" strike="noStrike">
                <a:solidFill>
                  <a:srgbClr val="ff0000"/>
                </a:solidFill>
                <a:latin typeface="Verdana"/>
              </a:rPr>
              <a:t>niezrównoważenie klas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ecyzyjnych co do licznośc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owa metody tworzenia klasyfikatora regułowego, w którym zbiór reguł dla klasy mniejszościowej jest odpowiednio modyfikowany poprzez utworzenie dodatkowych reguł tak, aby zwiększyć skuteczność rozpoznawania przypadków tej kla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alsze badania nad uwzględnianiem „trudnych przypadków” w strefie brzegowej między klasami.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C557-D434-47F3-9757-ECC94465C8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Specyf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Systemy uczące się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(z przykładów) oraz odkrywanie wiedzy z dany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realizowane w obszarz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sp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ólny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czenia maszynowego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a obrazów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y dokumentów tekst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Verdana"/>
              </a:rPr>
              <a:t>Zastosowania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lgorytmów maszynowego uczenia się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zpoznawaniu obrazów i analizie sygnałów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alizie dokumentów tekstowych oraz eksploracji zasobów Interne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1A89-26BA-42D2-A294-B87BFDED0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77164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0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4360" y="1773360"/>
          <a:ext cx="7704000" cy="3267000"/>
        </p:xfrm>
        <a:graphic>
          <a:graphicData uri="http://schemas.openxmlformats.org/drawingml/2006/table">
            <a:tbl>
              <a:tblPr/>
              <a:tblGrid>
                <a:gridCol w="1541160"/>
                <a:gridCol w="1992600"/>
                <a:gridCol w="1995480"/>
                <a:gridCol w="2174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ta 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ndard classif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ength multipli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place ru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domi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8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u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e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4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rma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6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patit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7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9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6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olo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000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12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3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dec" pos="272880"/>
                          <a:tab algn="dec" pos="56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6699"/>
                          </a:solidFill>
                          <a:latin typeface="Verdana"/>
                          <a:ea typeface="Times New Roman"/>
                        </a:rPr>
                        <a:t>0.7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0" y="58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5445000"/>
            <a:ext cx="812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rowadzone podejście znacząco przewyższa standardowe z uwagi na miarę wrażliwości bez pogorszenia globalnej trafnoś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Eksperymenty porównawcz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miara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 / Wrażliwość dla klasy mniejszościowej o specjalnym znaczeniu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F349-1399-4909-81F6-B878A6B081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Podsumowan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dczas dotychczasowej realizacji grantu opublikowano 25 prac, w ty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artykułów (Lista Filadelfijs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5 rozdziałów w monografiach i pracach zbiorow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9 w materialach konferencyjny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nad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publikowano i obroniono 1 monografię habilitacyjn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lanuje się ukończenie doktorat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44B0-51DF-4BA6-9B78-B72DA9D089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Opublikowane pozycje książkow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1840" y="1628640"/>
            <a:ext cx="848988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drew Adamatzky &amp; Maciej Komosinski  (Eds.),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Artificial Life Models in Softwa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, 2005, 344 p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Bir Bhanu, Yingqiang Lin, Krzysztof Krawiec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olutionary Synthesis of Pattern Recognition System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Springer-Verlag, New York 2005, 294 p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921360" y="3429000"/>
            <a:ext cx="1898640" cy="2948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380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43240" y="3429000"/>
            <a:ext cx="230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E4E3-EF80-4ED2-AD61-CB051FC8F6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Motywacje: ograniczenia istniejących podejś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one możliwości przekształcania reprezentacji danych, zwłaszcza dla złożonych danych i definicji pojęć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w miejsce z góry ustalonego zbioru atrybutów -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konstrukcja nowych atrybutów (cech)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granicz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e możliwości standardowych algorytmów w przypadku trudnych i wieloklasowych problemów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dea: konstruowanie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złożonych systemów klasyfikujących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udności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Verdana"/>
              </a:rPr>
              <a:t>rozpoznawania wybranej klasy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mniejszościowej) o szczególnym znaczeniu dla niezrównoważonych liczebnie dan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ieadekwatność dotychczasowych algorytmów IR w klasyfikacji dokumentów tekstowych i Internetowyc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51E0-D56A-451A-BC33-41E509C20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Cele proj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e metod automatycznej konstrukcji cech z wykorzystaniem algorytmów ewolucyjnych i koewolucyjny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adania nad integracją metod automatycznej selekcji i konstrukcji cech z klasyfikatorami złożonymi oraz nad metodami określających udział klasyfikatorów składowych w decyzji końcowej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roponowanie nowych algorytmów indukcji klasyfikatorów dla rozpoznawania wybranej klasy decyzyjnej w danych zawierających niezrównoważone liczebnie klasy decyzyj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prowadzenie nowych algorytmów grupowania dokumentów tekstowych dla potrzeb wyszukiwanie informacji w Interneci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D41D-D025-4C18-A5E7-512A8149C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Harmono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824120"/>
          <a:ext cx="8856720" cy="4405320"/>
        </p:xfrm>
        <a:graphic>
          <a:graphicData uri="http://schemas.openxmlformats.org/drawingml/2006/table">
            <a:tbl>
              <a:tblPr/>
              <a:tblGrid>
                <a:gridCol w="505080"/>
                <a:gridCol w="7056360"/>
                <a:gridCol w="129528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ewolucyjnych i koewolucyjnych do dekompozycji problemu przekształcania reprezentacji danych ucząc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ozwój metod i technik służących do badania dynamiki procesów ewolucyjnych i koewolucyjnyc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grupowania i klasyfikacji dokumentów tekstowych i 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racowanie metod przekształcania reprezentacji danych uczących w rozpoznawaniu obrazów i widzeniu komputerowy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adania nad integracją metod automatycznej selekcji i konstrukcji cech z klasyfikatorami złożonymi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Zaproponowanie nowych algorytmów indukcji klasyfikatorów dla rozpoznawania wybranej klasy decyzyjnej o szczególnym znaczeni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kwietni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ryfikacja praktyczna zaproponowanych algorytmów w analizie przykładowych baz danych, rozpoznawaniu obrazów i grupowaniu dokumentów tekstowych/stron Internetow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 paźdźiernik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B4B9-3A9A-4491-89AF-09880E55A0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Verdana"/>
              </a:rPr>
              <a:t>Prace wykonane w pierwszym roku realizacji gran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adanie 1: Metody automatycznego przekształcania reprezentacji danych uczący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1840" y="1628280"/>
            <a:ext cx="848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el: opracowanie podejścia uczenia maszynowe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sowalnego do danych obrazowych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ożliwie uniwersalneg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apewniającego wysoką zdolność predykcyjną w zastosowaniach do rzeczywistych problemó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umożliwiającego interpretację pozyskanej wiedz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16DD-AE07-4CDF-8342-246BBB7CA0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9760" y="188640"/>
            <a:ext cx="8489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kspercka konstrukcja c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628280"/>
            <a:ext cx="5402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Cecha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(ang. </a:t>
            </a:r>
            <a:r>
              <a:rPr b="0" i="1" lang="pl-PL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): wielkość wyliczona w sposób pośredni z przykładu/obrazu (z atrybutó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Verdana"/>
              </a:rPr>
              <a:t>Ekspercka konstrukcja cech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= projektowanie przez eksperta procedur obliczających cechy dla przykładów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675"/>
              </a:spcBef>
              <a:buClr>
                <a:srgbClr val="0033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ady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asochłonna i kosztowna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ało systematyczn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datna na subiektywne preferencje i błędy  projektanta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wadzi do mało uniwersalnych rozwiązań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3573360"/>
            <a:ext cx="1905120" cy="99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Syste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Narrow"/>
              </a:rPr>
              <a:t>decyzyjny (rozpoznają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7720" y="2438280"/>
            <a:ext cx="2438280" cy="28958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97720" y="1219320"/>
            <a:ext cx="2438280" cy="1447920"/>
            <a:chOff x="6597720" y="1219320"/>
            <a:chExt cx="2438280" cy="1447920"/>
          </a:xfrm>
        </p:grpSpPr>
        <p:sp>
          <p:nvSpPr>
            <p:cNvPr id="116" name=""/>
            <p:cNvSpPr/>
            <p:nvPr/>
          </p:nvSpPr>
          <p:spPr>
            <a:xfrm>
              <a:off x="6597720" y="12193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zykład/Obra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>
              <a:stCxn id="116" idx="2"/>
              <a:endCxn id="118" idx="0"/>
            </p:cNvCxnSpPr>
            <p:nvPr/>
          </p:nvCxnSpPr>
          <p:spPr>
            <a:xfrm flipV="1" rot="10800000">
              <a:off x="7816320" y="2209320"/>
              <a:ext cx="1080" cy="45792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9" name=""/>
          <p:cNvGrpSpPr/>
          <p:nvPr/>
        </p:nvGrpSpPr>
        <p:grpSpPr>
          <a:xfrm>
            <a:off x="6597720" y="5181120"/>
            <a:ext cx="2438280" cy="1371960"/>
            <a:chOff x="6597720" y="5181120"/>
            <a:chExt cx="2438280" cy="1371960"/>
          </a:xfrm>
        </p:grpSpPr>
        <p:sp>
          <p:nvSpPr>
            <p:cNvPr id="120" name=""/>
            <p:cNvSpPr/>
            <p:nvPr/>
          </p:nvSpPr>
          <p:spPr>
            <a:xfrm>
              <a:off x="6597720" y="5562720"/>
              <a:ext cx="2438280" cy="990360"/>
            </a:xfrm>
            <a:prstGeom prst="flowChartProcess">
              <a:avLst/>
            </a:prstGeom>
            <a:solidFill>
              <a:srgbClr val="a3b2c1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cyzja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zpoznan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22" idx="2"/>
              <a:endCxn id="120" idx="0"/>
            </p:cNvCxnSpPr>
            <p:nvPr/>
          </p:nvCxnSpPr>
          <p:spPr>
            <a:xfrm flipV="1" rot="10800000">
              <a:off x="7816320" y="5181120"/>
              <a:ext cx="1080" cy="38196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6826320" y="2666880"/>
            <a:ext cx="1981080" cy="990720"/>
            <a:chOff x="6826320" y="2666880"/>
            <a:chExt cx="1981080" cy="990720"/>
          </a:xfrm>
        </p:grpSpPr>
        <p:sp>
          <p:nvSpPr>
            <p:cNvPr id="118" name=""/>
            <p:cNvSpPr/>
            <p:nvPr/>
          </p:nvSpPr>
          <p:spPr>
            <a:xfrm>
              <a:off x="6826320" y="2666880"/>
              <a:ext cx="1981080" cy="685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ocedury ekstrakcji ce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18" idx="2"/>
              <a:endCxn id="125" idx="0"/>
            </p:cNvCxnSpPr>
            <p:nvPr/>
          </p:nvCxnSpPr>
          <p:spPr>
            <a:xfrm flipV="1" rot="10800000">
              <a:off x="7816320" y="3352320"/>
              <a:ext cx="1080" cy="305640"/>
            </a:xfrm>
            <a:prstGeom prst="bentConnector2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6826320" y="3657600"/>
            <a:ext cx="1981080" cy="60948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ektor c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22" idx="0"/>
          </p:cNvCxnSpPr>
          <p:nvPr/>
        </p:nvCxnSpPr>
        <p:spPr>
          <a:xfrm flipV="1" rot="10800000">
            <a:off x="7815960" y="4266720"/>
            <a:ext cx="1080" cy="3056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826320" y="4572000"/>
            <a:ext cx="198108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lasy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1200" y="5280120"/>
            <a:ext cx="1981080" cy="3808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7" idx="0"/>
            <a:endCxn id="122" idx="1"/>
          </p:cNvCxnSpPr>
          <p:nvPr/>
        </p:nvCxnSpPr>
        <p:spPr>
          <a:xfrm flipH="1" flipV="1" rot="5400000">
            <a:off x="6167160" y="4620960"/>
            <a:ext cx="40392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lgorytmy przekształcania reprezentacji danych dla systemów uczących się - 3 T11C 050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A7A8-8E3C-4A14-9D2A-6BAFAF0737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12:31:18Z</dcterms:created>
  <dc:creator>jurek</dc:creator>
  <dc:description/>
  <dc:language>en-US</dc:language>
  <cp:lastModifiedBy>Krzysztof Krawiec</cp:lastModifiedBy>
  <dcterms:modified xsi:type="dcterms:W3CDTF">2005-11-18T11:34:28Z</dcterms:modified>
  <cp:revision>456</cp:revision>
  <dc:subject/>
  <dc:title>Zastosowanie metod inteligentnej eksploracji danych do wspomagania rozpoznawania zapalenia wyrostka robaczkowego u dzieci -</dc:title>
</cp:coreProperties>
</file>