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6E5-28EE-489D-825D-05C8A613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6CA-6361-492A-A5A2-10374042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9EF-FC21-483F-AD0F-E1D2E130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83F6-600F-4181-A747-3C0575C2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841-E276-47F3-9710-B5449610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A0CB-1FEA-4E7B-94C7-7C42CC71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6B4-8102-4181-83BF-CBD5F372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D6B-1717-4531-A9CD-AE81EA81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F9D7-92AC-4E56-A54C-FD050FAA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6A6-F8C7-44CD-841A-5EEE012B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27ED-7E6E-4125-9BD9-5C718531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42B-F18D-47B0-95CE-B79A911E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8145-300C-40C2-96E0-DBA44BC71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zężenie zwrot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jedno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85280" y="1154160"/>
            <a:ext cx="4299480" cy="3122280"/>
            <a:chOff x="4085280" y="1154160"/>
            <a:chExt cx="4299480" cy="3122280"/>
          </a:xfrm>
        </p:grpSpPr>
        <p:sp>
          <p:nvSpPr>
            <p:cNvPr id="124" name=""/>
            <p:cNvSpPr/>
            <p:nvPr/>
          </p:nvSpPr>
          <p:spPr>
            <a:xfrm>
              <a:off x="4670280" y="1154160"/>
              <a:ext cx="0" cy="29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57960" y="3685320"/>
              <a:ext cx="38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70280" y="2087280"/>
              <a:ext cx="112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6720" y="2087280"/>
              <a:ext cx="1575000" cy="159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78200" y="37663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88160" y="2692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84680" y="2068200"/>
              <a:ext cx="3355560" cy="1625760"/>
            </a:xfrm>
            <a:custGeom>
              <a:avLst/>
              <a:gdLst/>
              <a:ahLst/>
              <a:rect l="l" t="t" r="r" b="b"/>
              <a:pathLst>
                <a:path w="1431" h="586">
                  <a:moveTo>
                    <a:pt x="0" y="7"/>
                  </a:moveTo>
                  <a:cubicBezTo>
                    <a:pt x="105" y="4"/>
                    <a:pt x="207" y="0"/>
                    <a:pt x="285" y="7"/>
                  </a:cubicBezTo>
                  <a:cubicBezTo>
                    <a:pt x="363" y="14"/>
                    <a:pt x="419" y="33"/>
                    <a:pt x="471" y="52"/>
                  </a:cubicBezTo>
                  <a:cubicBezTo>
                    <a:pt x="523" y="71"/>
                    <a:pt x="552" y="90"/>
                    <a:pt x="597" y="121"/>
                  </a:cubicBezTo>
                  <a:cubicBezTo>
                    <a:pt x="642" y="152"/>
                    <a:pt x="684" y="189"/>
                    <a:pt x="744" y="241"/>
                  </a:cubicBezTo>
                  <a:cubicBezTo>
                    <a:pt x="804" y="293"/>
                    <a:pt x="899" y="382"/>
                    <a:pt x="960" y="433"/>
                  </a:cubicBezTo>
                  <a:cubicBezTo>
                    <a:pt x="1021" y="484"/>
                    <a:pt x="1053" y="523"/>
                    <a:pt x="1110" y="547"/>
                  </a:cubicBezTo>
                  <a:cubicBezTo>
                    <a:pt x="1167" y="571"/>
                    <a:pt x="1249" y="574"/>
                    <a:pt x="1302" y="580"/>
                  </a:cubicBezTo>
                  <a:cubicBezTo>
                    <a:pt x="1355" y="586"/>
                    <a:pt x="1409" y="582"/>
                    <a:pt x="1431" y="5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39360" y="21038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09960" y="2085840"/>
              <a:ext cx="0" cy="102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9440" y="1174680"/>
              <a:ext cx="137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, 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66320" y="3098880"/>
              <a:ext cx="2118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55040" y="309888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68840" y="3090240"/>
              <a:ext cx="2913120" cy="590040"/>
            </a:xfrm>
            <a:custGeom>
              <a:avLst/>
              <a:gdLst/>
              <a:ahLst/>
              <a:rect l="l" t="t" r="r" b="b"/>
              <a:pathLst>
                <a:path w="2232" h="400">
                  <a:moveTo>
                    <a:pt x="0" y="4"/>
                  </a:moveTo>
                  <a:cubicBezTo>
                    <a:pt x="196" y="4"/>
                    <a:pt x="392" y="4"/>
                    <a:pt x="570" y="4"/>
                  </a:cubicBezTo>
                  <a:cubicBezTo>
                    <a:pt x="748" y="4"/>
                    <a:pt x="928" y="0"/>
                    <a:pt x="1068" y="4"/>
                  </a:cubicBezTo>
                  <a:cubicBezTo>
                    <a:pt x="1208" y="8"/>
                    <a:pt x="1321" y="8"/>
                    <a:pt x="1410" y="28"/>
                  </a:cubicBezTo>
                  <a:cubicBezTo>
                    <a:pt x="1499" y="48"/>
                    <a:pt x="1539" y="83"/>
                    <a:pt x="1602" y="124"/>
                  </a:cubicBezTo>
                  <a:cubicBezTo>
                    <a:pt x="1665" y="165"/>
                    <a:pt x="1725" y="232"/>
                    <a:pt x="1788" y="274"/>
                  </a:cubicBezTo>
                  <a:cubicBezTo>
                    <a:pt x="1851" y="316"/>
                    <a:pt x="1906" y="355"/>
                    <a:pt x="1980" y="376"/>
                  </a:cubicBezTo>
                  <a:cubicBezTo>
                    <a:pt x="2054" y="397"/>
                    <a:pt x="2143" y="398"/>
                    <a:pt x="2232" y="40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98080" y="3763440"/>
              <a:ext cx="470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96720" y="2085840"/>
              <a:ext cx="0" cy="1594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6720" y="3432960"/>
              <a:ext cx="96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10120" y="1823040"/>
              <a:ext cx="61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85280" y="2833200"/>
              <a:ext cx="71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065400" y="4643280"/>
                <a:ext cx="5608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19120" y="3652920"/>
                <a:ext cx="1803240" cy="22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F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F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353880" y="1641600"/>
            <a:ext cx="2816280" cy="1581120"/>
            <a:chOff x="353880" y="1641600"/>
            <a:chExt cx="2816280" cy="1581120"/>
          </a:xfrm>
        </p:grpSpPr>
        <p:sp>
          <p:nvSpPr>
            <p:cNvPr id="145" name=""/>
            <p:cNvSpPr/>
            <p:nvPr/>
          </p:nvSpPr>
          <p:spPr>
            <a:xfrm>
              <a:off x="1041480" y="164160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35000" y="249876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3880" y="19242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81120" y="18828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81120" y="2659320"/>
              <a:ext cx="22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1240" y="26751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1240" y="192420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81280" y="190656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59000" y="22068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239840" y="3146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478520" y="822240"/>
            <a:ext cx="62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200" y="1252440"/>
            <a:ext cx="2522520" cy="441360"/>
          </a:xfrm>
          <a:custGeom>
            <a:avLst/>
            <a:gdLst/>
            <a:ahLst/>
            <a:rect l="l" t="t" r="r" b="b"/>
            <a:pathLst>
              <a:path w="1589" h="278">
                <a:moveTo>
                  <a:pt x="0" y="244"/>
                </a:moveTo>
                <a:cubicBezTo>
                  <a:pt x="131" y="169"/>
                  <a:pt x="263" y="94"/>
                  <a:pt x="389" y="55"/>
                </a:cubicBezTo>
                <a:cubicBezTo>
                  <a:pt x="515" y="16"/>
                  <a:pt x="615" y="13"/>
                  <a:pt x="756" y="11"/>
                </a:cubicBezTo>
                <a:cubicBezTo>
                  <a:pt x="897" y="9"/>
                  <a:pt x="1095" y="0"/>
                  <a:pt x="1234" y="44"/>
                </a:cubicBezTo>
                <a:cubicBezTo>
                  <a:pt x="1373" y="88"/>
                  <a:pt x="1481" y="183"/>
                  <a:pt x="1589" y="278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14600" y="5832360"/>
            <a:ext cx="572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e wzmocnienia: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GB=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F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11600" y="1081080"/>
            <a:ext cx="4303440" cy="2894760"/>
            <a:chOff x="4611600" y="1081080"/>
            <a:chExt cx="4303440" cy="2894760"/>
          </a:xfrm>
        </p:grpSpPr>
        <p:grpSp>
          <p:nvGrpSpPr>
            <p:cNvPr id="160" name=""/>
            <p:cNvGrpSpPr/>
            <p:nvPr/>
          </p:nvGrpSpPr>
          <p:grpSpPr>
            <a:xfrm>
              <a:off x="4611600" y="1081080"/>
              <a:ext cx="4267080" cy="2894760"/>
              <a:chOff x="4611600" y="1081080"/>
              <a:chExt cx="4267080" cy="2894760"/>
            </a:xfrm>
          </p:grpSpPr>
          <p:sp>
            <p:nvSpPr>
              <p:cNvPr id="161" name=""/>
              <p:cNvSpPr/>
              <p:nvPr/>
            </p:nvSpPr>
            <p:spPr>
              <a:xfrm>
                <a:off x="5360040" y="1081080"/>
                <a:ext cx="0" cy="26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211000" y="3378240"/>
                <a:ext cx="366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60040" y="1928160"/>
                <a:ext cx="149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851160" y="1928160"/>
                <a:ext cx="1055880" cy="73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80160" y="345060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357760" y="29869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74080" y="18608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14560" y="1099800"/>
                <a:ext cx="65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646760" y="346572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51160" y="192672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11600" y="1686600"/>
                <a:ext cx="61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900560" y="2664000"/>
                <a:ext cx="237960" cy="69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88320" y="2682360"/>
                <a:ext cx="0" cy="70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04640" y="3516480"/>
                <a:ext cx="8380440" cy="30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ϖ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7" name=""/>
          <p:cNvGrpSpPr/>
          <p:nvPr/>
        </p:nvGrpSpPr>
        <p:grpSpPr>
          <a:xfrm>
            <a:off x="230040" y="1643040"/>
            <a:ext cx="4119840" cy="1440000"/>
            <a:chOff x="230040" y="1643040"/>
            <a:chExt cx="4119840" cy="1440000"/>
          </a:xfrm>
        </p:grpSpPr>
        <p:sp>
          <p:nvSpPr>
            <p:cNvPr id="178" name=""/>
            <p:cNvSpPr/>
            <p:nvPr/>
          </p:nvSpPr>
          <p:spPr>
            <a:xfrm>
              <a:off x="820800" y="1643040"/>
              <a:ext cx="1198080" cy="6051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040" y="19231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13480" y="188856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54760" y="1922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72800" y="21592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240" y="1644480"/>
              <a:ext cx="1198080" cy="604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84400" y="2477880"/>
              <a:ext cx="1198080" cy="605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72440" y="19627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39840" y="1982520"/>
              <a:ext cx="0" cy="7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35080" y="21736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400040" y="300456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387520" y="2761920"/>
              <a:ext cx="155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54760" y="279216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782800" y="96984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54360" y="153828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82800" y="1179360"/>
            <a:ext cx="282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65400" y="1179360"/>
            <a:ext cx="39708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92320" y="95076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63520" y="1519200"/>
            <a:ext cx="96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92320" y="13320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43040" y="1312920"/>
            <a:ext cx="2286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5880" y="114444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57640" y="100188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Charakterystyka%20Kf" descr=""/>
          <p:cNvPicPr/>
          <p:nvPr/>
        </p:nvPicPr>
        <p:blipFill>
          <a:blip r:embed="rId1"/>
          <a:stretch/>
        </p:blipFill>
        <p:spPr>
          <a:xfrm>
            <a:off x="398520" y="833400"/>
            <a:ext cx="8012160" cy="58006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569960" y="3261960"/>
            <a:ext cx="6421680" cy="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Charakterystka%20fazowa%20Kf" descr=""/>
          <p:cNvPicPr/>
          <p:nvPr/>
        </p:nvPicPr>
        <p:blipFill>
          <a:blip r:embed="rId1"/>
          <a:stretch/>
        </p:blipFill>
        <p:spPr>
          <a:xfrm>
            <a:off x="630360" y="963720"/>
            <a:ext cx="76658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blokowe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05240" y="1886040"/>
            <a:ext cx="142848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98760" y="27432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17640" y="21686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09720" y="24620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44880" y="21272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46680" y="24210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44880" y="2903400"/>
            <a:ext cx="22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36960" y="3197160"/>
            <a:ext cx="4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5000" y="2919240"/>
            <a:ext cx="308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68480" y="3222720"/>
            <a:ext cx="55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75400" y="184464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68920" y="27018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87800" y="21272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03880" y="2421000"/>
            <a:ext cx="36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15040" y="20858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16840" y="23796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15040" y="2862360"/>
            <a:ext cx="16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07120" y="3156120"/>
            <a:ext cx="47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08560" y="287820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05440" y="318132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5000" y="216864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74960" y="2457360"/>
            <a:ext cx="0" cy="77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45040" y="215100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92720" y="2433600"/>
            <a:ext cx="0" cy="75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03520" y="410832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7040" y="4965840"/>
            <a:ext cx="1428840" cy="723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6280" y="439092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8000" y="46846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43520" y="434988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4960" y="464328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3520" y="5126040"/>
            <a:ext cx="231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35600" y="54198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32080" y="5141880"/>
            <a:ext cx="279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48040" y="544500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44680" y="4397400"/>
            <a:ext cx="0" cy="74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62080" y="468000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86160" y="4645080"/>
            <a:ext cx="0" cy="4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10360" y="2435400"/>
            <a:ext cx="0" cy="43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0320" y="4121280"/>
            <a:ext cx="1428840" cy="723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03840" y="497844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2720" y="44038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29080" y="469728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49960" y="43624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51760" y="465624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49960" y="5138640"/>
            <a:ext cx="34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42040" y="54324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5154480"/>
            <a:ext cx="38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40360" y="545796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45280" y="4691160"/>
            <a:ext cx="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497720" y="4673520"/>
            <a:ext cx="0" cy="45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86760" y="2081160"/>
            <a:ext cx="0" cy="7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69360" y="2381400"/>
            <a:ext cx="0" cy="7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0" y="21985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4800" y="44751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43600" y="9478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30120" y="965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56960" y="15127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36560" y="14590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62800" y="3681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01280" y="3718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710240" y="211572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7878600" y="205704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268880" y="4233960"/>
            <a:ext cx="371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313400" y="4245120"/>
            <a:ext cx="3711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162400" y="218124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197320" y="278136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197320" y="443880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197320" y="512568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287440" y="2585520"/>
            <a:ext cx="0" cy="2811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427120" y="4792680"/>
            <a:ext cx="0" cy="2808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22600" y="4280040"/>
            <a:ext cx="3711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51040" y="2085840"/>
            <a:ext cx="371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34880" y="13176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74360" y="155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ą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2400" y="245124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1120" y="244476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86120" y="470232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43680" y="472140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703600" y="33908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943600" y="327816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849040" y="559908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931000" y="56102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dancja wejściowa i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5280" y="1752480"/>
                <a:ext cx="4923000" cy="35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e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e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y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y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122000" y="16844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86440" y="4113360"/>
            <a:ext cx="47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792520" y="1114560"/>
                <a:ext cx="2889000" cy="21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β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3263760" y="4343400"/>
            <a:ext cx="1506600" cy="896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59080" y="5405400"/>
            <a:ext cx="1505160" cy="895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60680" y="4692600"/>
            <a:ext cx="7048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73520" y="5057640"/>
            <a:ext cx="385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82960" y="4643280"/>
            <a:ext cx="725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82960" y="5603760"/>
            <a:ext cx="365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78200" y="5622840"/>
            <a:ext cx="395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81440" y="5075280"/>
            <a:ext cx="1440" cy="54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770200" y="5662440"/>
            <a:ext cx="1440" cy="347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21200" y="4459320"/>
            <a:ext cx="476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5707080" y="5624280"/>
            <a:ext cx="1440" cy="493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49520" y="6124680"/>
            <a:ext cx="2952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52760" y="5670720"/>
            <a:ext cx="289080" cy="33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597120" y="5753160"/>
            <a:ext cx="180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62320" y="5605560"/>
            <a:ext cx="336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98920" y="6004080"/>
            <a:ext cx="1440" cy="11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340160" y="5592600"/>
            <a:ext cx="40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721480" y="4686120"/>
            <a:ext cx="1440" cy="493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62400" y="4649760"/>
            <a:ext cx="1800" cy="954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65360" y="4697280"/>
            <a:ext cx="1800" cy="140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75200" y="4838760"/>
            <a:ext cx="353880" cy="4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944960" y="4856040"/>
            <a:ext cx="354240" cy="4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59080" y="5832360"/>
            <a:ext cx="4777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74080" y="5111640"/>
            <a:ext cx="7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62400" y="5603760"/>
            <a:ext cx="336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18120" y="4611600"/>
            <a:ext cx="871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30480" y="5597640"/>
            <a:ext cx="81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600360" y="559440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20640" y="3498840"/>
            <a:ext cx="428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ia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zy sprzężeniu N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53520" y="4705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905200" y="4703760"/>
            <a:ext cx="1440" cy="347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93960" y="3040200"/>
            <a:ext cx="315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miary transmitancji K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0" y="1111320"/>
            <a:ext cx="8773920" cy="5051520"/>
            <a:chOff x="0" y="1111320"/>
            <a:chExt cx="8773920" cy="5051520"/>
          </a:xfrm>
        </p:grpSpPr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551480" y="167652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0" y="160020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4648320" y="4724280"/>
                  <a:ext cx="1479600" cy="14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27000" y="4648320"/>
                  <a:ext cx="1479600" cy="14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82" name=""/>
            <p:cNvGrpSpPr/>
            <p:nvPr/>
          </p:nvGrpSpPr>
          <p:grpSpPr>
            <a:xfrm>
              <a:off x="1693800" y="1111320"/>
              <a:ext cx="7080120" cy="4795560"/>
              <a:chOff x="1693800" y="1111320"/>
              <a:chExt cx="7080120" cy="47955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6254640" y="4106880"/>
                <a:ext cx="2519280" cy="1800000"/>
                <a:chOff x="6254640" y="4106880"/>
                <a:chExt cx="2519280" cy="180000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6869160" y="4472640"/>
                  <a:ext cx="1278000" cy="65628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863760" y="5250240"/>
                  <a:ext cx="1278000" cy="6566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254640" y="472896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528600" y="4995360"/>
                  <a:ext cx="335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8157600" y="469152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159040" y="4957920"/>
                  <a:ext cx="30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8157600" y="5395680"/>
                  <a:ext cx="309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532920" y="5410080"/>
                  <a:ext cx="343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542640" y="4989600"/>
                  <a:ext cx="0" cy="41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468640" y="4973760"/>
                  <a:ext cx="0" cy="416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220520" y="41068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8303400" y="458496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6410520" y="4760640"/>
                  <a:ext cx="0" cy="254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6419160" y="5476320"/>
                  <a:ext cx="0" cy="254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074000" y="465408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>
                  <a:off x="7092360" y="542592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267240" y="5771520"/>
                  <a:ext cx="24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751040" y="4030560"/>
                <a:ext cx="2518920" cy="1800000"/>
                <a:chOff x="1751040" y="4030560"/>
                <a:chExt cx="2518920" cy="180000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365560" y="4413600"/>
                  <a:ext cx="1278000" cy="64836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360160" y="5181840"/>
                  <a:ext cx="1277640" cy="6487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751040" y="466668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653640" y="462960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655080" y="4893120"/>
                  <a:ext cx="224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653640" y="5325480"/>
                  <a:ext cx="20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884240" y="5339520"/>
                  <a:ext cx="47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895760" y="4672080"/>
                  <a:ext cx="0" cy="66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3871080" y="4894200"/>
                  <a:ext cx="0" cy="42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687760" y="403056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>
                  <a:off x="3854880" y="452556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1944000" y="4983480"/>
                  <a:ext cx="0" cy="25164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012040" y="455832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618280" y="459540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>
                  <a:off x="2568960" y="533952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800360" y="569412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848600" y="4637880"/>
                  <a:ext cx="68040" cy="66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6207120" y="1114560"/>
                <a:ext cx="2518920" cy="1799640"/>
                <a:chOff x="6207120" y="1114560"/>
                <a:chExt cx="2518920" cy="179964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6207120" y="1114560"/>
                  <a:ext cx="2518920" cy="1799640"/>
                  <a:chOff x="6207120" y="1114560"/>
                  <a:chExt cx="2518920" cy="17996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6821640" y="1467360"/>
                    <a:ext cx="1278000" cy="662400"/>
                  </a:xfrm>
                  <a:prstGeom prst="rect">
                    <a:avLst/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815880" y="2251800"/>
                    <a:ext cx="1278000" cy="66240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207120" y="1726200"/>
                    <a:ext cx="615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489360" y="1994760"/>
                    <a:ext cx="3265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8110080" y="1688400"/>
                    <a:ext cx="615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8110080" y="2398680"/>
                    <a:ext cx="1472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6493680" y="2413080"/>
                    <a:ext cx="3351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495120" y="2007720"/>
                    <a:ext cx="0" cy="402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8263440" y="1684080"/>
                    <a:ext cx="0" cy="709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234560" y="1114560"/>
                    <a:ext cx="569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>
                    <a:off x="6405840" y="1757880"/>
                    <a:ext cx="0" cy="256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V="1">
                    <a:off x="6402600" y="2443680"/>
                    <a:ext cx="0" cy="257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7027560" y="1641960"/>
                    <a:ext cx="75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>
                    <a:off x="7019280" y="240876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V="1">
                    <a:off x="8595720" y="1797120"/>
                    <a:ext cx="0" cy="85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284880" y="2783520"/>
                    <a:ext cx="24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7" name=""/>
                <p:cNvSpPr/>
                <p:nvPr/>
              </p:nvSpPr>
              <p:spPr>
                <a:xfrm>
                  <a:off x="8210520" y="1649520"/>
                  <a:ext cx="763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1693800" y="1111320"/>
                <a:ext cx="2518920" cy="1799640"/>
                <a:chOff x="1693800" y="1111320"/>
                <a:chExt cx="2518920" cy="179964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1693800" y="1111320"/>
                  <a:ext cx="2518920" cy="1799640"/>
                  <a:chOff x="1693800" y="1111320"/>
                  <a:chExt cx="2518920" cy="179964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2308680" y="1455120"/>
                    <a:ext cx="1277640" cy="666720"/>
                  </a:xfrm>
                  <a:prstGeom prst="rect">
                    <a:avLst/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302920" y="2244240"/>
                    <a:ext cx="1278000" cy="66672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1693800" y="1715400"/>
                    <a:ext cx="616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596400" y="1677240"/>
                    <a:ext cx="616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596400" y="2391840"/>
                    <a:ext cx="198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V="1">
                    <a:off x="1886760" y="2406600"/>
                    <a:ext cx="428760" cy="8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1886760" y="1715400"/>
                    <a:ext cx="0" cy="698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783960" y="1663920"/>
                    <a:ext cx="0" cy="734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623320" y="1111320"/>
                    <a:ext cx="60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4127760" y="1763280"/>
                    <a:ext cx="0" cy="864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V="1">
                    <a:off x="1952280" y="2072880"/>
                    <a:ext cx="0" cy="25884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1967760" y="1595160"/>
                    <a:ext cx="33228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575800" y="165960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>
                    <a:off x="2469240" y="239364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1712160" y="2788200"/>
                    <a:ext cx="24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854360" y="1674000"/>
                    <a:ext cx="67680" cy="68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6" name=""/>
                <p:cNvSpPr/>
                <p:nvPr/>
              </p:nvSpPr>
              <p:spPr>
                <a:xfrm>
                  <a:off x="3745080" y="1633680"/>
                  <a:ext cx="7596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>
                <a:off x="3984480" y="4930920"/>
                <a:ext cx="0" cy="331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575560" y="5016600"/>
                <a:ext cx="0" cy="331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2096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0384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819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28195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172200" y="2895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895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120760" y="1143000"/>
                <a:ext cx="42786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181920" y="2438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4320" y="236232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5715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 F = różnica zwrot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wzmocnienie pęt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e idealnych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0" y="1111320"/>
            <a:ext cx="8774280" cy="5051520"/>
            <a:chOff x="0" y="1111320"/>
            <a:chExt cx="8774280" cy="5051520"/>
          </a:xfrm>
        </p:grpSpPr>
        <mc:AlternateContent>
          <mc:Choice xmlns:a14="http://schemas.microsoft.com/office/drawing/2010/main" Requires="a14">
            <p:sp>
              <p:nvSpPr>
                <p:cNvPr id="461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4551480" y="167652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0" y="160020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4" name=""/>
                <p:cNvSpPr txBox="1"/>
                <p:nvPr/>
              </p:nvSpPr>
              <p:spPr>
                <a:xfrm>
                  <a:off x="4648320" y="4724280"/>
                  <a:ext cx="1479600" cy="14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27000" y="4648320"/>
                  <a:ext cx="1479600" cy="14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"/>
            <p:cNvSpPr/>
            <p:nvPr/>
          </p:nvSpPr>
          <p:spPr>
            <a:xfrm>
              <a:off x="6869160" y="4471920"/>
              <a:ext cx="1278000" cy="6573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64480" y="5249880"/>
              <a:ext cx="1277640" cy="657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54640" y="472932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29320" y="499572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58320" y="469116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59760" y="4957920"/>
              <a:ext cx="30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158320" y="5396040"/>
              <a:ext cx="30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32560" y="5410080"/>
              <a:ext cx="344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43720" y="4989600"/>
              <a:ext cx="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69360" y="4973760"/>
              <a:ext cx="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20520" y="4106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8304120" y="4584600"/>
              <a:ext cx="331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6410160" y="4760640"/>
              <a:ext cx="0" cy="253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6419880" y="5476680"/>
              <a:ext cx="0" cy="253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074000" y="46544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67600" y="577224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65200" y="4413240"/>
              <a:ext cx="1278000" cy="649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60520" y="5181480"/>
              <a:ext cx="1278000" cy="649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51040" y="466740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54360" y="462924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56160" y="4892760"/>
              <a:ext cx="22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54360" y="5326200"/>
              <a:ext cx="20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884240" y="5340240"/>
              <a:ext cx="47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95400" y="4672080"/>
              <a:ext cx="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71800" y="4894200"/>
              <a:ext cx="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88120" y="40305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3855960" y="4525920"/>
              <a:ext cx="331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1944720" y="4984920"/>
              <a:ext cx="0" cy="250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13120" y="4559400"/>
              <a:ext cx="3315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619360" y="45957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00360" y="569448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49320" y="4638600"/>
              <a:ext cx="684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21640" y="1467000"/>
              <a:ext cx="1277640" cy="663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16600" y="2252520"/>
              <a:ext cx="1278000" cy="6620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07120" y="172548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89720" y="1995480"/>
              <a:ext cx="32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10440" y="168912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10440" y="2398680"/>
              <a:ext cx="14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94400" y="241308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496200" y="2008080"/>
              <a:ext cx="0" cy="40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263080" y="1684440"/>
              <a:ext cx="0" cy="70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35280" y="111456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405480" y="1757520"/>
              <a:ext cx="0" cy="25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6402240" y="2443320"/>
              <a:ext cx="0" cy="25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27920" y="16416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8596440" y="1796760"/>
              <a:ext cx="0" cy="85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84880" y="278460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10520" y="1649520"/>
              <a:ext cx="763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08320" y="1454040"/>
              <a:ext cx="1278000" cy="668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03640" y="2244600"/>
              <a:ext cx="1277640" cy="666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93800" y="171468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97120" y="167796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97120" y="2392200"/>
              <a:ext cx="19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1887480" y="2406240"/>
              <a:ext cx="4287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87480" y="1714680"/>
              <a:ext cx="0" cy="69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784680" y="1663560"/>
              <a:ext cx="0" cy="73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23320" y="11113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4127400" y="1763280"/>
              <a:ext cx="0" cy="863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1952640" y="2072880"/>
              <a:ext cx="0" cy="258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68480" y="1595520"/>
              <a:ext cx="331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76520" y="16588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712880" y="278928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854360" y="1674720"/>
              <a:ext cx="680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745080" y="163368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2451240" y="2428920"/>
              <a:ext cx="198360" cy="298440"/>
              <a:chOff x="2451240" y="2428920"/>
              <a:chExt cx="198360" cy="298440"/>
            </a:xfrm>
          </p:grpSpPr>
          <p:sp>
            <p:nvSpPr>
              <p:cNvPr id="531" name=""/>
              <p:cNvSpPr/>
              <p:nvPr/>
            </p:nvSpPr>
            <p:spPr>
              <a:xfrm>
                <a:off x="2451240" y="242892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2550240" y="247824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451240" y="252828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2517840" y="5359320"/>
              <a:ext cx="198360" cy="298440"/>
              <a:chOff x="2517840" y="5359320"/>
              <a:chExt cx="198360" cy="298440"/>
            </a:xfrm>
          </p:grpSpPr>
          <p:sp>
            <p:nvSpPr>
              <p:cNvPr id="535" name=""/>
              <p:cNvSpPr/>
              <p:nvPr/>
            </p:nvSpPr>
            <p:spPr>
              <a:xfrm>
                <a:off x="2517840" y="535932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2616840" y="540864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517840" y="545868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6981840" y="2448000"/>
              <a:ext cx="244440" cy="244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104240" y="2509560"/>
              <a:ext cx="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7048440" y="5457960"/>
              <a:ext cx="244440" cy="244440"/>
              <a:chOff x="7048440" y="5457960"/>
              <a:chExt cx="244440" cy="244440"/>
            </a:xfrm>
          </p:grpSpPr>
          <p:sp>
            <p:nvSpPr>
              <p:cNvPr id="541" name=""/>
              <p:cNvSpPr/>
              <p:nvPr/>
            </p:nvSpPr>
            <p:spPr>
              <a:xfrm>
                <a:off x="7048440" y="5457960"/>
                <a:ext cx="244440" cy="244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170840" y="551880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2305080" y="241920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52760" y="2714760"/>
              <a:ext cx="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62320" y="53434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2610000" y="5657760"/>
              <a:ext cx="936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19840" y="24004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867360" y="54100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95960" y="2400480"/>
              <a:ext cx="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05680" y="26956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53200" y="54100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72280" y="5715000"/>
              <a:ext cx="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3228480" y="23907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733880" y="23907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3304800" y="53244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838640" y="53910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305160" y="532440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541008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84480" y="493092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575560" y="501660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impedancji generatora na działani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ętli ujemnego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514760" y="432756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6470640" y="2587680"/>
            <a:ext cx="127800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65960" y="337356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56120" y="284652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143760" y="353376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078520" y="116856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054840" y="28782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051600" y="35640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676920" y="2762280"/>
            <a:ext cx="7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952880" y="39052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36680" y="2587680"/>
            <a:ext cx="1278000" cy="668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232000" y="3378240"/>
            <a:ext cx="127800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17760" y="28479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16200" y="28479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25560" y="1146240"/>
            <a:ext cx="30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881360" y="3206880"/>
            <a:ext cx="0" cy="258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97200" y="2728800"/>
            <a:ext cx="331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05240" y="2792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50880" y="3922560"/>
            <a:ext cx="182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82720" y="28083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2379600" y="3562200"/>
            <a:ext cx="198360" cy="298440"/>
            <a:chOff x="2379600" y="3562200"/>
            <a:chExt cx="198360" cy="298440"/>
          </a:xfrm>
        </p:grpSpPr>
        <p:sp>
          <p:nvSpPr>
            <p:cNvPr id="583" name=""/>
            <p:cNvSpPr/>
            <p:nvPr/>
          </p:nvSpPr>
          <p:spPr>
            <a:xfrm>
              <a:off x="2379600" y="356220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2478600" y="361152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79600" y="366156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6630840" y="3568680"/>
            <a:ext cx="24480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6753240" y="36306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81120" y="384804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69200" y="352116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45320" y="352116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54680" y="381636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6840" y="4505400"/>
            <a:ext cx="3146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21400" y="4540320"/>
            <a:ext cx="368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685800" y="2778120"/>
            <a:ext cx="910800" cy="122400"/>
            <a:chOff x="685800" y="2778120"/>
            <a:chExt cx="910800" cy="122400"/>
          </a:xfrm>
        </p:grpSpPr>
        <p:sp>
          <p:nvSpPr>
            <p:cNvPr id="595" name=""/>
            <p:cNvSpPr/>
            <p:nvPr/>
          </p:nvSpPr>
          <p:spPr>
            <a:xfrm>
              <a:off x="928440" y="277812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53600" y="2839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5800" y="283932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4984920" y="2782800"/>
            <a:ext cx="910800" cy="122400"/>
            <a:chOff x="4984920" y="2782800"/>
            <a:chExt cx="910800" cy="122400"/>
          </a:xfrm>
        </p:grpSpPr>
        <p:sp>
          <p:nvSpPr>
            <p:cNvPr id="599" name=""/>
            <p:cNvSpPr/>
            <p:nvPr/>
          </p:nvSpPr>
          <p:spPr>
            <a:xfrm>
              <a:off x="5227560" y="27828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652720" y="28440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84920" y="28440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817640" y="35481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149880" y="313992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159600" y="313992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15840" y="290340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81480" y="291456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36680" y="3218040"/>
            <a:ext cx="487080" cy="485640"/>
            <a:chOff x="436680" y="3218040"/>
            <a:chExt cx="487080" cy="485640"/>
          </a:xfrm>
        </p:grpSpPr>
        <p:sp>
          <p:nvSpPr>
            <p:cNvPr id="608" name=""/>
            <p:cNvSpPr/>
            <p:nvPr/>
          </p:nvSpPr>
          <p:spPr>
            <a:xfrm>
              <a:off x="436680" y="3218040"/>
              <a:ext cx="48708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680400" y="333900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 flipV="1">
            <a:off x="655560" y="36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67464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749840" y="3209760"/>
            <a:ext cx="487440" cy="486000"/>
            <a:chOff x="4749840" y="3209760"/>
            <a:chExt cx="487440" cy="486000"/>
          </a:xfrm>
        </p:grpSpPr>
        <p:sp>
          <p:nvSpPr>
            <p:cNvPr id="613" name=""/>
            <p:cNvSpPr/>
            <p:nvPr/>
          </p:nvSpPr>
          <p:spPr>
            <a:xfrm>
              <a:off x="4749840" y="3209760"/>
              <a:ext cx="487440" cy="48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4993560" y="3330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 flipV="1">
            <a:off x="4968720" y="3682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4987800" y="2835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33606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179680" y="33908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5892840" y="1841400"/>
            <a:ext cx="91440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95560" y="1371600"/>
            <a:ext cx="11304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85800" y="5380200"/>
                <a:ext cx="21128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2920320" y="74916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943280" y="3571920"/>
                <a:ext cx="1215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5" name=""/>
          <p:cNvGrpSpPr/>
          <p:nvPr/>
        </p:nvGrpSpPr>
        <p:grpSpPr>
          <a:xfrm>
            <a:off x="944640" y="2500200"/>
            <a:ext cx="910800" cy="122400"/>
            <a:chOff x="944640" y="2500200"/>
            <a:chExt cx="910800" cy="122400"/>
          </a:xfrm>
        </p:grpSpPr>
        <p:sp>
          <p:nvSpPr>
            <p:cNvPr id="626" name=""/>
            <p:cNvSpPr/>
            <p:nvPr/>
          </p:nvSpPr>
          <p:spPr>
            <a:xfrm>
              <a:off x="1187280" y="25002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12440" y="2561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44640" y="25614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2120760" y="2317680"/>
            <a:ext cx="974880" cy="1034640"/>
            <a:chOff x="2120760" y="2317680"/>
            <a:chExt cx="974880" cy="1034640"/>
          </a:xfrm>
        </p:grpSpPr>
        <p:sp>
          <p:nvSpPr>
            <p:cNvPr id="630" name=""/>
            <p:cNvSpPr/>
            <p:nvPr/>
          </p:nvSpPr>
          <p:spPr>
            <a:xfrm>
              <a:off x="2120760" y="2317680"/>
              <a:ext cx="974880" cy="1034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89880" y="263592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89880" y="30340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2259720" y="2954160"/>
              <a:ext cx="0" cy="15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457200" y="2793960"/>
            <a:ext cx="487440" cy="485640"/>
            <a:chOff x="457200" y="2793960"/>
            <a:chExt cx="487440" cy="485640"/>
          </a:xfrm>
        </p:grpSpPr>
        <p:sp>
          <p:nvSpPr>
            <p:cNvPr id="635" name=""/>
            <p:cNvSpPr/>
            <p:nvPr/>
          </p:nvSpPr>
          <p:spPr>
            <a:xfrm>
              <a:off x="457200" y="2793960"/>
              <a:ext cx="48744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00920" y="29149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75752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2165400" y="1635120"/>
            <a:ext cx="912240" cy="122400"/>
            <a:chOff x="2165400" y="1635120"/>
            <a:chExt cx="912240" cy="122400"/>
          </a:xfrm>
        </p:grpSpPr>
        <p:sp>
          <p:nvSpPr>
            <p:cNvPr id="639" name=""/>
            <p:cNvSpPr/>
            <p:nvPr/>
          </p:nvSpPr>
          <p:spPr>
            <a:xfrm>
              <a:off x="2408400" y="163512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34280" y="16963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165400" y="1696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928880" y="169560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95640" y="279396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3338640" y="170820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878120" y="3110040"/>
            <a:ext cx="242640" cy="4251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192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699840" y="25621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0200" y="256212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00200" y="329256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960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82800" y="254484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46920" y="175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43360" y="202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15920" y="27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3338640" y="2844720"/>
            <a:ext cx="0" cy="6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00280" y="2511360"/>
            <a:ext cx="263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865160" y="2144880"/>
            <a:ext cx="0" cy="264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98600" y="264312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5257800" y="5380200"/>
                <a:ext cx="25081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415120" y="4665600"/>
                <a:ext cx="2655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4495680" y="41641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2720" y="500220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4419720" y="1143000"/>
            <a:ext cx="3533760" cy="2400480"/>
            <a:chOff x="4419720" y="1143000"/>
            <a:chExt cx="3533760" cy="2400480"/>
          </a:xfrm>
        </p:grpSpPr>
        <p:grpSp>
          <p:nvGrpSpPr>
            <p:cNvPr id="663" name=""/>
            <p:cNvGrpSpPr/>
            <p:nvPr/>
          </p:nvGrpSpPr>
          <p:grpSpPr>
            <a:xfrm>
              <a:off x="6792120" y="2667600"/>
              <a:ext cx="182880" cy="365760"/>
              <a:chOff x="6792120" y="2667600"/>
              <a:chExt cx="182880" cy="365760"/>
            </a:xfrm>
          </p:grpSpPr>
          <p:sp>
            <p:nvSpPr>
              <p:cNvPr id="664" name=""/>
              <p:cNvSpPr/>
              <p:nvPr/>
            </p:nvSpPr>
            <p:spPr>
              <a:xfrm>
                <a:off x="6792120" y="2667600"/>
                <a:ext cx="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792120" y="285048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6792120" y="266760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>
              <a:off x="6185160" y="2484360"/>
              <a:ext cx="0" cy="265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58560" y="2789280"/>
              <a:ext cx="20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953480" y="2301120"/>
              <a:ext cx="0" cy="690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6060600" y="2240640"/>
              <a:ext cx="914040" cy="122040"/>
              <a:chOff x="6060600" y="2240640"/>
              <a:chExt cx="914040" cy="122040"/>
            </a:xfrm>
          </p:grpSpPr>
          <p:sp>
            <p:nvSpPr>
              <p:cNvPr id="671" name=""/>
              <p:cNvSpPr/>
              <p:nvPr/>
            </p:nvSpPr>
            <p:spPr>
              <a:xfrm>
                <a:off x="6303960" y="224064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730920" y="230148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060600" y="230148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6914520" y="1386720"/>
              <a:ext cx="121680" cy="914040"/>
              <a:chOff x="6914520" y="1386720"/>
              <a:chExt cx="121680" cy="914040"/>
            </a:xfrm>
          </p:grpSpPr>
          <p:sp>
            <p:nvSpPr>
              <p:cNvPr id="675" name=""/>
              <p:cNvSpPr/>
              <p:nvPr/>
            </p:nvSpPr>
            <p:spPr>
              <a:xfrm rot="5400000">
                <a:off x="6761880" y="1782360"/>
                <a:ext cx="426600" cy="121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975360" y="2057040"/>
                <a:ext cx="0" cy="24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975360" y="138672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6975000" y="2301480"/>
              <a:ext cx="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063120" y="230148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6060600" y="285048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75000" y="303336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53320" y="3521160"/>
              <a:ext cx="2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4660920" y="2789280"/>
              <a:ext cx="914040" cy="122040"/>
              <a:chOff x="4660920" y="2789280"/>
              <a:chExt cx="914040" cy="122040"/>
            </a:xfrm>
          </p:grpSpPr>
          <p:sp>
            <p:nvSpPr>
              <p:cNvPr id="684" name=""/>
              <p:cNvSpPr/>
              <p:nvPr/>
            </p:nvSpPr>
            <p:spPr>
              <a:xfrm>
                <a:off x="4904280" y="278928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331240" y="285012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660920" y="285012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4419720" y="2924280"/>
              <a:ext cx="487440" cy="487440"/>
              <a:chOff x="4419720" y="2924280"/>
              <a:chExt cx="487440" cy="487440"/>
            </a:xfrm>
          </p:grpSpPr>
          <p:sp>
            <p:nvSpPr>
              <p:cNvPr id="688" name=""/>
              <p:cNvSpPr/>
              <p:nvPr/>
            </p:nvSpPr>
            <p:spPr>
              <a:xfrm>
                <a:off x="4419720" y="2924280"/>
                <a:ext cx="487440" cy="487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4663440" y="30456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4973400" y="29721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60920" y="285048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539240" y="3521160"/>
              <a:ext cx="24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660920" y="339912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39480" y="23346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239160" y="1785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68320" y="16916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31800" y="2268360"/>
              <a:ext cx="6084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030360" y="2817360"/>
              <a:ext cx="6048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14520" y="1265040"/>
              <a:ext cx="121680" cy="12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37280" y="114300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U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672960" y="254556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282800" y="24235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07840" y="303336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5575320" y="2728440"/>
              <a:ext cx="60840" cy="243720"/>
              <a:chOff x="5575320" y="2728440"/>
              <a:chExt cx="60840" cy="243720"/>
            </a:xfrm>
          </p:grpSpPr>
          <p:sp>
            <p:nvSpPr>
              <p:cNvPr id="705" name=""/>
              <p:cNvSpPr/>
              <p:nvPr/>
            </p:nvSpPr>
            <p:spPr>
              <a:xfrm>
                <a:off x="557532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63616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 flipH="1">
              <a:off x="5636160" y="2850480"/>
              <a:ext cx="4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77880" y="23014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7343640" y="2179800"/>
              <a:ext cx="60840" cy="243720"/>
              <a:chOff x="7343640" y="2179800"/>
              <a:chExt cx="60840" cy="243720"/>
            </a:xfrm>
          </p:grpSpPr>
          <p:sp>
            <p:nvSpPr>
              <p:cNvPr id="710" name=""/>
              <p:cNvSpPr/>
              <p:nvPr/>
            </p:nvSpPr>
            <p:spPr>
              <a:xfrm>
                <a:off x="734364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40448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7404480" y="230148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48560" y="2240640"/>
              <a:ext cx="12168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828800" y="2565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1943280" y="1701720"/>
            <a:ext cx="26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048120" y="17017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080800" y="12668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28840" y="18381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446640" y="1371600"/>
                <a:ext cx="87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5927760" y="3192480"/>
            <a:ext cx="1994040" cy="676080"/>
          </a:xfrm>
          <a:custGeom>
            <a:avLst/>
            <a:gdLst/>
            <a:ahLst/>
            <a:rect l="l" t="t" r="r" b="b"/>
            <a:pathLst>
              <a:path w="1256" h="426">
                <a:moveTo>
                  <a:pt x="0" y="44"/>
                </a:moveTo>
                <a:cubicBezTo>
                  <a:pt x="39" y="89"/>
                  <a:pt x="131" y="248"/>
                  <a:pt x="233" y="311"/>
                </a:cubicBezTo>
                <a:cubicBezTo>
                  <a:pt x="335" y="374"/>
                  <a:pt x="487" y="418"/>
                  <a:pt x="611" y="422"/>
                </a:cubicBezTo>
                <a:cubicBezTo>
                  <a:pt x="735" y="426"/>
                  <a:pt x="870" y="403"/>
                  <a:pt x="978" y="333"/>
                </a:cubicBezTo>
                <a:cubicBezTo>
                  <a:pt x="1086" y="263"/>
                  <a:pt x="1198" y="69"/>
                  <a:pt x="1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570360" y="38592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4851360" y="3352680"/>
            <a:ext cx="20700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8600" y="1523880"/>
            <a:ext cx="274320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68040" y="72396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5187960" y="5688000"/>
                <a:ext cx="2290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7" name=""/>
          <p:cNvGrpSpPr/>
          <p:nvPr/>
        </p:nvGrpSpPr>
        <p:grpSpPr>
          <a:xfrm>
            <a:off x="5800680" y="2833200"/>
            <a:ext cx="182520" cy="365760"/>
            <a:chOff x="5800680" y="2833200"/>
            <a:chExt cx="182520" cy="365760"/>
          </a:xfrm>
        </p:grpSpPr>
        <p:sp>
          <p:nvSpPr>
            <p:cNvPr id="728" name=""/>
            <p:cNvSpPr/>
            <p:nvPr/>
          </p:nvSpPr>
          <p:spPr>
            <a:xfrm>
              <a:off x="5800680" y="28335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800680" y="30160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5800680" y="2833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 flipH="1" flipV="1">
            <a:off x="8053560" y="3533760"/>
            <a:ext cx="144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4520880" y="2101680"/>
            <a:ext cx="120600" cy="914040"/>
            <a:chOff x="4520880" y="2101680"/>
            <a:chExt cx="120600" cy="914040"/>
          </a:xfrm>
        </p:grpSpPr>
        <p:sp>
          <p:nvSpPr>
            <p:cNvPr id="733" name=""/>
            <p:cNvSpPr/>
            <p:nvPr/>
          </p:nvSpPr>
          <p:spPr>
            <a:xfrm rot="5400000">
              <a:off x="4367880" y="249804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81360" y="27720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81360" y="210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5921280" y="1554120"/>
            <a:ext cx="122400" cy="912600"/>
            <a:chOff x="5921280" y="1554120"/>
            <a:chExt cx="122400" cy="912600"/>
          </a:xfrm>
        </p:grpSpPr>
        <p:sp>
          <p:nvSpPr>
            <p:cNvPr id="737" name=""/>
            <p:cNvSpPr/>
            <p:nvPr/>
          </p:nvSpPr>
          <p:spPr>
            <a:xfrm rot="5400000">
              <a:off x="5769360" y="194868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82480" y="22233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982480" y="15541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5983200" y="246708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4579560" y="30160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864400" y="4264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417000" y="28940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183000" y="18590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938920" y="243540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540320" y="2986200"/>
            <a:ext cx="601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002080" y="13716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7569360" y="3351240"/>
            <a:ext cx="60120" cy="243000"/>
            <a:chOff x="7569360" y="3351240"/>
            <a:chExt cx="60120" cy="243000"/>
          </a:xfrm>
        </p:grpSpPr>
        <p:sp>
          <p:nvSpPr>
            <p:cNvPr id="749" name=""/>
            <p:cNvSpPr/>
            <p:nvPr/>
          </p:nvSpPr>
          <p:spPr>
            <a:xfrm>
              <a:off x="756936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62948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 flipV="1">
            <a:off x="5738760" y="377640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99400" y="2284560"/>
            <a:ext cx="182520" cy="366840"/>
            <a:chOff x="6899400" y="2284560"/>
            <a:chExt cx="182520" cy="366840"/>
          </a:xfrm>
        </p:grpSpPr>
        <p:sp>
          <p:nvSpPr>
            <p:cNvPr id="753" name=""/>
            <p:cNvSpPr/>
            <p:nvPr/>
          </p:nvSpPr>
          <p:spPr>
            <a:xfrm flipV="1">
              <a:off x="6899400" y="2284560"/>
              <a:ext cx="0" cy="36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6899400" y="22845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99400" y="24681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5985000" y="24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985000" y="1554120"/>
            <a:ext cx="19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081920" y="1554120"/>
            <a:ext cx="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7021080" y="3351240"/>
            <a:ext cx="120600" cy="912600"/>
            <a:chOff x="7021080" y="3351240"/>
            <a:chExt cx="120600" cy="912600"/>
          </a:xfrm>
        </p:grpSpPr>
        <p:sp>
          <p:nvSpPr>
            <p:cNvPr id="760" name=""/>
            <p:cNvSpPr/>
            <p:nvPr/>
          </p:nvSpPr>
          <p:spPr>
            <a:xfrm rot="5400000">
              <a:off x="68684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0815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815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6959520" y="4264200"/>
            <a:ext cx="244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5924520" y="3351240"/>
            <a:ext cx="122400" cy="912600"/>
            <a:chOff x="5924520" y="3351240"/>
            <a:chExt cx="122400" cy="912600"/>
          </a:xfrm>
        </p:grpSpPr>
        <p:sp>
          <p:nvSpPr>
            <p:cNvPr id="765" name=""/>
            <p:cNvSpPr/>
            <p:nvPr/>
          </p:nvSpPr>
          <p:spPr>
            <a:xfrm rot="5400000">
              <a:off x="5772600" y="374580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8572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8572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7081920" y="265104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6167520" y="3411360"/>
            <a:ext cx="914040" cy="122400"/>
            <a:chOff x="6167520" y="3411360"/>
            <a:chExt cx="914040" cy="122400"/>
          </a:xfrm>
        </p:grpSpPr>
        <p:sp>
          <p:nvSpPr>
            <p:cNvPr id="770" name=""/>
            <p:cNvSpPr/>
            <p:nvPr/>
          </p:nvSpPr>
          <p:spPr>
            <a:xfrm>
              <a:off x="641088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83784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16752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 flipH="1">
            <a:off x="5984640" y="34732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4520880" y="3351240"/>
            <a:ext cx="120600" cy="912600"/>
            <a:chOff x="4520880" y="3351240"/>
            <a:chExt cx="120600" cy="912600"/>
          </a:xfrm>
        </p:grpSpPr>
        <p:sp>
          <p:nvSpPr>
            <p:cNvPr id="775" name=""/>
            <p:cNvSpPr/>
            <p:nvPr/>
          </p:nvSpPr>
          <p:spPr>
            <a:xfrm rot="5400000">
              <a:off x="43682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813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5813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445932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4581360" y="3015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4581360" y="155412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581360" y="155376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81920" y="34732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629480" y="34732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4946760" y="3776760"/>
            <a:ext cx="244440" cy="61920"/>
            <a:chOff x="4946760" y="3776760"/>
            <a:chExt cx="244440" cy="61920"/>
          </a:xfrm>
        </p:grpSpPr>
        <p:sp>
          <p:nvSpPr>
            <p:cNvPr id="785" name=""/>
            <p:cNvSpPr/>
            <p:nvPr/>
          </p:nvSpPr>
          <p:spPr>
            <a:xfrm>
              <a:off x="4946760" y="383868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46760" y="377676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068800" y="3411360"/>
            <a:ext cx="914040" cy="122400"/>
            <a:chOff x="5068800" y="3411360"/>
            <a:chExt cx="914040" cy="122400"/>
          </a:xfrm>
        </p:grpSpPr>
        <p:sp>
          <p:nvSpPr>
            <p:cNvPr id="788" name=""/>
            <p:cNvSpPr/>
            <p:nvPr/>
          </p:nvSpPr>
          <p:spPr>
            <a:xfrm>
              <a:off x="531216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3912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06880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5068800" y="34732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68800" y="383868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94676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047000" y="3440160"/>
            <a:ext cx="601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940360" y="34304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848720" y="152388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850160" y="341136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056360" y="1521000"/>
            <a:ext cx="60480" cy="61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112440" y="3656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279920" y="365616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flipV="1">
            <a:off x="5594040" y="312120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3605040" y="335268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950080" y="15112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106120" y="35766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680640" y="3581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4092480" y="2901960"/>
            <a:ext cx="61920" cy="243000"/>
            <a:chOff x="4092480" y="2901960"/>
            <a:chExt cx="61920" cy="243000"/>
          </a:xfrm>
        </p:grpSpPr>
        <p:sp>
          <p:nvSpPr>
            <p:cNvPr id="807" name=""/>
            <p:cNvSpPr/>
            <p:nvPr/>
          </p:nvSpPr>
          <p:spPr>
            <a:xfrm>
              <a:off x="409248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5440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 flipH="1">
            <a:off x="4154400" y="30178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3605040" y="30178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44920" y="295740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615960" y="5688000"/>
                <a:ext cx="2209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13" name=""/>
          <p:cNvGrpSpPr/>
          <p:nvPr/>
        </p:nvGrpSpPr>
        <p:grpSpPr>
          <a:xfrm>
            <a:off x="1584360" y="2198520"/>
            <a:ext cx="974520" cy="1036440"/>
            <a:chOff x="1584360" y="2198520"/>
            <a:chExt cx="974520" cy="1036440"/>
          </a:xfrm>
        </p:grpSpPr>
        <p:sp>
          <p:nvSpPr>
            <p:cNvPr id="814" name=""/>
            <p:cNvSpPr/>
            <p:nvPr/>
          </p:nvSpPr>
          <p:spPr>
            <a:xfrm>
              <a:off x="1584360" y="2198520"/>
              <a:ext cx="974520" cy="10364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653480" y="25174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53480" y="29160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723320" y="283572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1309680" y="1862280"/>
            <a:ext cx="914040" cy="120600"/>
            <a:chOff x="1309680" y="1862280"/>
            <a:chExt cx="914040" cy="120600"/>
          </a:xfrm>
        </p:grpSpPr>
        <p:sp>
          <p:nvSpPr>
            <p:cNvPr id="819" name=""/>
            <p:cNvSpPr/>
            <p:nvPr/>
          </p:nvSpPr>
          <p:spPr>
            <a:xfrm>
              <a:off x="1553040" y="186228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980000" y="192240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30968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396720" y="1862280"/>
            <a:ext cx="912600" cy="120600"/>
            <a:chOff x="396720" y="1862280"/>
            <a:chExt cx="912600" cy="120600"/>
          </a:xfrm>
        </p:grpSpPr>
        <p:sp>
          <p:nvSpPr>
            <p:cNvPr id="823" name=""/>
            <p:cNvSpPr/>
            <p:nvPr/>
          </p:nvSpPr>
          <p:spPr>
            <a:xfrm>
              <a:off x="639720" y="18622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6596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96720" y="1922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 flipH="1">
            <a:off x="1309320" y="240984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1309680" y="192240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543040" y="26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24080" y="1922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33560" y="19224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517320" y="30193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00200" y="3019320"/>
            <a:ext cx="85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96720" y="1922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4680" y="222732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271520" y="189864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0848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3540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5480" y="330048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46280" y="2060640"/>
            <a:ext cx="206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397160" y="2563920"/>
            <a:ext cx="0" cy="20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819520" y="28951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251460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31640" y="3111480"/>
            <a:ext cx="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081520" y="32004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981760" y="32000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26440" y="1508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306400" y="3959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022560" y="1503360"/>
                <a:ext cx="14065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4462560" y="4794120"/>
                <a:ext cx="37846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1025640" y="4929120"/>
                <a:ext cx="12160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1" name=""/>
          <p:cNvSpPr/>
          <p:nvPr/>
        </p:nvSpPr>
        <p:spPr>
          <a:xfrm>
            <a:off x="5376600" y="2430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413400" y="244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45400" y="294480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408800" y="255744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173720" y="2052720"/>
            <a:ext cx="16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07120" y="53928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352760" y="4613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201640" y="2587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989680" y="280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63600" y="29462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072120" y="4691160"/>
            <a:ext cx="131436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37640" y="853920"/>
            <a:ext cx="79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owe-Szerego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órnik na wzm. operacyjnym  i wtórnik emiterowy (źródłow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6546960" y="3801600"/>
            <a:ext cx="182520" cy="365760"/>
            <a:chOff x="6546960" y="3801600"/>
            <a:chExt cx="182520" cy="365760"/>
          </a:xfrm>
        </p:grpSpPr>
        <p:sp>
          <p:nvSpPr>
            <p:cNvPr id="865" name=""/>
            <p:cNvSpPr/>
            <p:nvPr/>
          </p:nvSpPr>
          <p:spPr>
            <a:xfrm>
              <a:off x="6546960" y="38019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546960" y="39844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6546960" y="38016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267160" y="3070080"/>
            <a:ext cx="120960" cy="914040"/>
            <a:chOff x="5267160" y="3070080"/>
            <a:chExt cx="120960" cy="914040"/>
          </a:xfrm>
        </p:grpSpPr>
        <p:sp>
          <p:nvSpPr>
            <p:cNvPr id="869" name=""/>
            <p:cNvSpPr/>
            <p:nvPr/>
          </p:nvSpPr>
          <p:spPr>
            <a:xfrm rot="5400000">
              <a:off x="5114160" y="3466080"/>
              <a:ext cx="42660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27640" y="37404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27640" y="30700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 flipH="1">
            <a:off x="5325840" y="39844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610320" y="543240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286240" y="396396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024400" y="25876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489720" y="485892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30920" y="287496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6670440" y="4519440"/>
            <a:ext cx="122040" cy="912600"/>
            <a:chOff x="6670440" y="4519440"/>
            <a:chExt cx="122040" cy="912600"/>
          </a:xfrm>
        </p:grpSpPr>
        <p:sp>
          <p:nvSpPr>
            <p:cNvPr id="879" name=""/>
            <p:cNvSpPr/>
            <p:nvPr/>
          </p:nvSpPr>
          <p:spPr>
            <a:xfrm rot="5400000">
              <a:off x="6518520" y="4914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731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731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 flipH="1">
            <a:off x="6748200" y="455292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267160" y="4519440"/>
            <a:ext cx="120960" cy="912600"/>
            <a:chOff x="5267160" y="4519440"/>
            <a:chExt cx="120960" cy="912600"/>
          </a:xfrm>
        </p:grpSpPr>
        <p:sp>
          <p:nvSpPr>
            <p:cNvPr id="884" name=""/>
            <p:cNvSpPr/>
            <p:nvPr/>
          </p:nvSpPr>
          <p:spPr>
            <a:xfrm rot="5400000">
              <a:off x="5114520" y="491472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27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327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5205240" y="5432400"/>
            <a:ext cx="24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5327640" y="4336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5327280" y="2874960"/>
            <a:ext cx="14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03920" y="45100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800840" y="279072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859800" y="48243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 flipV="1">
            <a:off x="6330600" y="417528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696000" y="283212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426920" y="474984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4838760" y="3879720"/>
            <a:ext cx="61920" cy="243000"/>
            <a:chOff x="4838760" y="3879720"/>
            <a:chExt cx="61920" cy="243000"/>
          </a:xfrm>
        </p:grpSpPr>
        <p:sp>
          <p:nvSpPr>
            <p:cNvPr id="897" name=""/>
            <p:cNvSpPr/>
            <p:nvPr/>
          </p:nvSpPr>
          <p:spPr>
            <a:xfrm>
              <a:off x="483876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90068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 flipH="1">
            <a:off x="4900680" y="399564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4351320" y="399564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290840" y="393552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7012080" y="4432320"/>
            <a:ext cx="61920" cy="243000"/>
            <a:chOff x="7012080" y="4432320"/>
            <a:chExt cx="61920" cy="243000"/>
          </a:xfrm>
        </p:grpSpPr>
        <p:sp>
          <p:nvSpPr>
            <p:cNvPr id="903" name=""/>
            <p:cNvSpPr/>
            <p:nvPr/>
          </p:nvSpPr>
          <p:spPr>
            <a:xfrm>
              <a:off x="701208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7400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7081920" y="4556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494480" y="44942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7610400" y="4691160"/>
            <a:ext cx="0" cy="62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772760" y="4867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6730920" y="4138200"/>
            <a:ext cx="0" cy="4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6713640" y="286848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5326200" y="287460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5326200" y="3970080"/>
            <a:ext cx="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945600" y="2811600"/>
            <a:ext cx="5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376280" y="2664000"/>
            <a:ext cx="1895400" cy="634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1884240" y="3338640"/>
            <a:ext cx="974880" cy="1036080"/>
            <a:chOff x="1884240" y="3338640"/>
            <a:chExt cx="974880" cy="1036080"/>
          </a:xfrm>
        </p:grpSpPr>
        <p:sp>
          <p:nvSpPr>
            <p:cNvPr id="916" name=""/>
            <p:cNvSpPr/>
            <p:nvPr/>
          </p:nvSpPr>
          <p:spPr>
            <a:xfrm>
              <a:off x="1884240" y="3338640"/>
              <a:ext cx="974880" cy="10360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953360" y="36576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953360" y="405576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2023200" y="397584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 flipH="1">
            <a:off x="1609560" y="3549600"/>
            <a:ext cx="2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1609560" y="306216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43280" y="382104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06680" y="3062160"/>
            <a:ext cx="152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33800" y="30621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817200" y="41590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000080" y="415908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55720" y="44402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97040" y="3703680"/>
            <a:ext cx="0" cy="20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3402000" y="391140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136600" y="365436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31880" y="42508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381400" y="4340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390320" y="2587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63480" y="408636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325680" y="376380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4307040" y="4299120"/>
            <a:ext cx="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092400" y="37846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057360" y="4692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154200" y="361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713640" y="396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089240" y="4417920"/>
            <a:ext cx="100656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101040" y="9320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2970360" y="5621400"/>
                <a:ext cx="27302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5" name=""/>
          <p:cNvGrpSpPr/>
          <p:nvPr/>
        </p:nvGrpSpPr>
        <p:grpSpPr>
          <a:xfrm>
            <a:off x="4330800" y="3701520"/>
            <a:ext cx="182520" cy="365760"/>
            <a:chOff x="4330800" y="3701520"/>
            <a:chExt cx="182520" cy="365760"/>
          </a:xfrm>
        </p:grpSpPr>
        <p:sp>
          <p:nvSpPr>
            <p:cNvPr id="946" name=""/>
            <p:cNvSpPr/>
            <p:nvPr/>
          </p:nvSpPr>
          <p:spPr>
            <a:xfrm>
              <a:off x="4330800" y="370188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330800" y="38844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4330800" y="37015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2768400" y="2652840"/>
            <a:ext cx="120600" cy="914040"/>
            <a:chOff x="2768400" y="2652840"/>
            <a:chExt cx="120600" cy="914040"/>
          </a:xfrm>
        </p:grpSpPr>
        <p:sp>
          <p:nvSpPr>
            <p:cNvPr id="950" name=""/>
            <p:cNvSpPr/>
            <p:nvPr/>
          </p:nvSpPr>
          <p:spPr>
            <a:xfrm rot="5400000">
              <a:off x="2615400" y="304920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828880" y="332316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828880" y="2652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 flipH="1">
            <a:off x="2827440" y="3884760"/>
            <a:ext cx="15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394160" y="515628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706640" y="24098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787480" y="385452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808240" y="181764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4330800" y="456696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514760" y="21049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454280" y="4243320"/>
            <a:ext cx="122040" cy="912600"/>
            <a:chOff x="4454280" y="4243320"/>
            <a:chExt cx="122040" cy="912600"/>
          </a:xfrm>
        </p:grpSpPr>
        <p:sp>
          <p:nvSpPr>
            <p:cNvPr id="961" name=""/>
            <p:cNvSpPr/>
            <p:nvPr/>
          </p:nvSpPr>
          <p:spPr>
            <a:xfrm rot="5400000">
              <a:off x="4302360" y="463824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5154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154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2768400" y="4243320"/>
            <a:ext cx="120600" cy="912600"/>
            <a:chOff x="2768400" y="4243320"/>
            <a:chExt cx="120600" cy="912600"/>
          </a:xfrm>
        </p:grpSpPr>
        <p:sp>
          <p:nvSpPr>
            <p:cNvPr id="965" name=""/>
            <p:cNvSpPr/>
            <p:nvPr/>
          </p:nvSpPr>
          <p:spPr>
            <a:xfrm rot="5400000">
              <a:off x="2615760" y="463896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8288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8288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706840" y="515628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2828880" y="3479760"/>
            <a:ext cx="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584680" y="20210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608720" y="4548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 flipV="1">
            <a:off x="4078080" y="4196520"/>
            <a:ext cx="169560" cy="114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1852560" y="424512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479840" y="206208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928160" y="44737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2340000" y="3770280"/>
            <a:ext cx="61920" cy="243000"/>
            <a:chOff x="2340000" y="3770280"/>
            <a:chExt cx="61920" cy="243000"/>
          </a:xfrm>
        </p:grpSpPr>
        <p:sp>
          <p:nvSpPr>
            <p:cNvPr id="977" name=""/>
            <p:cNvSpPr/>
            <p:nvPr/>
          </p:nvSpPr>
          <p:spPr>
            <a:xfrm>
              <a:off x="234000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40192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 flipH="1">
            <a:off x="2401920" y="38862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1852560" y="388620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792440" y="382572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5533920" y="3586320"/>
            <a:ext cx="0" cy="1317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732640" y="28274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4457520" y="2138400"/>
            <a:ext cx="122040" cy="912240"/>
            <a:chOff x="4457520" y="2138400"/>
            <a:chExt cx="122040" cy="912240"/>
          </a:xfrm>
        </p:grpSpPr>
        <p:sp>
          <p:nvSpPr>
            <p:cNvPr id="985" name=""/>
            <p:cNvSpPr/>
            <p:nvPr/>
          </p:nvSpPr>
          <p:spPr>
            <a:xfrm rot="5400000">
              <a:off x="4305600" y="253332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518720" y="28072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18720" y="21384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4518000" y="3024360"/>
            <a:ext cx="6480" cy="67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4487040" y="2952720"/>
            <a:ext cx="1055160" cy="242640"/>
            <a:chOff x="4487040" y="2952720"/>
            <a:chExt cx="1055160" cy="242640"/>
          </a:xfrm>
        </p:grpSpPr>
        <p:sp>
          <p:nvSpPr>
            <p:cNvPr id="990" name=""/>
            <p:cNvSpPr/>
            <p:nvPr/>
          </p:nvSpPr>
          <p:spPr>
            <a:xfrm>
              <a:off x="4487040" y="3036600"/>
              <a:ext cx="601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4933080" y="2952720"/>
              <a:ext cx="61560" cy="242640"/>
              <a:chOff x="4933080" y="2952720"/>
              <a:chExt cx="61560" cy="242640"/>
            </a:xfrm>
          </p:grpSpPr>
          <p:sp>
            <p:nvSpPr>
              <p:cNvPr id="992" name=""/>
              <p:cNvSpPr/>
              <p:nvPr/>
            </p:nvSpPr>
            <p:spPr>
              <a:xfrm>
                <a:off x="493308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99464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"/>
            <p:cNvSpPr/>
            <p:nvPr/>
          </p:nvSpPr>
          <p:spPr>
            <a:xfrm flipH="1">
              <a:off x="4507200" y="306864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4994640" y="3068640"/>
              <a:ext cx="48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20160" y="3008160"/>
              <a:ext cx="12204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4162320" y="342108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4869000" y="326376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840200" y="377208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22760" y="346536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629240" y="405432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3124080" y="4606920"/>
                <a:ext cx="852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 flipV="1">
            <a:off x="4516560" y="40669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2825280" y="2101680"/>
            <a:ext cx="336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2825640" y="21016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3990960" y="3441600"/>
            <a:ext cx="2057400" cy="1917720"/>
          </a:xfrm>
          <a:custGeom>
            <a:avLst/>
            <a:gdLst/>
            <a:ahLst/>
            <a:rect l="l" t="t" r="r" b="b"/>
            <a:pathLst>
              <a:path w="1296" h="1208">
                <a:moveTo>
                  <a:pt x="8" y="1208"/>
                </a:moveTo>
                <a:lnTo>
                  <a:pt x="1296" y="1208"/>
                </a:lnTo>
                <a:lnTo>
                  <a:pt x="1296" y="0"/>
                </a:lnTo>
                <a:lnTo>
                  <a:pt x="464" y="0"/>
                </a:lnTo>
                <a:lnTo>
                  <a:pt x="464" y="728"/>
                </a:lnTo>
                <a:lnTo>
                  <a:pt x="0" y="728"/>
                </a:lnTo>
                <a:lnTo>
                  <a:pt x="8" y="120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-190440" y="-360"/>
            <a:ext cx="9144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580480" y="87804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o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4181400" y="5545080"/>
                <a:ext cx="2422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1541880" y="5695920"/>
            <a:ext cx="188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519880" y="26002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041640" y="326556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4143240" y="3220560"/>
            <a:ext cx="182520" cy="365760"/>
            <a:chOff x="4143240" y="3220560"/>
            <a:chExt cx="182520" cy="365760"/>
          </a:xfrm>
        </p:grpSpPr>
        <p:sp>
          <p:nvSpPr>
            <p:cNvPr id="1014" name=""/>
            <p:cNvSpPr/>
            <p:nvPr/>
          </p:nvSpPr>
          <p:spPr>
            <a:xfrm>
              <a:off x="4143240" y="322092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143240" y="340344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4143240" y="322056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 flipH="1" flipV="1">
            <a:off x="6453360" y="2909880"/>
            <a:ext cx="2880" cy="1541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4263840" y="1725480"/>
            <a:ext cx="122040" cy="912600"/>
            <a:chOff x="4263840" y="1725480"/>
            <a:chExt cx="122040" cy="912600"/>
          </a:xfrm>
        </p:grpSpPr>
        <p:sp>
          <p:nvSpPr>
            <p:cNvPr id="1019" name=""/>
            <p:cNvSpPr/>
            <p:nvPr/>
          </p:nvSpPr>
          <p:spPr>
            <a:xfrm rot="5400000">
              <a:off x="4111920" y="212040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25040" y="239472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325040" y="172548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4325760" y="285444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2922120" y="340344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206960" y="449892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525920" y="168768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281480" y="296388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344640" y="17589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5924520" y="2328840"/>
            <a:ext cx="60480" cy="243000"/>
            <a:chOff x="5924520" y="2328840"/>
            <a:chExt cx="60480" cy="243000"/>
          </a:xfrm>
        </p:grpSpPr>
        <p:sp>
          <p:nvSpPr>
            <p:cNvPr id="1029" name=""/>
            <p:cNvSpPr/>
            <p:nvPr/>
          </p:nvSpPr>
          <p:spPr>
            <a:xfrm>
              <a:off x="592452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8500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4327560" y="2995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314960" y="1471680"/>
            <a:ext cx="19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5364000" y="3586320"/>
            <a:ext cx="120960" cy="912240"/>
            <a:chOff x="5364000" y="3586320"/>
            <a:chExt cx="120960" cy="912240"/>
          </a:xfrm>
        </p:grpSpPr>
        <p:sp>
          <p:nvSpPr>
            <p:cNvPr id="1034" name=""/>
            <p:cNvSpPr/>
            <p:nvPr/>
          </p:nvSpPr>
          <p:spPr>
            <a:xfrm rot="5400000">
              <a:off x="5211360" y="398160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24480" y="425520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24480" y="3586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302080" y="4498920"/>
            <a:ext cx="244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424480" y="303840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4057560" y="4971960"/>
            <a:ext cx="914040" cy="122400"/>
            <a:chOff x="4057560" y="4971960"/>
            <a:chExt cx="914040" cy="122400"/>
          </a:xfrm>
        </p:grpSpPr>
        <p:sp>
          <p:nvSpPr>
            <p:cNvPr id="1040" name=""/>
            <p:cNvSpPr/>
            <p:nvPr/>
          </p:nvSpPr>
          <p:spPr>
            <a:xfrm>
              <a:off x="4300920" y="49719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727880" y="50331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057560" y="50331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1946520" y="3347640"/>
            <a:ext cx="912600" cy="120600"/>
            <a:chOff x="1946520" y="3347640"/>
            <a:chExt cx="912600" cy="120600"/>
          </a:xfrm>
        </p:grpSpPr>
        <p:sp>
          <p:nvSpPr>
            <p:cNvPr id="1044" name=""/>
            <p:cNvSpPr/>
            <p:nvPr/>
          </p:nvSpPr>
          <p:spPr>
            <a:xfrm rot="10800000">
              <a:off x="2190240" y="334764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1946520" y="3408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2616120" y="34081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1620720" y="451152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37080" y="245736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985000" y="246528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392800" y="24256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486240" y="33847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178680" y="14414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300720" y="239868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86320" y="14382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77160" y="451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15280" y="3890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1274760" y="357516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599520" y="3311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9080" y="38037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867040" y="3289320"/>
            <a:ext cx="61920" cy="243000"/>
            <a:chOff x="2867040" y="3289320"/>
            <a:chExt cx="61920" cy="243000"/>
          </a:xfrm>
        </p:grpSpPr>
        <p:sp>
          <p:nvSpPr>
            <p:cNvPr id="1061" name=""/>
            <p:cNvSpPr/>
            <p:nvPr/>
          </p:nvSpPr>
          <p:spPr>
            <a:xfrm>
              <a:off x="286704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92896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5248440" y="2803320"/>
            <a:ext cx="182520" cy="365400"/>
            <a:chOff x="5248440" y="2803320"/>
            <a:chExt cx="182520" cy="365400"/>
          </a:xfrm>
        </p:grpSpPr>
        <p:sp>
          <p:nvSpPr>
            <p:cNvPr id="1064" name=""/>
            <p:cNvSpPr/>
            <p:nvPr/>
          </p:nvSpPr>
          <p:spPr>
            <a:xfrm>
              <a:off x="5248440" y="28036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248440" y="2986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5248440" y="28033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7" name=""/>
          <p:cNvSpPr/>
          <p:nvPr/>
        </p:nvSpPr>
        <p:spPr>
          <a:xfrm flipH="1">
            <a:off x="4971960" y="366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4971960" y="3664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24400" y="3435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3524040" y="503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5368680" y="1522440"/>
            <a:ext cx="122040" cy="912600"/>
            <a:chOff x="5368680" y="1522440"/>
            <a:chExt cx="122040" cy="912600"/>
          </a:xfrm>
        </p:grpSpPr>
        <p:sp>
          <p:nvSpPr>
            <p:cNvPr id="1072" name=""/>
            <p:cNvSpPr/>
            <p:nvPr/>
          </p:nvSpPr>
          <p:spPr>
            <a:xfrm rot="5400000">
              <a:off x="5216760" y="1917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429880" y="219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429880" y="1522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 flipV="1">
            <a:off x="4324320" y="14540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605200" y="17636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5430960" y="2328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4324320" y="242568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391000" y="36259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1487520" y="3738600"/>
            <a:ext cx="487440" cy="488880"/>
            <a:chOff x="1487520" y="3738600"/>
            <a:chExt cx="487440" cy="488880"/>
          </a:xfrm>
        </p:grpSpPr>
        <p:sp>
          <p:nvSpPr>
            <p:cNvPr id="1081" name=""/>
            <p:cNvSpPr/>
            <p:nvPr/>
          </p:nvSpPr>
          <p:spPr>
            <a:xfrm>
              <a:off x="1487520" y="3738600"/>
              <a:ext cx="48744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1731240" y="386028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 flipV="1">
            <a:off x="1746360" y="33973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1746360" y="340992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733400" y="42228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081520" y="2790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324320" y="3587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97440" y="280656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099040" y="275112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5781600" y="2580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530680" y="32986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3676680" y="399384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705120" y="325908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627160" y="486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6589800" y="4713120"/>
                <a:ext cx="147168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2651040" y="1969920"/>
                <a:ext cx="32990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Up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2651040" y="3778200"/>
                <a:ext cx="15210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9" name=""/>
          <p:cNvSpPr/>
          <p:nvPr/>
        </p:nvSpPr>
        <p:spPr>
          <a:xfrm>
            <a:off x="2815200" y="29844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003920" y="7970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-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1487520" y="1727280"/>
            <a:ext cx="5289120" cy="3834720"/>
            <a:chOff x="1487520" y="1727280"/>
            <a:chExt cx="5289120" cy="3834720"/>
          </a:xfrm>
        </p:grpSpPr>
        <p:sp>
          <p:nvSpPr>
            <p:cNvPr id="1103" name=""/>
            <p:cNvSpPr/>
            <p:nvPr/>
          </p:nvSpPr>
          <p:spPr>
            <a:xfrm>
              <a:off x="3223440" y="1744200"/>
              <a:ext cx="2780640" cy="16502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4" name=""/>
            <p:cNvGrpSpPr/>
            <p:nvPr/>
          </p:nvGrpSpPr>
          <p:grpSpPr>
            <a:xfrm>
              <a:off x="4597200" y="3624120"/>
              <a:ext cx="897840" cy="1122480"/>
              <a:chOff x="4597200" y="3624120"/>
              <a:chExt cx="897840" cy="1122480"/>
            </a:xfrm>
          </p:grpSpPr>
          <p:sp>
            <p:nvSpPr>
              <p:cNvPr id="1105" name=""/>
              <p:cNvSpPr/>
              <p:nvPr/>
            </p:nvSpPr>
            <p:spPr>
              <a:xfrm>
                <a:off x="4597200" y="3624120"/>
                <a:ext cx="897840" cy="1122480"/>
              </a:xfrm>
              <a:custGeom>
                <a:avLst/>
                <a:gdLst/>
                <a:ahLst/>
                <a:rect l="l" t="t" r="r" b="b"/>
                <a:pathLst>
                  <a:path w="672" h="624">
                    <a:moveTo>
                      <a:pt x="0" y="0"/>
                    </a:moveTo>
                    <a:lnTo>
                      <a:pt x="0" y="624"/>
                    </a:lnTo>
                    <a:lnTo>
                      <a:pt x="672" y="2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660920" y="396936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660920" y="440100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4725360" y="4314600"/>
                <a:ext cx="0" cy="172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4344480" y="2882880"/>
              <a:ext cx="840960" cy="130320"/>
              <a:chOff x="4344480" y="2882880"/>
              <a:chExt cx="840960" cy="130320"/>
            </a:xfrm>
          </p:grpSpPr>
          <p:sp>
            <p:nvSpPr>
              <p:cNvPr id="1110" name=""/>
              <p:cNvSpPr/>
              <p:nvPr/>
            </p:nvSpPr>
            <p:spPr>
              <a:xfrm>
                <a:off x="4568400" y="2882880"/>
                <a:ext cx="39240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961160" y="294804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344480" y="294804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3503160" y="2882880"/>
              <a:ext cx="840960" cy="130320"/>
              <a:chOff x="3503160" y="2882880"/>
              <a:chExt cx="840960" cy="130320"/>
            </a:xfrm>
          </p:grpSpPr>
          <p:sp>
            <p:nvSpPr>
              <p:cNvPr id="1114" name=""/>
              <p:cNvSpPr/>
              <p:nvPr/>
            </p:nvSpPr>
            <p:spPr>
              <a:xfrm>
                <a:off x="3727080" y="2882880"/>
                <a:ext cx="39240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19840" y="294804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503160" y="294804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7" name=""/>
            <p:cNvSpPr/>
            <p:nvPr/>
          </p:nvSpPr>
          <p:spPr>
            <a:xfrm flipH="1">
              <a:off x="4344480" y="385416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4344480" y="3120120"/>
              <a:ext cx="0" cy="71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481000" y="4147560"/>
              <a:ext cx="112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186160" y="2947320"/>
              <a:ext cx="5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275160" y="2676960"/>
              <a:ext cx="0" cy="14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3392280" y="4776480"/>
              <a:ext cx="447120" cy="528840"/>
              <a:chOff x="3392280" y="4776480"/>
              <a:chExt cx="447120" cy="528840"/>
            </a:xfrm>
          </p:grpSpPr>
          <p:sp>
            <p:nvSpPr>
              <p:cNvPr id="1123" name=""/>
              <p:cNvSpPr/>
              <p:nvPr/>
            </p:nvSpPr>
            <p:spPr>
              <a:xfrm>
                <a:off x="3392280" y="4776480"/>
                <a:ext cx="447120" cy="528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3615840" y="4908240"/>
                <a:ext cx="0" cy="26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 flipH="1">
              <a:off x="3615480" y="451332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15840" y="452556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615840" y="5295960"/>
              <a:ext cx="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03160" y="5558760"/>
              <a:ext cx="22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83240" y="451332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3495960" y="2836080"/>
              <a:ext cx="0" cy="26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310280" y="2921760"/>
              <a:ext cx="5580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545360" y="241020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692880" y="240228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21280" y="4873680"/>
              <a:ext cx="92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23120" y="3204000"/>
              <a:ext cx="467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421160" y="4137840"/>
              <a:ext cx="0" cy="221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6253200" y="4324680"/>
              <a:ext cx="0" cy="1237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767120" y="3920400"/>
              <a:ext cx="412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4121280" y="4709880"/>
              <a:ext cx="0" cy="747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398920" y="488556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4357440" y="2207520"/>
              <a:ext cx="840960" cy="129960"/>
              <a:chOff x="4357440" y="2207520"/>
              <a:chExt cx="840960" cy="129960"/>
            </a:xfrm>
          </p:grpSpPr>
          <p:sp>
            <p:nvSpPr>
              <p:cNvPr id="1142" name=""/>
              <p:cNvSpPr/>
              <p:nvPr/>
            </p:nvSpPr>
            <p:spPr>
              <a:xfrm>
                <a:off x="4581360" y="2207520"/>
                <a:ext cx="392400" cy="1299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74120" y="227232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357440" y="227232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5188320" y="2127960"/>
              <a:ext cx="70560" cy="330480"/>
              <a:chOff x="5188320" y="2127960"/>
              <a:chExt cx="70560" cy="330480"/>
            </a:xfrm>
          </p:grpSpPr>
          <p:sp>
            <p:nvSpPr>
              <p:cNvPr id="1146" name=""/>
              <p:cNvSpPr/>
              <p:nvPr/>
            </p:nvSpPr>
            <p:spPr>
              <a:xfrm>
                <a:off x="5188320" y="2127960"/>
                <a:ext cx="0" cy="3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258880" y="2127960"/>
                <a:ext cx="0" cy="3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 flipV="1">
              <a:off x="5748120" y="2264040"/>
              <a:ext cx="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55280" y="2277720"/>
              <a:ext cx="49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43040" y="2277720"/>
              <a:ext cx="0" cy="85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18000" y="172872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076720" y="1727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560" y="2649600"/>
              <a:ext cx="5616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748120" y="2672640"/>
              <a:ext cx="52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215520" y="17600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6" name=""/>
                <p:cNvSpPr txBox="1"/>
                <p:nvPr/>
              </p:nvSpPr>
              <p:spPr>
                <a:xfrm>
                  <a:off x="1487520" y="2003400"/>
                  <a:ext cx="1681200" cy="10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β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Y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57" name=""/>
            <p:cNvSpPr/>
            <p:nvPr/>
          </p:nvSpPr>
          <p:spPr>
            <a:xfrm>
              <a:off x="3730320" y="32972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602040" y="4044960"/>
              <a:ext cx="174600" cy="18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242040" y="4126320"/>
              <a:ext cx="5616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4746600" y="2022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068560" y="4254480"/>
                <a:ext cx="4992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99960" y="1665360"/>
            <a:ext cx="3389400" cy="2245320"/>
            <a:chOff x="1299960" y="1665360"/>
            <a:chExt cx="3389400" cy="2245320"/>
          </a:xfrm>
        </p:grpSpPr>
        <p:grpSp>
          <p:nvGrpSpPr>
            <p:cNvPr id="1164" name=""/>
            <p:cNvGrpSpPr/>
            <p:nvPr/>
          </p:nvGrpSpPr>
          <p:grpSpPr>
            <a:xfrm>
              <a:off x="1299960" y="1665360"/>
              <a:ext cx="3389400" cy="2245320"/>
              <a:chOff x="1299960" y="1665360"/>
              <a:chExt cx="3389400" cy="2245320"/>
            </a:xfrm>
          </p:grpSpPr>
          <p:grpSp>
            <p:nvGrpSpPr>
              <p:cNvPr id="1165" name=""/>
              <p:cNvGrpSpPr/>
              <p:nvPr/>
            </p:nvGrpSpPr>
            <p:grpSpPr>
              <a:xfrm>
                <a:off x="1299960" y="1665360"/>
                <a:ext cx="3389400" cy="2245320"/>
                <a:chOff x="1299960" y="1665360"/>
                <a:chExt cx="3389400" cy="2245320"/>
              </a:xfrm>
            </p:grpSpPr>
            <p:sp>
              <p:nvSpPr>
                <p:cNvPr id="1166" name=""/>
                <p:cNvSpPr/>
                <p:nvPr/>
              </p:nvSpPr>
              <p:spPr>
                <a:xfrm flipV="1">
                  <a:off x="1992240" y="1852200"/>
                  <a:ext cx="0" cy="162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1903320" y="3370320"/>
                  <a:ext cx="269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1992240" y="2293920"/>
                  <a:ext cx="2009520" cy="776160"/>
                </a:xfrm>
                <a:custGeom>
                  <a:avLst/>
                  <a:gdLst/>
                  <a:ahLst/>
                  <a:rect l="l" t="t" r="r" b="b"/>
                  <a:pathLst>
                    <a:path w="1266" h="489">
                      <a:moveTo>
                        <a:pt x="0" y="489"/>
                      </a:moveTo>
                      <a:lnTo>
                        <a:pt x="311" y="489"/>
                      </a:lnTo>
                      <a:lnTo>
                        <a:pt x="578" y="0"/>
                      </a:lnTo>
                      <a:lnTo>
                        <a:pt x="1266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145960" y="1665360"/>
                  <a:ext cx="7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|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f)|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406400" y="294156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1299960" y="2835360"/>
                  <a:ext cx="71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1407960" y="206064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1920240" y="2311560"/>
                  <a:ext cx="90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231640" y="3400560"/>
                  <a:ext cx="86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5" name=""/>
              <p:cNvSpPr/>
              <p:nvPr/>
            </p:nvSpPr>
            <p:spPr>
              <a:xfrm>
                <a:off x="2481120" y="3036960"/>
                <a:ext cx="0" cy="37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909880" y="2303640"/>
                <a:ext cx="0" cy="11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2039760" y="2278080"/>
              <a:ext cx="1571760" cy="79524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4902120" y="1636560"/>
            <a:ext cx="3249720" cy="2239200"/>
            <a:chOff x="4902120" y="1636560"/>
            <a:chExt cx="3249720" cy="2239200"/>
          </a:xfrm>
        </p:grpSpPr>
        <p:sp>
          <p:nvSpPr>
            <p:cNvPr id="1179" name=""/>
            <p:cNvSpPr/>
            <p:nvPr/>
          </p:nvSpPr>
          <p:spPr>
            <a:xfrm flipV="1">
              <a:off x="5454720" y="1817280"/>
              <a:ext cx="0" cy="16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365800" y="333540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5454720" y="2259000"/>
              <a:ext cx="2009880" cy="776160"/>
            </a:xfrm>
            <a:custGeom>
              <a:avLst/>
              <a:gdLst/>
              <a:ahLst/>
              <a:rect l="l" t="t" r="r" b="b"/>
              <a:pathLst>
                <a:path w="1266" h="489">
                  <a:moveTo>
                    <a:pt x="0" y="489"/>
                  </a:moveTo>
                  <a:lnTo>
                    <a:pt x="311" y="489"/>
                  </a:lnTo>
                  <a:lnTo>
                    <a:pt x="578" y="0"/>
                  </a:lnTo>
                  <a:lnTo>
                    <a:pt x="12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616360" y="1636560"/>
              <a:ext cx="92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)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868880" y="2906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902120" y="2800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5487480" y="301608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94120" y="3365640"/>
              <a:ext cx="8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18040" y="2268360"/>
              <a:ext cx="0" cy="1095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56520" y="30020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5477040" y="2252520"/>
              <a:ext cx="1571400" cy="79560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28480" y="2800440"/>
                <a:ext cx="6858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422280" y="2054160"/>
                <a:ext cx="1050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167652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50532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286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2286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1956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62940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79240" y="1828800"/>
            <a:ext cx="11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7000" y="17524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441972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676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1194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1198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1202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1207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1210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1214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1219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16765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35053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2286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74284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244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93432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31160" y="1752480"/>
            <a:ext cx="132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1200" y="17524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100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6765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34340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19051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37339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251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81916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4004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010280" y="2590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2590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36440" y="19810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8240" y="19810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4572000"/>
            <a:ext cx="198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układów z ujemnym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37960" y="1905120"/>
            <a:ext cx="73512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Zmniejsza wzmocnienie u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Maleje współczynnik zawartości harmonicz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Poprawia się stałość punktów pracy - sprzężenie dla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Zmniejsza wraż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Zwiększa się pasmo przenosze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Zmienia się impedancja wejściowa i wyjści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Wpływa na stabilność u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002040" y="1130400"/>
                <a:ext cx="25146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2362320" y="41148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038480" y="2895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8720" y="4133880"/>
            <a:ext cx="1130400" cy="8380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996720" y="3298680"/>
            <a:ext cx="1252440" cy="87336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400" y="4100400"/>
            <a:ext cx="3495960" cy="9082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4014720" y="3220200"/>
            <a:ext cx="3495600" cy="9082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53360" y="37162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24520" y="246528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5200" y="2239920"/>
            <a:ext cx="3157560" cy="917640"/>
          </a:xfrm>
          <a:prstGeom prst="wedgeRectCallout">
            <a:avLst>
              <a:gd name="adj1" fmla="val 65736"/>
              <a:gd name="adj2" fmla="val 11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=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99160" y="4657680"/>
            <a:ext cx="2628720" cy="774720"/>
          </a:xfrm>
          <a:prstGeom prst="wedgeRectCallout">
            <a:avLst>
              <a:gd name="adj1" fmla="val -59180"/>
              <a:gd name="adj2" fmla="val -180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=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329724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97320" y="327348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576756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4520" y="6010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kres liniowej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1305000"/>
            <a:ext cx="7480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961920"/>
            <a:ext cx="8718480" cy="5558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75120" y="288756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38760" y="405144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32640" y="3562200"/>
            <a:ext cx="2734920" cy="1006560"/>
          </a:xfrm>
          <a:prstGeom prst="wedgeRectCallout">
            <a:avLst>
              <a:gd name="adj1" fmla="val -46226"/>
              <a:gd name="adj2" fmla="val -1086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kty pracy dla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8:45:18Z</dcterms:created>
  <dc:creator>Agnieszka Kukawczynska</dc:creator>
  <dc:description/>
  <dc:language>en-US</dc:language>
  <cp:lastModifiedBy>MK</cp:lastModifiedBy>
  <dcterms:modified xsi:type="dcterms:W3CDTF">2003-11-24T06:27:21Z</dcterms:modified>
  <cp:revision>111</cp:revision>
  <dc:subject/>
  <dc:title>Sprzężenie zwrotne</dc:title>
</cp:coreProperties>
</file>