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A05C-D147-4547-9B02-E8DA90413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5021-ED8A-40F9-914E-30628C7F9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3499-FA11-412A-9099-B738C9440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6043-362B-4D2E-B2D6-43831D895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97C1-BBBC-47D0-BC3E-5B8456FCA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30B1-40F1-45AD-B1C2-E48A658F7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59E3-AE3E-43E2-A114-B1FD89735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DA50-7421-4ED8-B529-E65E03DA0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E5E2-AF09-475B-AEA7-1BCC8FB01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E42D-D3A5-47F3-B045-B9B992073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082A-7C08-4947-A098-153FE2702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A39D-C62D-4478-9A84-F9AEF343C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19ECE-23C9-4C15-9162-468C34F169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BILIZATORY NAPIĘĆ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DZIAŁANIU CIĄGŁY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"/>
          <p:cNvSpPr/>
          <p:nvPr/>
        </p:nvSpPr>
        <p:spPr>
          <a:xfrm>
            <a:off x="3949560" y="601560"/>
            <a:ext cx="231840" cy="1922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ILIZATOR PARAMETRYCZ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 TRANZYSTOR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1415880" y="1862280"/>
            <a:ext cx="2859840" cy="2314440"/>
            <a:chOff x="1415880" y="1862280"/>
            <a:chExt cx="2859840" cy="2314440"/>
          </a:xfrm>
        </p:grpSpPr>
        <p:sp>
          <p:nvSpPr>
            <p:cNvPr id="666" name=""/>
            <p:cNvSpPr/>
            <p:nvPr/>
          </p:nvSpPr>
          <p:spPr>
            <a:xfrm>
              <a:off x="2509920" y="3036960"/>
              <a:ext cx="495360" cy="1778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 flipH="1">
              <a:off x="2982960" y="3122640"/>
              <a:ext cx="20304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 flipH="1">
              <a:off x="2274840" y="3122640"/>
              <a:ext cx="24120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2549520" y="3271680"/>
              <a:ext cx="349200" cy="382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2634840" y="331632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922480" y="2228760"/>
              <a:ext cx="555840" cy="530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3043080" y="2592360"/>
              <a:ext cx="308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 flipV="1">
              <a:off x="2987280" y="2313000"/>
              <a:ext cx="127080" cy="262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4" name=""/>
            <p:cNvGrpSpPr/>
            <p:nvPr/>
          </p:nvGrpSpPr>
          <p:grpSpPr>
            <a:xfrm>
              <a:off x="3240000" y="2406240"/>
              <a:ext cx="117360" cy="168120"/>
              <a:chOff x="3240000" y="2406240"/>
              <a:chExt cx="117360" cy="168120"/>
            </a:xfrm>
          </p:grpSpPr>
          <p:sp>
            <p:nvSpPr>
              <p:cNvPr id="675" name=""/>
              <p:cNvSpPr/>
              <p:nvPr/>
            </p:nvSpPr>
            <p:spPr>
              <a:xfrm flipV="1">
                <a:off x="3262680" y="2406240"/>
                <a:ext cx="88560" cy="168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3240000" y="2406600"/>
                <a:ext cx="117360" cy="130320"/>
              </a:xfrm>
              <a:custGeom>
                <a:avLst/>
                <a:gdLst/>
                <a:ahLst/>
                <a:rect l="l" t="t" r="r" b="b"/>
                <a:pathLst>
                  <a:path w="41" h="48">
                    <a:moveTo>
                      <a:pt x="41" y="48"/>
                    </a:moveTo>
                    <a:lnTo>
                      <a:pt x="39" y="0"/>
                    </a:lnTo>
                    <a:lnTo>
                      <a:pt x="0" y="29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7" name=""/>
            <p:cNvSpPr/>
            <p:nvPr/>
          </p:nvSpPr>
          <p:spPr>
            <a:xfrm flipV="1">
              <a:off x="3351240" y="2312640"/>
              <a:ext cx="55440" cy="9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3203640" y="2592360"/>
              <a:ext cx="4680" cy="160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"/>
            <p:cNvGrpSpPr/>
            <p:nvPr/>
          </p:nvGrpSpPr>
          <p:grpSpPr>
            <a:xfrm>
              <a:off x="3400560" y="2255760"/>
              <a:ext cx="286920" cy="109080"/>
              <a:chOff x="3400560" y="2255760"/>
              <a:chExt cx="286920" cy="109080"/>
            </a:xfrm>
          </p:grpSpPr>
          <p:sp>
            <p:nvSpPr>
              <p:cNvPr id="680" name=""/>
              <p:cNvSpPr/>
              <p:nvPr/>
            </p:nvSpPr>
            <p:spPr>
              <a:xfrm flipV="1">
                <a:off x="3400560" y="2306880"/>
                <a:ext cx="286920" cy="5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3572280" y="2255760"/>
                <a:ext cx="114840" cy="109080"/>
              </a:xfrm>
              <a:custGeom>
                <a:avLst/>
                <a:gdLst/>
                <a:ahLst/>
                <a:rect l="l" t="t" r="r" b="b"/>
                <a:pathLst>
                  <a:path w="40" h="40">
                    <a:moveTo>
                      <a:pt x="0" y="40"/>
                    </a:moveTo>
                    <a:lnTo>
                      <a:pt x="40" y="19"/>
                    </a:lnTo>
                    <a:lnTo>
                      <a:pt x="0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2" name=""/>
            <p:cNvSpPr/>
            <p:nvPr/>
          </p:nvSpPr>
          <p:spPr>
            <a:xfrm flipH="1">
              <a:off x="2784240" y="2308320"/>
              <a:ext cx="19836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 flipV="1">
              <a:off x="3203640" y="2747520"/>
              <a:ext cx="4680" cy="1875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4" name=""/>
            <p:cNvGrpSpPr/>
            <p:nvPr/>
          </p:nvGrpSpPr>
          <p:grpSpPr>
            <a:xfrm>
              <a:off x="3143160" y="3124080"/>
              <a:ext cx="114120" cy="233280"/>
              <a:chOff x="3143160" y="3124080"/>
              <a:chExt cx="114120" cy="233280"/>
            </a:xfrm>
          </p:grpSpPr>
          <p:sp>
            <p:nvSpPr>
              <p:cNvPr id="685" name=""/>
              <p:cNvSpPr/>
              <p:nvPr/>
            </p:nvSpPr>
            <p:spPr>
              <a:xfrm>
                <a:off x="3203280" y="3124080"/>
                <a:ext cx="2520" cy="2332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3143160" y="3247200"/>
                <a:ext cx="114120" cy="109800"/>
              </a:xfrm>
              <a:custGeom>
                <a:avLst/>
                <a:gdLst/>
                <a:ahLst/>
                <a:rect l="l" t="t" r="r" b="b"/>
                <a:pathLst>
                  <a:path w="40" h="40">
                    <a:moveTo>
                      <a:pt x="0" y="0"/>
                    </a:moveTo>
                    <a:lnTo>
                      <a:pt x="21" y="40"/>
                    </a:lnTo>
                    <a:lnTo>
                      <a:pt x="40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7" name=""/>
            <p:cNvGrpSpPr/>
            <p:nvPr/>
          </p:nvGrpSpPr>
          <p:grpSpPr>
            <a:xfrm>
              <a:off x="3147840" y="2895480"/>
              <a:ext cx="115560" cy="228240"/>
              <a:chOff x="3147840" y="2895480"/>
              <a:chExt cx="115560" cy="228240"/>
            </a:xfrm>
          </p:grpSpPr>
          <p:sp>
            <p:nvSpPr>
              <p:cNvPr id="688" name=""/>
              <p:cNvSpPr/>
              <p:nvPr/>
            </p:nvSpPr>
            <p:spPr>
              <a:xfrm flipV="1">
                <a:off x="3202920" y="2895480"/>
                <a:ext cx="2520" cy="228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3147840" y="2895480"/>
                <a:ext cx="115560" cy="108720"/>
              </a:xfrm>
              <a:custGeom>
                <a:avLst/>
                <a:gdLst/>
                <a:ahLst/>
                <a:rect l="l" t="t" r="r" b="b"/>
                <a:pathLst>
                  <a:path w="40" h="40">
                    <a:moveTo>
                      <a:pt x="40" y="40"/>
                    </a:moveTo>
                    <a:lnTo>
                      <a:pt x="19" y="0"/>
                    </a:lnTo>
                    <a:lnTo>
                      <a:pt x="0" y="4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0" name=""/>
            <p:cNvGrpSpPr/>
            <p:nvPr/>
          </p:nvGrpSpPr>
          <p:grpSpPr>
            <a:xfrm>
              <a:off x="3083040" y="3533760"/>
              <a:ext cx="255960" cy="146520"/>
              <a:chOff x="3083040" y="3533760"/>
              <a:chExt cx="255960" cy="146520"/>
            </a:xfrm>
          </p:grpSpPr>
          <p:grpSp>
            <p:nvGrpSpPr>
              <p:cNvPr id="691" name=""/>
              <p:cNvGrpSpPr/>
              <p:nvPr/>
            </p:nvGrpSpPr>
            <p:grpSpPr>
              <a:xfrm>
                <a:off x="3083040" y="3533760"/>
                <a:ext cx="255960" cy="146520"/>
                <a:chOff x="3083040" y="3533760"/>
                <a:chExt cx="255960" cy="146520"/>
              </a:xfrm>
            </p:grpSpPr>
            <p:sp>
              <p:nvSpPr>
                <p:cNvPr id="692" name=""/>
                <p:cNvSpPr/>
                <p:nvPr/>
              </p:nvSpPr>
              <p:spPr>
                <a:xfrm>
                  <a:off x="3083040" y="3664440"/>
                  <a:ext cx="225360" cy="2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 flipV="1">
                  <a:off x="3100320" y="3549960"/>
                  <a:ext cx="102600" cy="100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4" name=""/>
                <p:cNvSpPr/>
                <p:nvPr/>
              </p:nvSpPr>
              <p:spPr>
                <a:xfrm>
                  <a:off x="3202920" y="3550320"/>
                  <a:ext cx="136080" cy="129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>
                  <a:off x="3100320" y="3533760"/>
                  <a:ext cx="222120" cy="2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96" name=""/>
              <p:cNvSpPr/>
              <p:nvPr/>
            </p:nvSpPr>
            <p:spPr>
              <a:xfrm>
                <a:off x="3291120" y="3533760"/>
                <a:ext cx="31680" cy="51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7" name=""/>
            <p:cNvSpPr/>
            <p:nvPr/>
          </p:nvSpPr>
          <p:spPr>
            <a:xfrm>
              <a:off x="3203640" y="3373560"/>
              <a:ext cx="1440" cy="1778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8" name=""/>
            <p:cNvGrpSpPr/>
            <p:nvPr/>
          </p:nvGrpSpPr>
          <p:grpSpPr>
            <a:xfrm>
              <a:off x="2036880" y="2255760"/>
              <a:ext cx="807480" cy="109080"/>
              <a:chOff x="2036880" y="2255760"/>
              <a:chExt cx="807480" cy="109080"/>
            </a:xfrm>
          </p:grpSpPr>
          <p:sp>
            <p:nvSpPr>
              <p:cNvPr id="699" name=""/>
              <p:cNvSpPr/>
              <p:nvPr/>
            </p:nvSpPr>
            <p:spPr>
              <a:xfrm>
                <a:off x="2036880" y="2307240"/>
                <a:ext cx="807480" cy="2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2729880" y="2255760"/>
                <a:ext cx="114120" cy="109080"/>
              </a:xfrm>
              <a:custGeom>
                <a:avLst/>
                <a:gdLst/>
                <a:ahLst/>
                <a:rect l="l" t="t" r="r" b="b"/>
                <a:pathLst>
                  <a:path w="40" h="40">
                    <a:moveTo>
                      <a:pt x="0" y="40"/>
                    </a:moveTo>
                    <a:lnTo>
                      <a:pt x="40" y="19"/>
                    </a:lnTo>
                    <a:lnTo>
                      <a:pt x="0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1" name=""/>
            <p:cNvSpPr/>
            <p:nvPr/>
          </p:nvSpPr>
          <p:spPr>
            <a:xfrm>
              <a:off x="2289240" y="2308320"/>
              <a:ext cx="6120" cy="8157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2" name=""/>
            <p:cNvGrpSpPr/>
            <p:nvPr/>
          </p:nvGrpSpPr>
          <p:grpSpPr>
            <a:xfrm>
              <a:off x="1828800" y="2255760"/>
              <a:ext cx="239400" cy="109080"/>
              <a:chOff x="1828800" y="2255760"/>
              <a:chExt cx="239400" cy="109080"/>
            </a:xfrm>
          </p:grpSpPr>
          <p:sp>
            <p:nvSpPr>
              <p:cNvPr id="703" name=""/>
              <p:cNvSpPr/>
              <p:nvPr/>
            </p:nvSpPr>
            <p:spPr>
              <a:xfrm>
                <a:off x="1828800" y="2307240"/>
                <a:ext cx="239400" cy="2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1954080" y="2255760"/>
                <a:ext cx="113760" cy="109080"/>
              </a:xfrm>
              <a:custGeom>
                <a:avLst/>
                <a:gdLst/>
                <a:ahLst/>
                <a:rect l="l" t="t" r="r" b="b"/>
                <a:pathLst>
                  <a:path w="40" h="40">
                    <a:moveTo>
                      <a:pt x="0" y="40"/>
                    </a:moveTo>
                    <a:lnTo>
                      <a:pt x="40" y="19"/>
                    </a:lnTo>
                    <a:lnTo>
                      <a:pt x="0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5" name=""/>
            <p:cNvSpPr/>
            <p:nvPr/>
          </p:nvSpPr>
          <p:spPr>
            <a:xfrm>
              <a:off x="3203640" y="3681360"/>
              <a:ext cx="1440" cy="4795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 flipH="1">
              <a:off x="1828800" y="4143240"/>
              <a:ext cx="2062080" cy="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H="1">
              <a:off x="3674880" y="2313000"/>
              <a:ext cx="191880" cy="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8" name=""/>
            <p:cNvGrpSpPr/>
            <p:nvPr/>
          </p:nvGrpSpPr>
          <p:grpSpPr>
            <a:xfrm>
              <a:off x="3882960" y="2484360"/>
              <a:ext cx="114120" cy="1498320"/>
              <a:chOff x="3882960" y="2484360"/>
              <a:chExt cx="114120" cy="1498320"/>
            </a:xfrm>
          </p:grpSpPr>
          <p:sp>
            <p:nvSpPr>
              <p:cNvPr id="709" name=""/>
              <p:cNvSpPr/>
              <p:nvPr/>
            </p:nvSpPr>
            <p:spPr>
              <a:xfrm flipV="1">
                <a:off x="3936600" y="2484360"/>
                <a:ext cx="3240" cy="14983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882960" y="2484360"/>
                <a:ext cx="114120" cy="109080"/>
              </a:xfrm>
              <a:custGeom>
                <a:avLst/>
                <a:gdLst/>
                <a:ahLst/>
                <a:rect l="l" t="t" r="r" b="b"/>
                <a:pathLst>
                  <a:path w="40" h="40">
                    <a:moveTo>
                      <a:pt x="40" y="40"/>
                    </a:moveTo>
                    <a:lnTo>
                      <a:pt x="19" y="0"/>
                    </a:lnTo>
                    <a:lnTo>
                      <a:pt x="0" y="4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1" name=""/>
            <p:cNvGrpSpPr/>
            <p:nvPr/>
          </p:nvGrpSpPr>
          <p:grpSpPr>
            <a:xfrm>
              <a:off x="1773360" y="2455560"/>
              <a:ext cx="115560" cy="1488600"/>
              <a:chOff x="1773360" y="2455560"/>
              <a:chExt cx="115560" cy="1488600"/>
            </a:xfrm>
          </p:grpSpPr>
          <p:sp>
            <p:nvSpPr>
              <p:cNvPr id="712" name=""/>
              <p:cNvSpPr/>
              <p:nvPr/>
            </p:nvSpPr>
            <p:spPr>
              <a:xfrm flipV="1">
                <a:off x="1828080" y="2455560"/>
                <a:ext cx="2520" cy="1488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773360" y="2455920"/>
                <a:ext cx="115560" cy="109440"/>
              </a:xfrm>
              <a:custGeom>
                <a:avLst/>
                <a:gdLst/>
                <a:ahLst/>
                <a:rect l="l" t="t" r="r" b="b"/>
                <a:pathLst>
                  <a:path w="40" h="40">
                    <a:moveTo>
                      <a:pt x="40" y="40"/>
                    </a:moveTo>
                    <a:lnTo>
                      <a:pt x="19" y="0"/>
                    </a:lnTo>
                    <a:lnTo>
                      <a:pt x="0" y="4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4" name=""/>
            <p:cNvSpPr/>
            <p:nvPr/>
          </p:nvSpPr>
          <p:spPr>
            <a:xfrm>
              <a:off x="3160800" y="3094200"/>
              <a:ext cx="75960" cy="6336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160800" y="4108320"/>
              <a:ext cx="75960" cy="6840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2252520" y="2268360"/>
              <a:ext cx="71640" cy="7020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1785960" y="4108320"/>
              <a:ext cx="74520" cy="684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1785960" y="2268360"/>
              <a:ext cx="74520" cy="702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3848040" y="4108320"/>
              <a:ext cx="76320" cy="684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3830760" y="2268360"/>
              <a:ext cx="75960" cy="702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860480" y="1862280"/>
              <a:ext cx="352440" cy="3664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953720" y="189720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002680" y="20019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2498760" y="1862280"/>
              <a:ext cx="352440" cy="3664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2580840" y="189720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2611440" y="199224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3411360" y="1862280"/>
              <a:ext cx="659160" cy="3664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3500280" y="189720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3578040" y="200196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670200" y="1897200"/>
              <a:ext cx="128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=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806280" y="199224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3322800" y="2747880"/>
              <a:ext cx="352440" cy="3682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3406320" y="278604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3425400" y="288936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3322800" y="3141720"/>
              <a:ext cx="352440" cy="3682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400200" y="317988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440160" y="326376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1415880" y="3009960"/>
              <a:ext cx="352440" cy="3682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1465200" y="304812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1553760" y="31320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1" name=""/>
            <p:cNvGrpSpPr/>
            <p:nvPr/>
          </p:nvGrpSpPr>
          <p:grpSpPr>
            <a:xfrm>
              <a:off x="4111560" y="3106800"/>
              <a:ext cx="164160" cy="228600"/>
              <a:chOff x="4111560" y="3106800"/>
              <a:chExt cx="164160" cy="228600"/>
            </a:xfrm>
          </p:grpSpPr>
          <p:sp>
            <p:nvSpPr>
              <p:cNvPr id="742" name=""/>
              <p:cNvSpPr/>
              <p:nvPr/>
            </p:nvSpPr>
            <p:spPr>
              <a:xfrm>
                <a:off x="4111560" y="310680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4210920" y="318276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4" name=""/>
            <p:cNvSpPr/>
            <p:nvPr/>
          </p:nvSpPr>
          <p:spPr>
            <a:xfrm>
              <a:off x="2687760" y="3699000"/>
              <a:ext cx="473040" cy="3492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766960" y="3733920"/>
              <a:ext cx="16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DZ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3397320" y="3541680"/>
              <a:ext cx="4046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00"/>
                  </a:solidFill>
                  <a:latin typeface="Times New Roman"/>
                </a:rPr>
                <a:t>U</a:t>
              </a:r>
              <a:r>
                <a:rPr b="0" lang="en-US" sz="1600" spc="-1" strike="noStrike" baseline="-25000">
                  <a:solidFill>
                    <a:srgbClr val="0099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 flipV="1">
              <a:off x="3416400" y="3454560"/>
              <a:ext cx="0" cy="457200"/>
            </a:xfrm>
            <a:prstGeom prst="line">
              <a:avLst/>
            </a:prstGeom>
            <a:ln w="936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 flipH="1">
              <a:off x="3339720" y="2476440"/>
              <a:ext cx="343080" cy="3366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3513960" y="2562120"/>
              <a:ext cx="36504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cc"/>
                  </a:solidFill>
                  <a:latin typeface="Times New Roman"/>
                </a:rPr>
                <a:t>U</a:t>
              </a:r>
              <a:r>
                <a:rPr b="0" lang="en-US" sz="1000" spc="-1" strike="noStrike" baseline="-25000">
                  <a:solidFill>
                    <a:srgbClr val="3333cc"/>
                  </a:solidFill>
                  <a:latin typeface="Times New Roman"/>
                </a:rPr>
                <a:t>B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0" name=""/>
          <p:cNvGrpSpPr/>
          <p:nvPr/>
        </p:nvGrpSpPr>
        <p:grpSpPr>
          <a:xfrm>
            <a:off x="4834080" y="1217520"/>
            <a:ext cx="3243240" cy="5100840"/>
            <a:chOff x="4834080" y="1217520"/>
            <a:chExt cx="3243240" cy="5100840"/>
          </a:xfrm>
        </p:grpSpPr>
        <p:grpSp>
          <p:nvGrpSpPr>
            <p:cNvPr id="751" name=""/>
            <p:cNvGrpSpPr/>
            <p:nvPr/>
          </p:nvGrpSpPr>
          <p:grpSpPr>
            <a:xfrm>
              <a:off x="6554880" y="3476520"/>
              <a:ext cx="457200" cy="417600"/>
              <a:chOff x="6554880" y="3476520"/>
              <a:chExt cx="457200" cy="417600"/>
            </a:xfrm>
          </p:grpSpPr>
          <p:sp>
            <p:nvSpPr>
              <p:cNvPr id="752" name=""/>
              <p:cNvSpPr/>
              <p:nvPr/>
            </p:nvSpPr>
            <p:spPr>
              <a:xfrm>
                <a:off x="6558120" y="3479760"/>
                <a:ext cx="450720" cy="412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6554880" y="347976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6554880" y="3492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6554880" y="350532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6554880" y="35164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6554880" y="352908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6554880" y="354168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6554880" y="355284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6554880" y="356544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6554880" y="357840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6554880" y="358956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6554880" y="360216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6554880" y="361476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6554880" y="36259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6554880" y="36385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6554880" y="36514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6554880" y="366408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6554880" y="367524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6554880" y="368784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6554880" y="3700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6554880" y="37116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6554880" y="37242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6554880" y="373716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554880" y="37483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554880" y="37609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6554880" y="377352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6554880" y="378468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6554880" y="379728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6554880" y="381024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6554880" y="382104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6554880" y="383400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6554880" y="38466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6554880" y="385776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6554880" y="387036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6554880" y="388296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6561360" y="388944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6573960" y="388944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6585120" y="388944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659772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661032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662148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663408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6647040" y="388944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6659640" y="3889440"/>
                <a:ext cx="46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6670800" y="388944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668340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6696000" y="3889440"/>
                <a:ext cx="504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670716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671976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732720" y="3889440"/>
                <a:ext cx="46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6743880" y="388944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675648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676908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678024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679284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6805800" y="388944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681660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6829560" y="388944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84216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685332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686592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87852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688968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6902640" y="388944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691524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6927840" y="3889440"/>
                <a:ext cx="46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693900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695160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6964560" y="3889440"/>
                <a:ext cx="46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697536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6988320" y="388944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7000920" y="3889440"/>
                <a:ext cx="46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7005600" y="388296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7005600" y="387036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7005600" y="385776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7005600" y="38466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7005600" y="383400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7005600" y="382104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005600" y="381024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7005600" y="379728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7005600" y="378468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7005600" y="377352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7005600" y="37609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7005600" y="37483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05600" y="373716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7005600" y="37242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005600" y="37116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7005600" y="3700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7005600" y="368784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7005600" y="367524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7005600" y="366408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7005600" y="36514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005600" y="36385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7005600" y="36259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7005600" y="361476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7005600" y="360216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005600" y="358956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7005600" y="357840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7005600" y="356544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7005600" y="355284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7005600" y="354168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7005600" y="352908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7005600" y="35164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7005600" y="350532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7005600" y="3492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7005600" y="347976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6997680" y="34765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6985080" y="34765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6972480" y="347652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6961320" y="3476520"/>
                <a:ext cx="46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6948360" y="34765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6935760" y="34765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6924600" y="3476520"/>
                <a:ext cx="504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6912000" y="34765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6899400" y="347652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6888240" y="3476520"/>
                <a:ext cx="46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6875640" y="347652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6862680" y="34765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6851520" y="3476520"/>
                <a:ext cx="504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6838920" y="34765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6826320" y="34765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6813720" y="347652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6802560" y="347652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6789960" y="347652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6777000" y="34765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6765840" y="34765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6753240" y="34765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6740640" y="347652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6729480" y="34765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6716880" y="347652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6703920" y="34765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6693120" y="3476520"/>
                <a:ext cx="46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6680160" y="34765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6667560" y="34765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6656400" y="3476520"/>
                <a:ext cx="46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6643800" y="347652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6631200" y="347652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6620040" y="3476520"/>
                <a:ext cx="46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6607080" y="34765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6594480" y="34765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6583320" y="3476520"/>
                <a:ext cx="46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6570720" y="34765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6558120" y="347652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5" name=""/>
            <p:cNvGrpSpPr/>
            <p:nvPr/>
          </p:nvGrpSpPr>
          <p:grpSpPr>
            <a:xfrm>
              <a:off x="6732720" y="3529080"/>
              <a:ext cx="426240" cy="404640"/>
              <a:chOff x="6732720" y="3529080"/>
              <a:chExt cx="426240" cy="404640"/>
            </a:xfrm>
          </p:grpSpPr>
          <p:sp>
            <p:nvSpPr>
              <p:cNvPr id="896" name=""/>
              <p:cNvSpPr/>
              <p:nvPr/>
            </p:nvSpPr>
            <p:spPr>
              <a:xfrm>
                <a:off x="6732720" y="3722400"/>
                <a:ext cx="3585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6748200" y="352908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6804720" y="3593880"/>
                <a:ext cx="1288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2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6835320" y="378108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7004880" y="371628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6906600" y="3593880"/>
                <a:ext cx="252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ma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6767280" y="370044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6921000" y="3700440"/>
                <a:ext cx="72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04" name=""/>
            <p:cNvSpPr/>
            <p:nvPr/>
          </p:nvSpPr>
          <p:spPr>
            <a:xfrm>
              <a:off x="6648480" y="5727600"/>
              <a:ext cx="325440" cy="195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6665760" y="575136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6741720" y="5813280"/>
              <a:ext cx="19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t0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6870600" y="5813280"/>
              <a:ext cx="12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Times New Roman"/>
                </a:rPr>
                <a:t>a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08" name=""/>
            <p:cNvGrpSpPr/>
            <p:nvPr/>
          </p:nvGrpSpPr>
          <p:grpSpPr>
            <a:xfrm>
              <a:off x="5618160" y="3610080"/>
              <a:ext cx="203400" cy="238320"/>
              <a:chOff x="5618160" y="3610080"/>
              <a:chExt cx="203400" cy="238320"/>
            </a:xfrm>
          </p:grpSpPr>
          <p:sp>
            <p:nvSpPr>
              <p:cNvPr id="909" name=""/>
              <p:cNvSpPr/>
              <p:nvPr/>
            </p:nvSpPr>
            <p:spPr>
              <a:xfrm>
                <a:off x="5618160" y="3610080"/>
                <a:ext cx="203400" cy="191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5666040" y="3635280"/>
                <a:ext cx="493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000" spc="-1" strike="noStrike">
                    <a:solidFill>
                      <a:srgbClr val="009900"/>
                    </a:solidFill>
                    <a:latin typeface="Times New Roman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5708880" y="369576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000" spc="-1" strike="noStrike">
                    <a:solidFill>
                      <a:srgbClr val="009900"/>
                    </a:solidFill>
                    <a:latin typeface="Times New Roman"/>
                  </a:rPr>
                  <a:t>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2" name=""/>
            <p:cNvGrpSpPr/>
            <p:nvPr/>
          </p:nvGrpSpPr>
          <p:grpSpPr>
            <a:xfrm>
              <a:off x="5657760" y="4017960"/>
              <a:ext cx="204840" cy="238320"/>
              <a:chOff x="5657760" y="4017960"/>
              <a:chExt cx="204840" cy="238320"/>
            </a:xfrm>
          </p:grpSpPr>
          <p:sp>
            <p:nvSpPr>
              <p:cNvPr id="913" name=""/>
              <p:cNvSpPr/>
              <p:nvPr/>
            </p:nvSpPr>
            <p:spPr>
              <a:xfrm>
                <a:off x="5657760" y="4017960"/>
                <a:ext cx="204840" cy="195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5713200" y="4043160"/>
                <a:ext cx="493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000" spc="-1" strike="noStrike">
                    <a:solidFill>
                      <a:srgbClr val="0000ff"/>
                    </a:solidFill>
                    <a:latin typeface="Times New Roman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5756040" y="410364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000" spc="-1" strike="noStrike">
                    <a:solidFill>
                      <a:srgbClr val="0000ff"/>
                    </a:solidFill>
                    <a:latin typeface="Times New Roman"/>
                  </a:rPr>
                  <a:t>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6" name=""/>
            <p:cNvGrpSpPr/>
            <p:nvPr/>
          </p:nvGrpSpPr>
          <p:grpSpPr>
            <a:xfrm>
              <a:off x="5214960" y="1306440"/>
              <a:ext cx="63360" cy="1381320"/>
              <a:chOff x="5214960" y="1306440"/>
              <a:chExt cx="63360" cy="1381320"/>
            </a:xfrm>
          </p:grpSpPr>
          <p:sp>
            <p:nvSpPr>
              <p:cNvPr id="917" name=""/>
              <p:cNvSpPr/>
              <p:nvPr/>
            </p:nvSpPr>
            <p:spPr>
              <a:xfrm>
                <a:off x="5244840" y="1363680"/>
                <a:ext cx="3240" cy="1324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5214960" y="1306440"/>
                <a:ext cx="63360" cy="63720"/>
              </a:xfrm>
              <a:custGeom>
                <a:avLst/>
                <a:gdLst/>
                <a:ahLst/>
                <a:rect l="l" t="t" r="r" b="b"/>
                <a:pathLst>
                  <a:path w="40" h="40">
                    <a:moveTo>
                      <a:pt x="40" y="40"/>
                    </a:moveTo>
                    <a:lnTo>
                      <a:pt x="19" y="0"/>
                    </a:lnTo>
                    <a:lnTo>
                      <a:pt x="0" y="40"/>
                    </a:lnTo>
                    <a:lnTo>
                      <a:pt x="40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9" name=""/>
            <p:cNvGrpSpPr/>
            <p:nvPr/>
          </p:nvGrpSpPr>
          <p:grpSpPr>
            <a:xfrm>
              <a:off x="5237280" y="2870280"/>
              <a:ext cx="63360" cy="1380960"/>
              <a:chOff x="5237280" y="2870280"/>
              <a:chExt cx="63360" cy="1380960"/>
            </a:xfrm>
          </p:grpSpPr>
          <p:sp>
            <p:nvSpPr>
              <p:cNvPr id="920" name=""/>
              <p:cNvSpPr/>
              <p:nvPr/>
            </p:nvSpPr>
            <p:spPr>
              <a:xfrm>
                <a:off x="5267160" y="2928960"/>
                <a:ext cx="1080" cy="13222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5237280" y="2870280"/>
                <a:ext cx="63360" cy="63360"/>
              </a:xfrm>
              <a:custGeom>
                <a:avLst/>
                <a:gdLst/>
                <a:ahLst/>
                <a:rect l="l" t="t" r="r" b="b"/>
                <a:pathLst>
                  <a:path w="40" h="40">
                    <a:moveTo>
                      <a:pt x="40" y="40"/>
                    </a:moveTo>
                    <a:lnTo>
                      <a:pt x="19" y="0"/>
                    </a:lnTo>
                    <a:lnTo>
                      <a:pt x="0" y="40"/>
                    </a:lnTo>
                    <a:lnTo>
                      <a:pt x="40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"/>
            <p:cNvGrpSpPr/>
            <p:nvPr/>
          </p:nvGrpSpPr>
          <p:grpSpPr>
            <a:xfrm>
              <a:off x="5260680" y="4214880"/>
              <a:ext cx="2816640" cy="63360"/>
              <a:chOff x="5260680" y="4214880"/>
              <a:chExt cx="2816640" cy="63360"/>
            </a:xfrm>
          </p:grpSpPr>
          <p:sp>
            <p:nvSpPr>
              <p:cNvPr id="923" name=""/>
              <p:cNvSpPr/>
              <p:nvPr/>
            </p:nvSpPr>
            <p:spPr>
              <a:xfrm flipH="1">
                <a:off x="5260680" y="4245120"/>
                <a:ext cx="27594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8013960" y="4214880"/>
                <a:ext cx="63360" cy="63360"/>
              </a:xfrm>
              <a:custGeom>
                <a:avLst/>
                <a:gdLst/>
                <a:ahLst/>
                <a:rect l="l" t="t" r="r" b="b"/>
                <a:pathLst>
                  <a:path w="40" h="40">
                    <a:moveTo>
                      <a:pt x="0" y="40"/>
                    </a:moveTo>
                    <a:lnTo>
                      <a:pt x="40" y="19"/>
                    </a:lnTo>
                    <a:lnTo>
                      <a:pt x="0" y="0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5" name=""/>
            <p:cNvGrpSpPr/>
            <p:nvPr/>
          </p:nvGrpSpPr>
          <p:grpSpPr>
            <a:xfrm>
              <a:off x="5237280" y="4651200"/>
              <a:ext cx="63360" cy="1380960"/>
              <a:chOff x="5237280" y="4651200"/>
              <a:chExt cx="63360" cy="1380960"/>
            </a:xfrm>
          </p:grpSpPr>
          <p:sp>
            <p:nvSpPr>
              <p:cNvPr id="926" name=""/>
              <p:cNvSpPr/>
              <p:nvPr/>
            </p:nvSpPr>
            <p:spPr>
              <a:xfrm>
                <a:off x="5267160" y="4708080"/>
                <a:ext cx="1080" cy="1324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5237280" y="4651200"/>
                <a:ext cx="63360" cy="63360"/>
              </a:xfrm>
              <a:custGeom>
                <a:avLst/>
                <a:gdLst/>
                <a:ahLst/>
                <a:rect l="l" t="t" r="r" b="b"/>
                <a:pathLst>
                  <a:path w="40" h="40">
                    <a:moveTo>
                      <a:pt x="40" y="40"/>
                    </a:moveTo>
                    <a:lnTo>
                      <a:pt x="19" y="0"/>
                    </a:lnTo>
                    <a:lnTo>
                      <a:pt x="0" y="40"/>
                    </a:lnTo>
                    <a:lnTo>
                      <a:pt x="40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8" name=""/>
            <p:cNvGrpSpPr/>
            <p:nvPr/>
          </p:nvGrpSpPr>
          <p:grpSpPr>
            <a:xfrm>
              <a:off x="5241600" y="2651040"/>
              <a:ext cx="2778480" cy="63720"/>
              <a:chOff x="5241600" y="2651040"/>
              <a:chExt cx="2778480" cy="63720"/>
            </a:xfrm>
          </p:grpSpPr>
          <p:sp>
            <p:nvSpPr>
              <p:cNvPr id="929" name=""/>
              <p:cNvSpPr/>
              <p:nvPr/>
            </p:nvSpPr>
            <p:spPr>
              <a:xfrm flipH="1">
                <a:off x="5241600" y="2681280"/>
                <a:ext cx="2719080" cy="3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7956360" y="2651040"/>
                <a:ext cx="63720" cy="63720"/>
              </a:xfrm>
              <a:custGeom>
                <a:avLst/>
                <a:gdLst/>
                <a:ahLst/>
                <a:rect l="l" t="t" r="r" b="b"/>
                <a:pathLst>
                  <a:path w="40" h="40">
                    <a:moveTo>
                      <a:pt x="0" y="40"/>
                    </a:moveTo>
                    <a:lnTo>
                      <a:pt x="40" y="19"/>
                    </a:lnTo>
                    <a:lnTo>
                      <a:pt x="0" y="0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"/>
            <p:cNvGrpSpPr/>
            <p:nvPr/>
          </p:nvGrpSpPr>
          <p:grpSpPr>
            <a:xfrm>
              <a:off x="5261040" y="5992920"/>
              <a:ext cx="2795040" cy="63360"/>
              <a:chOff x="5261040" y="5992920"/>
              <a:chExt cx="2795040" cy="63360"/>
            </a:xfrm>
          </p:grpSpPr>
          <p:sp>
            <p:nvSpPr>
              <p:cNvPr id="932" name=""/>
              <p:cNvSpPr/>
              <p:nvPr/>
            </p:nvSpPr>
            <p:spPr>
              <a:xfrm flipH="1">
                <a:off x="5261040" y="6023160"/>
                <a:ext cx="2736720" cy="6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7993080" y="5992920"/>
                <a:ext cx="63000" cy="63360"/>
              </a:xfrm>
              <a:custGeom>
                <a:avLst/>
                <a:gdLst/>
                <a:ahLst/>
                <a:rect l="l" t="t" r="r" b="b"/>
                <a:pathLst>
                  <a:path w="40" h="40">
                    <a:moveTo>
                      <a:pt x="0" y="40"/>
                    </a:moveTo>
                    <a:lnTo>
                      <a:pt x="40" y="19"/>
                    </a:lnTo>
                    <a:lnTo>
                      <a:pt x="0" y="0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4" name=""/>
            <p:cNvSpPr/>
            <p:nvPr/>
          </p:nvSpPr>
          <p:spPr>
            <a:xfrm>
              <a:off x="5245200" y="1915920"/>
              <a:ext cx="12222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6464520" y="1915920"/>
              <a:ext cx="109836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5251680" y="3633840"/>
              <a:ext cx="1215720" cy="608040"/>
            </a:xfrm>
            <a:prstGeom prst="line">
              <a:avLst/>
            </a:prstGeom>
            <a:ln w="1260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 flipV="1">
              <a:off x="5267520" y="3115800"/>
              <a:ext cx="2279520" cy="112572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 flipV="1">
              <a:off x="5267520" y="5889600"/>
              <a:ext cx="119988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 flipV="1">
              <a:off x="6464520" y="5250960"/>
              <a:ext cx="1098360" cy="63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5389560" y="1287360"/>
              <a:ext cx="547920" cy="187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5416560" y="131292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5506560" y="137304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5550120" y="1312920"/>
              <a:ext cx="354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Times New Roman"/>
                </a:rPr>
                <a:t>=cons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6443640" y="1906560"/>
              <a:ext cx="39600" cy="3636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7529400" y="2660760"/>
              <a:ext cx="43200" cy="3636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5241960" y="3627360"/>
              <a:ext cx="42840" cy="396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6434280" y="3637080"/>
              <a:ext cx="39600" cy="396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6443640" y="4221000"/>
              <a:ext cx="39600" cy="3996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7523280" y="3087720"/>
              <a:ext cx="42840" cy="396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7529400" y="5241960"/>
              <a:ext cx="43200" cy="3636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6443640" y="5870520"/>
              <a:ext cx="39600" cy="3636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2" name=""/>
            <p:cNvGrpSpPr/>
            <p:nvPr/>
          </p:nvGrpSpPr>
          <p:grpSpPr>
            <a:xfrm>
              <a:off x="5462640" y="1654200"/>
              <a:ext cx="291600" cy="241200"/>
              <a:chOff x="5462640" y="1654200"/>
              <a:chExt cx="291600" cy="241200"/>
            </a:xfrm>
          </p:grpSpPr>
          <p:sp>
            <p:nvSpPr>
              <p:cNvPr id="953" name=""/>
              <p:cNvSpPr/>
              <p:nvPr/>
            </p:nvSpPr>
            <p:spPr>
              <a:xfrm>
                <a:off x="5462640" y="1654200"/>
                <a:ext cx="291600" cy="1774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5513400" y="168264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5608080" y="1742760"/>
                <a:ext cx="1288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2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6" name=""/>
            <p:cNvSpPr/>
            <p:nvPr/>
          </p:nvSpPr>
          <p:spPr>
            <a:xfrm>
              <a:off x="5006880" y="121752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5098680" y="127944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7858080" y="2717640"/>
              <a:ext cx="201600" cy="192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7913520" y="274176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7956000" y="280332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6496200" y="2708280"/>
              <a:ext cx="325440" cy="201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6522840" y="273348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6565680" y="2793960"/>
              <a:ext cx="340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20ma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7419960" y="2708280"/>
              <a:ext cx="279360" cy="183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7443360" y="273348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7486560" y="2793960"/>
              <a:ext cx="27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2ma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7" name=""/>
            <p:cNvGrpSpPr/>
            <p:nvPr/>
          </p:nvGrpSpPr>
          <p:grpSpPr>
            <a:xfrm>
              <a:off x="5016600" y="2797200"/>
              <a:ext cx="204480" cy="238320"/>
              <a:chOff x="5016600" y="2797200"/>
              <a:chExt cx="204480" cy="238320"/>
            </a:xfrm>
          </p:grpSpPr>
          <p:sp>
            <p:nvSpPr>
              <p:cNvPr id="968" name=""/>
              <p:cNvSpPr/>
              <p:nvPr/>
            </p:nvSpPr>
            <p:spPr>
              <a:xfrm>
                <a:off x="5016600" y="2797200"/>
                <a:ext cx="204480" cy="191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5065200" y="282240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5108400" y="288288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71" name=""/>
            <p:cNvSpPr/>
            <p:nvPr/>
          </p:nvSpPr>
          <p:spPr>
            <a:xfrm>
              <a:off x="5016600" y="3031920"/>
              <a:ext cx="204840" cy="195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5071680" y="305604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5114520" y="311796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4" name=""/>
            <p:cNvGrpSpPr/>
            <p:nvPr/>
          </p:nvGrpSpPr>
          <p:grpSpPr>
            <a:xfrm>
              <a:off x="4834080" y="3419280"/>
              <a:ext cx="384120" cy="238320"/>
              <a:chOff x="4834080" y="3419280"/>
              <a:chExt cx="384120" cy="238320"/>
            </a:xfrm>
          </p:grpSpPr>
          <p:sp>
            <p:nvSpPr>
              <p:cNvPr id="975" name=""/>
              <p:cNvSpPr/>
              <p:nvPr/>
            </p:nvSpPr>
            <p:spPr>
              <a:xfrm>
                <a:off x="4834080" y="3419280"/>
                <a:ext cx="384120" cy="195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4901760" y="344304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4943520" y="350496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5043240" y="3436560"/>
                <a:ext cx="150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(0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79" name=""/>
            <p:cNvSpPr/>
            <p:nvPr/>
          </p:nvSpPr>
          <p:spPr>
            <a:xfrm>
              <a:off x="7867800" y="6081840"/>
              <a:ext cx="203040" cy="193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7921440" y="610560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7963920" y="616572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7867800" y="4297320"/>
              <a:ext cx="203040" cy="195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7921440" y="432432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7963920" y="438624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5" name=""/>
            <p:cNvGrpSpPr/>
            <p:nvPr/>
          </p:nvGrpSpPr>
          <p:grpSpPr>
            <a:xfrm>
              <a:off x="6500880" y="5886360"/>
              <a:ext cx="140760" cy="4680"/>
              <a:chOff x="6500880" y="5886360"/>
              <a:chExt cx="140760" cy="4680"/>
            </a:xfrm>
          </p:grpSpPr>
          <p:sp>
            <p:nvSpPr>
              <p:cNvPr id="986" name=""/>
              <p:cNvSpPr/>
              <p:nvPr/>
            </p:nvSpPr>
            <p:spPr>
              <a:xfrm>
                <a:off x="6500880" y="588636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4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6513480" y="5886360"/>
                <a:ext cx="576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6526080" y="588636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6538680" y="588636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1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6549840" y="588636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6562440" y="588636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6575400" y="588636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1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6586560" y="5886360"/>
                <a:ext cx="576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6599160" y="5886360"/>
                <a:ext cx="576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6611760" y="588636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6622920" y="588636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6635520" y="588636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8" name=""/>
            <p:cNvSpPr/>
            <p:nvPr/>
          </p:nvSpPr>
          <p:spPr>
            <a:xfrm>
              <a:off x="5006880" y="4575240"/>
              <a:ext cx="204840" cy="195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5059080" y="459900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5135400" y="466092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7599240" y="5157720"/>
              <a:ext cx="328680" cy="192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7642080" y="518148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7718400" y="5241960"/>
              <a:ext cx="247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Times New Roman"/>
                </a:rPr>
                <a:t>tma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4" name=""/>
            <p:cNvGrpSpPr/>
            <p:nvPr/>
          </p:nvGrpSpPr>
          <p:grpSpPr>
            <a:xfrm>
              <a:off x="5052960" y="2571840"/>
              <a:ext cx="168120" cy="207360"/>
              <a:chOff x="5052960" y="2571840"/>
              <a:chExt cx="168120" cy="207360"/>
            </a:xfrm>
          </p:grpSpPr>
          <p:sp>
            <p:nvSpPr>
              <p:cNvPr id="1005" name=""/>
              <p:cNvSpPr/>
              <p:nvPr/>
            </p:nvSpPr>
            <p:spPr>
              <a:xfrm>
                <a:off x="5056200" y="2574720"/>
                <a:ext cx="161640" cy="201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5052960" y="2574720"/>
                <a:ext cx="6120" cy="5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5052960" y="2587320"/>
                <a:ext cx="6120" cy="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5052960" y="25984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5052960" y="26110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5052960" y="262368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5052960" y="263484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5052960" y="2647800"/>
                <a:ext cx="6120" cy="5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5052960" y="2660400"/>
                <a:ext cx="6120" cy="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5052960" y="2671560"/>
                <a:ext cx="6120" cy="5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5052960" y="268416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5052960" y="269676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5052960" y="27079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5052960" y="27205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5052960" y="2733480"/>
                <a:ext cx="6120" cy="5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5052960" y="2744640"/>
                <a:ext cx="6120" cy="5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5052960" y="275724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5052960" y="276984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5062320" y="27730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5074920" y="27730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5086080" y="27730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5099040" y="27730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111640" y="27730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5122800" y="27730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5135400" y="27730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5148000" y="27730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5160960" y="2773080"/>
                <a:ext cx="46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5171760" y="27730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5184720" y="27730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5197320" y="2773080"/>
                <a:ext cx="46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5208480" y="27730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5214960" y="276660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5214960" y="275400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5214960" y="2741400"/>
                <a:ext cx="6120" cy="5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5214960" y="273024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5214960" y="2717640"/>
                <a:ext cx="6120" cy="5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5214960" y="2704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5214960" y="26935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5214960" y="26809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5214960" y="26683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5214960" y="265716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5214960" y="2644560"/>
                <a:ext cx="6120" cy="5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5214960" y="263160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5214960" y="2620800"/>
                <a:ext cx="6120" cy="5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5214960" y="260784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5214960" y="259524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5214960" y="2584080"/>
                <a:ext cx="6120" cy="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5214960" y="2571840"/>
                <a:ext cx="612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4"/>
                    </a:move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5202000" y="257184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5190840" y="257184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5178240" y="257184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5165640" y="257184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5154480" y="257184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5141880" y="257184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5128920" y="257184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5118120" y="2571840"/>
                <a:ext cx="46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5105160" y="257184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5092560" y="257184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5081400" y="2571840"/>
                <a:ext cx="46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5068800" y="257184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5056200" y="257184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6" name=""/>
            <p:cNvSpPr/>
            <p:nvPr/>
          </p:nvSpPr>
          <p:spPr>
            <a:xfrm>
              <a:off x="5104800" y="25956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7" name=""/>
            <p:cNvGrpSpPr/>
            <p:nvPr/>
          </p:nvGrpSpPr>
          <p:grpSpPr>
            <a:xfrm>
              <a:off x="5072040" y="4141800"/>
              <a:ext cx="166680" cy="208080"/>
              <a:chOff x="5072040" y="4141800"/>
              <a:chExt cx="166680" cy="208080"/>
            </a:xfrm>
          </p:grpSpPr>
          <p:sp>
            <p:nvSpPr>
              <p:cNvPr id="1068" name=""/>
              <p:cNvSpPr/>
              <p:nvPr/>
            </p:nvSpPr>
            <p:spPr>
              <a:xfrm>
                <a:off x="5074920" y="4145040"/>
                <a:ext cx="162000" cy="201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5072040" y="414504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5072040" y="415764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5072040" y="416880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5072040" y="418140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5072040" y="419436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5072040" y="42055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5072040" y="42181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5072040" y="423072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5072040" y="424188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5072040" y="425448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5072040" y="426744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5072040" y="427824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5072040" y="429120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5072040" y="430380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5072040" y="431640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5072040" y="432756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5072040" y="434016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5081400" y="4343400"/>
                <a:ext cx="46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5092560" y="43434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5105160" y="43434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5118120" y="4343400"/>
                <a:ext cx="46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5128920" y="43434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5141880" y="434340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5154480" y="43434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5165640" y="434340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5178240" y="43434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5190840" y="43434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5202000" y="43434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5214960" y="434340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5227560" y="434340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5233680" y="4337280"/>
                <a:ext cx="504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5233680" y="4324320"/>
                <a:ext cx="504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5233680" y="4313160"/>
                <a:ext cx="5040" cy="5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5233680" y="4300560"/>
                <a:ext cx="504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5233680" y="4287960"/>
                <a:ext cx="504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5233680" y="4276800"/>
                <a:ext cx="504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5233680" y="4264200"/>
                <a:ext cx="504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5233680" y="4251240"/>
                <a:ext cx="504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5233680" y="4238640"/>
                <a:ext cx="504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5233680" y="4227480"/>
                <a:ext cx="504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5233680" y="4214880"/>
                <a:ext cx="504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5233680" y="4202280"/>
                <a:ext cx="504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5233680" y="4191120"/>
                <a:ext cx="504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5233680" y="4178520"/>
                <a:ext cx="504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5233680" y="4165560"/>
                <a:ext cx="504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5233680" y="4154400"/>
                <a:ext cx="504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5233680" y="4141800"/>
                <a:ext cx="504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0" y="4"/>
                    </a:moveTo>
                    <a:lnTo>
                      <a:pt x="3" y="4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5221080" y="41418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5208480" y="41418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5197320" y="4141800"/>
                <a:ext cx="46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5184720" y="414180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5171760" y="41418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5160960" y="4141800"/>
                <a:ext cx="46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5148000" y="41418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5135400" y="41418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5122800" y="414180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5111640" y="41418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5099040" y="414180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5086080" y="41418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5074920" y="41418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29" name=""/>
            <p:cNvSpPr/>
            <p:nvPr/>
          </p:nvSpPr>
          <p:spPr>
            <a:xfrm>
              <a:off x="5122440" y="41688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30" name=""/>
            <p:cNvGrpSpPr/>
            <p:nvPr/>
          </p:nvGrpSpPr>
          <p:grpSpPr>
            <a:xfrm>
              <a:off x="5062680" y="5925960"/>
              <a:ext cx="167760" cy="206280"/>
              <a:chOff x="5062680" y="5925960"/>
              <a:chExt cx="167760" cy="206280"/>
            </a:xfrm>
          </p:grpSpPr>
          <p:sp>
            <p:nvSpPr>
              <p:cNvPr id="1131" name=""/>
              <p:cNvSpPr/>
              <p:nvPr/>
            </p:nvSpPr>
            <p:spPr>
              <a:xfrm>
                <a:off x="5065560" y="5927400"/>
                <a:ext cx="161640" cy="201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5062680" y="592740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5062680" y="594000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5062680" y="595296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5062680" y="596556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5062680" y="5976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5062680" y="598932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5062680" y="6001920"/>
                <a:ext cx="6120" cy="5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5062680" y="601308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5062680" y="602568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5062680" y="603864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5062680" y="604980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5062680" y="606240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5062680" y="607500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5062680" y="608616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5062680" y="609876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5062680" y="6111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5062680" y="612252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5072040" y="6125760"/>
                <a:ext cx="576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5084640" y="6125760"/>
                <a:ext cx="43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5095800" y="6125760"/>
                <a:ext cx="576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5108400" y="612576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5121000" y="6125760"/>
                <a:ext cx="46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5132160" y="612576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5145120" y="6125760"/>
                <a:ext cx="576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5157720" y="6125760"/>
                <a:ext cx="43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5168880" y="6125760"/>
                <a:ext cx="576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5181480" y="612576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5194080" y="6125760"/>
                <a:ext cx="43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5205240" y="612576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5217840" y="612576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5224320" y="611964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5224320" y="61084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5224320" y="60958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5224320" y="608292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5224320" y="607176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5224320" y="605916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5224320" y="604656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5224320" y="603540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5224320" y="602280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5224320" y="600984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5224320" y="599904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5224320" y="598608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5224320" y="597348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5224320" y="596232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5224320" y="5949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5224320" y="59371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5224320" y="592596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lnTo>
                      <a:pt x="4" y="3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5211720" y="5925960"/>
                <a:ext cx="576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5198760" y="592596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5187960" y="5925960"/>
                <a:ext cx="576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5175000" y="592596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5162400" y="592596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5151240" y="592596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5138640" y="592596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5126040" y="5925960"/>
                <a:ext cx="576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5114880" y="5925960"/>
                <a:ext cx="576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5101920" y="592596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5089320" y="592596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5078160" y="592596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5065560" y="592596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92" name=""/>
            <p:cNvSpPr/>
            <p:nvPr/>
          </p:nvSpPr>
          <p:spPr>
            <a:xfrm>
              <a:off x="5114520" y="59500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3" name=""/>
            <p:cNvGrpSpPr/>
            <p:nvPr/>
          </p:nvGrpSpPr>
          <p:grpSpPr>
            <a:xfrm>
              <a:off x="7575480" y="2944800"/>
              <a:ext cx="345240" cy="339840"/>
              <a:chOff x="7575480" y="2944800"/>
              <a:chExt cx="345240" cy="339840"/>
            </a:xfrm>
          </p:grpSpPr>
          <p:sp>
            <p:nvSpPr>
              <p:cNvPr id="1194" name=""/>
              <p:cNvSpPr/>
              <p:nvPr/>
            </p:nvSpPr>
            <p:spPr>
              <a:xfrm>
                <a:off x="7575480" y="3138480"/>
                <a:ext cx="3128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7586280" y="294480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7639920" y="300996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7794000" y="313200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7700400" y="3009960"/>
                <a:ext cx="2203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ma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7606800" y="31161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7710120" y="3116160"/>
                <a:ext cx="72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01" name=""/>
            <p:cNvSpPr/>
            <p:nvPr/>
          </p:nvSpPr>
          <p:spPr>
            <a:xfrm>
              <a:off x="6497640" y="1525680"/>
              <a:ext cx="0" cy="33012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6667200" y="1565280"/>
              <a:ext cx="81324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c0000"/>
                  </a:solidFill>
                  <a:latin typeface="Times New Roman"/>
                </a:rPr>
                <a:t>U</a:t>
              </a:r>
              <a:r>
                <a:rPr b="0" lang="en-US" sz="1000" spc="-1" strike="noStrike" baseline="-25000">
                  <a:solidFill>
                    <a:srgbClr val="cc0000"/>
                  </a:solidFill>
                  <a:latin typeface="Times New Roman"/>
                </a:rPr>
                <a:t>CE</a:t>
              </a:r>
              <a:r>
                <a:rPr b="0" lang="en-US" sz="1000" spc="-1" strike="noStrike">
                  <a:solidFill>
                    <a:srgbClr val="cc0000"/>
                  </a:solidFill>
                  <a:latin typeface="Times New Roman"/>
                </a:rPr>
                <a:t>&gt;U</a:t>
              </a:r>
              <a:r>
                <a:rPr b="0" lang="en-US" sz="1000" spc="-1" strike="noStrike" baseline="-25000">
                  <a:solidFill>
                    <a:srgbClr val="cc0000"/>
                  </a:solidFill>
                  <a:latin typeface="Times New Roman"/>
                </a:rPr>
                <a:t>CE min </a:t>
              </a:r>
              <a:r>
                <a:rPr b="0" lang="en-US" sz="1000" spc="-1" strike="noStrike">
                  <a:solidFill>
                    <a:srgbClr val="cc0000"/>
                  </a:solidFill>
                  <a:latin typeface="Times New Roman"/>
                </a:rPr>
                <a:t>!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 flipV="1">
              <a:off x="6456240" y="1963800"/>
              <a:ext cx="0" cy="40449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5265720" y="3646440"/>
              <a:ext cx="1171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 flipV="1">
              <a:off x="7534440" y="2684520"/>
              <a:ext cx="0" cy="33400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5257800" y="1509840"/>
              <a:ext cx="23637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207" name=""/>
              <p:cNvSpPr txBox="1"/>
              <p:nvPr/>
            </p:nvSpPr>
            <p:spPr>
              <a:xfrm>
                <a:off x="1944720" y="1768320"/>
                <a:ext cx="213984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8" name=""/>
              <p:cNvSpPr txBox="1"/>
              <p:nvPr/>
            </p:nvSpPr>
            <p:spPr>
              <a:xfrm>
                <a:off x="1881360" y="2492280"/>
                <a:ext cx="338292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b</m:t>
                            </m:r>
                            <m:r>
                              <m:t xml:space="preserve">'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26</m:t>
                        </m:r>
                        <m:r>
                          <m:t xml:space="preserve">V</m:t>
                        </m:r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9" name=""/>
              <p:cNvSpPr txBox="1"/>
              <p:nvPr/>
            </p:nvSpPr>
            <p:spPr>
              <a:xfrm>
                <a:off x="1957320" y="3514680"/>
                <a:ext cx="328284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0" name=""/>
              <p:cNvSpPr txBox="1"/>
              <p:nvPr/>
            </p:nvSpPr>
            <p:spPr>
              <a:xfrm>
                <a:off x="2030400" y="4573440"/>
                <a:ext cx="4411800" cy="82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11" name=""/>
          <p:cNvSpPr/>
          <p:nvPr/>
        </p:nvSpPr>
        <p:spPr>
          <a:xfrm>
            <a:off x="0" y="2476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ILIZATOR PARAMETRYCZ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 TRANZYSTOR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ILIZATORY KOMPENSACYJ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3" name=""/>
          <p:cNvGrpSpPr/>
          <p:nvPr/>
        </p:nvGrpSpPr>
        <p:grpSpPr>
          <a:xfrm>
            <a:off x="1424160" y="909720"/>
            <a:ext cx="6508440" cy="5724360"/>
            <a:chOff x="1424160" y="909720"/>
            <a:chExt cx="6508440" cy="5724360"/>
          </a:xfrm>
        </p:grpSpPr>
        <p:grpSp>
          <p:nvGrpSpPr>
            <p:cNvPr id="1214" name=""/>
            <p:cNvGrpSpPr/>
            <p:nvPr/>
          </p:nvGrpSpPr>
          <p:grpSpPr>
            <a:xfrm>
              <a:off x="1424160" y="909720"/>
              <a:ext cx="6508440" cy="5724360"/>
              <a:chOff x="1424160" y="909720"/>
              <a:chExt cx="6508440" cy="5724360"/>
            </a:xfrm>
          </p:grpSpPr>
          <p:graphicFrame>
            <p:nvGraphicFramePr>
              <p:cNvPr id="1215" name=""/>
              <p:cNvGraphicFramePr/>
              <p:nvPr/>
            </p:nvGraphicFramePr>
            <p:xfrm>
              <a:off x="1424160" y="909720"/>
              <a:ext cx="6508440" cy="572436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216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1424160" y="909720"/>
                        <a:ext cx="6508440" cy="5724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217" name=""/>
              <p:cNvSpPr/>
              <p:nvPr/>
            </p:nvSpPr>
            <p:spPr>
              <a:xfrm>
                <a:off x="3558240" y="1193760"/>
                <a:ext cx="1471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Wtórnik (OC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18" name=""/>
            <p:cNvSpPr/>
            <p:nvPr/>
          </p:nvSpPr>
          <p:spPr>
            <a:xfrm flipH="1">
              <a:off x="3105000" y="1447920"/>
              <a:ext cx="495360" cy="1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"/>
          <p:cNvSpPr/>
          <p:nvPr/>
        </p:nvSpPr>
        <p:spPr>
          <a:xfrm>
            <a:off x="857880" y="905040"/>
            <a:ext cx="264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ównanie regulacj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0" name=""/>
              <p:cNvSpPr txBox="1"/>
              <p:nvPr/>
            </p:nvSpPr>
            <p:spPr>
              <a:xfrm>
                <a:off x="1357200" y="1357200"/>
                <a:ext cx="409104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sub>
                        </m:sSub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</m:d>
                    <m:r>
                      <m:t xml:space="preserve">−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21" name=""/>
          <p:cNvSpPr/>
          <p:nvPr/>
        </p:nvSpPr>
        <p:spPr>
          <a:xfrm>
            <a:off x="923040" y="2455920"/>
            <a:ext cx="308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bilizowane napięci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2" name=""/>
              <p:cNvSpPr txBox="1"/>
              <p:nvPr/>
            </p:nvSpPr>
            <p:spPr>
              <a:xfrm>
                <a:off x="1353960" y="3132000"/>
                <a:ext cx="6004080" cy="85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γ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γ</m:t>
                        </m:r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u</m:t>
                                </m:r>
                              </m:sub>
                            </m:sSub>
                          </m:den>
                        </m:f>
                      </m:den>
                    </m:f>
                    <m:r>
                      <m:t xml:space="preserve">≈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3" name=""/>
              <p:cNvSpPr txBox="1"/>
              <p:nvPr/>
            </p:nvSpPr>
            <p:spPr>
              <a:xfrm>
                <a:off x="2446200" y="4122720"/>
                <a:ext cx="22431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24" name=""/>
          <p:cNvSpPr/>
          <p:nvPr/>
        </p:nvSpPr>
        <p:spPr>
          <a:xfrm>
            <a:off x="1392120" y="4095720"/>
            <a:ext cx="9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dzi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ILIZATORY KOMPENSACYJ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993600" y="4818240"/>
            <a:ext cx="312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zystancja wyjściow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7" name=""/>
              <p:cNvSpPr txBox="1"/>
              <p:nvPr/>
            </p:nvSpPr>
            <p:spPr>
              <a:xfrm>
                <a:off x="2428920" y="5338800"/>
                <a:ext cx="1512720" cy="76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OC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γ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ILIZATOR KOMPENSACYJNY ZE WZMACNIACZEM  JEDNOTRANZYSTOROWY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9" name=""/>
          <p:cNvGrpSpPr/>
          <p:nvPr/>
        </p:nvGrpSpPr>
        <p:grpSpPr>
          <a:xfrm>
            <a:off x="160200" y="1200240"/>
            <a:ext cx="8664840" cy="5468760"/>
            <a:chOff x="160200" y="1200240"/>
            <a:chExt cx="8664840" cy="5468760"/>
          </a:xfrm>
        </p:grpSpPr>
        <p:sp>
          <p:nvSpPr>
            <p:cNvPr id="1230" name=""/>
            <p:cNvSpPr/>
            <p:nvPr/>
          </p:nvSpPr>
          <p:spPr>
            <a:xfrm>
              <a:off x="5326200" y="3548160"/>
              <a:ext cx="163440" cy="4158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5405400" y="3384720"/>
              <a:ext cx="1800" cy="17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5405400" y="3954600"/>
              <a:ext cx="1800" cy="50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5540400" y="3637080"/>
              <a:ext cx="341280" cy="2984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5659200" y="367524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5763600" y="376884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3875040" y="3156120"/>
              <a:ext cx="471600" cy="4712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4192560" y="3259080"/>
              <a:ext cx="3240" cy="262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 flipH="1" flipV="1">
              <a:off x="3944880" y="3213000"/>
              <a:ext cx="238320" cy="106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39" name=""/>
            <p:cNvGrpSpPr/>
            <p:nvPr/>
          </p:nvGrpSpPr>
          <p:grpSpPr>
            <a:xfrm>
              <a:off x="4033440" y="3422520"/>
              <a:ext cx="149400" cy="98640"/>
              <a:chOff x="4033440" y="3422520"/>
              <a:chExt cx="149400" cy="98640"/>
            </a:xfrm>
          </p:grpSpPr>
          <p:sp>
            <p:nvSpPr>
              <p:cNvPr id="1240" name=""/>
              <p:cNvSpPr/>
              <p:nvPr/>
            </p:nvSpPr>
            <p:spPr>
              <a:xfrm flipH="1">
                <a:off x="4033440" y="3446640"/>
                <a:ext cx="149400" cy="74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4033800" y="3422520"/>
                <a:ext cx="115920" cy="98640"/>
              </a:xfrm>
              <a:custGeom>
                <a:avLst/>
                <a:gdLst/>
                <a:ahLst/>
                <a:rect l="l" t="t" r="r" b="b"/>
                <a:pathLst>
                  <a:path w="73" h="62">
                    <a:moveTo>
                      <a:pt x="41" y="0"/>
                    </a:moveTo>
                    <a:lnTo>
                      <a:pt x="0" y="62"/>
                    </a:lnTo>
                    <a:lnTo>
                      <a:pt x="73" y="62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42" name=""/>
            <p:cNvSpPr/>
            <p:nvPr/>
          </p:nvSpPr>
          <p:spPr>
            <a:xfrm flipH="1">
              <a:off x="3944520" y="3521160"/>
              <a:ext cx="88920" cy="46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4192560" y="3394080"/>
              <a:ext cx="149400" cy="4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3944880" y="3562200"/>
              <a:ext cx="4680" cy="54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 flipV="1">
              <a:off x="3935520" y="3016080"/>
              <a:ext cx="4680" cy="19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 flipH="1" flipV="1">
              <a:off x="4336920" y="3393720"/>
              <a:ext cx="105408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5326200" y="2801880"/>
              <a:ext cx="163440" cy="4190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5405400" y="1596960"/>
              <a:ext cx="180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5405400" y="3213000"/>
              <a:ext cx="1800" cy="204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5540400" y="2890800"/>
              <a:ext cx="341280" cy="2984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5659200" y="292752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5763600" y="302112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3052800" y="1765440"/>
              <a:ext cx="158760" cy="4204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3132000" y="1606680"/>
              <a:ext cx="1800" cy="17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3132000" y="2176560"/>
              <a:ext cx="1800" cy="204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3262320" y="1854360"/>
              <a:ext cx="341280" cy="2984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3369960" y="189540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3475440" y="198900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1941480" y="4454640"/>
              <a:ext cx="4888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3711600" y="1522440"/>
              <a:ext cx="476280" cy="4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 flipH="1">
              <a:off x="3812760" y="1844640"/>
              <a:ext cx="2667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 flipV="1">
              <a:off x="4019400" y="1596960"/>
              <a:ext cx="101880" cy="233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 flipH="1" flipV="1">
              <a:off x="3771720" y="1596960"/>
              <a:ext cx="115560" cy="233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3940200" y="1844640"/>
              <a:ext cx="144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 flipH="1">
              <a:off x="1931760" y="1596960"/>
              <a:ext cx="18399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 flipV="1">
              <a:off x="4130640" y="1591920"/>
              <a:ext cx="275112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 flipV="1">
              <a:off x="3940200" y="1989000"/>
              <a:ext cx="1440" cy="105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3127320" y="2367000"/>
              <a:ext cx="8222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3916440" y="4425840"/>
              <a:ext cx="65160" cy="57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5378400" y="4435560"/>
              <a:ext cx="60480" cy="55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5378400" y="3375000"/>
              <a:ext cx="60480" cy="61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5369040" y="1563840"/>
              <a:ext cx="64800" cy="61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3094200" y="1563840"/>
              <a:ext cx="61920" cy="61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6829560" y="1568520"/>
              <a:ext cx="64800" cy="61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3911760" y="2340000"/>
              <a:ext cx="60120" cy="55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1895400" y="4425840"/>
              <a:ext cx="65160" cy="57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1895400" y="1563840"/>
              <a:ext cx="65160" cy="61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8" name=""/>
            <p:cNvGrpSpPr/>
            <p:nvPr/>
          </p:nvGrpSpPr>
          <p:grpSpPr>
            <a:xfrm>
              <a:off x="5410080" y="3394080"/>
              <a:ext cx="793800" cy="9360"/>
              <a:chOff x="5410080" y="3394080"/>
              <a:chExt cx="793800" cy="9360"/>
            </a:xfrm>
          </p:grpSpPr>
          <p:sp>
            <p:nvSpPr>
              <p:cNvPr id="1279" name=""/>
              <p:cNvSpPr/>
              <p:nvPr/>
            </p:nvSpPr>
            <p:spPr>
              <a:xfrm>
                <a:off x="5410080" y="339408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5429160" y="339408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5448240" y="339408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5465880" y="339408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5484960" y="339408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5504040" y="339408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5522760" y="339408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5540400" y="339408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5559480" y="339408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5578560" y="339408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5597640" y="339408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5616720" y="339408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5634000" y="339408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5653080" y="339408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5672160" y="339408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5691240" y="339408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5708520" y="339408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5727600" y="339408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5746680" y="339408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5765760" y="339408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5783400" y="339408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5802480" y="339408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5821200" y="339408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5840280" y="339408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5857920" y="339408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5877000" y="339408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5896080" y="339408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5915160" y="339408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5934240" y="339408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5951520" y="339408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5970600" y="339408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5989680" y="339408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6008760" y="339408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6026040" y="339408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6045120" y="339408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6064200" y="339408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6083280" y="339408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6100920" y="339408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6119640" y="339408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6138720" y="339408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>
                <a:off x="6157800" y="339408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>
                <a:off x="6175440" y="339408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6194520" y="339408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22" name=""/>
            <p:cNvSpPr/>
            <p:nvPr/>
          </p:nvSpPr>
          <p:spPr>
            <a:xfrm>
              <a:off x="6829560" y="4425840"/>
              <a:ext cx="60120" cy="57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23" name=""/>
            <p:cNvGrpSpPr/>
            <p:nvPr/>
          </p:nvGrpSpPr>
          <p:grpSpPr>
            <a:xfrm>
              <a:off x="6013440" y="3506760"/>
              <a:ext cx="96840" cy="844560"/>
              <a:chOff x="6013440" y="3506760"/>
              <a:chExt cx="96840" cy="844560"/>
            </a:xfrm>
          </p:grpSpPr>
          <p:sp>
            <p:nvSpPr>
              <p:cNvPr id="1324" name=""/>
              <p:cNvSpPr/>
              <p:nvPr/>
            </p:nvSpPr>
            <p:spPr>
              <a:xfrm>
                <a:off x="6059520" y="3506760"/>
                <a:ext cx="4680" cy="84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6013440" y="3506760"/>
                <a:ext cx="96840" cy="98280"/>
              </a:xfrm>
              <a:custGeom>
                <a:avLst/>
                <a:gdLst/>
                <a:ahLst/>
                <a:rect l="l" t="t" r="r" b="b"/>
                <a:pathLst>
                  <a:path w="61" h="62">
                    <a:moveTo>
                      <a:pt x="61" y="62"/>
                    </a:moveTo>
                    <a:lnTo>
                      <a:pt x="29" y="0"/>
                    </a:lnTo>
                    <a:lnTo>
                      <a:pt x="0" y="6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6" name=""/>
            <p:cNvGrpSpPr/>
            <p:nvPr/>
          </p:nvGrpSpPr>
          <p:grpSpPr>
            <a:xfrm>
              <a:off x="6802560" y="1755720"/>
              <a:ext cx="96840" cy="2511360"/>
              <a:chOff x="6802560" y="1755720"/>
              <a:chExt cx="96840" cy="2511360"/>
            </a:xfrm>
          </p:grpSpPr>
          <p:sp>
            <p:nvSpPr>
              <p:cNvPr id="1327" name=""/>
              <p:cNvSpPr/>
              <p:nvPr/>
            </p:nvSpPr>
            <p:spPr>
              <a:xfrm>
                <a:off x="6848640" y="1755720"/>
                <a:ext cx="1440" cy="2511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6802560" y="1755720"/>
                <a:ext cx="96840" cy="98640"/>
              </a:xfrm>
              <a:custGeom>
                <a:avLst/>
                <a:gdLst/>
                <a:ahLst/>
                <a:rect l="l" t="t" r="r" b="b"/>
                <a:pathLst>
                  <a:path w="61" h="62">
                    <a:moveTo>
                      <a:pt x="61" y="62"/>
                    </a:moveTo>
                    <a:lnTo>
                      <a:pt x="29" y="0"/>
                    </a:lnTo>
                    <a:lnTo>
                      <a:pt x="0" y="6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9" name=""/>
            <p:cNvGrpSpPr/>
            <p:nvPr/>
          </p:nvGrpSpPr>
          <p:grpSpPr>
            <a:xfrm>
              <a:off x="1886040" y="1755720"/>
              <a:ext cx="98280" cy="2511360"/>
              <a:chOff x="1886040" y="1755720"/>
              <a:chExt cx="98280" cy="2511360"/>
            </a:xfrm>
          </p:grpSpPr>
          <p:sp>
            <p:nvSpPr>
              <p:cNvPr id="1330" name=""/>
              <p:cNvSpPr/>
              <p:nvPr/>
            </p:nvSpPr>
            <p:spPr>
              <a:xfrm>
                <a:off x="1932120" y="1755720"/>
                <a:ext cx="1440" cy="2511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1886040" y="1755720"/>
                <a:ext cx="98280" cy="98640"/>
              </a:xfrm>
              <a:custGeom>
                <a:avLst/>
                <a:gdLst/>
                <a:ahLst/>
                <a:rect l="l" t="t" r="r" b="b"/>
                <a:pathLst>
                  <a:path w="62" h="62">
                    <a:moveTo>
                      <a:pt x="62" y="62"/>
                    </a:moveTo>
                    <a:lnTo>
                      <a:pt x="29" y="0"/>
                    </a:lnTo>
                    <a:lnTo>
                      <a:pt x="0" y="6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32" name=""/>
            <p:cNvSpPr/>
            <p:nvPr/>
          </p:nvSpPr>
          <p:spPr>
            <a:xfrm>
              <a:off x="3841920" y="4221000"/>
              <a:ext cx="1918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 flipV="1">
              <a:off x="3860640" y="4117680"/>
              <a:ext cx="69840" cy="88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3860640" y="4103640"/>
              <a:ext cx="1857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4046400" y="4146480"/>
              <a:ext cx="1800" cy="4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4046400" y="4108320"/>
              <a:ext cx="1800" cy="4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3406680" y="4002120"/>
              <a:ext cx="341280" cy="29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3492720" y="4033800"/>
              <a:ext cx="25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D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6119640" y="3726000"/>
              <a:ext cx="382680" cy="355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6213960" y="3749760"/>
              <a:ext cx="130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6297840" y="380520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6395400" y="3898800"/>
              <a:ext cx="128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3944880" y="4221000"/>
              <a:ext cx="4680" cy="23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44" name=""/>
            <p:cNvGrpSpPr/>
            <p:nvPr/>
          </p:nvGrpSpPr>
          <p:grpSpPr>
            <a:xfrm>
              <a:off x="3940200" y="3894120"/>
              <a:ext cx="644400" cy="14400"/>
              <a:chOff x="3940200" y="3894120"/>
              <a:chExt cx="644400" cy="14400"/>
            </a:xfrm>
          </p:grpSpPr>
          <p:sp>
            <p:nvSpPr>
              <p:cNvPr id="1345" name=""/>
              <p:cNvSpPr/>
              <p:nvPr/>
            </p:nvSpPr>
            <p:spPr>
              <a:xfrm>
                <a:off x="3940200" y="389412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3959280" y="389412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3976560" y="389412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>
                <a:off x="3995640" y="389412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>
                <a:off x="4014720" y="389412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4033800" y="389412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5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4051440" y="389412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>
                <a:off x="4070520" y="389412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4089240" y="389412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>
                <a:off x="4108320" y="389412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5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>
                <a:off x="4125960" y="389412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4145040" y="389412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>
                <a:off x="4164120" y="389412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4183200" y="389412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4200480" y="389412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4219560" y="389412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4238640" y="389412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4257720" y="389412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4275000" y="389880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4294080" y="389880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4313160" y="389880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>
                <a:off x="4332240" y="389880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4351320" y="38988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4368960" y="389880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>
                <a:off x="4387680" y="389880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4406760" y="389880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4425840" y="38988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4443480" y="389880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4462560" y="389880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4481640" y="389880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4500720" y="389880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4518000" y="389880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4537080" y="389880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4556160" y="389880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4575240" y="389880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0" name=""/>
            <p:cNvGrpSpPr/>
            <p:nvPr/>
          </p:nvGrpSpPr>
          <p:grpSpPr>
            <a:xfrm>
              <a:off x="4187880" y="1765440"/>
              <a:ext cx="171360" cy="303120"/>
              <a:chOff x="4187880" y="1765440"/>
              <a:chExt cx="171360" cy="303120"/>
            </a:xfrm>
          </p:grpSpPr>
          <p:sp>
            <p:nvSpPr>
              <p:cNvPr id="1381" name=""/>
              <p:cNvSpPr/>
              <p:nvPr/>
            </p:nvSpPr>
            <p:spPr>
              <a:xfrm flipV="1">
                <a:off x="4187880" y="1765440"/>
                <a:ext cx="171360" cy="303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4187880" y="1955880"/>
                <a:ext cx="87120" cy="112680"/>
              </a:xfrm>
              <a:custGeom>
                <a:avLst/>
                <a:gdLst/>
                <a:ahLst/>
                <a:rect l="l" t="t" r="r" b="b"/>
                <a:pathLst>
                  <a:path w="55" h="71">
                    <a:moveTo>
                      <a:pt x="3" y="0"/>
                    </a:moveTo>
                    <a:lnTo>
                      <a:pt x="0" y="71"/>
                    </a:lnTo>
                    <a:lnTo>
                      <a:pt x="55" y="3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3" name=""/>
            <p:cNvGrpSpPr/>
            <p:nvPr/>
          </p:nvGrpSpPr>
          <p:grpSpPr>
            <a:xfrm>
              <a:off x="4452840" y="4014720"/>
              <a:ext cx="98640" cy="355680"/>
              <a:chOff x="4452840" y="4014720"/>
              <a:chExt cx="98640" cy="355680"/>
            </a:xfrm>
          </p:grpSpPr>
          <p:sp>
            <p:nvSpPr>
              <p:cNvPr id="1384" name=""/>
              <p:cNvSpPr/>
              <p:nvPr/>
            </p:nvSpPr>
            <p:spPr>
              <a:xfrm>
                <a:off x="4500720" y="4014720"/>
                <a:ext cx="1440" cy="355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4452840" y="4014720"/>
                <a:ext cx="98640" cy="98640"/>
              </a:xfrm>
              <a:custGeom>
                <a:avLst/>
                <a:gdLst/>
                <a:ahLst/>
                <a:rect l="l" t="t" r="r" b="b"/>
                <a:pathLst>
                  <a:path w="62" h="62">
                    <a:moveTo>
                      <a:pt x="62" y="62"/>
                    </a:moveTo>
                    <a:lnTo>
                      <a:pt x="30" y="0"/>
                    </a:lnTo>
                    <a:lnTo>
                      <a:pt x="0" y="6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86" name=""/>
            <p:cNvSpPr/>
            <p:nvPr/>
          </p:nvSpPr>
          <p:spPr>
            <a:xfrm>
              <a:off x="1554120" y="2936880"/>
              <a:ext cx="378000" cy="284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1648080" y="297036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1773000" y="3062160"/>
              <a:ext cx="128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4383000" y="1863720"/>
              <a:ext cx="430200" cy="284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4455000" y="189540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4579200" y="1989000"/>
              <a:ext cx="220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BE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4589640" y="4048200"/>
              <a:ext cx="339480" cy="279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4688280" y="408132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4810680" y="417348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6923160" y="2922480"/>
              <a:ext cx="411120" cy="285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7031520" y="295596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7154640" y="3049560"/>
              <a:ext cx="128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3772080" y="1200240"/>
              <a:ext cx="341280" cy="284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3893040" y="123336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3985560" y="132552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3478320" y="3287880"/>
              <a:ext cx="339480" cy="284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3603960" y="331956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3695040" y="34131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 flipH="1" flipV="1">
              <a:off x="3954240" y="4117680"/>
              <a:ext cx="74520" cy="88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05" name=""/>
            <p:cNvGrpSpPr/>
            <p:nvPr/>
          </p:nvGrpSpPr>
          <p:grpSpPr>
            <a:xfrm>
              <a:off x="3995640" y="1676160"/>
              <a:ext cx="98640" cy="144360"/>
              <a:chOff x="3995640" y="1676160"/>
              <a:chExt cx="98640" cy="144360"/>
            </a:xfrm>
          </p:grpSpPr>
          <p:sp>
            <p:nvSpPr>
              <p:cNvPr id="1406" name=""/>
              <p:cNvSpPr/>
              <p:nvPr/>
            </p:nvSpPr>
            <p:spPr>
              <a:xfrm flipV="1">
                <a:off x="4019400" y="1676160"/>
                <a:ext cx="6984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>
                <a:off x="3995640" y="1676520"/>
                <a:ext cx="98640" cy="115920"/>
              </a:xfrm>
              <a:custGeom>
                <a:avLst/>
                <a:gdLst/>
                <a:ahLst/>
                <a:rect l="l" t="t" r="r" b="b"/>
                <a:pathLst>
                  <a:path w="62" h="73">
                    <a:moveTo>
                      <a:pt x="62" y="73"/>
                    </a:moveTo>
                    <a:lnTo>
                      <a:pt x="59" y="0"/>
                    </a:lnTo>
                    <a:lnTo>
                      <a:pt x="0" y="44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408" name=""/>
                <p:cNvSpPr txBox="1"/>
                <p:nvPr/>
              </p:nvSpPr>
              <p:spPr>
                <a:xfrm>
                  <a:off x="190440" y="4600440"/>
                  <a:ext cx="4465800" cy="77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T</m:t>
                          </m:r>
                          <m:r>
                            <m:t xml:space="preserve">2</m:t>
                          </m:r>
                          <m:r>
                            <m:rPr>
                              <m:lit/>
                              <m:nor/>
                            </m:rPr>
                            <m:t xml:space="preserve">DC</m:t>
                          </m:r>
                        </m:sub>
                      </m:sSub>
                      <m:d>
                        <m:dPr>
                          <m:begChr m:val="("/>
                          <m:endChr m:val=")"/>
                        </m:dPr>
                        <m:e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0</m:t>
                              </m:r>
                            </m:sub>
                          </m:sSub>
                          <m:f>
                            <m:num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t xml:space="preserve">R</m:t>
                              </m:r>
                            </m:sub>
                          </m:sSub>
                        </m:e>
                      </m:d>
                      <m:r>
                        <m:t xml:space="preserve">−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BE</m:t>
                          </m:r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2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09" name=""/>
                <p:cNvSpPr txBox="1"/>
                <p:nvPr/>
              </p:nvSpPr>
              <p:spPr>
                <a:xfrm>
                  <a:off x="511200" y="5870520"/>
                  <a:ext cx="3164040" cy="798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20</m:t>
                          </m:r>
                        </m:sub>
                      </m:sSub>
                      <m:r>
                        <m:t xml:space="preserve">≈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BE</m:t>
                          </m:r>
                          <m:r>
                            <m:t xml:space="preserve">2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⋅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1</m:t>
                          </m:r>
                          <m:r>
                            <m:t xml:space="preserve">+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p:grpSp>
          <p:nvGrpSpPr>
            <p:cNvPr id="1410" name=""/>
            <p:cNvGrpSpPr/>
            <p:nvPr/>
          </p:nvGrpSpPr>
          <p:grpSpPr>
            <a:xfrm>
              <a:off x="4440240" y="2687760"/>
              <a:ext cx="76320" cy="304560"/>
              <a:chOff x="4440240" y="2687760"/>
              <a:chExt cx="76320" cy="304560"/>
            </a:xfrm>
          </p:grpSpPr>
          <p:sp>
            <p:nvSpPr>
              <p:cNvPr id="1411" name=""/>
              <p:cNvSpPr/>
              <p:nvPr/>
            </p:nvSpPr>
            <p:spPr>
              <a:xfrm>
                <a:off x="4440240" y="2687760"/>
                <a:ext cx="0" cy="304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>
                <a:off x="4516560" y="2687760"/>
                <a:ext cx="0" cy="304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13" name=""/>
            <p:cNvSpPr/>
            <p:nvPr/>
          </p:nvSpPr>
          <p:spPr>
            <a:xfrm>
              <a:off x="3933720" y="2822400"/>
              <a:ext cx="493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4514760" y="2828880"/>
              <a:ext cx="247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4753080" y="2819520"/>
              <a:ext cx="0" cy="55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3914640" y="2781360"/>
              <a:ext cx="61920" cy="61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4724280" y="3362400"/>
              <a:ext cx="61920" cy="61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4419000" y="2389320"/>
              <a:ext cx="3470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 flipV="1">
              <a:off x="4083120" y="3451320"/>
              <a:ext cx="433440" cy="37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4431960" y="3530520"/>
              <a:ext cx="5356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BE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 rot="27600">
              <a:off x="1160640" y="4500360"/>
              <a:ext cx="1974600" cy="976320"/>
            </a:xfrm>
            <a:prstGeom prst="ellipse">
              <a:avLst/>
            </a:pr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22" name=""/>
            <p:cNvGrpSpPr/>
            <p:nvPr/>
          </p:nvGrpSpPr>
          <p:grpSpPr>
            <a:xfrm>
              <a:off x="4849920" y="4654440"/>
              <a:ext cx="3975120" cy="1334880"/>
              <a:chOff x="4849920" y="4654440"/>
              <a:chExt cx="3975120" cy="1334880"/>
            </a:xfrm>
          </p:grpSpPr>
          <mc:AlternateContent>
            <mc:Choice xmlns:a14="http://schemas.microsoft.com/office/drawing/2010/main" Requires="a14">
              <p:sp>
                <p:nvSpPr>
                  <p:cNvPr id="1423" name=""/>
                  <p:cNvSpPr txBox="1"/>
                  <p:nvPr/>
                </p:nvSpPr>
                <p:spPr>
                  <a:xfrm>
                    <a:off x="4989960" y="4778280"/>
                    <a:ext cx="852480" cy="4395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C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424" name=""/>
              <p:cNvSpPr/>
              <p:nvPr/>
            </p:nvSpPr>
            <p:spPr>
              <a:xfrm>
                <a:off x="5364360" y="4809960"/>
                <a:ext cx="3460680" cy="105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lvl="1" marL="4572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wzmocnienie T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lvl="1" marL="4572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jako wzmacniacz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lvl="1" marL="4572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prądu stałeg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4849920" y="4654440"/>
                <a:ext cx="3265560" cy="1334880"/>
              </a:xfrm>
              <a:prstGeom prst="rect">
                <a:avLst/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26" name=""/>
            <p:cNvSpPr/>
            <p:nvPr/>
          </p:nvSpPr>
          <p:spPr>
            <a:xfrm>
              <a:off x="4345200" y="6056280"/>
              <a:ext cx="2315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la dużego 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2D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 flipH="1">
              <a:off x="3935520" y="6310440"/>
              <a:ext cx="33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2238480" y="3699000"/>
              <a:ext cx="1844640" cy="792000"/>
            </a:xfrm>
            <a:custGeom>
              <a:avLst/>
              <a:gdLst/>
              <a:ahLst/>
              <a:rect l="l" t="t" r="r" b="b"/>
              <a:pathLst>
                <a:path w="1123" h="398">
                  <a:moveTo>
                    <a:pt x="0" y="398"/>
                  </a:moveTo>
                  <a:cubicBezTo>
                    <a:pt x="156" y="275"/>
                    <a:pt x="312" y="152"/>
                    <a:pt x="499" y="86"/>
                  </a:cubicBezTo>
                  <a:cubicBezTo>
                    <a:pt x="686" y="20"/>
                    <a:pt x="904" y="10"/>
                    <a:pt x="1123" y="0"/>
                  </a:cubicBezTo>
                </a:path>
              </a:pathLst>
            </a:custGeom>
            <a:noFill/>
            <a:ln w="936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160200" y="4267080"/>
              <a:ext cx="3216240" cy="1535400"/>
            </a:xfrm>
            <a:prstGeom prst="ellipse">
              <a:avLst/>
            </a:prstGeom>
            <a:noFill/>
            <a:ln w="1908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1460520" y="2498760"/>
              <a:ext cx="2374920" cy="1770120"/>
            </a:xfrm>
            <a:custGeom>
              <a:avLst/>
              <a:gdLst/>
              <a:ahLst/>
              <a:rect l="l" t="t" r="r" b="b"/>
              <a:pathLst>
                <a:path w="1496" h="1115">
                  <a:moveTo>
                    <a:pt x="0" y="1115"/>
                  </a:moveTo>
                  <a:cubicBezTo>
                    <a:pt x="125" y="904"/>
                    <a:pt x="251" y="694"/>
                    <a:pt x="366" y="546"/>
                  </a:cubicBezTo>
                  <a:cubicBezTo>
                    <a:pt x="481" y="398"/>
                    <a:pt x="505" y="317"/>
                    <a:pt x="693" y="226"/>
                  </a:cubicBezTo>
                  <a:cubicBezTo>
                    <a:pt x="881" y="135"/>
                    <a:pt x="1188" y="67"/>
                    <a:pt x="1496" y="0"/>
                  </a:cubicBezTo>
                </a:path>
              </a:pathLst>
            </a:custGeom>
            <a:noFill/>
            <a:ln w="12600">
              <a:solidFill>
                <a:srgbClr val="0099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86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ILIZATOR KOMPENSACYJNY ZE WZMACNIACZEM  OPERACYJNY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6054840" y="4124160"/>
            <a:ext cx="183960" cy="471600"/>
          </a:xfrm>
          <a:prstGeom prst="rect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6143760" y="3940200"/>
            <a:ext cx="1440" cy="2001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6143760" y="4584600"/>
            <a:ext cx="1440" cy="5652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6297480" y="4226040"/>
            <a:ext cx="385920" cy="33804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6381360" y="4267080"/>
            <a:ext cx="14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6519600" y="4373640"/>
            <a:ext cx="70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 flipH="1" flipV="1">
            <a:off x="5179680" y="3987720"/>
            <a:ext cx="947880" cy="64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6054840" y="3279600"/>
            <a:ext cx="183960" cy="474840"/>
          </a:xfrm>
          <a:prstGeom prst="rect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6143760" y="1914480"/>
            <a:ext cx="1440" cy="13813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6143760" y="3745080"/>
            <a:ext cx="1440" cy="2314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6297480" y="3379680"/>
            <a:ext cx="385920" cy="33840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6381360" y="3421080"/>
            <a:ext cx="14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6519600" y="3527280"/>
            <a:ext cx="70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5573880" y="2846520"/>
            <a:ext cx="179280" cy="476280"/>
          </a:xfrm>
          <a:prstGeom prst="rect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3259080" y="2224080"/>
            <a:ext cx="385920" cy="33804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1763640" y="5167440"/>
            <a:ext cx="553392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3767040" y="1847880"/>
            <a:ext cx="538200" cy="533520"/>
          </a:xfrm>
          <a:prstGeom prst="ellipse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 flipH="1">
            <a:off x="3882960" y="2212920"/>
            <a:ext cx="301680" cy="18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 flipV="1">
            <a:off x="4114800" y="1932120"/>
            <a:ext cx="117360" cy="26496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 flipH="1" flipV="1">
            <a:off x="3835440" y="1932120"/>
            <a:ext cx="131760" cy="26496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4025880" y="2212920"/>
            <a:ext cx="1440" cy="163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 flipH="1">
            <a:off x="1752480" y="1932120"/>
            <a:ext cx="208296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 flipV="1">
            <a:off x="4241880" y="1927080"/>
            <a:ext cx="3114720" cy="5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 flipV="1">
            <a:off x="4025880" y="2376000"/>
            <a:ext cx="1440" cy="11890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5603760" y="5135400"/>
            <a:ext cx="74880" cy="6372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6111720" y="5129280"/>
            <a:ext cx="69840" cy="6336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6111720" y="3929040"/>
            <a:ext cx="69840" cy="6840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6102360" y="1878120"/>
            <a:ext cx="73080" cy="6804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" bIns="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5640480" y="1905120"/>
            <a:ext cx="68040" cy="6804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" bIns="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7297560" y="1900080"/>
            <a:ext cx="74880" cy="6984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1709640" y="5135400"/>
            <a:ext cx="74880" cy="6372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1709640" y="1895400"/>
            <a:ext cx="74880" cy="6840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4" name=""/>
          <p:cNvGrpSpPr/>
          <p:nvPr/>
        </p:nvGrpSpPr>
        <p:grpSpPr>
          <a:xfrm>
            <a:off x="6149880" y="3949560"/>
            <a:ext cx="898560" cy="11160"/>
            <a:chOff x="6149880" y="3949560"/>
            <a:chExt cx="898560" cy="11160"/>
          </a:xfrm>
        </p:grpSpPr>
        <p:sp>
          <p:nvSpPr>
            <p:cNvPr id="1465" name=""/>
            <p:cNvSpPr/>
            <p:nvPr/>
          </p:nvSpPr>
          <p:spPr>
            <a:xfrm>
              <a:off x="6149880" y="394956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0"/>
                  </a:moveTo>
                  <a:lnTo>
                    <a:pt x="3" y="0"/>
                  </a:lnTo>
                  <a:lnTo>
                    <a:pt x="0" y="4"/>
                  </a:lnTo>
                  <a:lnTo>
                    <a:pt x="3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6" y="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617040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6191280" y="3949560"/>
              <a:ext cx="1080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4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6213240" y="3949560"/>
              <a:ext cx="972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6" y="4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6234120" y="3949560"/>
              <a:ext cx="1080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625464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4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6276960" y="394956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6" y="4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629748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631800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4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6340320" y="394956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6" y="4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636084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638172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4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640224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4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6424560" y="394956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6" y="4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644508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646560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4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6487920" y="3949560"/>
              <a:ext cx="972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6" y="4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650844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652932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4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6551640" y="394956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6" y="4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657216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659268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4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6615000" y="394956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6" y="4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663552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6656400" y="3949560"/>
              <a:ext cx="1080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4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6678360" y="3949560"/>
              <a:ext cx="972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6" y="4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6699240" y="3949560"/>
              <a:ext cx="1080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671976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4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6742080" y="394956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6" y="4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676260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678312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4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6805440" y="3949560"/>
              <a:ext cx="972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6" y="4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682596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684684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4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6868800" y="3949560"/>
              <a:ext cx="972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6" y="4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6889680" y="394956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6" y="4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691020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693072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4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6953040" y="3949560"/>
              <a:ext cx="972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6" y="4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6973920" y="3949560"/>
              <a:ext cx="1080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699444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4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7016760" y="394956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6" y="4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703728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8" name=""/>
          <p:cNvSpPr/>
          <p:nvPr/>
        </p:nvSpPr>
        <p:spPr>
          <a:xfrm>
            <a:off x="7297560" y="5135400"/>
            <a:ext cx="68400" cy="6372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9" name=""/>
          <p:cNvGrpSpPr/>
          <p:nvPr/>
        </p:nvGrpSpPr>
        <p:grpSpPr>
          <a:xfrm>
            <a:off x="6831000" y="4076640"/>
            <a:ext cx="110880" cy="957240"/>
            <a:chOff x="6831000" y="4076640"/>
            <a:chExt cx="110880" cy="957240"/>
          </a:xfrm>
        </p:grpSpPr>
        <p:sp>
          <p:nvSpPr>
            <p:cNvPr id="1510" name=""/>
            <p:cNvSpPr/>
            <p:nvPr/>
          </p:nvSpPr>
          <p:spPr>
            <a:xfrm>
              <a:off x="6883200" y="4076640"/>
              <a:ext cx="6480" cy="9572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6831000" y="4076640"/>
              <a:ext cx="110880" cy="11088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70" y="70"/>
                  </a:moveTo>
                  <a:lnTo>
                    <a:pt x="33" y="0"/>
                  </a:lnTo>
                  <a:lnTo>
                    <a:pt x="0" y="7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2" name=""/>
          <p:cNvGrpSpPr/>
          <p:nvPr/>
        </p:nvGrpSpPr>
        <p:grpSpPr>
          <a:xfrm>
            <a:off x="7265880" y="2112840"/>
            <a:ext cx="111240" cy="2843280"/>
            <a:chOff x="7265880" y="2112840"/>
            <a:chExt cx="111240" cy="2843280"/>
          </a:xfrm>
        </p:grpSpPr>
        <p:sp>
          <p:nvSpPr>
            <p:cNvPr id="1513" name=""/>
            <p:cNvSpPr/>
            <p:nvPr/>
          </p:nvSpPr>
          <p:spPr>
            <a:xfrm>
              <a:off x="7318440" y="2112840"/>
              <a:ext cx="1440" cy="28432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7265880" y="2112840"/>
              <a:ext cx="111240" cy="11124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70" y="70"/>
                  </a:moveTo>
                  <a:lnTo>
                    <a:pt x="33" y="0"/>
                  </a:lnTo>
                  <a:lnTo>
                    <a:pt x="0" y="7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5" name=""/>
          <p:cNvGrpSpPr/>
          <p:nvPr/>
        </p:nvGrpSpPr>
        <p:grpSpPr>
          <a:xfrm>
            <a:off x="1700280" y="2112840"/>
            <a:ext cx="110880" cy="2843280"/>
            <a:chOff x="1700280" y="2112840"/>
            <a:chExt cx="110880" cy="2843280"/>
          </a:xfrm>
        </p:grpSpPr>
        <p:sp>
          <p:nvSpPr>
            <p:cNvPr id="1516" name=""/>
            <p:cNvSpPr/>
            <p:nvPr/>
          </p:nvSpPr>
          <p:spPr>
            <a:xfrm>
              <a:off x="1752480" y="2112840"/>
              <a:ext cx="1800" cy="28432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1700280" y="2112840"/>
              <a:ext cx="110880" cy="11124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70" y="70"/>
                  </a:moveTo>
                  <a:lnTo>
                    <a:pt x="33" y="0"/>
                  </a:lnTo>
                  <a:lnTo>
                    <a:pt x="0" y="7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8" name=""/>
          <p:cNvSpPr/>
          <p:nvPr/>
        </p:nvSpPr>
        <p:spPr>
          <a:xfrm>
            <a:off x="5519880" y="4903920"/>
            <a:ext cx="21564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 flipV="1">
            <a:off x="5540400" y="4788000"/>
            <a:ext cx="79200" cy="10008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5540400" y="4772160"/>
            <a:ext cx="21096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5751360" y="4819680"/>
            <a:ext cx="1800" cy="468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5751360" y="4776840"/>
            <a:ext cx="1800" cy="522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5027760" y="4654440"/>
            <a:ext cx="385560" cy="339840"/>
          </a:xfrm>
          <a:prstGeom prst="rect">
            <a:avLst/>
          </a:prstGeom>
          <a:solidFill>
            <a:srgbClr val="ffffff"/>
          </a:solidFill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5075280" y="4692600"/>
            <a:ext cx="29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D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6953400" y="4325760"/>
            <a:ext cx="433080" cy="401760"/>
          </a:xfrm>
          <a:prstGeom prst="rect">
            <a:avLst/>
          </a:prstGeom>
          <a:solidFill>
            <a:srgbClr val="ffffff"/>
          </a:solidFill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6973560" y="4352760"/>
            <a:ext cx="1515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7105680" y="44164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7264080" y="4521240"/>
            <a:ext cx="70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5635800" y="4903920"/>
            <a:ext cx="4680" cy="2635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0" name=""/>
          <p:cNvGrpSpPr/>
          <p:nvPr/>
        </p:nvGrpSpPr>
        <p:grpSpPr>
          <a:xfrm>
            <a:off x="4305240" y="2122200"/>
            <a:ext cx="195480" cy="344880"/>
            <a:chOff x="4305240" y="2122200"/>
            <a:chExt cx="195480" cy="344880"/>
          </a:xfrm>
        </p:grpSpPr>
        <p:sp>
          <p:nvSpPr>
            <p:cNvPr id="1531" name=""/>
            <p:cNvSpPr/>
            <p:nvPr/>
          </p:nvSpPr>
          <p:spPr>
            <a:xfrm flipV="1">
              <a:off x="4305240" y="2122200"/>
              <a:ext cx="195480" cy="3445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4305240" y="2340000"/>
              <a:ext cx="101520" cy="127080"/>
            </a:xfrm>
            <a:custGeom>
              <a:avLst/>
              <a:gdLst/>
              <a:ahLst/>
              <a:rect l="l" t="t" r="r" b="b"/>
              <a:pathLst>
                <a:path w="64" h="80">
                  <a:moveTo>
                    <a:pt x="4" y="0"/>
                  </a:moveTo>
                  <a:lnTo>
                    <a:pt x="0" y="80"/>
                  </a:lnTo>
                  <a:lnTo>
                    <a:pt x="64" y="33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3" name=""/>
          <p:cNvGrpSpPr/>
          <p:nvPr/>
        </p:nvGrpSpPr>
        <p:grpSpPr>
          <a:xfrm>
            <a:off x="5783400" y="4641840"/>
            <a:ext cx="110880" cy="401760"/>
            <a:chOff x="5783400" y="4641840"/>
            <a:chExt cx="110880" cy="401760"/>
          </a:xfrm>
        </p:grpSpPr>
        <p:sp>
          <p:nvSpPr>
            <p:cNvPr id="1534" name=""/>
            <p:cNvSpPr/>
            <p:nvPr/>
          </p:nvSpPr>
          <p:spPr>
            <a:xfrm>
              <a:off x="5835600" y="4641840"/>
              <a:ext cx="1080" cy="4017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5783400" y="4641840"/>
              <a:ext cx="110880" cy="11124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70" y="70"/>
                  </a:moveTo>
                  <a:lnTo>
                    <a:pt x="33" y="0"/>
                  </a:lnTo>
                  <a:lnTo>
                    <a:pt x="0" y="7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6" name=""/>
          <p:cNvSpPr/>
          <p:nvPr/>
        </p:nvSpPr>
        <p:spPr>
          <a:xfrm>
            <a:off x="1324080" y="3449520"/>
            <a:ext cx="428400" cy="322560"/>
          </a:xfrm>
          <a:prstGeom prst="rect">
            <a:avLst/>
          </a:prstGeom>
          <a:solidFill>
            <a:srgbClr val="ffffff"/>
          </a:solidFill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1427040" y="34862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1582200" y="3592440"/>
            <a:ext cx="140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4527720" y="2233440"/>
            <a:ext cx="485640" cy="322560"/>
          </a:xfrm>
          <a:prstGeom prst="rect">
            <a:avLst/>
          </a:prstGeom>
          <a:solidFill>
            <a:srgbClr val="ffffff"/>
          </a:solidFill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4603680" y="22716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4763880" y="2376360"/>
            <a:ext cx="2415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BE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6365880" y="4708440"/>
            <a:ext cx="385920" cy="317520"/>
          </a:xfrm>
          <a:prstGeom prst="rect">
            <a:avLst/>
          </a:prstGeom>
          <a:solidFill>
            <a:srgbClr val="ffffff"/>
          </a:solidFill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5886360" y="4782960"/>
            <a:ext cx="54792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7402680" y="3433680"/>
            <a:ext cx="466560" cy="322200"/>
          </a:xfrm>
          <a:prstGeom prst="rect">
            <a:avLst/>
          </a:prstGeom>
          <a:solidFill>
            <a:srgbClr val="ffffff"/>
          </a:solidFill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7521480" y="34704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7676640" y="3576600"/>
            <a:ext cx="140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3835440" y="1482840"/>
            <a:ext cx="385560" cy="322200"/>
          </a:xfrm>
          <a:prstGeom prst="rect">
            <a:avLst/>
          </a:prstGeom>
          <a:solidFill>
            <a:srgbClr val="ffffff"/>
          </a:solidFill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3970800" y="152100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4082400" y="1625760"/>
            <a:ext cx="70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 flipH="1" flipV="1">
            <a:off x="5646600" y="4788000"/>
            <a:ext cx="84240" cy="10008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1" name=""/>
          <p:cNvGrpSpPr/>
          <p:nvPr/>
        </p:nvGrpSpPr>
        <p:grpSpPr>
          <a:xfrm>
            <a:off x="4089240" y="2022480"/>
            <a:ext cx="111240" cy="163440"/>
            <a:chOff x="4089240" y="2022480"/>
            <a:chExt cx="111240" cy="163440"/>
          </a:xfrm>
        </p:grpSpPr>
        <p:sp>
          <p:nvSpPr>
            <p:cNvPr id="1552" name=""/>
            <p:cNvSpPr/>
            <p:nvPr/>
          </p:nvSpPr>
          <p:spPr>
            <a:xfrm flipV="1">
              <a:off x="4114800" y="2022480"/>
              <a:ext cx="79200" cy="163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4089240" y="2022480"/>
              <a:ext cx="111240" cy="131760"/>
            </a:xfrm>
            <a:custGeom>
              <a:avLst/>
              <a:gdLst/>
              <a:ahLst/>
              <a:rect l="l" t="t" r="r" b="b"/>
              <a:pathLst>
                <a:path w="70" h="83">
                  <a:moveTo>
                    <a:pt x="70" y="83"/>
                  </a:moveTo>
                  <a:lnTo>
                    <a:pt x="66" y="0"/>
                  </a:lnTo>
                  <a:lnTo>
                    <a:pt x="0" y="50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4" name=""/>
          <p:cNvSpPr/>
          <p:nvPr/>
        </p:nvSpPr>
        <p:spPr>
          <a:xfrm>
            <a:off x="4375080" y="3792600"/>
            <a:ext cx="811440" cy="722160"/>
          </a:xfrm>
          <a:custGeom>
            <a:avLst/>
            <a:gdLst/>
            <a:ahLst/>
            <a:rect l="l" t="t" r="r" b="b"/>
            <a:pathLst>
              <a:path w="400" h="455">
                <a:moveTo>
                  <a:pt x="400" y="0"/>
                </a:moveTo>
                <a:lnTo>
                  <a:pt x="400" y="455"/>
                </a:lnTo>
                <a:lnTo>
                  <a:pt x="0" y="255"/>
                </a:lnTo>
                <a:lnTo>
                  <a:pt x="40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 flipV="1">
            <a:off x="5648400" y="3333240"/>
            <a:ext cx="0" cy="1428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 flipH="1">
            <a:off x="5181120" y="4381560"/>
            <a:ext cx="476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3930480" y="3575160"/>
            <a:ext cx="184320" cy="474480"/>
          </a:xfrm>
          <a:prstGeom prst="rect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4029120" y="4048200"/>
            <a:ext cx="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>
            <a:off x="4038480" y="4210200"/>
            <a:ext cx="352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4957560" y="378144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4929120" y="417672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 flipV="1">
            <a:off x="5657760" y="19242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5611680" y="4343400"/>
            <a:ext cx="68400" cy="6840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3344040" y="3595680"/>
            <a:ext cx="448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4998960" y="2862360"/>
            <a:ext cx="546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D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4762800" y="3976560"/>
            <a:ext cx="3423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7" name=""/>
              <p:cNvSpPr txBox="1"/>
              <p:nvPr/>
            </p:nvSpPr>
            <p:spPr>
              <a:xfrm>
                <a:off x="2608200" y="5446800"/>
                <a:ext cx="3167280" cy="97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ILIZATOR JAKO WZMACNIACZ ZE SPRZĘŻENIEM ZWROTNY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3016080" y="2714760"/>
            <a:ext cx="1498680" cy="1287360"/>
          </a:xfrm>
          <a:custGeom>
            <a:avLst/>
            <a:gdLst/>
            <a:ahLst/>
            <a:rect l="l" t="t" r="r" b="b"/>
            <a:pathLst>
              <a:path w="944" h="811">
                <a:moveTo>
                  <a:pt x="0" y="0"/>
                </a:moveTo>
                <a:lnTo>
                  <a:pt x="0" y="811"/>
                </a:lnTo>
                <a:lnTo>
                  <a:pt x="944" y="411"/>
                </a:lnTo>
                <a:lnTo>
                  <a:pt x="0" y="0"/>
                </a:lnTo>
                <a:close/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3121200" y="1779480"/>
            <a:ext cx="847440" cy="21132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1562040" y="1790640"/>
            <a:ext cx="847800" cy="21132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3968640" y="1903320"/>
            <a:ext cx="93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4903920" y="1903320"/>
            <a:ext cx="0" cy="149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 flipH="1">
            <a:off x="4514400" y="3384720"/>
            <a:ext cx="1111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2416320" y="1903320"/>
            <a:ext cx="72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 flipH="1">
            <a:off x="2839680" y="3030480"/>
            <a:ext cx="176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 flipV="1">
            <a:off x="2820960" y="1903320"/>
            <a:ext cx="0" cy="112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2309760" y="4583160"/>
            <a:ext cx="600120" cy="565200"/>
          </a:xfrm>
          <a:prstGeom prst="ellipse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 flipV="1">
            <a:off x="2610000" y="470664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 flipH="1">
            <a:off x="2644560" y="3666960"/>
            <a:ext cx="371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2627280" y="3666960"/>
            <a:ext cx="0" cy="91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2610000" y="5148360"/>
            <a:ext cx="0" cy="33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2503440" y="5483160"/>
            <a:ext cx="282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 flipH="1">
            <a:off x="1287360" y="1920960"/>
            <a:ext cx="26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1270080" y="1779480"/>
            <a:ext cx="0" cy="317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2763720" y="1870200"/>
            <a:ext cx="7488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4869000" y="3346560"/>
            <a:ext cx="7452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3445920" y="3132000"/>
            <a:ext cx="461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3048120" y="275760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3047400" y="34671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3076200" y="4525920"/>
            <a:ext cx="51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2" name=""/>
              <p:cNvSpPr txBox="1"/>
              <p:nvPr/>
            </p:nvSpPr>
            <p:spPr>
              <a:xfrm>
                <a:off x="6012000" y="2990880"/>
                <a:ext cx="229680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Y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93" name=""/>
          <p:cNvSpPr/>
          <p:nvPr/>
        </p:nvSpPr>
        <p:spPr>
          <a:xfrm>
            <a:off x="1484640" y="113976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3329280" y="120492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1528920" y="5834160"/>
            <a:ext cx="613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Ujemne sprzężenie zwrotne jest bardzo siln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WPŁYW SPRZĘŻENIA ZWROTNEGO NA STABILNOŚ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5469480" y="1422360"/>
            <a:ext cx="279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ryterium BODE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1911240" y="1168560"/>
            <a:ext cx="0" cy="26701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1711440" y="3473280"/>
            <a:ext cx="494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6627600" y="301464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2048040" y="987480"/>
            <a:ext cx="1069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|k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2" name=""/>
              <p:cNvSpPr txBox="1"/>
              <p:nvPr/>
            </p:nvSpPr>
            <p:spPr>
              <a:xfrm>
                <a:off x="6546960" y="3005280"/>
                <a:ext cx="164880" cy="18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3" name=""/>
              <p:cNvSpPr txBox="1"/>
              <p:nvPr/>
            </p:nvSpPr>
            <p:spPr>
              <a:xfrm>
                <a:off x="6546960" y="3005280"/>
                <a:ext cx="164880" cy="18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604" name=""/>
          <p:cNvSpPr/>
          <p:nvPr/>
        </p:nvSpPr>
        <p:spPr>
          <a:xfrm>
            <a:off x="1727280" y="4156200"/>
            <a:ext cx="4906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1917720" y="4030560"/>
            <a:ext cx="0" cy="1749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888840" y="391644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8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1917720" y="4173480"/>
            <a:ext cx="4964040" cy="1193760"/>
          </a:xfrm>
          <a:custGeom>
            <a:avLst/>
            <a:gdLst/>
            <a:ahLst/>
            <a:rect l="l" t="t" r="r" b="b"/>
            <a:pathLst>
              <a:path w="2317" h="749">
                <a:moveTo>
                  <a:pt x="0" y="0"/>
                </a:moveTo>
                <a:cubicBezTo>
                  <a:pt x="169" y="6"/>
                  <a:pt x="328" y="15"/>
                  <a:pt x="478" y="44"/>
                </a:cubicBezTo>
                <a:cubicBezTo>
                  <a:pt x="628" y="73"/>
                  <a:pt x="793" y="130"/>
                  <a:pt x="901" y="173"/>
                </a:cubicBezTo>
                <a:cubicBezTo>
                  <a:pt x="1009" y="216"/>
                  <a:pt x="1051" y="258"/>
                  <a:pt x="1129" y="305"/>
                </a:cubicBezTo>
                <a:cubicBezTo>
                  <a:pt x="1207" y="352"/>
                  <a:pt x="1288" y="413"/>
                  <a:pt x="1369" y="455"/>
                </a:cubicBezTo>
                <a:cubicBezTo>
                  <a:pt x="1450" y="497"/>
                  <a:pt x="1521" y="522"/>
                  <a:pt x="1615" y="557"/>
                </a:cubicBezTo>
                <a:cubicBezTo>
                  <a:pt x="1709" y="592"/>
                  <a:pt x="1816" y="633"/>
                  <a:pt x="1933" y="665"/>
                </a:cubicBezTo>
                <a:cubicBezTo>
                  <a:pt x="2050" y="697"/>
                  <a:pt x="2237" y="732"/>
                  <a:pt x="2317" y="749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1965240" y="1606680"/>
            <a:ext cx="4492800" cy="1828800"/>
          </a:xfrm>
          <a:custGeom>
            <a:avLst/>
            <a:gdLst/>
            <a:ahLst/>
            <a:rect l="l" t="t" r="r" b="b"/>
            <a:pathLst>
              <a:path w="2097" h="1148">
                <a:moveTo>
                  <a:pt x="0" y="0"/>
                </a:moveTo>
                <a:cubicBezTo>
                  <a:pt x="106" y="2"/>
                  <a:pt x="212" y="5"/>
                  <a:pt x="334" y="11"/>
                </a:cubicBezTo>
                <a:cubicBezTo>
                  <a:pt x="456" y="17"/>
                  <a:pt x="608" y="15"/>
                  <a:pt x="734" y="33"/>
                </a:cubicBezTo>
                <a:cubicBezTo>
                  <a:pt x="860" y="51"/>
                  <a:pt x="993" y="66"/>
                  <a:pt x="1089" y="122"/>
                </a:cubicBezTo>
                <a:cubicBezTo>
                  <a:pt x="1185" y="178"/>
                  <a:pt x="1243" y="256"/>
                  <a:pt x="1312" y="366"/>
                </a:cubicBezTo>
                <a:cubicBezTo>
                  <a:pt x="1381" y="476"/>
                  <a:pt x="1443" y="663"/>
                  <a:pt x="1503" y="782"/>
                </a:cubicBezTo>
                <a:cubicBezTo>
                  <a:pt x="1563" y="901"/>
                  <a:pt x="1601" y="1023"/>
                  <a:pt x="1671" y="1082"/>
                </a:cubicBezTo>
                <a:cubicBezTo>
                  <a:pt x="1741" y="1141"/>
                  <a:pt x="1852" y="1125"/>
                  <a:pt x="1923" y="1136"/>
                </a:cubicBezTo>
                <a:cubicBezTo>
                  <a:pt x="1994" y="1147"/>
                  <a:pt x="2061" y="1146"/>
                  <a:pt x="2097" y="114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1893960" y="3040200"/>
            <a:ext cx="3405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5288040" y="3040200"/>
            <a:ext cx="0" cy="1954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 flipH="1">
            <a:off x="1928880" y="5025960"/>
            <a:ext cx="33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1511640" y="278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>
            <a:off x="900000" y="499752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360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1909800" y="1582560"/>
            <a:ext cx="3930480" cy="1881360"/>
          </a:xfrm>
          <a:custGeom>
            <a:avLst/>
            <a:gdLst/>
            <a:ahLst/>
            <a:rect l="l" t="t" r="r" b="b"/>
            <a:pathLst>
              <a:path w="1835" h="1181">
                <a:moveTo>
                  <a:pt x="0" y="0"/>
                </a:moveTo>
                <a:cubicBezTo>
                  <a:pt x="93" y="2"/>
                  <a:pt x="186" y="8"/>
                  <a:pt x="294" y="11"/>
                </a:cubicBezTo>
                <a:cubicBezTo>
                  <a:pt x="402" y="14"/>
                  <a:pt x="525" y="13"/>
                  <a:pt x="647" y="17"/>
                </a:cubicBezTo>
                <a:cubicBezTo>
                  <a:pt x="769" y="21"/>
                  <a:pt x="919" y="15"/>
                  <a:pt x="1025" y="35"/>
                </a:cubicBezTo>
                <a:cubicBezTo>
                  <a:pt x="1131" y="55"/>
                  <a:pt x="1220" y="19"/>
                  <a:pt x="1283" y="137"/>
                </a:cubicBezTo>
                <a:cubicBezTo>
                  <a:pt x="1346" y="255"/>
                  <a:pt x="1368" y="593"/>
                  <a:pt x="1403" y="743"/>
                </a:cubicBezTo>
                <a:cubicBezTo>
                  <a:pt x="1438" y="893"/>
                  <a:pt x="1458" y="972"/>
                  <a:pt x="1493" y="1037"/>
                </a:cubicBezTo>
                <a:cubicBezTo>
                  <a:pt x="1528" y="1102"/>
                  <a:pt x="1585" y="1113"/>
                  <a:pt x="1613" y="1133"/>
                </a:cubicBezTo>
                <a:cubicBezTo>
                  <a:pt x="1641" y="1153"/>
                  <a:pt x="1624" y="1149"/>
                  <a:pt x="1661" y="1157"/>
                </a:cubicBezTo>
                <a:cubicBezTo>
                  <a:pt x="1698" y="1165"/>
                  <a:pt x="1799" y="1176"/>
                  <a:pt x="1835" y="1181"/>
                </a:cubicBezTo>
              </a:path>
            </a:pathLst>
          </a:custGeom>
          <a:noFill/>
          <a:ln w="2844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1943280" y="4173480"/>
            <a:ext cx="4282920" cy="1852560"/>
          </a:xfrm>
          <a:custGeom>
            <a:avLst/>
            <a:gdLst/>
            <a:ahLst/>
            <a:rect l="l" t="t" r="r" b="b"/>
            <a:pathLst>
              <a:path w="1999" h="1163">
                <a:moveTo>
                  <a:pt x="0" y="0"/>
                </a:moveTo>
                <a:cubicBezTo>
                  <a:pt x="85" y="5"/>
                  <a:pt x="358" y="13"/>
                  <a:pt x="511" y="29"/>
                </a:cubicBezTo>
                <a:cubicBezTo>
                  <a:pt x="664" y="45"/>
                  <a:pt x="807" y="53"/>
                  <a:pt x="919" y="95"/>
                </a:cubicBezTo>
                <a:cubicBezTo>
                  <a:pt x="1031" y="137"/>
                  <a:pt x="1110" y="200"/>
                  <a:pt x="1183" y="281"/>
                </a:cubicBezTo>
                <a:cubicBezTo>
                  <a:pt x="1256" y="362"/>
                  <a:pt x="1312" y="494"/>
                  <a:pt x="1357" y="581"/>
                </a:cubicBezTo>
                <a:cubicBezTo>
                  <a:pt x="1402" y="668"/>
                  <a:pt x="1420" y="743"/>
                  <a:pt x="1453" y="803"/>
                </a:cubicBezTo>
                <a:cubicBezTo>
                  <a:pt x="1486" y="863"/>
                  <a:pt x="1503" y="894"/>
                  <a:pt x="1555" y="941"/>
                </a:cubicBezTo>
                <a:cubicBezTo>
                  <a:pt x="1607" y="988"/>
                  <a:pt x="1691" y="1048"/>
                  <a:pt x="1765" y="1085"/>
                </a:cubicBezTo>
                <a:cubicBezTo>
                  <a:pt x="1839" y="1122"/>
                  <a:pt x="1950" y="1147"/>
                  <a:pt x="1999" y="1163"/>
                </a:cubicBezTo>
              </a:path>
            </a:pathLst>
          </a:custGeom>
          <a:noFill/>
          <a:ln w="2844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5018040" y="3059280"/>
            <a:ext cx="0" cy="234288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 flipH="1">
            <a:off x="1747800" y="5254560"/>
            <a:ext cx="46101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2446200" y="5032440"/>
            <a:ext cx="0" cy="209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2621880" y="4964040"/>
            <a:ext cx="105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es faz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 flipV="1">
            <a:off x="6111720" y="3413160"/>
            <a:ext cx="0" cy="1854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>
            <a:off x="6523200" y="2387880"/>
            <a:ext cx="1336680" cy="459360"/>
          </a:xfrm>
          <a:prstGeom prst="wedgeRectCallout">
            <a:avLst>
              <a:gd name="adj1" fmla="val -78833"/>
              <a:gd name="adj2" fmla="val 13472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es amplitu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6111720" y="3013200"/>
            <a:ext cx="0" cy="393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1725840" y="574524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5308560" y="3035160"/>
            <a:ext cx="1041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5" name=""/>
              <p:cNvSpPr txBox="1"/>
              <p:nvPr/>
            </p:nvSpPr>
            <p:spPr>
              <a:xfrm>
                <a:off x="2171880" y="1876320"/>
                <a:ext cx="131256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ilizator o małym napięciu wyjściowym (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5326200" y="3319560"/>
            <a:ext cx="163440" cy="415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5405400" y="3156120"/>
            <a:ext cx="1800" cy="177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 flipH="1">
            <a:off x="5398920" y="3726000"/>
            <a:ext cx="6480" cy="110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5540400" y="3408480"/>
            <a:ext cx="341280" cy="29844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5659200" y="3446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5763600" y="354024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3875040" y="2927520"/>
            <a:ext cx="471600" cy="4712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>
            <a:off x="4192560" y="3030480"/>
            <a:ext cx="3240" cy="262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 flipH="1" flipV="1">
            <a:off x="3944880" y="2984400"/>
            <a:ext cx="238320" cy="106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6" name=""/>
          <p:cNvGrpSpPr/>
          <p:nvPr/>
        </p:nvGrpSpPr>
        <p:grpSpPr>
          <a:xfrm>
            <a:off x="4033440" y="3193920"/>
            <a:ext cx="149400" cy="98640"/>
            <a:chOff x="4033440" y="3193920"/>
            <a:chExt cx="149400" cy="98640"/>
          </a:xfrm>
        </p:grpSpPr>
        <p:sp>
          <p:nvSpPr>
            <p:cNvPr id="1637" name=""/>
            <p:cNvSpPr/>
            <p:nvPr/>
          </p:nvSpPr>
          <p:spPr>
            <a:xfrm flipH="1">
              <a:off x="4033440" y="3218040"/>
              <a:ext cx="149400" cy="74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4033800" y="3193920"/>
              <a:ext cx="115920" cy="98640"/>
            </a:xfrm>
            <a:custGeom>
              <a:avLst/>
              <a:gdLst/>
              <a:ahLst/>
              <a:rect l="l" t="t" r="r" b="b"/>
              <a:pathLst>
                <a:path w="73" h="62">
                  <a:moveTo>
                    <a:pt x="41" y="0"/>
                  </a:moveTo>
                  <a:lnTo>
                    <a:pt x="0" y="62"/>
                  </a:lnTo>
                  <a:lnTo>
                    <a:pt x="73" y="6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9" name=""/>
          <p:cNvSpPr/>
          <p:nvPr/>
        </p:nvSpPr>
        <p:spPr>
          <a:xfrm flipH="1">
            <a:off x="3944520" y="3292560"/>
            <a:ext cx="88920" cy="46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4192560" y="3165480"/>
            <a:ext cx="149400" cy="4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>
            <a:off x="3944880" y="3333600"/>
            <a:ext cx="4680" cy="54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 flipV="1">
            <a:off x="3935520" y="2787480"/>
            <a:ext cx="4680" cy="19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 flipH="1" flipV="1">
            <a:off x="4336920" y="3165120"/>
            <a:ext cx="105408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5326200" y="2573280"/>
            <a:ext cx="163440" cy="4190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5405400" y="1368360"/>
            <a:ext cx="180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5405400" y="2984400"/>
            <a:ext cx="1800" cy="204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5540400" y="2662200"/>
            <a:ext cx="341280" cy="29844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5659200" y="26989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5763600" y="27925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3052800" y="1536840"/>
            <a:ext cx="158760" cy="420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3132000" y="1378080"/>
            <a:ext cx="1800" cy="17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3132000" y="1947960"/>
            <a:ext cx="1800" cy="204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3262320" y="1625760"/>
            <a:ext cx="341280" cy="29844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3369960" y="16668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3475440" y="176040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1941480" y="4226040"/>
            <a:ext cx="48880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3711600" y="1293840"/>
            <a:ext cx="476280" cy="4716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 flipH="1">
            <a:off x="3812760" y="1616040"/>
            <a:ext cx="266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 flipV="1">
            <a:off x="4019400" y="1368360"/>
            <a:ext cx="101880" cy="233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 flipH="1" flipV="1">
            <a:off x="3771720" y="1368360"/>
            <a:ext cx="115560" cy="233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3940200" y="1616040"/>
            <a:ext cx="144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 flipH="1">
            <a:off x="1931760" y="1368360"/>
            <a:ext cx="1839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 flipV="1">
            <a:off x="4130640" y="1363320"/>
            <a:ext cx="275112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 flipV="1">
            <a:off x="3940200" y="1760400"/>
            <a:ext cx="1440" cy="105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3127320" y="2138400"/>
            <a:ext cx="822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5378400" y="3146400"/>
            <a:ext cx="6048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5369040" y="1335240"/>
            <a:ext cx="6480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3094200" y="133524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6829560" y="1339920"/>
            <a:ext cx="64800" cy="61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3911760" y="2111400"/>
            <a:ext cx="60120" cy="55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1895400" y="4197240"/>
            <a:ext cx="65160" cy="57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1895400" y="1335240"/>
            <a:ext cx="65160" cy="61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3" name=""/>
          <p:cNvGrpSpPr/>
          <p:nvPr/>
        </p:nvGrpSpPr>
        <p:grpSpPr>
          <a:xfrm>
            <a:off x="5410080" y="3165480"/>
            <a:ext cx="793800" cy="9360"/>
            <a:chOff x="5410080" y="3165480"/>
            <a:chExt cx="793800" cy="9360"/>
          </a:xfrm>
        </p:grpSpPr>
        <p:sp>
          <p:nvSpPr>
            <p:cNvPr id="1674" name=""/>
            <p:cNvSpPr/>
            <p:nvPr/>
          </p:nvSpPr>
          <p:spPr>
            <a:xfrm>
              <a:off x="5410080" y="31654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5429160" y="31654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5448240" y="31654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5465880" y="31654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5484960" y="31654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5504040" y="31654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5522760" y="31654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5540400" y="31654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5559480" y="31654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5578560" y="31654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5597640" y="31654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5616720" y="316548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5634000" y="31654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5653080" y="31654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5672160" y="31654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5691240" y="316548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5708520" y="31654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5727600" y="31654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5746680" y="31654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5765760" y="31654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5783400" y="31654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5802480" y="31654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5821200" y="31654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5840280" y="31654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5857920" y="31654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5877000" y="31654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5896080" y="31654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5915160" y="31654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5934240" y="316548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5951520" y="31654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5970600" y="31654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5989680" y="31654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6008760" y="316548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6026040" y="31654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6045120" y="31654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6064200" y="31654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6083280" y="316548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6100920" y="31654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6119640" y="31654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6138720" y="31654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6157800" y="31654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6175440" y="31654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6194520" y="31654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7" name=""/>
          <p:cNvSpPr/>
          <p:nvPr/>
        </p:nvSpPr>
        <p:spPr>
          <a:xfrm>
            <a:off x="6829560" y="4197240"/>
            <a:ext cx="60120" cy="57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8" name=""/>
          <p:cNvGrpSpPr/>
          <p:nvPr/>
        </p:nvGrpSpPr>
        <p:grpSpPr>
          <a:xfrm>
            <a:off x="6802560" y="1527120"/>
            <a:ext cx="96840" cy="2511360"/>
            <a:chOff x="6802560" y="1527120"/>
            <a:chExt cx="96840" cy="2511360"/>
          </a:xfrm>
        </p:grpSpPr>
        <p:sp>
          <p:nvSpPr>
            <p:cNvPr id="1719" name=""/>
            <p:cNvSpPr/>
            <p:nvPr/>
          </p:nvSpPr>
          <p:spPr>
            <a:xfrm>
              <a:off x="6848640" y="1527120"/>
              <a:ext cx="1440" cy="251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6802560" y="1527120"/>
              <a:ext cx="96840" cy="98640"/>
            </a:xfrm>
            <a:custGeom>
              <a:avLst/>
              <a:gdLst/>
              <a:ahLst/>
              <a:rect l="l" t="t" r="r" b="b"/>
              <a:pathLst>
                <a:path w="61" h="62">
                  <a:moveTo>
                    <a:pt x="61" y="62"/>
                  </a:moveTo>
                  <a:lnTo>
                    <a:pt x="29" y="0"/>
                  </a:lnTo>
                  <a:lnTo>
                    <a:pt x="0" y="6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1" name=""/>
          <p:cNvGrpSpPr/>
          <p:nvPr/>
        </p:nvGrpSpPr>
        <p:grpSpPr>
          <a:xfrm>
            <a:off x="1886040" y="1527120"/>
            <a:ext cx="98280" cy="2511360"/>
            <a:chOff x="1886040" y="1527120"/>
            <a:chExt cx="98280" cy="2511360"/>
          </a:xfrm>
        </p:grpSpPr>
        <p:sp>
          <p:nvSpPr>
            <p:cNvPr id="1722" name=""/>
            <p:cNvSpPr/>
            <p:nvPr/>
          </p:nvSpPr>
          <p:spPr>
            <a:xfrm>
              <a:off x="1932120" y="1527120"/>
              <a:ext cx="1440" cy="251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1886040" y="1527120"/>
              <a:ext cx="98280" cy="9864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62" y="62"/>
                  </a:moveTo>
                  <a:lnTo>
                    <a:pt x="29" y="0"/>
                  </a:lnTo>
                  <a:lnTo>
                    <a:pt x="0" y="6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4" name=""/>
          <p:cNvSpPr/>
          <p:nvPr/>
        </p:nvSpPr>
        <p:spPr>
          <a:xfrm>
            <a:off x="3841920" y="3992400"/>
            <a:ext cx="1918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"/>
          <p:cNvSpPr/>
          <p:nvPr/>
        </p:nvSpPr>
        <p:spPr>
          <a:xfrm flipV="1">
            <a:off x="3860640" y="3889080"/>
            <a:ext cx="69840" cy="88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>
            <a:off x="3860640" y="3875040"/>
            <a:ext cx="185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>
            <a:off x="4046400" y="3917880"/>
            <a:ext cx="1800" cy="4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>
            <a:off x="4046400" y="3879720"/>
            <a:ext cx="1800" cy="4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"/>
          <p:cNvSpPr/>
          <p:nvPr/>
        </p:nvSpPr>
        <p:spPr>
          <a:xfrm>
            <a:off x="3406680" y="3773520"/>
            <a:ext cx="341280" cy="298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>
            <a:off x="3492720" y="3805200"/>
            <a:ext cx="25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D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>
            <a:off x="6119640" y="3497400"/>
            <a:ext cx="382680" cy="355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>
            <a:off x="6213960" y="3521160"/>
            <a:ext cx="130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>
            <a:off x="6254640" y="3576600"/>
            <a:ext cx="103356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0000"/>
                </a:solidFill>
                <a:latin typeface="Times New Roman"/>
              </a:rPr>
              <a:t>(U</a:t>
            </a:r>
            <a:r>
              <a:rPr b="0" i="1" lang="pl-PL" sz="18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i="1" lang="pl-PL" sz="1800" spc="-1" strike="noStrike">
                <a:solidFill>
                  <a:srgbClr val="000000"/>
                </a:solidFill>
                <a:latin typeface="Times New Roman"/>
              </a:rPr>
              <a:t> + U</a:t>
            </a:r>
            <a:r>
              <a:rPr b="0" i="1" lang="pl-PL" sz="1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pl-PL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4" name=""/>
          <p:cNvGrpSpPr/>
          <p:nvPr/>
        </p:nvGrpSpPr>
        <p:grpSpPr>
          <a:xfrm>
            <a:off x="3940200" y="3665520"/>
            <a:ext cx="644400" cy="14400"/>
            <a:chOff x="3940200" y="3665520"/>
            <a:chExt cx="644400" cy="14400"/>
          </a:xfrm>
        </p:grpSpPr>
        <p:sp>
          <p:nvSpPr>
            <p:cNvPr id="1735" name=""/>
            <p:cNvSpPr/>
            <p:nvPr/>
          </p:nvSpPr>
          <p:spPr>
            <a:xfrm>
              <a:off x="3940200" y="366552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3959280" y="366552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3976560" y="366552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3995640" y="366552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4014720" y="366552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4033800" y="366552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4051440" y="366552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4070520" y="366552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4089240" y="366552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4108320" y="366552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4125960" y="366552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4145040" y="366552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4164120" y="366552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4183200" y="366552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4200480" y="366552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4219560" y="366552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4238640" y="366552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4257720" y="366552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4275000" y="367020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4294080" y="367020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4313160" y="367020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4332240" y="367020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4351320" y="367020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6"/>
                  </a:lnTo>
                  <a:lnTo>
                    <a:pt x="5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4368960" y="367020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4387680" y="367020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4406760" y="367020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4425840" y="367020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5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4443480" y="367020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4462560" y="367020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4481640" y="367020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4500720" y="367020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4518000" y="367020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4537080" y="367020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4556160" y="367020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4575240" y="367020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0" name=""/>
          <p:cNvGrpSpPr/>
          <p:nvPr/>
        </p:nvGrpSpPr>
        <p:grpSpPr>
          <a:xfrm>
            <a:off x="4187880" y="1536840"/>
            <a:ext cx="171360" cy="303120"/>
            <a:chOff x="4187880" y="1536840"/>
            <a:chExt cx="171360" cy="303120"/>
          </a:xfrm>
        </p:grpSpPr>
        <p:sp>
          <p:nvSpPr>
            <p:cNvPr id="1771" name=""/>
            <p:cNvSpPr/>
            <p:nvPr/>
          </p:nvSpPr>
          <p:spPr>
            <a:xfrm flipV="1">
              <a:off x="4187880" y="1536840"/>
              <a:ext cx="171360" cy="30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4187880" y="1727280"/>
              <a:ext cx="87120" cy="112680"/>
            </a:xfrm>
            <a:custGeom>
              <a:avLst/>
              <a:gdLst/>
              <a:ahLst/>
              <a:rect l="l" t="t" r="r" b="b"/>
              <a:pathLst>
                <a:path w="55" h="71">
                  <a:moveTo>
                    <a:pt x="3" y="0"/>
                  </a:moveTo>
                  <a:lnTo>
                    <a:pt x="0" y="71"/>
                  </a:lnTo>
                  <a:lnTo>
                    <a:pt x="55" y="3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73" name=""/>
          <p:cNvSpPr/>
          <p:nvPr/>
        </p:nvSpPr>
        <p:spPr>
          <a:xfrm>
            <a:off x="1554120" y="2708280"/>
            <a:ext cx="378000" cy="284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1648080" y="274176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1773000" y="2833560"/>
            <a:ext cx="128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>
            <a:off x="4383000" y="1635120"/>
            <a:ext cx="430200" cy="284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4455000" y="166680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>
            <a:off x="4579200" y="1760400"/>
            <a:ext cx="220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BE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>
            <a:off x="4589640" y="3819600"/>
            <a:ext cx="339480" cy="279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>
            <a:off x="4318200" y="4348080"/>
            <a:ext cx="21852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>
            <a:off x="6923160" y="2693880"/>
            <a:ext cx="411120" cy="285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"/>
          <p:cNvSpPr/>
          <p:nvPr/>
        </p:nvSpPr>
        <p:spPr>
          <a:xfrm>
            <a:off x="7031520" y="272736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"/>
          <p:cNvSpPr/>
          <p:nvPr/>
        </p:nvSpPr>
        <p:spPr>
          <a:xfrm>
            <a:off x="7154640" y="2820960"/>
            <a:ext cx="128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"/>
          <p:cNvSpPr/>
          <p:nvPr/>
        </p:nvSpPr>
        <p:spPr>
          <a:xfrm>
            <a:off x="3772080" y="971640"/>
            <a:ext cx="341280" cy="284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"/>
          <p:cNvSpPr/>
          <p:nvPr/>
        </p:nvSpPr>
        <p:spPr>
          <a:xfrm>
            <a:off x="3893040" y="10047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"/>
          <p:cNvSpPr/>
          <p:nvPr/>
        </p:nvSpPr>
        <p:spPr>
          <a:xfrm>
            <a:off x="3985560" y="1096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>
            <a:off x="3478320" y="3059280"/>
            <a:ext cx="339480" cy="284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3603960" y="30909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>
            <a:off x="3695040" y="318456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 flipH="1" flipV="1">
            <a:off x="3954240" y="3889080"/>
            <a:ext cx="74520" cy="88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1" name=""/>
          <p:cNvGrpSpPr/>
          <p:nvPr/>
        </p:nvGrpSpPr>
        <p:grpSpPr>
          <a:xfrm>
            <a:off x="3995640" y="1447560"/>
            <a:ext cx="98640" cy="144360"/>
            <a:chOff x="3995640" y="1447560"/>
            <a:chExt cx="98640" cy="144360"/>
          </a:xfrm>
        </p:grpSpPr>
        <p:sp>
          <p:nvSpPr>
            <p:cNvPr id="1792" name=""/>
            <p:cNvSpPr/>
            <p:nvPr/>
          </p:nvSpPr>
          <p:spPr>
            <a:xfrm flipV="1">
              <a:off x="4019400" y="1447560"/>
              <a:ext cx="6984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3995640" y="1447920"/>
              <a:ext cx="98640" cy="115920"/>
            </a:xfrm>
            <a:custGeom>
              <a:avLst/>
              <a:gdLst/>
              <a:ahLst/>
              <a:rect l="l" t="t" r="r" b="b"/>
              <a:pathLst>
                <a:path w="62" h="73">
                  <a:moveTo>
                    <a:pt x="62" y="73"/>
                  </a:moveTo>
                  <a:lnTo>
                    <a:pt x="59" y="0"/>
                  </a:lnTo>
                  <a:lnTo>
                    <a:pt x="0" y="4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4" name=""/>
          <p:cNvSpPr/>
          <p:nvPr/>
        </p:nvSpPr>
        <p:spPr>
          <a:xfrm>
            <a:off x="3943440" y="3990960"/>
            <a:ext cx="0" cy="857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"/>
          <p:cNvSpPr/>
          <p:nvPr/>
        </p:nvSpPr>
        <p:spPr>
          <a:xfrm>
            <a:off x="2790720" y="4362480"/>
            <a:ext cx="371520" cy="352440"/>
          </a:xfrm>
          <a:prstGeom prst="ellipse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"/>
          <p:cNvSpPr/>
          <p:nvPr/>
        </p:nvSpPr>
        <p:spPr>
          <a:xfrm flipV="1">
            <a:off x="2981160" y="4448160"/>
            <a:ext cx="0" cy="20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"/>
          <p:cNvSpPr/>
          <p:nvPr/>
        </p:nvSpPr>
        <p:spPr>
          <a:xfrm>
            <a:off x="2971800" y="421956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"/>
          <p:cNvSpPr/>
          <p:nvPr/>
        </p:nvSpPr>
        <p:spPr>
          <a:xfrm>
            <a:off x="2971800" y="4714920"/>
            <a:ext cx="0" cy="123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"/>
          <p:cNvSpPr/>
          <p:nvPr/>
        </p:nvSpPr>
        <p:spPr>
          <a:xfrm>
            <a:off x="2971800" y="484812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"/>
          <p:cNvSpPr/>
          <p:nvPr/>
        </p:nvSpPr>
        <p:spPr>
          <a:xfrm>
            <a:off x="2951280" y="421164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"/>
          <p:cNvSpPr/>
          <p:nvPr/>
        </p:nvSpPr>
        <p:spPr>
          <a:xfrm>
            <a:off x="3913200" y="480204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"/>
          <p:cNvSpPr/>
          <p:nvPr/>
        </p:nvSpPr>
        <p:spPr>
          <a:xfrm>
            <a:off x="2297520" y="4376880"/>
            <a:ext cx="464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cc0000"/>
                </a:solidFill>
                <a:latin typeface="Times New Roman"/>
              </a:rPr>
              <a:t>U</a:t>
            </a:r>
            <a:r>
              <a:rPr b="1" lang="pl-PL" sz="2400" spc="-1" strike="noStrike" baseline="-25000">
                <a:solidFill>
                  <a:srgbClr val="cc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/>
          <p:nvPr/>
        </p:nvSpPr>
        <p:spPr>
          <a:xfrm flipV="1">
            <a:off x="5962680" y="3285720"/>
            <a:ext cx="0" cy="1467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"/>
          <p:cNvSpPr/>
          <p:nvPr/>
        </p:nvSpPr>
        <p:spPr>
          <a:xfrm flipV="1">
            <a:off x="4257720" y="3703680"/>
            <a:ext cx="0" cy="1030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"/>
          <p:cNvSpPr/>
          <p:nvPr/>
        </p:nvSpPr>
        <p:spPr>
          <a:xfrm>
            <a:off x="3063960" y="5110200"/>
            <a:ext cx="273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pięcie wyjściow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6" name=""/>
              <p:cNvSpPr txBox="1"/>
              <p:nvPr/>
            </p:nvSpPr>
            <p:spPr>
              <a:xfrm>
                <a:off x="2200320" y="5656320"/>
                <a:ext cx="4676760" cy="90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−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7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ilizator o małym napięciu wyjściowym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8" name=""/>
              <p:cNvSpPr txBox="1"/>
              <p:nvPr/>
            </p:nvSpPr>
            <p:spPr>
              <a:xfrm>
                <a:off x="3135240" y="5472000"/>
                <a:ext cx="2571840" cy="99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809" name=""/>
          <p:cNvGrpSpPr/>
          <p:nvPr/>
        </p:nvGrpSpPr>
        <p:grpSpPr>
          <a:xfrm>
            <a:off x="567360" y="1180800"/>
            <a:ext cx="7044480" cy="4264200"/>
            <a:chOff x="567360" y="1180800"/>
            <a:chExt cx="7044480" cy="4264200"/>
          </a:xfrm>
        </p:grpSpPr>
        <p:sp>
          <p:nvSpPr>
            <p:cNvPr id="1810" name=""/>
            <p:cNvSpPr/>
            <p:nvPr/>
          </p:nvSpPr>
          <p:spPr>
            <a:xfrm flipH="1">
              <a:off x="1285560" y="1973160"/>
              <a:ext cx="1111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11" name=""/>
            <p:cNvGrpSpPr/>
            <p:nvPr/>
          </p:nvGrpSpPr>
          <p:grpSpPr>
            <a:xfrm>
              <a:off x="5648400" y="2147760"/>
              <a:ext cx="547560" cy="495360"/>
              <a:chOff x="5648400" y="2147760"/>
              <a:chExt cx="547560" cy="495360"/>
            </a:xfrm>
          </p:grpSpPr>
          <p:sp>
            <p:nvSpPr>
              <p:cNvPr id="1812" name=""/>
              <p:cNvSpPr/>
              <p:nvPr/>
            </p:nvSpPr>
            <p:spPr>
              <a:xfrm flipV="1">
                <a:off x="5648400" y="2147760"/>
                <a:ext cx="547560" cy="495360"/>
              </a:xfrm>
              <a:prstGeom prst="ellipse">
                <a:avLst/>
              </a:prstGeom>
              <a:noFill/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5922360" y="2287080"/>
                <a:ext cx="0" cy="247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14" name=""/>
            <p:cNvSpPr/>
            <p:nvPr/>
          </p:nvSpPr>
          <p:spPr>
            <a:xfrm flipH="1">
              <a:off x="2627280" y="3559320"/>
              <a:ext cx="38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4781520" y="191628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16" name=""/>
            <p:cNvGrpSpPr/>
            <p:nvPr/>
          </p:nvGrpSpPr>
          <p:grpSpPr>
            <a:xfrm>
              <a:off x="3015720" y="2909880"/>
              <a:ext cx="1498680" cy="1287360"/>
              <a:chOff x="3015720" y="2909880"/>
              <a:chExt cx="1498680" cy="1287360"/>
            </a:xfrm>
          </p:grpSpPr>
          <p:sp>
            <p:nvSpPr>
              <p:cNvPr id="1817" name=""/>
              <p:cNvSpPr/>
              <p:nvPr/>
            </p:nvSpPr>
            <p:spPr>
              <a:xfrm flipH="1">
                <a:off x="3015360" y="2909880"/>
                <a:ext cx="1498680" cy="1287360"/>
              </a:xfrm>
              <a:custGeom>
                <a:avLst/>
                <a:gdLst/>
                <a:ahLst/>
                <a:rect l="l" t="t" r="r" b="b"/>
                <a:pathLst>
                  <a:path w="944" h="811">
                    <a:moveTo>
                      <a:pt x="0" y="0"/>
                    </a:moveTo>
                    <a:lnTo>
                      <a:pt x="0" y="811"/>
                    </a:lnTo>
                    <a:lnTo>
                      <a:pt x="944" y="411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 flipH="1">
                <a:off x="3494520" y="3376440"/>
                <a:ext cx="4154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0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r>
                  <a:rPr b="0" lang="pl-PL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 flipH="1">
                <a:off x="3079800" y="3052440"/>
                <a:ext cx="266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 flipH="1">
                <a:off x="3074400" y="3711600"/>
                <a:ext cx="325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21" name=""/>
            <p:cNvSpPr/>
            <p:nvPr/>
          </p:nvSpPr>
          <p:spPr>
            <a:xfrm>
              <a:off x="6283800" y="2157480"/>
              <a:ext cx="4640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 flipV="1">
              <a:off x="5964120" y="3574800"/>
              <a:ext cx="0" cy="9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5981760" y="5164200"/>
              <a:ext cx="0" cy="26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5840280" y="5445000"/>
              <a:ext cx="317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 rot="16200000">
              <a:off x="5931000" y="387468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5190840" y="4815000"/>
              <a:ext cx="424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5256000" y="2970360"/>
              <a:ext cx="424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28" name=""/>
            <p:cNvGrpSpPr/>
            <p:nvPr/>
          </p:nvGrpSpPr>
          <p:grpSpPr>
            <a:xfrm>
              <a:off x="2368440" y="1552680"/>
              <a:ext cx="476280" cy="793800"/>
              <a:chOff x="2368440" y="1552680"/>
              <a:chExt cx="476280" cy="793800"/>
            </a:xfrm>
          </p:grpSpPr>
          <p:sp>
            <p:nvSpPr>
              <p:cNvPr id="1829" name=""/>
              <p:cNvSpPr/>
              <p:nvPr/>
            </p:nvSpPr>
            <p:spPr>
              <a:xfrm>
                <a:off x="2368440" y="1874880"/>
                <a:ext cx="476280" cy="47160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 flipH="1">
                <a:off x="2469600" y="2197080"/>
                <a:ext cx="2667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 flipV="1">
                <a:off x="2676600" y="1949400"/>
                <a:ext cx="101520" cy="233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 flipH="1" flipV="1">
                <a:off x="2428920" y="1949400"/>
                <a:ext cx="115920" cy="233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>
                <a:off x="2597040" y="2197080"/>
                <a:ext cx="180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>
                <a:off x="2428920" y="1552680"/>
                <a:ext cx="341280" cy="284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>
                <a:off x="2507760" y="1585800"/>
                <a:ext cx="1425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>
                <a:off x="2615400" y="1677960"/>
                <a:ext cx="1288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37" name=""/>
              <p:cNvGrpSpPr/>
              <p:nvPr/>
            </p:nvGrpSpPr>
            <p:grpSpPr>
              <a:xfrm>
                <a:off x="2652480" y="2028600"/>
                <a:ext cx="98640" cy="144360"/>
                <a:chOff x="2652480" y="2028600"/>
                <a:chExt cx="98640" cy="144360"/>
              </a:xfrm>
            </p:grpSpPr>
            <p:sp>
              <p:nvSpPr>
                <p:cNvPr id="1838" name=""/>
                <p:cNvSpPr/>
                <p:nvPr/>
              </p:nvSpPr>
              <p:spPr>
                <a:xfrm flipV="1">
                  <a:off x="2676240" y="2028600"/>
                  <a:ext cx="69840" cy="1443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9" name=""/>
                <p:cNvSpPr/>
                <p:nvPr/>
              </p:nvSpPr>
              <p:spPr>
                <a:xfrm>
                  <a:off x="2652480" y="2028960"/>
                  <a:ext cx="98640" cy="115920"/>
                </a:xfrm>
                <a:custGeom>
                  <a:avLst/>
                  <a:gdLst/>
                  <a:ahLst/>
                  <a:rect l="l" t="t" r="r" b="b"/>
                  <a:pathLst>
                    <a:path w="62" h="73">
                      <a:moveTo>
                        <a:pt x="62" y="73"/>
                      </a:moveTo>
                      <a:lnTo>
                        <a:pt x="59" y="0"/>
                      </a:lnTo>
                      <a:lnTo>
                        <a:pt x="0" y="44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840" name=""/>
            <p:cNvSpPr/>
            <p:nvPr/>
          </p:nvSpPr>
          <p:spPr>
            <a:xfrm>
              <a:off x="2787480" y="1955880"/>
              <a:ext cx="421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 flipH="1">
              <a:off x="4533480" y="3913200"/>
              <a:ext cx="1430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4799160" y="1955880"/>
              <a:ext cx="0" cy="130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 flipH="1">
              <a:off x="4498920" y="3260880"/>
              <a:ext cx="300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5927760" y="1955880"/>
              <a:ext cx="0" cy="21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 flipV="1">
              <a:off x="5945040" y="2625480"/>
              <a:ext cx="0" cy="28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 rot="16200000">
              <a:off x="2324520" y="2985120"/>
              <a:ext cx="601920" cy="22860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 flipV="1">
              <a:off x="2629080" y="3401640"/>
              <a:ext cx="0" cy="15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 flipV="1">
              <a:off x="2593800" y="2342880"/>
              <a:ext cx="0" cy="47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 rot="16200000">
              <a:off x="5669280" y="4725000"/>
              <a:ext cx="601920" cy="22860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 rot="16200000">
              <a:off x="5645880" y="3165840"/>
              <a:ext cx="601560" cy="22860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 flipV="1">
              <a:off x="6986520" y="2112840"/>
              <a:ext cx="0" cy="329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7097400" y="3041640"/>
              <a:ext cx="514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567360" y="1789200"/>
              <a:ext cx="439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5896080" y="190656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55" name=""/>
            <p:cNvGrpSpPr/>
            <p:nvPr/>
          </p:nvGrpSpPr>
          <p:grpSpPr>
            <a:xfrm>
              <a:off x="3790800" y="1371600"/>
              <a:ext cx="371520" cy="343080"/>
              <a:chOff x="3790800" y="1371600"/>
              <a:chExt cx="371520" cy="343080"/>
            </a:xfrm>
          </p:grpSpPr>
          <p:sp>
            <p:nvSpPr>
              <p:cNvPr id="1856" name=""/>
              <p:cNvSpPr/>
              <p:nvPr/>
            </p:nvSpPr>
            <p:spPr>
              <a:xfrm>
                <a:off x="3790800" y="1371600"/>
                <a:ext cx="371520" cy="34308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 flipV="1">
                <a:off x="3981600" y="1428840"/>
                <a:ext cx="0" cy="21888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58" name=""/>
            <p:cNvGrpSpPr/>
            <p:nvPr/>
          </p:nvGrpSpPr>
          <p:grpSpPr>
            <a:xfrm>
              <a:off x="3790800" y="2143080"/>
              <a:ext cx="371520" cy="343080"/>
              <a:chOff x="3790800" y="2143080"/>
              <a:chExt cx="371520" cy="343080"/>
            </a:xfrm>
          </p:grpSpPr>
          <p:sp>
            <p:nvSpPr>
              <p:cNvPr id="1859" name=""/>
              <p:cNvSpPr/>
              <p:nvPr/>
            </p:nvSpPr>
            <p:spPr>
              <a:xfrm>
                <a:off x="3790800" y="2143080"/>
                <a:ext cx="371520" cy="34308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 flipV="1">
                <a:off x="3981600" y="2200320"/>
                <a:ext cx="0" cy="21888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61" name=""/>
            <p:cNvSpPr/>
            <p:nvPr/>
          </p:nvSpPr>
          <p:spPr>
            <a:xfrm>
              <a:off x="3971880" y="1714680"/>
              <a:ext cx="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3943440" y="191628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3981600" y="2495520"/>
              <a:ext cx="0" cy="6382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3971880" y="3971880"/>
              <a:ext cx="0" cy="5526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 flipH="1">
              <a:off x="1857240" y="4524480"/>
              <a:ext cx="2114640" cy="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 flipV="1">
              <a:off x="1847880" y="1180800"/>
              <a:ext cx="0" cy="3352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1847880" y="1181160"/>
              <a:ext cx="2143080" cy="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3990960" y="1181160"/>
              <a:ext cx="0" cy="19044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4222080" y="1319040"/>
              <a:ext cx="4960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cc0000"/>
                  </a:solidFill>
                  <a:latin typeface="Times New Roman"/>
                </a:rPr>
                <a:t>U</a:t>
              </a:r>
              <a:r>
                <a:rPr b="1" lang="pl-PL" sz="2000" spc="-1" strike="noStrike" baseline="-25000">
                  <a:solidFill>
                    <a:srgbClr val="cc0000"/>
                  </a:solidFill>
                  <a:latin typeface="Times New Roman"/>
                </a:rPr>
                <a:t>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4279320" y="2109960"/>
              <a:ext cx="4960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cc0000"/>
                  </a:solidFill>
                  <a:latin typeface="Times New Roman"/>
                </a:rPr>
                <a:t>U</a:t>
              </a:r>
              <a:r>
                <a:rPr b="1" lang="pl-PL" sz="2000" spc="-1" strike="noStrike" baseline="-25000">
                  <a:solidFill>
                    <a:srgbClr val="cc0000"/>
                  </a:solidFill>
                  <a:latin typeface="Times New Roman"/>
                </a:rPr>
                <a:t>e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380880" y="1371600"/>
          <a:ext cx="8382240" cy="426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371600"/>
                    <a:ext cx="838224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"/>
          <p:cNvSpPr/>
          <p:nvPr/>
        </p:nvSpPr>
        <p:spPr>
          <a:xfrm>
            <a:off x="1217520" y="1746360"/>
            <a:ext cx="1393920" cy="0"/>
          </a:xfrm>
          <a:prstGeom prst="line">
            <a:avLst/>
          </a:prstGeom>
          <a:ln w="19080">
            <a:solidFill>
              <a:srgbClr val="cc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493640" y="1158840"/>
            <a:ext cx="898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U</a:t>
            </a:r>
            <a:r>
              <a:rPr b="1" lang="en-US" sz="2400" spc="-1" strike="noStrike" baseline="-25000">
                <a:solidFill>
                  <a:srgbClr val="cc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-U</a:t>
            </a:r>
            <a:r>
              <a:rPr b="1" lang="en-US" sz="2400" spc="-1" strike="noStrike" baseline="-25000">
                <a:solidFill>
                  <a:srgbClr val="cc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046880" y="3484440"/>
            <a:ext cx="1798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cc0000"/>
                </a:solidFill>
                <a:latin typeface="Times New Roman"/>
              </a:rPr>
              <a:t>P</a:t>
            </a:r>
            <a:r>
              <a:rPr b="0" lang="pl-PL" sz="2400" spc="-1" strike="noStrike" baseline="-25000">
                <a:solidFill>
                  <a:srgbClr val="cc0000"/>
                </a:solidFill>
                <a:latin typeface="Times New Roman"/>
              </a:rPr>
              <a:t>str</a:t>
            </a:r>
            <a:r>
              <a:rPr b="0" lang="pl-PL" sz="2400" spc="-1" strike="noStrike">
                <a:solidFill>
                  <a:srgbClr val="cc0000"/>
                </a:solidFill>
                <a:latin typeface="Times New Roman"/>
              </a:rPr>
              <a:t>=U</a:t>
            </a:r>
            <a:r>
              <a:rPr b="0" lang="pl-PL" sz="2400" spc="-1" strike="noStrike" baseline="-25000">
                <a:solidFill>
                  <a:srgbClr val="cc0000"/>
                </a:solidFill>
                <a:latin typeface="Times New Roman"/>
              </a:rPr>
              <a:t>1</a:t>
            </a:r>
            <a:r>
              <a:rPr b="0" lang="pl-PL" sz="2400" spc="-1" strike="noStrike">
                <a:solidFill>
                  <a:srgbClr val="cc0000"/>
                </a:solidFill>
                <a:latin typeface="Times New Roman"/>
              </a:rPr>
              <a:t>I</a:t>
            </a:r>
            <a:r>
              <a:rPr b="0" lang="pl-PL" sz="2400" spc="-1" strike="noStrike" baseline="-25000">
                <a:solidFill>
                  <a:srgbClr val="cc0000"/>
                </a:solidFill>
                <a:latin typeface="Times New Roman"/>
              </a:rPr>
              <a:t>1</a:t>
            </a:r>
            <a:r>
              <a:rPr b="0" lang="pl-PL" sz="2400" spc="-1" strike="noStrike">
                <a:solidFill>
                  <a:srgbClr val="cc0000"/>
                </a:solidFill>
                <a:latin typeface="Times New Roman"/>
              </a:rPr>
              <a:t>-U</a:t>
            </a:r>
            <a:r>
              <a:rPr b="0" lang="pl-PL" sz="2400" spc="-1" strike="noStrike" baseline="-25000">
                <a:solidFill>
                  <a:srgbClr val="cc0000"/>
                </a:solidFill>
                <a:latin typeface="Times New Roman"/>
              </a:rPr>
              <a:t>2</a:t>
            </a:r>
            <a:r>
              <a:rPr b="0" lang="pl-PL" sz="2400" spc="-1" strike="noStrike">
                <a:solidFill>
                  <a:srgbClr val="cc0000"/>
                </a:solidFill>
                <a:latin typeface="Times New Roman"/>
              </a:rPr>
              <a:t>I</a:t>
            </a:r>
            <a:r>
              <a:rPr b="0" lang="pl-PL" sz="2400" spc="-1" strike="noStrike" baseline="-25000">
                <a:solidFill>
                  <a:srgbClr val="cc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ilizator napięcia: oznaczenie napięć i prądó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akterystyka wyjściow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91320" y="4702320"/>
            <a:ext cx="4249800" cy="11912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c strat tranzystorów mo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i uwzględniać i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ewidywaną temperaturę pra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PlaceHolder 1"/>
          <p:cNvSpPr>
            <a:spLocks noGrp="1"/>
          </p:cNvSpPr>
          <p:nvPr>
            <p:ph type="title"/>
          </p:nvPr>
        </p:nvSpPr>
        <p:spPr>
          <a:xfrm>
            <a:off x="544680" y="2338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BEZPIECZENIA STABILIZATORÓ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GRANICZANIE PRĄDU WYJŚCIOW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73" name=""/>
          <p:cNvGraphicFramePr/>
          <p:nvPr/>
        </p:nvGraphicFramePr>
        <p:xfrm>
          <a:off x="1347840" y="905040"/>
          <a:ext cx="7229520" cy="623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47840" y="905040"/>
                    <a:ext cx="7229520" cy="623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875" name=""/>
              <p:cNvSpPr txBox="1"/>
              <p:nvPr/>
            </p:nvSpPr>
            <p:spPr>
              <a:xfrm>
                <a:off x="5245200" y="2913120"/>
                <a:ext cx="2670120" cy="7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</m:den>
                    </m:f>
                    <m:r>
                      <m:t xml:space="preserve">»</m:t>
                    </m:r>
                    <m:f>
                      <m:num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  <m:r>
                          <m:t xml:space="preserve">V</m:t>
                        </m:r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76" name=""/>
          <p:cNvSpPr/>
          <p:nvPr/>
        </p:nvSpPr>
        <p:spPr>
          <a:xfrm>
            <a:off x="2099520" y="3851280"/>
            <a:ext cx="105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c str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77" name=""/>
          <p:cNvGraphicFramePr/>
          <p:nvPr/>
        </p:nvGraphicFramePr>
        <p:xfrm>
          <a:off x="1019160" y="905040"/>
          <a:ext cx="7327800" cy="559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9160" y="905040"/>
                    <a:ext cx="7327800" cy="559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ZABEZPIECZENIE TYPU Fold-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BEZPIECZENIE WYŁĄCZAJ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"/>
          <p:cNvSpPr/>
          <p:nvPr/>
        </p:nvSpPr>
        <p:spPr>
          <a:xfrm flipH="1">
            <a:off x="703440" y="1920960"/>
            <a:ext cx="206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2" name=""/>
          <p:cNvGrpSpPr/>
          <p:nvPr/>
        </p:nvGrpSpPr>
        <p:grpSpPr>
          <a:xfrm>
            <a:off x="4951440" y="4552920"/>
            <a:ext cx="547560" cy="495360"/>
            <a:chOff x="4951440" y="4552920"/>
            <a:chExt cx="547560" cy="495360"/>
          </a:xfrm>
        </p:grpSpPr>
        <p:sp>
          <p:nvSpPr>
            <p:cNvPr id="1883" name=""/>
            <p:cNvSpPr/>
            <p:nvPr/>
          </p:nvSpPr>
          <p:spPr>
            <a:xfrm>
              <a:off x="4951440" y="4552920"/>
              <a:ext cx="547560" cy="49536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 flipV="1">
              <a:off x="5225400" y="4661280"/>
              <a:ext cx="0" cy="24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5" name=""/>
          <p:cNvSpPr/>
          <p:nvPr/>
        </p:nvSpPr>
        <p:spPr>
          <a:xfrm flipH="1">
            <a:off x="2997360" y="3506760"/>
            <a:ext cx="38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"/>
          <p:cNvSpPr/>
          <p:nvPr/>
        </p:nvSpPr>
        <p:spPr>
          <a:xfrm flipH="1">
            <a:off x="3394800" y="2876400"/>
            <a:ext cx="1498680" cy="1287720"/>
          </a:xfrm>
          <a:custGeom>
            <a:avLst/>
            <a:gdLst/>
            <a:ahLst/>
            <a:rect l="l" t="t" r="r" b="b"/>
            <a:pathLst>
              <a:path w="944" h="811">
                <a:moveTo>
                  <a:pt x="0" y="0"/>
                </a:moveTo>
                <a:lnTo>
                  <a:pt x="0" y="811"/>
                </a:lnTo>
                <a:lnTo>
                  <a:pt x="944" y="411"/>
                </a:lnTo>
                <a:lnTo>
                  <a:pt x="0" y="0"/>
                </a:lnTo>
                <a:close/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"/>
          <p:cNvSpPr/>
          <p:nvPr/>
        </p:nvSpPr>
        <p:spPr>
          <a:xfrm flipH="1">
            <a:off x="4002480" y="3294000"/>
            <a:ext cx="461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"/>
          <p:cNvSpPr/>
          <p:nvPr/>
        </p:nvSpPr>
        <p:spPr>
          <a:xfrm flipH="1">
            <a:off x="4619880" y="356724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"/>
          <p:cNvSpPr/>
          <p:nvPr/>
        </p:nvSpPr>
        <p:spPr>
          <a:xfrm flipH="1">
            <a:off x="4593240" y="29718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"/>
          <p:cNvSpPr/>
          <p:nvPr/>
        </p:nvSpPr>
        <p:spPr>
          <a:xfrm>
            <a:off x="4419360" y="4618080"/>
            <a:ext cx="51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"/>
          <p:cNvSpPr/>
          <p:nvPr/>
        </p:nvSpPr>
        <p:spPr>
          <a:xfrm flipV="1">
            <a:off x="6334200" y="3522240"/>
            <a:ext cx="0" cy="933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"/>
          <p:cNvSpPr/>
          <p:nvPr/>
        </p:nvSpPr>
        <p:spPr>
          <a:xfrm>
            <a:off x="6351480" y="5111640"/>
            <a:ext cx="0" cy="54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"/>
          <p:cNvSpPr/>
          <p:nvPr/>
        </p:nvSpPr>
        <p:spPr>
          <a:xfrm>
            <a:off x="6208560" y="5656320"/>
            <a:ext cx="317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"/>
          <p:cNvSpPr/>
          <p:nvPr/>
        </p:nvSpPr>
        <p:spPr>
          <a:xfrm rot="16200000">
            <a:off x="6300720" y="3822480"/>
            <a:ext cx="7452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"/>
          <p:cNvSpPr/>
          <p:nvPr/>
        </p:nvSpPr>
        <p:spPr>
          <a:xfrm>
            <a:off x="5686920" y="460836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"/>
          <p:cNvSpPr/>
          <p:nvPr/>
        </p:nvSpPr>
        <p:spPr>
          <a:xfrm>
            <a:off x="5628240" y="286848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7" name=""/>
          <p:cNvGrpSpPr/>
          <p:nvPr/>
        </p:nvGrpSpPr>
        <p:grpSpPr>
          <a:xfrm>
            <a:off x="2738520" y="1500120"/>
            <a:ext cx="476280" cy="793800"/>
            <a:chOff x="2738520" y="1500120"/>
            <a:chExt cx="476280" cy="793800"/>
          </a:xfrm>
        </p:grpSpPr>
        <p:sp>
          <p:nvSpPr>
            <p:cNvPr id="1898" name=""/>
            <p:cNvSpPr/>
            <p:nvPr/>
          </p:nvSpPr>
          <p:spPr>
            <a:xfrm>
              <a:off x="2738520" y="1822320"/>
              <a:ext cx="476280" cy="4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 flipH="1">
              <a:off x="2839680" y="2144520"/>
              <a:ext cx="266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 flipV="1">
              <a:off x="3046680" y="1896840"/>
              <a:ext cx="101520" cy="233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 flipH="1" flipV="1">
              <a:off x="2799000" y="1896840"/>
              <a:ext cx="115920" cy="233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2967120" y="2144520"/>
              <a:ext cx="180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2799000" y="1500120"/>
              <a:ext cx="341280" cy="284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2877840" y="153324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2985480" y="16254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06" name=""/>
            <p:cNvGrpSpPr/>
            <p:nvPr/>
          </p:nvGrpSpPr>
          <p:grpSpPr>
            <a:xfrm>
              <a:off x="3022560" y="1976040"/>
              <a:ext cx="98640" cy="144360"/>
              <a:chOff x="3022560" y="1976040"/>
              <a:chExt cx="98640" cy="144360"/>
            </a:xfrm>
          </p:grpSpPr>
          <p:sp>
            <p:nvSpPr>
              <p:cNvPr id="1907" name=""/>
              <p:cNvSpPr/>
              <p:nvPr/>
            </p:nvSpPr>
            <p:spPr>
              <a:xfrm flipV="1">
                <a:off x="3046320" y="1976040"/>
                <a:ext cx="6984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8" name=""/>
              <p:cNvSpPr/>
              <p:nvPr/>
            </p:nvSpPr>
            <p:spPr>
              <a:xfrm>
                <a:off x="3022560" y="1976400"/>
                <a:ext cx="98640" cy="115920"/>
              </a:xfrm>
              <a:custGeom>
                <a:avLst/>
                <a:gdLst/>
                <a:ahLst/>
                <a:rect l="l" t="t" r="r" b="b"/>
                <a:pathLst>
                  <a:path w="62" h="73">
                    <a:moveTo>
                      <a:pt x="62" y="73"/>
                    </a:moveTo>
                    <a:lnTo>
                      <a:pt x="59" y="0"/>
                    </a:lnTo>
                    <a:lnTo>
                      <a:pt x="0" y="44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09" name=""/>
          <p:cNvSpPr/>
          <p:nvPr/>
        </p:nvSpPr>
        <p:spPr>
          <a:xfrm>
            <a:off x="3157560" y="1903320"/>
            <a:ext cx="421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/>
          <p:nvPr/>
        </p:nvSpPr>
        <p:spPr>
          <a:xfrm flipH="1">
            <a:off x="4903560" y="3860640"/>
            <a:ext cx="1430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1" name=""/>
          <p:cNvSpPr/>
          <p:nvPr/>
        </p:nvSpPr>
        <p:spPr>
          <a:xfrm flipH="1">
            <a:off x="4868640" y="3208320"/>
            <a:ext cx="34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"/>
          <p:cNvSpPr/>
          <p:nvPr/>
        </p:nvSpPr>
        <p:spPr>
          <a:xfrm flipV="1">
            <a:off x="6315120" y="1896840"/>
            <a:ext cx="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"/>
          <p:cNvSpPr/>
          <p:nvPr/>
        </p:nvSpPr>
        <p:spPr>
          <a:xfrm rot="16200000">
            <a:off x="2694960" y="2932560"/>
            <a:ext cx="601560" cy="22860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"/>
          <p:cNvSpPr/>
          <p:nvPr/>
        </p:nvSpPr>
        <p:spPr>
          <a:xfrm flipV="1">
            <a:off x="2998800" y="3349800"/>
            <a:ext cx="0" cy="158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"/>
          <p:cNvSpPr/>
          <p:nvPr/>
        </p:nvSpPr>
        <p:spPr>
          <a:xfrm flipV="1">
            <a:off x="2963880" y="229032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"/>
          <p:cNvSpPr/>
          <p:nvPr/>
        </p:nvSpPr>
        <p:spPr>
          <a:xfrm rot="16200000">
            <a:off x="6039720" y="4672440"/>
            <a:ext cx="601560" cy="22860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"/>
          <p:cNvSpPr/>
          <p:nvPr/>
        </p:nvSpPr>
        <p:spPr>
          <a:xfrm rot="16200000">
            <a:off x="6015960" y="3113640"/>
            <a:ext cx="601560" cy="22860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"/>
          <p:cNvSpPr/>
          <p:nvPr/>
        </p:nvSpPr>
        <p:spPr>
          <a:xfrm flipV="1">
            <a:off x="7356600" y="2060280"/>
            <a:ext cx="0" cy="3298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9" name=""/>
          <p:cNvSpPr/>
          <p:nvPr/>
        </p:nvSpPr>
        <p:spPr>
          <a:xfrm>
            <a:off x="7473600" y="2940120"/>
            <a:ext cx="577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"/>
          <p:cNvSpPr/>
          <p:nvPr/>
        </p:nvSpPr>
        <p:spPr>
          <a:xfrm>
            <a:off x="222840" y="274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"/>
          <p:cNvSpPr/>
          <p:nvPr/>
        </p:nvSpPr>
        <p:spPr>
          <a:xfrm>
            <a:off x="6265800" y="1854360"/>
            <a:ext cx="7452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"/>
          <p:cNvSpPr/>
          <p:nvPr/>
        </p:nvSpPr>
        <p:spPr>
          <a:xfrm rot="10800000">
            <a:off x="1722240" y="5254200"/>
            <a:ext cx="601560" cy="22860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3" name=""/>
          <p:cNvGrpSpPr/>
          <p:nvPr/>
        </p:nvGrpSpPr>
        <p:grpSpPr>
          <a:xfrm>
            <a:off x="1390680" y="4349880"/>
            <a:ext cx="471600" cy="476280"/>
            <a:chOff x="1390680" y="4349880"/>
            <a:chExt cx="471600" cy="476280"/>
          </a:xfrm>
        </p:grpSpPr>
        <p:sp>
          <p:nvSpPr>
            <p:cNvPr id="1924" name=""/>
            <p:cNvSpPr/>
            <p:nvPr/>
          </p:nvSpPr>
          <p:spPr>
            <a:xfrm flipH="1" rot="16200000">
              <a:off x="1388160" y="4352040"/>
              <a:ext cx="476280" cy="4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 flipV="1">
              <a:off x="1712880" y="4451040"/>
              <a:ext cx="1800" cy="266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 flipH="1">
              <a:off x="1464840" y="4657680"/>
              <a:ext cx="233640" cy="101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 flipH="1" flipV="1">
              <a:off x="1464840" y="4410000"/>
              <a:ext cx="233640" cy="115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1712880" y="4578480"/>
              <a:ext cx="1447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29" name=""/>
            <p:cNvGrpSpPr/>
            <p:nvPr/>
          </p:nvGrpSpPr>
          <p:grpSpPr>
            <a:xfrm>
              <a:off x="1544400" y="4633920"/>
              <a:ext cx="144360" cy="98280"/>
              <a:chOff x="1544400" y="4633920"/>
              <a:chExt cx="144360" cy="98280"/>
            </a:xfrm>
          </p:grpSpPr>
          <p:sp>
            <p:nvSpPr>
              <p:cNvPr id="1930" name=""/>
              <p:cNvSpPr/>
              <p:nvPr/>
            </p:nvSpPr>
            <p:spPr>
              <a:xfrm flipH="1">
                <a:off x="1544400" y="4657320"/>
                <a:ext cx="144360" cy="69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1" name=""/>
              <p:cNvSpPr/>
              <p:nvPr/>
            </p:nvSpPr>
            <p:spPr>
              <a:xfrm flipH="1" rot="16200000">
                <a:off x="1553400" y="4624920"/>
                <a:ext cx="98280" cy="115920"/>
              </a:xfrm>
              <a:custGeom>
                <a:avLst/>
                <a:gdLst/>
                <a:ahLst/>
                <a:rect l="l" t="t" r="r" b="b"/>
                <a:pathLst>
                  <a:path w="62" h="73">
                    <a:moveTo>
                      <a:pt x="62" y="73"/>
                    </a:moveTo>
                    <a:lnTo>
                      <a:pt x="59" y="0"/>
                    </a:lnTo>
                    <a:lnTo>
                      <a:pt x="0" y="44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32" name=""/>
          <p:cNvSpPr/>
          <p:nvPr/>
        </p:nvSpPr>
        <p:spPr>
          <a:xfrm rot="5400000">
            <a:off x="1626120" y="3393000"/>
            <a:ext cx="476280" cy="4716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"/>
          <p:cNvSpPr/>
          <p:nvPr/>
        </p:nvSpPr>
        <p:spPr>
          <a:xfrm flipH="1" flipV="1">
            <a:off x="1774800" y="3490560"/>
            <a:ext cx="1440" cy="266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"/>
          <p:cNvSpPr/>
          <p:nvPr/>
        </p:nvSpPr>
        <p:spPr>
          <a:xfrm>
            <a:off x="1790640" y="3697200"/>
            <a:ext cx="233280" cy="101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"/>
          <p:cNvSpPr/>
          <p:nvPr/>
        </p:nvSpPr>
        <p:spPr>
          <a:xfrm flipV="1">
            <a:off x="1790640" y="3451320"/>
            <a:ext cx="233280" cy="11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"/>
          <p:cNvSpPr/>
          <p:nvPr/>
        </p:nvSpPr>
        <p:spPr>
          <a:xfrm flipH="1">
            <a:off x="1631520" y="3618000"/>
            <a:ext cx="1443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7" name=""/>
          <p:cNvGrpSpPr/>
          <p:nvPr/>
        </p:nvGrpSpPr>
        <p:grpSpPr>
          <a:xfrm>
            <a:off x="1819080" y="3454560"/>
            <a:ext cx="144360" cy="98280"/>
            <a:chOff x="1819080" y="3454560"/>
            <a:chExt cx="144360" cy="98280"/>
          </a:xfrm>
        </p:grpSpPr>
        <p:sp>
          <p:nvSpPr>
            <p:cNvPr id="1938" name=""/>
            <p:cNvSpPr/>
            <p:nvPr/>
          </p:nvSpPr>
          <p:spPr>
            <a:xfrm flipH="1">
              <a:off x="1819080" y="3477960"/>
              <a:ext cx="144360" cy="69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 flipV="1" rot="5400000">
              <a:off x="1828080" y="3445200"/>
              <a:ext cx="98280" cy="115920"/>
            </a:xfrm>
            <a:custGeom>
              <a:avLst/>
              <a:gdLst/>
              <a:ahLst/>
              <a:rect l="l" t="t" r="r" b="b"/>
              <a:pathLst>
                <a:path w="62" h="73">
                  <a:moveTo>
                    <a:pt x="62" y="73"/>
                  </a:moveTo>
                  <a:lnTo>
                    <a:pt x="59" y="0"/>
                  </a:lnTo>
                  <a:lnTo>
                    <a:pt x="0" y="4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0" name=""/>
          <p:cNvSpPr/>
          <p:nvPr/>
        </p:nvSpPr>
        <p:spPr>
          <a:xfrm flipV="1">
            <a:off x="1471680" y="3376440"/>
            <a:ext cx="1440" cy="101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"/>
          <p:cNvSpPr/>
          <p:nvPr/>
        </p:nvSpPr>
        <p:spPr>
          <a:xfrm>
            <a:off x="1471680" y="3605040"/>
            <a:ext cx="162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"/>
          <p:cNvSpPr/>
          <p:nvPr/>
        </p:nvSpPr>
        <p:spPr>
          <a:xfrm>
            <a:off x="1461960" y="4767120"/>
            <a:ext cx="1800" cy="600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"/>
          <p:cNvSpPr/>
          <p:nvPr/>
        </p:nvSpPr>
        <p:spPr>
          <a:xfrm>
            <a:off x="701640" y="5362560"/>
            <a:ext cx="1008000" cy="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"/>
          <p:cNvSpPr/>
          <p:nvPr/>
        </p:nvSpPr>
        <p:spPr>
          <a:xfrm>
            <a:off x="1862280" y="4567320"/>
            <a:ext cx="666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"/>
          <p:cNvSpPr/>
          <p:nvPr/>
        </p:nvSpPr>
        <p:spPr>
          <a:xfrm flipH="1">
            <a:off x="2309400" y="5357880"/>
            <a:ext cx="219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"/>
          <p:cNvSpPr/>
          <p:nvPr/>
        </p:nvSpPr>
        <p:spPr>
          <a:xfrm>
            <a:off x="2023920" y="3795840"/>
            <a:ext cx="1800" cy="771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"/>
          <p:cNvSpPr/>
          <p:nvPr/>
        </p:nvSpPr>
        <p:spPr>
          <a:xfrm rot="16200000">
            <a:off x="2215080" y="4848840"/>
            <a:ext cx="601920" cy="22860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"/>
          <p:cNvSpPr/>
          <p:nvPr/>
        </p:nvSpPr>
        <p:spPr>
          <a:xfrm rot="16200000">
            <a:off x="1167480" y="2972160"/>
            <a:ext cx="601560" cy="22860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"/>
          <p:cNvSpPr/>
          <p:nvPr/>
        </p:nvSpPr>
        <p:spPr>
          <a:xfrm>
            <a:off x="2519280" y="4567320"/>
            <a:ext cx="1800" cy="8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>
            <a:off x="2509920" y="5262480"/>
            <a:ext cx="1440" cy="1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"/>
          <p:cNvSpPr/>
          <p:nvPr/>
        </p:nvSpPr>
        <p:spPr>
          <a:xfrm flipV="1">
            <a:off x="2033640" y="2604600"/>
            <a:ext cx="1440" cy="84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"/>
          <p:cNvSpPr/>
          <p:nvPr/>
        </p:nvSpPr>
        <p:spPr>
          <a:xfrm flipH="1">
            <a:off x="1461960" y="2602080"/>
            <a:ext cx="151632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"/>
          <p:cNvSpPr/>
          <p:nvPr/>
        </p:nvSpPr>
        <p:spPr>
          <a:xfrm>
            <a:off x="1461960" y="2614680"/>
            <a:ext cx="1800" cy="17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"/>
          <p:cNvSpPr/>
          <p:nvPr/>
        </p:nvSpPr>
        <p:spPr>
          <a:xfrm rot="16200000">
            <a:off x="2000160" y="4512600"/>
            <a:ext cx="74520" cy="74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"/>
          <p:cNvSpPr/>
          <p:nvPr/>
        </p:nvSpPr>
        <p:spPr>
          <a:xfrm rot="16200000">
            <a:off x="2457360" y="5313240"/>
            <a:ext cx="74880" cy="74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"/>
          <p:cNvSpPr/>
          <p:nvPr/>
        </p:nvSpPr>
        <p:spPr>
          <a:xfrm rot="16200000">
            <a:off x="2009880" y="2579400"/>
            <a:ext cx="7452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"/>
          <p:cNvSpPr/>
          <p:nvPr/>
        </p:nvSpPr>
        <p:spPr>
          <a:xfrm>
            <a:off x="2489040" y="5362560"/>
            <a:ext cx="483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"/>
          <p:cNvSpPr/>
          <p:nvPr/>
        </p:nvSpPr>
        <p:spPr>
          <a:xfrm rot="16200000">
            <a:off x="6313320" y="5315760"/>
            <a:ext cx="74520" cy="74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"/>
          <p:cNvSpPr/>
          <p:nvPr/>
        </p:nvSpPr>
        <p:spPr>
          <a:xfrm rot="16200000">
            <a:off x="1442880" y="5314320"/>
            <a:ext cx="74520" cy="74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"/>
          <p:cNvSpPr/>
          <p:nvPr/>
        </p:nvSpPr>
        <p:spPr>
          <a:xfrm rot="16200000">
            <a:off x="2927520" y="2571480"/>
            <a:ext cx="7452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"/>
          <p:cNvSpPr/>
          <p:nvPr/>
        </p:nvSpPr>
        <p:spPr>
          <a:xfrm flipV="1">
            <a:off x="5238720" y="3209400"/>
            <a:ext cx="0" cy="133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"/>
          <p:cNvSpPr/>
          <p:nvPr/>
        </p:nvSpPr>
        <p:spPr>
          <a:xfrm>
            <a:off x="5219640" y="5048280"/>
            <a:ext cx="0" cy="314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"/>
          <p:cNvSpPr/>
          <p:nvPr/>
        </p:nvSpPr>
        <p:spPr>
          <a:xfrm rot="16200000">
            <a:off x="5180040" y="5325840"/>
            <a:ext cx="7452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"/>
          <p:cNvSpPr/>
          <p:nvPr/>
        </p:nvSpPr>
        <p:spPr>
          <a:xfrm rot="16200000">
            <a:off x="1436400" y="3554280"/>
            <a:ext cx="7488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"/>
          <p:cNvSpPr/>
          <p:nvPr/>
        </p:nvSpPr>
        <p:spPr>
          <a:xfrm>
            <a:off x="1677960" y="5394240"/>
            <a:ext cx="599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"/>
          <p:cNvSpPr/>
          <p:nvPr/>
        </p:nvSpPr>
        <p:spPr>
          <a:xfrm>
            <a:off x="1181160" y="2425680"/>
            <a:ext cx="1562040" cy="35434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7" name=""/>
          <p:cNvGrpSpPr/>
          <p:nvPr/>
        </p:nvGrpSpPr>
        <p:grpSpPr>
          <a:xfrm>
            <a:off x="430200" y="3206880"/>
            <a:ext cx="547560" cy="558720"/>
            <a:chOff x="430200" y="3206880"/>
            <a:chExt cx="547560" cy="558720"/>
          </a:xfrm>
        </p:grpSpPr>
        <p:sp>
          <p:nvSpPr>
            <p:cNvPr id="1968" name=""/>
            <p:cNvSpPr/>
            <p:nvPr/>
          </p:nvSpPr>
          <p:spPr>
            <a:xfrm>
              <a:off x="430200" y="3206880"/>
              <a:ext cx="547560" cy="55872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 flipV="1">
              <a:off x="704160" y="3329280"/>
              <a:ext cx="0" cy="27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70" name=""/>
          <p:cNvSpPr/>
          <p:nvPr/>
        </p:nvSpPr>
        <p:spPr>
          <a:xfrm flipV="1">
            <a:off x="711360" y="1904760"/>
            <a:ext cx="0" cy="1320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1" name=""/>
          <p:cNvSpPr/>
          <p:nvPr/>
        </p:nvSpPr>
        <p:spPr>
          <a:xfrm>
            <a:off x="685800" y="37591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2" name=""/>
          <p:cNvSpPr/>
          <p:nvPr/>
        </p:nvSpPr>
        <p:spPr>
          <a:xfrm flipH="1">
            <a:off x="901440" y="5359320"/>
            <a:ext cx="5994360" cy="0"/>
          </a:xfrm>
          <a:prstGeom prst="line">
            <a:avLst/>
          </a:prstGeom>
          <a:ln w="38160">
            <a:solidFill>
              <a:srgbClr val="cc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"/>
          <p:cNvSpPr/>
          <p:nvPr/>
        </p:nvSpPr>
        <p:spPr>
          <a:xfrm>
            <a:off x="3344760" y="5324400"/>
            <a:ext cx="371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"/>
          <p:cNvSpPr/>
          <p:nvPr/>
        </p:nvSpPr>
        <p:spPr>
          <a:xfrm>
            <a:off x="1347840" y="6359400"/>
            <a:ext cx="1349280" cy="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5" name=""/>
          <p:cNvGrpSpPr/>
          <p:nvPr/>
        </p:nvGrpSpPr>
        <p:grpSpPr>
          <a:xfrm>
            <a:off x="2912760" y="6031080"/>
            <a:ext cx="3144240" cy="523800"/>
            <a:chOff x="2912760" y="6031080"/>
            <a:chExt cx="3144240" cy="523800"/>
          </a:xfrm>
        </p:grpSpPr>
        <p:sp>
          <p:nvSpPr>
            <p:cNvPr id="1976" name=""/>
            <p:cNvSpPr/>
            <p:nvPr/>
          </p:nvSpPr>
          <p:spPr>
            <a:xfrm>
              <a:off x="2912760" y="6031080"/>
              <a:ext cx="517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cc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3248640" y="6278400"/>
              <a:ext cx="368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cc0000"/>
                  </a:solidFill>
                  <a:latin typeface="Times New Roman"/>
                </a:rPr>
                <a:t>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3466800" y="6049800"/>
              <a:ext cx="2590200" cy="4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Times New Roman"/>
                </a:rPr>
                <a:t>= R</a:t>
              </a:r>
              <a:r>
                <a:rPr b="0" lang="en-US" sz="2200" spc="-1" strike="noStrike" baseline="-25000">
                  <a:solidFill>
                    <a:srgbClr val="cc0000"/>
                  </a:solidFill>
                  <a:latin typeface="Times New Roman"/>
                </a:rPr>
                <a:t>CS</a:t>
              </a:r>
              <a:r>
                <a:rPr b="0" lang="en-US" sz="2200" spc="-1" strike="noStrike">
                  <a:solidFill>
                    <a:srgbClr val="cc0000"/>
                  </a:solidFill>
                  <a:latin typeface="Times New Roman"/>
                </a:rPr>
                <a:t>I</a:t>
              </a:r>
              <a:r>
                <a:rPr b="0" lang="en-US" sz="2200" spc="-1" strike="noStrike" baseline="-25000">
                  <a:solidFill>
                    <a:srgbClr val="cc0000"/>
                  </a:solidFill>
                  <a:latin typeface="Times New Roman"/>
                </a:rPr>
                <a:t>2 </a:t>
              </a:r>
              <a:r>
                <a:rPr b="0" lang="en-US" sz="2200" spc="-1" strike="noStrike">
                  <a:solidFill>
                    <a:srgbClr val="cc0000"/>
                  </a:solidFill>
                  <a:latin typeface="Symbol"/>
                  <a:ea typeface="Symbol"/>
                </a:rPr>
                <a:t></a:t>
              </a:r>
              <a:r>
                <a:rPr b="0" lang="en-US" sz="2200" spc="-1" strike="noStrike">
                  <a:solidFill>
                    <a:srgbClr val="cc0000"/>
                  </a:solidFill>
                  <a:latin typeface="Times New Roman"/>
                </a:rPr>
                <a:t> U</a:t>
              </a:r>
              <a:r>
                <a:rPr b="0" lang="en-US" sz="2200" spc="-1" strike="noStrike" baseline="-25000">
                  <a:solidFill>
                    <a:srgbClr val="cc0000"/>
                  </a:solidFill>
                  <a:latin typeface="Times New Roman"/>
                </a:rPr>
                <a:t>BE </a:t>
              </a:r>
              <a:r>
                <a:rPr b="0" lang="en-US" sz="2200" spc="-1" strike="noStrike">
                  <a:solidFill>
                    <a:srgbClr val="cc0000"/>
                  </a:solidFill>
                  <a:latin typeface="Symbol"/>
                  <a:ea typeface="Symbol"/>
                </a:rPr>
                <a:t></a:t>
              </a:r>
              <a:r>
                <a:rPr b="0" lang="en-US" sz="2200" spc="-1" strike="noStrike">
                  <a:solidFill>
                    <a:srgbClr val="cc0000"/>
                  </a:solidFill>
                  <a:latin typeface="Times New Roman"/>
                </a:rPr>
                <a:t> 0,7V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BEZPIECZENIE WYŁĄCZAJ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0" name=""/>
          <p:cNvGrpSpPr/>
          <p:nvPr/>
        </p:nvGrpSpPr>
        <p:grpSpPr>
          <a:xfrm>
            <a:off x="222840" y="1500120"/>
            <a:ext cx="7827840" cy="4469040"/>
            <a:chOff x="222840" y="1500120"/>
            <a:chExt cx="7827840" cy="4469040"/>
          </a:xfrm>
        </p:grpSpPr>
        <p:sp>
          <p:nvSpPr>
            <p:cNvPr id="1981" name=""/>
            <p:cNvSpPr/>
            <p:nvPr/>
          </p:nvSpPr>
          <p:spPr>
            <a:xfrm flipH="1">
              <a:off x="703440" y="1920960"/>
              <a:ext cx="206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82" name=""/>
            <p:cNvGrpSpPr/>
            <p:nvPr/>
          </p:nvGrpSpPr>
          <p:grpSpPr>
            <a:xfrm>
              <a:off x="4951440" y="4552920"/>
              <a:ext cx="547560" cy="495360"/>
              <a:chOff x="4951440" y="4552920"/>
              <a:chExt cx="547560" cy="495360"/>
            </a:xfrm>
          </p:grpSpPr>
          <p:sp>
            <p:nvSpPr>
              <p:cNvPr id="1983" name=""/>
              <p:cNvSpPr/>
              <p:nvPr/>
            </p:nvSpPr>
            <p:spPr>
              <a:xfrm>
                <a:off x="4951440" y="4552920"/>
                <a:ext cx="547560" cy="495360"/>
              </a:xfrm>
              <a:prstGeom prst="ellipse">
                <a:avLst/>
              </a:prstGeom>
              <a:noFill/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 flipV="1">
                <a:off x="5225400" y="4661280"/>
                <a:ext cx="0" cy="247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85" name=""/>
            <p:cNvSpPr/>
            <p:nvPr/>
          </p:nvSpPr>
          <p:spPr>
            <a:xfrm flipH="1">
              <a:off x="2997360" y="3506760"/>
              <a:ext cx="38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 flipH="1">
              <a:off x="3394800" y="2876400"/>
              <a:ext cx="1498680" cy="1287720"/>
            </a:xfrm>
            <a:custGeom>
              <a:avLst/>
              <a:gdLst/>
              <a:ahLst/>
              <a:rect l="l" t="t" r="r" b="b"/>
              <a:pathLst>
                <a:path w="944" h="811">
                  <a:moveTo>
                    <a:pt x="0" y="0"/>
                  </a:moveTo>
                  <a:lnTo>
                    <a:pt x="0" y="811"/>
                  </a:lnTo>
                  <a:lnTo>
                    <a:pt x="944" y="411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 flipH="1">
              <a:off x="4002480" y="3294000"/>
              <a:ext cx="461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 flipH="1">
              <a:off x="4619880" y="3567240"/>
              <a:ext cx="29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 flipH="1">
              <a:off x="4593240" y="29718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4419360" y="4618080"/>
              <a:ext cx="517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 flipV="1">
              <a:off x="6334200" y="3522240"/>
              <a:ext cx="0" cy="9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6351480" y="5111640"/>
              <a:ext cx="0" cy="54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6208560" y="5656320"/>
              <a:ext cx="317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 rot="16200000">
              <a:off x="6300720" y="382248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5686920" y="4608360"/>
              <a:ext cx="47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5628240" y="2868480"/>
              <a:ext cx="47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97" name=""/>
            <p:cNvGrpSpPr/>
            <p:nvPr/>
          </p:nvGrpSpPr>
          <p:grpSpPr>
            <a:xfrm>
              <a:off x="2738520" y="1500120"/>
              <a:ext cx="476280" cy="793800"/>
              <a:chOff x="2738520" y="1500120"/>
              <a:chExt cx="476280" cy="793800"/>
            </a:xfrm>
          </p:grpSpPr>
          <p:sp>
            <p:nvSpPr>
              <p:cNvPr id="1998" name=""/>
              <p:cNvSpPr/>
              <p:nvPr/>
            </p:nvSpPr>
            <p:spPr>
              <a:xfrm>
                <a:off x="2738520" y="1822320"/>
                <a:ext cx="476280" cy="47160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9" name=""/>
              <p:cNvSpPr/>
              <p:nvPr/>
            </p:nvSpPr>
            <p:spPr>
              <a:xfrm flipH="1">
                <a:off x="2839680" y="2144520"/>
                <a:ext cx="2667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0" name=""/>
              <p:cNvSpPr/>
              <p:nvPr/>
            </p:nvSpPr>
            <p:spPr>
              <a:xfrm flipV="1">
                <a:off x="3046680" y="1896840"/>
                <a:ext cx="101520" cy="233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1" name=""/>
              <p:cNvSpPr/>
              <p:nvPr/>
            </p:nvSpPr>
            <p:spPr>
              <a:xfrm flipH="1" flipV="1">
                <a:off x="2799000" y="1896840"/>
                <a:ext cx="115920" cy="233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2" name=""/>
              <p:cNvSpPr/>
              <p:nvPr/>
            </p:nvSpPr>
            <p:spPr>
              <a:xfrm>
                <a:off x="2967120" y="2144520"/>
                <a:ext cx="180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3" name=""/>
              <p:cNvSpPr/>
              <p:nvPr/>
            </p:nvSpPr>
            <p:spPr>
              <a:xfrm>
                <a:off x="2799000" y="1500120"/>
                <a:ext cx="341280" cy="284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4" name=""/>
              <p:cNvSpPr/>
              <p:nvPr/>
            </p:nvSpPr>
            <p:spPr>
              <a:xfrm>
                <a:off x="2877840" y="1533240"/>
                <a:ext cx="1134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5" name=""/>
              <p:cNvSpPr/>
              <p:nvPr/>
            </p:nvSpPr>
            <p:spPr>
              <a:xfrm>
                <a:off x="2985480" y="162540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6" name=""/>
              <p:cNvGrpSpPr/>
              <p:nvPr/>
            </p:nvGrpSpPr>
            <p:grpSpPr>
              <a:xfrm>
                <a:off x="3022560" y="1976040"/>
                <a:ext cx="98640" cy="144360"/>
                <a:chOff x="3022560" y="1976040"/>
                <a:chExt cx="98640" cy="144360"/>
              </a:xfrm>
            </p:grpSpPr>
            <p:sp>
              <p:nvSpPr>
                <p:cNvPr id="2007" name=""/>
                <p:cNvSpPr/>
                <p:nvPr/>
              </p:nvSpPr>
              <p:spPr>
                <a:xfrm flipV="1">
                  <a:off x="3046320" y="1976040"/>
                  <a:ext cx="69840" cy="1443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8" name=""/>
                <p:cNvSpPr/>
                <p:nvPr/>
              </p:nvSpPr>
              <p:spPr>
                <a:xfrm>
                  <a:off x="3022560" y="1976400"/>
                  <a:ext cx="98640" cy="115920"/>
                </a:xfrm>
                <a:custGeom>
                  <a:avLst/>
                  <a:gdLst/>
                  <a:ahLst/>
                  <a:rect l="l" t="t" r="r" b="b"/>
                  <a:pathLst>
                    <a:path w="62" h="73">
                      <a:moveTo>
                        <a:pt x="62" y="73"/>
                      </a:moveTo>
                      <a:lnTo>
                        <a:pt x="59" y="0"/>
                      </a:lnTo>
                      <a:lnTo>
                        <a:pt x="0" y="44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009" name=""/>
            <p:cNvSpPr/>
            <p:nvPr/>
          </p:nvSpPr>
          <p:spPr>
            <a:xfrm>
              <a:off x="3157560" y="1903320"/>
              <a:ext cx="421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0" name=""/>
            <p:cNvSpPr/>
            <p:nvPr/>
          </p:nvSpPr>
          <p:spPr>
            <a:xfrm flipH="1">
              <a:off x="4903560" y="3860640"/>
              <a:ext cx="1430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1" name=""/>
            <p:cNvSpPr/>
            <p:nvPr/>
          </p:nvSpPr>
          <p:spPr>
            <a:xfrm flipH="1">
              <a:off x="4868640" y="3208320"/>
              <a:ext cx="34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2" name=""/>
            <p:cNvSpPr/>
            <p:nvPr/>
          </p:nvSpPr>
          <p:spPr>
            <a:xfrm flipV="1">
              <a:off x="6315120" y="1896840"/>
              <a:ext cx="0" cy="99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 rot="16200000">
              <a:off x="2694960" y="2932560"/>
              <a:ext cx="601560" cy="22860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4" name=""/>
            <p:cNvSpPr/>
            <p:nvPr/>
          </p:nvSpPr>
          <p:spPr>
            <a:xfrm flipV="1">
              <a:off x="2998800" y="3349800"/>
              <a:ext cx="0" cy="15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5" name=""/>
            <p:cNvSpPr/>
            <p:nvPr/>
          </p:nvSpPr>
          <p:spPr>
            <a:xfrm flipV="1">
              <a:off x="2963880" y="2290320"/>
              <a:ext cx="0" cy="47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 rot="16200000">
              <a:off x="6039720" y="4672440"/>
              <a:ext cx="601560" cy="22860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7" name=""/>
            <p:cNvSpPr/>
            <p:nvPr/>
          </p:nvSpPr>
          <p:spPr>
            <a:xfrm rot="16200000">
              <a:off x="6015960" y="3113640"/>
              <a:ext cx="601560" cy="22860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8" name=""/>
            <p:cNvSpPr/>
            <p:nvPr/>
          </p:nvSpPr>
          <p:spPr>
            <a:xfrm flipV="1">
              <a:off x="7356600" y="2060280"/>
              <a:ext cx="0" cy="329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7473600" y="2940120"/>
              <a:ext cx="577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222840" y="27417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6265800" y="185436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 rot="10800000">
              <a:off x="1722240" y="5254200"/>
              <a:ext cx="601560" cy="22860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1455840" y="2620800"/>
              <a:ext cx="7920" cy="2746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701640" y="5362560"/>
              <a:ext cx="1008000" cy="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 flipH="1">
              <a:off x="2309400" y="5357880"/>
              <a:ext cx="2192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2509920" y="5262480"/>
              <a:ext cx="1440" cy="10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 flipH="1">
              <a:off x="1461960" y="2602080"/>
              <a:ext cx="1516320" cy="4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 rot="16200000">
              <a:off x="2457360" y="5313240"/>
              <a:ext cx="74880" cy="74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2489040" y="5362560"/>
              <a:ext cx="483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 rot="16200000">
              <a:off x="6313320" y="5315760"/>
              <a:ext cx="74520" cy="74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1" name=""/>
            <p:cNvSpPr/>
            <p:nvPr/>
          </p:nvSpPr>
          <p:spPr>
            <a:xfrm rot="16200000">
              <a:off x="1442880" y="5314320"/>
              <a:ext cx="74520" cy="74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 rot="16200000">
              <a:off x="2927520" y="257148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3" name=""/>
            <p:cNvSpPr/>
            <p:nvPr/>
          </p:nvSpPr>
          <p:spPr>
            <a:xfrm flipV="1">
              <a:off x="5238720" y="3209400"/>
              <a:ext cx="0" cy="133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5219640" y="5048280"/>
              <a:ext cx="0" cy="31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 rot="16200000">
              <a:off x="5180040" y="532584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1677960" y="5394240"/>
              <a:ext cx="599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1181160" y="2425680"/>
              <a:ext cx="1562040" cy="354348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38" name=""/>
            <p:cNvGrpSpPr/>
            <p:nvPr/>
          </p:nvGrpSpPr>
          <p:grpSpPr>
            <a:xfrm>
              <a:off x="430200" y="3206880"/>
              <a:ext cx="547560" cy="558720"/>
              <a:chOff x="430200" y="3206880"/>
              <a:chExt cx="547560" cy="558720"/>
            </a:xfrm>
          </p:grpSpPr>
          <p:sp>
            <p:nvSpPr>
              <p:cNvPr id="2039" name=""/>
              <p:cNvSpPr/>
              <p:nvPr/>
            </p:nvSpPr>
            <p:spPr>
              <a:xfrm>
                <a:off x="430200" y="3206880"/>
                <a:ext cx="547560" cy="558720"/>
              </a:xfrm>
              <a:prstGeom prst="ellipse">
                <a:avLst/>
              </a:prstGeom>
              <a:noFill/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0" name=""/>
              <p:cNvSpPr/>
              <p:nvPr/>
            </p:nvSpPr>
            <p:spPr>
              <a:xfrm flipV="1">
                <a:off x="704160" y="3329280"/>
                <a:ext cx="0" cy="27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41" name=""/>
            <p:cNvSpPr/>
            <p:nvPr/>
          </p:nvSpPr>
          <p:spPr>
            <a:xfrm flipV="1">
              <a:off x="711360" y="1904760"/>
              <a:ext cx="0" cy="132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685800" y="375912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 flipH="1">
              <a:off x="901440" y="5359320"/>
              <a:ext cx="5994360" cy="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3344760" y="5324400"/>
              <a:ext cx="371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cc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METRY STABILIZATORÓW NAPIĘ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4320" y="690480"/>
            <a:ext cx="82843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-    nominalne (znamionowe) napięcie stabilizacj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imes New Roman"/>
              </a:rPr>
              <a:t>20max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- największy prąd wyjściowy w zakresie stabilizacj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imes New Roman"/>
              </a:rPr>
              <a:t>2max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-  największy prąd wyjściowy zwarciow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imes New Roman"/>
              </a:rPr>
              <a:t>1min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imes New Roman"/>
              </a:rPr>
              <a:t>1max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- zakres dopuszczalnych zmian napięcia wejścioweg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imes New Roman"/>
              </a:rPr>
              <a:t>str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-    moc strat w stabilizatorze - </a:t>
            </a:r>
            <a:r>
              <a:rPr b="0" i="1" lang="pl-PL" sz="2400" spc="-1" strike="noStrike">
                <a:solidFill>
                  <a:srgbClr val="ff3300"/>
                </a:solidFill>
                <a:latin typeface="Times New Roman"/>
              </a:rPr>
              <a:t>tranzystory mo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460440" y="2959200"/>
          <a:ext cx="6251400" cy="3495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0440" y="2959200"/>
                    <a:ext cx="6251400" cy="34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DZAJE STABILIZATORÓ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91960" y="1108080"/>
            <a:ext cx="55882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arametrycz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ykorzystują wprost właściwości elementó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nieliniowych - dioda Zenera, warys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Kompensacyj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Szeregowe - małe i średnie moce (do n•10W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- regulowa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Równoległe  - większe mo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- o stałym napięciu wyjściowy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540480" y="1434960"/>
            <a:ext cx="584280" cy="190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7200360" y="1930320"/>
            <a:ext cx="584280" cy="19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289640" y="1828800"/>
            <a:ext cx="444600" cy="520560"/>
          </a:xfrm>
          <a:custGeom>
            <a:avLst/>
            <a:gdLst/>
            <a:ahLst/>
            <a:rect l="l" t="t" r="r" b="b"/>
            <a:pathLst>
              <a:path w="280" h="328">
                <a:moveTo>
                  <a:pt x="0" y="0"/>
                </a:moveTo>
                <a:lnTo>
                  <a:pt x="0" y="104"/>
                </a:lnTo>
                <a:lnTo>
                  <a:pt x="280" y="224"/>
                </a:lnTo>
                <a:lnTo>
                  <a:pt x="264" y="32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124760" y="1536840"/>
            <a:ext cx="104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480440" y="1549440"/>
            <a:ext cx="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493040" y="2311560"/>
            <a:ext cx="0" cy="164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6058080" y="2476440"/>
            <a:ext cx="2133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5994360" y="1536840"/>
            <a:ext cx="55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6006960" y="1650600"/>
            <a:ext cx="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010280" y="3441600"/>
            <a:ext cx="584280" cy="19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rot="5400000">
            <a:off x="7670520" y="3936960"/>
            <a:ext cx="584280" cy="19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099200" y="3263760"/>
            <a:ext cx="444600" cy="520920"/>
          </a:xfrm>
          <a:custGeom>
            <a:avLst/>
            <a:gdLst/>
            <a:ahLst/>
            <a:rect l="l" t="t" r="r" b="b"/>
            <a:pathLst>
              <a:path w="280" h="328">
                <a:moveTo>
                  <a:pt x="0" y="0"/>
                </a:moveTo>
                <a:lnTo>
                  <a:pt x="0" y="104"/>
                </a:lnTo>
                <a:lnTo>
                  <a:pt x="280" y="224"/>
                </a:lnTo>
                <a:lnTo>
                  <a:pt x="264" y="32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94560" y="3543480"/>
            <a:ext cx="34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950240" y="3556080"/>
            <a:ext cx="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962840" y="4317840"/>
            <a:ext cx="0" cy="16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527520" y="44830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463800" y="3543480"/>
            <a:ext cx="55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477120" y="3657600"/>
            <a:ext cx="0" cy="66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8394840" y="3644640"/>
            <a:ext cx="0" cy="787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690600" y="292104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gul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5400000">
            <a:off x="7886160" y="1905120"/>
            <a:ext cx="584280" cy="19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166240" y="1523880"/>
            <a:ext cx="0" cy="190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178840" y="2286000"/>
            <a:ext cx="0" cy="16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8610480" y="1612800"/>
            <a:ext cx="0" cy="787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261120" y="5079960"/>
            <a:ext cx="584280" cy="19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5400000">
            <a:off x="6921000" y="5575320"/>
            <a:ext cx="584280" cy="19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010280" y="5473800"/>
            <a:ext cx="444600" cy="520560"/>
          </a:xfrm>
          <a:custGeom>
            <a:avLst/>
            <a:gdLst/>
            <a:ahLst/>
            <a:rect l="l" t="t" r="r" b="b"/>
            <a:pathLst>
              <a:path w="280" h="328">
                <a:moveTo>
                  <a:pt x="0" y="0"/>
                </a:moveTo>
                <a:lnTo>
                  <a:pt x="0" y="104"/>
                </a:lnTo>
                <a:lnTo>
                  <a:pt x="280" y="224"/>
                </a:lnTo>
                <a:lnTo>
                  <a:pt x="264" y="32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845400" y="5181480"/>
            <a:ext cx="104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201080" y="5194440"/>
            <a:ext cx="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13680" y="5956200"/>
            <a:ext cx="0" cy="16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5778000" y="612144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5715000" y="5181480"/>
            <a:ext cx="55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626080" y="5308200"/>
            <a:ext cx="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rot="5400000">
            <a:off x="7606800" y="5549760"/>
            <a:ext cx="583920" cy="19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86880" y="5168880"/>
            <a:ext cx="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899480" y="5931000"/>
            <a:ext cx="0" cy="164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8331120" y="5257440"/>
            <a:ext cx="0" cy="787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677640" y="619776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gul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7302600" y="363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743880" y="3859200"/>
            <a:ext cx="106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erowan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756480" y="5702400"/>
            <a:ext cx="355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715000" y="5535720"/>
            <a:ext cx="106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erowan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134400" y="187812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el. nieliniow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144640" y="109368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144640" y="312588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144640" y="480204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896800" y="108108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960160" y="376092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401440" y="473868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71680" y="2730600"/>
            <a:ext cx="7772400" cy="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477440" y="3038400"/>
            <a:ext cx="529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BILIZATOR   PARAMETRYCZ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10960" y="522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METRY DIODY ZEN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2259000" y="1117440"/>
            <a:ext cx="0" cy="345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81160" y="1828800"/>
            <a:ext cx="2930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66880" y="1828800"/>
            <a:ext cx="1392120" cy="2625840"/>
          </a:xfrm>
          <a:custGeom>
            <a:avLst/>
            <a:gdLst/>
            <a:ahLst/>
            <a:rect l="l" t="t" r="r" b="b"/>
            <a:pathLst>
              <a:path w="608" h="1240">
                <a:moveTo>
                  <a:pt x="608" y="0"/>
                </a:moveTo>
                <a:lnTo>
                  <a:pt x="268" y="12"/>
                </a:lnTo>
                <a:lnTo>
                  <a:pt x="140" y="16"/>
                </a:lnTo>
                <a:lnTo>
                  <a:pt x="112" y="28"/>
                </a:lnTo>
                <a:lnTo>
                  <a:pt x="100" y="52"/>
                </a:lnTo>
                <a:lnTo>
                  <a:pt x="68" y="236"/>
                </a:lnTo>
                <a:lnTo>
                  <a:pt x="28" y="664"/>
                </a:lnTo>
                <a:lnTo>
                  <a:pt x="0" y="1240"/>
                </a:lnTo>
              </a:path>
            </a:pathLst>
          </a:custGeom>
          <a:noFill/>
          <a:ln w="1908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268360" y="1143000"/>
            <a:ext cx="466920" cy="685800"/>
          </a:xfrm>
          <a:custGeom>
            <a:avLst/>
            <a:gdLst/>
            <a:ahLst/>
            <a:rect l="l" t="t" r="r" b="b"/>
            <a:pathLst>
              <a:path w="204" h="324">
                <a:moveTo>
                  <a:pt x="0" y="324"/>
                </a:moveTo>
                <a:lnTo>
                  <a:pt x="136" y="320"/>
                </a:lnTo>
                <a:lnTo>
                  <a:pt x="160" y="304"/>
                </a:lnTo>
                <a:lnTo>
                  <a:pt x="168" y="280"/>
                </a:lnTo>
                <a:lnTo>
                  <a:pt x="188" y="188"/>
                </a:lnTo>
                <a:lnTo>
                  <a:pt x="204" y="0"/>
                </a:lnTo>
              </a:path>
            </a:pathLst>
          </a:custGeom>
          <a:noFill/>
          <a:ln w="1908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840" y="1279440"/>
            <a:ext cx="66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327400" y="2530440"/>
            <a:ext cx="8604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76320" y="1828800"/>
            <a:ext cx="0" cy="9399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68400" y="2768760"/>
            <a:ext cx="12445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091160" y="2703600"/>
            <a:ext cx="519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cc0000"/>
                </a:solidFill>
                <a:latin typeface="Times New Roman"/>
              </a:rPr>
              <a:t>r</a:t>
            </a:r>
            <a:r>
              <a:rPr b="0" lang="pl-PL" sz="2400" spc="-1" strike="noStrike" baseline="-25000">
                <a:solidFill>
                  <a:srgbClr val="cc0000"/>
                </a:solidFill>
                <a:latin typeface="Times New Roman"/>
              </a:rPr>
              <a:t>D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834080" y="3448080"/>
            <a:ext cx="3031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884840" y="1165320"/>
            <a:ext cx="0" cy="3666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994880" y="3083040"/>
            <a:ext cx="508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30720" y="1411200"/>
            <a:ext cx="2735280" cy="2000160"/>
          </a:xfrm>
          <a:custGeom>
            <a:avLst/>
            <a:gdLst/>
            <a:ahLst/>
            <a:rect l="l" t="t" r="r" b="b"/>
            <a:pathLst>
              <a:path w="1723" h="1260">
                <a:moveTo>
                  <a:pt x="0" y="600"/>
                </a:moveTo>
                <a:cubicBezTo>
                  <a:pt x="86" y="692"/>
                  <a:pt x="173" y="785"/>
                  <a:pt x="312" y="878"/>
                </a:cubicBezTo>
                <a:cubicBezTo>
                  <a:pt x="451" y="971"/>
                  <a:pt x="690" y="1125"/>
                  <a:pt x="834" y="1156"/>
                </a:cubicBezTo>
                <a:cubicBezTo>
                  <a:pt x="978" y="1187"/>
                  <a:pt x="1030" y="1260"/>
                  <a:pt x="1178" y="1067"/>
                </a:cubicBezTo>
                <a:cubicBezTo>
                  <a:pt x="1326" y="874"/>
                  <a:pt x="1524" y="437"/>
                  <a:pt x="1723" y="0"/>
                </a:cubicBezTo>
              </a:path>
            </a:pathLst>
          </a:custGeom>
          <a:noFill/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854680" y="1817640"/>
            <a:ext cx="1393920" cy="2944800"/>
          </a:xfrm>
          <a:custGeom>
            <a:avLst/>
            <a:gdLst/>
            <a:ahLst/>
            <a:rect l="l" t="t" r="r" b="b"/>
            <a:pathLst>
              <a:path w="878" h="1855">
                <a:moveTo>
                  <a:pt x="878" y="0"/>
                </a:moveTo>
                <a:cubicBezTo>
                  <a:pt x="812" y="293"/>
                  <a:pt x="746" y="587"/>
                  <a:pt x="678" y="789"/>
                </a:cubicBezTo>
                <a:cubicBezTo>
                  <a:pt x="610" y="991"/>
                  <a:pt x="580" y="1033"/>
                  <a:pt x="467" y="1211"/>
                </a:cubicBezTo>
                <a:cubicBezTo>
                  <a:pt x="354" y="1389"/>
                  <a:pt x="76" y="1748"/>
                  <a:pt x="0" y="1855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38800" y="843120"/>
            <a:ext cx="1838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cc0000"/>
                </a:solidFill>
                <a:latin typeface="Times New Roman"/>
              </a:rPr>
              <a:t>r</a:t>
            </a:r>
            <a:r>
              <a:rPr b="1" lang="pl-PL" sz="2400" spc="-1" strike="noStrike" baseline="-25000">
                <a:solidFill>
                  <a:srgbClr val="cc0000"/>
                </a:solidFill>
                <a:latin typeface="Times New Roman"/>
              </a:rPr>
              <a:t>DZ</a:t>
            </a:r>
            <a:r>
              <a:rPr b="1" lang="pl-PL" sz="2400" spc="-1" strike="noStrike">
                <a:solidFill>
                  <a:srgbClr val="cc0000"/>
                </a:solidFill>
                <a:latin typeface="Times New Roman"/>
              </a:rPr>
              <a:t>, </a:t>
            </a:r>
            <a:r>
              <a:rPr b="1" lang="pl-PL" sz="24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1" lang="pl-PL" sz="2400" spc="-1" strike="noStrike" baseline="-25000">
                <a:solidFill>
                  <a:srgbClr val="3333cc"/>
                </a:solidFill>
                <a:latin typeface="Times New Roman"/>
              </a:rPr>
              <a:t>Z</a:t>
            </a:r>
            <a:r>
              <a:rPr b="1" lang="pl-PL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382920" y="3956040"/>
            <a:ext cx="1031760" cy="27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imes New Roman"/>
              </a:rPr>
              <a:t>D ma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imes New Roman"/>
              </a:rPr>
              <a:t>D n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imes New Roman"/>
              </a:rPr>
              <a:t>D ma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imes New Roman"/>
              </a:rPr>
              <a:t>D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1112760" y="4387680"/>
            <a:ext cx="1340640" cy="2170080"/>
            <a:chOff x="1112760" y="4387680"/>
            <a:chExt cx="1340640" cy="2170080"/>
          </a:xfrm>
        </p:grpSpPr>
        <p:sp>
          <p:nvSpPr>
            <p:cNvPr id="124" name=""/>
            <p:cNvSpPr/>
            <p:nvPr/>
          </p:nvSpPr>
          <p:spPr>
            <a:xfrm>
              <a:off x="1359000" y="4653000"/>
              <a:ext cx="195120" cy="60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112760" y="5568840"/>
              <a:ext cx="723960" cy="758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V="1">
              <a:off x="1465200" y="5728680"/>
              <a:ext cx="0" cy="40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447920" y="4387680"/>
              <a:ext cx="0" cy="265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465200" y="5253120"/>
              <a:ext cx="0" cy="33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465200" y="6327720"/>
              <a:ext cx="0" cy="23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769040" y="4843440"/>
              <a:ext cx="519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D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856520" y="570060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Z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"/>
          <p:cNvSpPr/>
          <p:nvPr/>
        </p:nvSpPr>
        <p:spPr>
          <a:xfrm flipV="1">
            <a:off x="831960" y="1821960"/>
            <a:ext cx="218880" cy="248940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55800" y="1514520"/>
            <a:ext cx="463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U</a:t>
            </a:r>
            <a:r>
              <a:rPr b="1" lang="en-US" sz="1400" spc="-1" strike="noStrike" baseline="-25000">
                <a:solidFill>
                  <a:srgbClr val="cc0000"/>
                </a:solidFill>
                <a:latin typeface="Times New Roman"/>
              </a:rPr>
              <a:t>Z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613920" y="378792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 - 7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660640" y="2284560"/>
            <a:ext cx="141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&lt;10omó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10360" y="2681280"/>
            <a:ext cx="547560" cy="53676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50040" y="3346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ILIZATOR PARAMETRYCZNY - UKŁ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231480" y="2371680"/>
            <a:ext cx="2551320" cy="1421640"/>
            <a:chOff x="231480" y="2371680"/>
            <a:chExt cx="2551320" cy="1421640"/>
          </a:xfrm>
        </p:grpSpPr>
        <p:sp>
          <p:nvSpPr>
            <p:cNvPr id="140" name=""/>
            <p:cNvSpPr/>
            <p:nvPr/>
          </p:nvSpPr>
          <p:spPr>
            <a:xfrm>
              <a:off x="231480" y="3579840"/>
              <a:ext cx="2321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)                                              b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461960" y="3062160"/>
              <a:ext cx="236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39800" y="2598840"/>
              <a:ext cx="409680" cy="15408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1130040" y="2676600"/>
              <a:ext cx="1681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544320" y="2676600"/>
              <a:ext cx="199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98480" y="2789280"/>
              <a:ext cx="290520" cy="29052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80920" y="283068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7" name=""/>
            <p:cNvGrpSpPr/>
            <p:nvPr/>
          </p:nvGrpSpPr>
          <p:grpSpPr>
            <a:xfrm>
              <a:off x="1212480" y="3075120"/>
              <a:ext cx="259200" cy="128520"/>
              <a:chOff x="1212480" y="3075120"/>
              <a:chExt cx="259200" cy="128520"/>
            </a:xfrm>
          </p:grpSpPr>
          <p:sp>
            <p:nvSpPr>
              <p:cNvPr id="148" name=""/>
              <p:cNvSpPr/>
              <p:nvPr/>
            </p:nvSpPr>
            <p:spPr>
              <a:xfrm>
                <a:off x="1239840" y="3201840"/>
                <a:ext cx="185760" cy="18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1320840" y="3089160"/>
                <a:ext cx="114120" cy="11268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1235160" y="3075120"/>
                <a:ext cx="18576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flipH="1">
                <a:off x="1212480" y="3089160"/>
                <a:ext cx="112680" cy="11268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1416240" y="3075120"/>
                <a:ext cx="55440" cy="5076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" name=""/>
            <p:cNvGrpSpPr/>
            <p:nvPr/>
          </p:nvGrpSpPr>
          <p:grpSpPr>
            <a:xfrm>
              <a:off x="317520" y="2630520"/>
              <a:ext cx="227160" cy="95400"/>
              <a:chOff x="317520" y="2630520"/>
              <a:chExt cx="227160" cy="95400"/>
            </a:xfrm>
          </p:grpSpPr>
          <p:sp>
            <p:nvSpPr>
              <p:cNvPr id="154" name=""/>
              <p:cNvSpPr/>
              <p:nvPr/>
            </p:nvSpPr>
            <p:spPr>
              <a:xfrm>
                <a:off x="317520" y="2676600"/>
                <a:ext cx="2271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449280" y="2630520"/>
                <a:ext cx="95400" cy="9540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0" y="60"/>
                    </a:moveTo>
                    <a:lnTo>
                      <a:pt x="60" y="29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" name=""/>
            <p:cNvGrpSpPr/>
            <p:nvPr/>
          </p:nvGrpSpPr>
          <p:grpSpPr>
            <a:xfrm>
              <a:off x="1276200" y="2676600"/>
              <a:ext cx="95400" cy="226800"/>
              <a:chOff x="1276200" y="2676600"/>
              <a:chExt cx="95400" cy="226800"/>
            </a:xfrm>
          </p:grpSpPr>
          <p:sp>
            <p:nvSpPr>
              <p:cNvPr id="157" name=""/>
              <p:cNvSpPr/>
              <p:nvPr/>
            </p:nvSpPr>
            <p:spPr>
              <a:xfrm>
                <a:off x="1325520" y="2676600"/>
                <a:ext cx="1800" cy="226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1276200" y="2806560"/>
                <a:ext cx="95400" cy="96840"/>
              </a:xfrm>
              <a:custGeom>
                <a:avLst/>
                <a:gdLst/>
                <a:ahLst/>
                <a:rect l="l" t="t" r="r" b="b"/>
                <a:pathLst>
                  <a:path w="60" h="61">
                    <a:moveTo>
                      <a:pt x="0" y="0"/>
                    </a:moveTo>
                    <a:lnTo>
                      <a:pt x="31" y="61"/>
                    </a:lnTo>
                    <a:lnTo>
                      <a:pt x="6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" name=""/>
            <p:cNvGrpSpPr/>
            <p:nvPr/>
          </p:nvGrpSpPr>
          <p:grpSpPr>
            <a:xfrm>
              <a:off x="1312920" y="2630520"/>
              <a:ext cx="227160" cy="95400"/>
              <a:chOff x="1312920" y="2630520"/>
              <a:chExt cx="227160" cy="95400"/>
            </a:xfrm>
          </p:grpSpPr>
          <p:sp>
            <p:nvSpPr>
              <p:cNvPr id="160" name=""/>
              <p:cNvSpPr/>
              <p:nvPr/>
            </p:nvSpPr>
            <p:spPr>
              <a:xfrm>
                <a:off x="1312920" y="2676600"/>
                <a:ext cx="2271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1444680" y="2630520"/>
                <a:ext cx="95400" cy="9540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0" y="60"/>
                    </a:moveTo>
                    <a:lnTo>
                      <a:pt x="60" y="29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2" name=""/>
            <p:cNvSpPr/>
            <p:nvPr/>
          </p:nvSpPr>
          <p:spPr>
            <a:xfrm flipV="1">
              <a:off x="1325520" y="2903040"/>
              <a:ext cx="1800" cy="1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1325520" y="3197160"/>
              <a:ext cx="1800" cy="33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90520" y="3543480"/>
              <a:ext cx="14079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689120" y="3516480"/>
              <a:ext cx="63360" cy="54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41200" y="3516480"/>
              <a:ext cx="63720" cy="54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41200" y="2648160"/>
              <a:ext cx="63720" cy="55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1540080" y="2676600"/>
              <a:ext cx="1713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689120" y="2648160"/>
              <a:ext cx="63360" cy="55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231840" y="2762280"/>
              <a:ext cx="95040" cy="681120"/>
              <a:chOff x="231840" y="2762280"/>
              <a:chExt cx="95040" cy="681120"/>
            </a:xfrm>
          </p:grpSpPr>
          <p:sp>
            <p:nvSpPr>
              <p:cNvPr id="171" name=""/>
              <p:cNvSpPr/>
              <p:nvPr/>
            </p:nvSpPr>
            <p:spPr>
              <a:xfrm flipV="1">
                <a:off x="276120" y="2762280"/>
                <a:ext cx="1800" cy="681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231840" y="2762280"/>
                <a:ext cx="95040" cy="9540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60" y="60"/>
                    </a:moveTo>
                    <a:lnTo>
                      <a:pt x="28" y="0"/>
                    </a:lnTo>
                    <a:lnTo>
                      <a:pt x="0" y="6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1679760" y="2762280"/>
              <a:ext cx="95040" cy="681120"/>
              <a:chOff x="1679760" y="2762280"/>
              <a:chExt cx="95040" cy="681120"/>
            </a:xfrm>
          </p:grpSpPr>
          <p:sp>
            <p:nvSpPr>
              <p:cNvPr id="174" name=""/>
              <p:cNvSpPr/>
              <p:nvPr/>
            </p:nvSpPr>
            <p:spPr>
              <a:xfrm flipV="1">
                <a:off x="1725480" y="2762280"/>
                <a:ext cx="1800" cy="681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1679760" y="2762280"/>
                <a:ext cx="95040" cy="9540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60" y="60"/>
                    </a:moveTo>
                    <a:lnTo>
                      <a:pt x="29" y="0"/>
                    </a:lnTo>
                    <a:lnTo>
                      <a:pt x="0" y="6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2487600" y="2967120"/>
              <a:ext cx="295200" cy="293760"/>
              <a:chOff x="2487600" y="2967120"/>
              <a:chExt cx="295200" cy="293760"/>
            </a:xfrm>
          </p:grpSpPr>
          <p:sp>
            <p:nvSpPr>
              <p:cNvPr id="177" name=""/>
              <p:cNvSpPr/>
              <p:nvPr/>
            </p:nvSpPr>
            <p:spPr>
              <a:xfrm>
                <a:off x="2492280" y="2970360"/>
                <a:ext cx="285840" cy="287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2487600" y="297036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2487600" y="298944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2487600" y="3006720"/>
                <a:ext cx="972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2487600" y="302580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2487600" y="304344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2487600" y="306216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2487600" y="307980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487600" y="309888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2487600" y="3116160"/>
                <a:ext cx="972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2487600" y="313380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2487600" y="315288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2487600" y="3170160"/>
                <a:ext cx="972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2487600" y="318924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2487600" y="320688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2487600" y="322596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2487600" y="3243240"/>
                <a:ext cx="972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2497320" y="325296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2514600" y="325296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2533680" y="325296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2551320" y="325296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2570040" y="325296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2587680" y="325296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2606760" y="325296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2624040" y="325296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2643120" y="325296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2660760" y="325296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2678040" y="325296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2697120" y="325296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2714760" y="325296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2733840" y="325296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2751120" y="325296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2770200" y="325296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2774880" y="3238560"/>
                <a:ext cx="79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2774880" y="322092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2774880" y="3201840"/>
                <a:ext cx="792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2774880" y="3184560"/>
                <a:ext cx="79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2774880" y="3165480"/>
                <a:ext cx="792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2774880" y="3148200"/>
                <a:ext cx="79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2774880" y="313056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2774880" y="3111480"/>
                <a:ext cx="792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2774880" y="309420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2774880" y="3075120"/>
                <a:ext cx="79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2774880" y="3057480"/>
                <a:ext cx="792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2774880" y="3038400"/>
                <a:ext cx="792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2774880" y="3021120"/>
                <a:ext cx="79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2774880" y="3002040"/>
                <a:ext cx="79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2774880" y="2984400"/>
                <a:ext cx="792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2774880" y="29671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5"/>
                    </a:moveTo>
                    <a:lnTo>
                      <a:pt x="5" y="5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2755800" y="296712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2738520" y="296712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2719440" y="296712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2701800" y="296712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2683080" y="296712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2665440" y="296712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2646360" y="296712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2629080" y="296712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611440" y="296712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2592360" y="296712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2575080" y="296712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556000" y="296712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2538360" y="296712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2519280" y="296712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2502000" y="296712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1" name=""/>
            <p:cNvSpPr/>
            <p:nvPr/>
          </p:nvSpPr>
          <p:spPr>
            <a:xfrm>
              <a:off x="2538360" y="300204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655360" y="309420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206800" y="3274920"/>
              <a:ext cx="1440" cy="19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206800" y="3456000"/>
              <a:ext cx="199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5" name=""/>
            <p:cNvGrpSpPr/>
            <p:nvPr/>
          </p:nvGrpSpPr>
          <p:grpSpPr>
            <a:xfrm>
              <a:off x="2206800" y="2862360"/>
              <a:ext cx="353880" cy="426960"/>
              <a:chOff x="2206800" y="2862360"/>
              <a:chExt cx="353880" cy="426960"/>
            </a:xfrm>
          </p:grpSpPr>
          <p:sp>
            <p:nvSpPr>
              <p:cNvPr id="246" name=""/>
              <p:cNvSpPr/>
              <p:nvPr/>
            </p:nvSpPr>
            <p:spPr>
              <a:xfrm flipV="1">
                <a:off x="2206800" y="2862360"/>
                <a:ext cx="353880" cy="426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465280" y="2862360"/>
                <a:ext cx="95400" cy="104760"/>
              </a:xfrm>
              <a:custGeom>
                <a:avLst/>
                <a:gdLst/>
                <a:ahLst/>
                <a:rect l="l" t="t" r="r" b="b"/>
                <a:pathLst>
                  <a:path w="60" h="66">
                    <a:moveTo>
                      <a:pt x="46" y="66"/>
                    </a:moveTo>
                    <a:lnTo>
                      <a:pt x="60" y="0"/>
                    </a:lnTo>
                    <a:lnTo>
                      <a:pt x="0" y="2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8" name=""/>
            <p:cNvSpPr/>
            <p:nvPr/>
          </p:nvSpPr>
          <p:spPr>
            <a:xfrm>
              <a:off x="2355840" y="3429000"/>
              <a:ext cx="63360" cy="55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420200" y="275292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484280" y="28432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26240" y="237168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89960" y="246240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402560" y="237168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466280" y="246240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53880" y="299412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9960" y="30844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816200" y="300672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951920" y="30988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731960" y="2676600"/>
              <a:ext cx="65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741680" y="3552840"/>
              <a:ext cx="657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379600" y="2676600"/>
              <a:ext cx="0" cy="876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301840" y="2911680"/>
              <a:ext cx="154080" cy="40932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3583080" y="1909800"/>
            <a:ext cx="5006880" cy="4012200"/>
            <a:chOff x="3583080" y="1909800"/>
            <a:chExt cx="5006880" cy="4012200"/>
          </a:xfrm>
        </p:grpSpPr>
        <p:sp>
          <p:nvSpPr>
            <p:cNvPr id="264" name=""/>
            <p:cNvSpPr/>
            <p:nvPr/>
          </p:nvSpPr>
          <p:spPr>
            <a:xfrm>
              <a:off x="5452920" y="4110120"/>
              <a:ext cx="290520" cy="290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229440" y="2998800"/>
              <a:ext cx="1476000" cy="27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Times New Roman"/>
                </a:rPr>
                <a:t>Nachylenie - 1/r</a:t>
              </a:r>
              <a:r>
                <a:rPr b="0" lang="pl-PL" sz="1600" spc="-1" strike="noStrike" baseline="-25000">
                  <a:solidFill>
                    <a:srgbClr val="000000"/>
                  </a:solidFill>
                  <a:latin typeface="Times New Roman"/>
                </a:rPr>
                <a:t>D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126040" y="3089160"/>
              <a:ext cx="217440" cy="290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148360" y="31212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8" name=""/>
            <p:cNvGrpSpPr/>
            <p:nvPr/>
          </p:nvGrpSpPr>
          <p:grpSpPr>
            <a:xfrm>
              <a:off x="6075360" y="2276640"/>
              <a:ext cx="300240" cy="9360"/>
              <a:chOff x="6075360" y="2276640"/>
              <a:chExt cx="300240" cy="9360"/>
            </a:xfrm>
          </p:grpSpPr>
          <p:sp>
            <p:nvSpPr>
              <p:cNvPr id="269" name=""/>
              <p:cNvSpPr/>
              <p:nvPr/>
            </p:nvSpPr>
            <p:spPr>
              <a:xfrm>
                <a:off x="6075360" y="22766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093000" y="227664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6112080" y="227664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6129360" y="227664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6148440" y="227664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6165720" y="22766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6183360" y="227664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6202440" y="227664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6219720" y="22766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6238800" y="227664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6256440" y="227664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6275520" y="227664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6292800" y="22766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6311880" y="227664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329520" y="227664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6346800" y="22766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6365880" y="22766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5435640" y="5113440"/>
              <a:ext cx="298440" cy="9360"/>
              <a:chOff x="5435640" y="5113440"/>
              <a:chExt cx="298440" cy="9360"/>
            </a:xfrm>
          </p:grpSpPr>
          <p:sp>
            <p:nvSpPr>
              <p:cNvPr id="287" name=""/>
              <p:cNvSpPr/>
              <p:nvPr/>
            </p:nvSpPr>
            <p:spPr>
              <a:xfrm>
                <a:off x="5435640" y="511344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5452920" y="51134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5470560" y="511344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5489640" y="511344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5506920" y="51134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5526000" y="511344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5543640" y="511344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5562720" y="511344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5580000" y="51134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5597640" y="511344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5616720" y="511344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5634000" y="51134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53080" y="51134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670720" y="511344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5689800" y="511344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707080" y="511344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5726160" y="511344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4" name=""/>
            <p:cNvSpPr/>
            <p:nvPr/>
          </p:nvSpPr>
          <p:spPr>
            <a:xfrm>
              <a:off x="5367240" y="5332320"/>
              <a:ext cx="217440" cy="217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5" name=""/>
            <p:cNvGrpSpPr/>
            <p:nvPr/>
          </p:nvGrpSpPr>
          <p:grpSpPr>
            <a:xfrm>
              <a:off x="5366880" y="5396040"/>
              <a:ext cx="3223080" cy="104760"/>
              <a:chOff x="5366880" y="5396040"/>
              <a:chExt cx="3223080" cy="104760"/>
            </a:xfrm>
          </p:grpSpPr>
          <p:sp>
            <p:nvSpPr>
              <p:cNvPr id="306" name=""/>
              <p:cNvSpPr/>
              <p:nvPr/>
            </p:nvSpPr>
            <p:spPr>
              <a:xfrm flipH="1">
                <a:off x="5366880" y="5445000"/>
                <a:ext cx="3132360" cy="18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8489880" y="5396040"/>
                <a:ext cx="100080" cy="104760"/>
              </a:xfrm>
              <a:custGeom>
                <a:avLst/>
                <a:gdLst/>
                <a:ahLst/>
                <a:rect l="l" t="t" r="r" b="b"/>
                <a:pathLst>
                  <a:path w="63" h="66">
                    <a:moveTo>
                      <a:pt x="0" y="66"/>
                    </a:moveTo>
                    <a:lnTo>
                      <a:pt x="63" y="31"/>
                    </a:lnTo>
                    <a:lnTo>
                      <a:pt x="0" y="0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3632400" y="2081160"/>
              <a:ext cx="95040" cy="3378240"/>
              <a:chOff x="3632400" y="2081160"/>
              <a:chExt cx="95040" cy="3378240"/>
            </a:xfrm>
          </p:grpSpPr>
          <p:sp>
            <p:nvSpPr>
              <p:cNvPr id="309" name=""/>
              <p:cNvSpPr/>
              <p:nvPr/>
            </p:nvSpPr>
            <p:spPr>
              <a:xfrm>
                <a:off x="3678120" y="2166840"/>
                <a:ext cx="5040" cy="3292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3632400" y="2081160"/>
                <a:ext cx="95040" cy="9540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60" y="60"/>
                    </a:moveTo>
                    <a:lnTo>
                      <a:pt x="29" y="0"/>
                    </a:lnTo>
                    <a:lnTo>
                      <a:pt x="0" y="60"/>
                    </a:lnTo>
                    <a:lnTo>
                      <a:pt x="60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1" name=""/>
            <p:cNvSpPr/>
            <p:nvPr/>
          </p:nvSpPr>
          <p:spPr>
            <a:xfrm>
              <a:off x="3678120" y="5445000"/>
              <a:ext cx="172116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2" name=""/>
            <p:cNvGrpSpPr/>
            <p:nvPr/>
          </p:nvGrpSpPr>
          <p:grpSpPr>
            <a:xfrm>
              <a:off x="5380200" y="5400720"/>
              <a:ext cx="131760" cy="44280"/>
              <a:chOff x="5380200" y="5400720"/>
              <a:chExt cx="131760" cy="44280"/>
            </a:xfrm>
          </p:grpSpPr>
          <p:sp>
            <p:nvSpPr>
              <p:cNvPr id="313" name=""/>
              <p:cNvSpPr/>
              <p:nvPr/>
            </p:nvSpPr>
            <p:spPr>
              <a:xfrm>
                <a:off x="5380200" y="5400720"/>
                <a:ext cx="131760" cy="44280"/>
              </a:xfrm>
              <a:custGeom>
                <a:avLst/>
                <a:gdLst/>
                <a:ahLst/>
                <a:rect l="l" t="t" r="r" b="b"/>
                <a:pathLst>
                  <a:path w="83" h="28">
                    <a:moveTo>
                      <a:pt x="0" y="28"/>
                    </a:moveTo>
                    <a:lnTo>
                      <a:pt x="32" y="25"/>
                    </a:lnTo>
                    <a:lnTo>
                      <a:pt x="60" y="20"/>
                    </a:lnTo>
                    <a:lnTo>
                      <a:pt x="77" y="11"/>
                    </a:lnTo>
                    <a:lnTo>
                      <a:pt x="80" y="5"/>
                    </a:lnTo>
                    <a:lnTo>
                      <a:pt x="83" y="0"/>
                    </a:lnTo>
                    <a:lnTo>
                      <a:pt x="0" y="0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380200" y="5400720"/>
                <a:ext cx="131760" cy="44280"/>
              </a:xfrm>
              <a:custGeom>
                <a:avLst/>
                <a:gdLst/>
                <a:ahLst/>
                <a:rect l="l" t="t" r="r" b="b"/>
                <a:pathLst>
                  <a:path w="83" h="28">
                    <a:moveTo>
                      <a:pt x="0" y="28"/>
                    </a:moveTo>
                    <a:lnTo>
                      <a:pt x="32" y="25"/>
                    </a:lnTo>
                    <a:lnTo>
                      <a:pt x="60" y="20"/>
                    </a:lnTo>
                    <a:lnTo>
                      <a:pt x="77" y="11"/>
                    </a:lnTo>
                    <a:lnTo>
                      <a:pt x="80" y="5"/>
                    </a:lnTo>
                    <a:lnTo>
                      <a:pt x="83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 flipV="1">
              <a:off x="5511960" y="2139480"/>
              <a:ext cx="722160" cy="3264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170760" y="2254320"/>
              <a:ext cx="63360" cy="54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548320" y="5091120"/>
              <a:ext cx="58680" cy="54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559400" y="2835360"/>
              <a:ext cx="2809800" cy="260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013360" y="2820960"/>
              <a:ext cx="2836800" cy="262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789520" y="3983040"/>
              <a:ext cx="63720" cy="55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875200" y="3616200"/>
              <a:ext cx="59040" cy="54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369200" y="4890960"/>
              <a:ext cx="1440" cy="56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850160" y="4890960"/>
              <a:ext cx="1800" cy="56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5807160" y="2747880"/>
              <a:ext cx="1440" cy="122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V="1">
              <a:off x="5892840" y="2747880"/>
              <a:ext cx="1440" cy="868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934240" y="3643200"/>
              <a:ext cx="853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865840" y="4010040"/>
              <a:ext cx="1576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8" name=""/>
            <p:cNvGrpSpPr/>
            <p:nvPr/>
          </p:nvGrpSpPr>
          <p:grpSpPr>
            <a:xfrm>
              <a:off x="7369200" y="4896000"/>
              <a:ext cx="480960" cy="104760"/>
              <a:chOff x="7369200" y="4896000"/>
              <a:chExt cx="480960" cy="104760"/>
            </a:xfrm>
          </p:grpSpPr>
          <p:sp>
            <p:nvSpPr>
              <p:cNvPr id="329" name=""/>
              <p:cNvSpPr/>
              <p:nvPr/>
            </p:nvSpPr>
            <p:spPr>
              <a:xfrm>
                <a:off x="7454880" y="4946760"/>
                <a:ext cx="309600" cy="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7369200" y="4896000"/>
                <a:ext cx="95400" cy="9504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60" y="0"/>
                    </a:moveTo>
                    <a:lnTo>
                      <a:pt x="0" y="32"/>
                    </a:lnTo>
                    <a:lnTo>
                      <a:pt x="60" y="60"/>
                    </a:ln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7755120" y="4905360"/>
                <a:ext cx="95040" cy="9540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0" y="60"/>
                    </a:moveTo>
                    <a:lnTo>
                      <a:pt x="60" y="28"/>
                    </a:lnTo>
                    <a:lnTo>
                      <a:pt x="0" y="0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2" name=""/>
            <p:cNvGrpSpPr/>
            <p:nvPr/>
          </p:nvGrpSpPr>
          <p:grpSpPr>
            <a:xfrm>
              <a:off x="6651720" y="3643200"/>
              <a:ext cx="100080" cy="366840"/>
              <a:chOff x="6651720" y="3643200"/>
              <a:chExt cx="100080" cy="366840"/>
            </a:xfrm>
          </p:grpSpPr>
          <p:sp>
            <p:nvSpPr>
              <p:cNvPr id="333" name=""/>
              <p:cNvSpPr/>
              <p:nvPr/>
            </p:nvSpPr>
            <p:spPr>
              <a:xfrm>
                <a:off x="6701040" y="3729240"/>
                <a:ext cx="1440" cy="195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656400" y="3643200"/>
                <a:ext cx="95400" cy="9540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60" y="60"/>
                    </a:moveTo>
                    <a:lnTo>
                      <a:pt x="28" y="0"/>
                    </a:lnTo>
                    <a:lnTo>
                      <a:pt x="0" y="60"/>
                    </a:lnTo>
                    <a:lnTo>
                      <a:pt x="60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6651720" y="3914640"/>
                <a:ext cx="95040" cy="9540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0" y="0"/>
                    </a:moveTo>
                    <a:lnTo>
                      <a:pt x="31" y="60"/>
                    </a:lnTo>
                    <a:lnTo>
                      <a:pt x="6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6" name=""/>
            <p:cNvSpPr/>
            <p:nvPr/>
          </p:nvSpPr>
          <p:spPr>
            <a:xfrm>
              <a:off x="5807160" y="2862360"/>
              <a:ext cx="856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7" name=""/>
            <p:cNvGrpSpPr/>
            <p:nvPr/>
          </p:nvGrpSpPr>
          <p:grpSpPr>
            <a:xfrm>
              <a:off x="5892840" y="2811600"/>
              <a:ext cx="441360" cy="95040"/>
              <a:chOff x="5892840" y="2811600"/>
              <a:chExt cx="441360" cy="95040"/>
            </a:xfrm>
          </p:grpSpPr>
          <p:sp>
            <p:nvSpPr>
              <p:cNvPr id="338" name=""/>
              <p:cNvSpPr/>
              <p:nvPr/>
            </p:nvSpPr>
            <p:spPr>
              <a:xfrm>
                <a:off x="5980320" y="2862360"/>
                <a:ext cx="3538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5892840" y="2811600"/>
                <a:ext cx="95400" cy="9504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60" y="0"/>
                    </a:moveTo>
                    <a:lnTo>
                      <a:pt x="0" y="32"/>
                    </a:lnTo>
                    <a:lnTo>
                      <a:pt x="60" y="60"/>
                    </a:ln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0" name=""/>
            <p:cNvGrpSpPr/>
            <p:nvPr/>
          </p:nvGrpSpPr>
          <p:grpSpPr>
            <a:xfrm>
              <a:off x="5252760" y="2816280"/>
              <a:ext cx="554400" cy="95400"/>
              <a:chOff x="5252760" y="2816280"/>
              <a:chExt cx="554400" cy="95400"/>
            </a:xfrm>
          </p:grpSpPr>
          <p:sp>
            <p:nvSpPr>
              <p:cNvPr id="341" name=""/>
              <p:cNvSpPr/>
              <p:nvPr/>
            </p:nvSpPr>
            <p:spPr>
              <a:xfrm flipH="1">
                <a:off x="5252760" y="2862360"/>
                <a:ext cx="4683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5711760" y="2816280"/>
                <a:ext cx="95400" cy="9540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0" y="60"/>
                    </a:moveTo>
                    <a:lnTo>
                      <a:pt x="60" y="29"/>
                    </a:lnTo>
                    <a:lnTo>
                      <a:pt x="0" y="0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306760" y="2530440"/>
              <a:ext cx="110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26280" y="25480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562000" y="26398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810120" y="3692520"/>
              <a:ext cx="110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927120" y="371160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993000" y="38019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437240" y="4632480"/>
              <a:ext cx="110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554960" y="46515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690680" y="47419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792760" y="4950000"/>
              <a:ext cx="459000" cy="299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815800" y="498168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878800" y="5073840"/>
              <a:ext cx="407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Times New Roman"/>
                </a:rPr>
                <a:t>Dm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402240" y="2112840"/>
              <a:ext cx="462240" cy="331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428880" y="214488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492240" y="2235240"/>
              <a:ext cx="436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Times New Roman"/>
                </a:rPr>
                <a:t>Dma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481880" y="3855960"/>
              <a:ext cx="290520" cy="331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504920" y="388764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569360" y="39783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583080" y="5518080"/>
              <a:ext cx="203040" cy="273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604680" y="554976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338800" y="5586480"/>
              <a:ext cx="304920" cy="290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362560" y="56181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498640" y="570852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228080" y="5486400"/>
              <a:ext cx="304560" cy="290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251840" y="55180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385760" y="560880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8263080" y="5500800"/>
              <a:ext cx="304560" cy="290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8286840" y="553572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849840" y="3670200"/>
              <a:ext cx="1171440" cy="1171800"/>
            </a:xfrm>
            <a:prstGeom prst="ellipse">
              <a:avLst/>
            </a:prstGeom>
            <a:solidFill>
              <a:srgbClr val="ffffff"/>
            </a:solidFill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2" name=""/>
            <p:cNvGrpSpPr/>
            <p:nvPr/>
          </p:nvGrpSpPr>
          <p:grpSpPr>
            <a:xfrm>
              <a:off x="4408560" y="4329000"/>
              <a:ext cx="114120" cy="131760"/>
              <a:chOff x="4408560" y="4329000"/>
              <a:chExt cx="114120" cy="131760"/>
            </a:xfrm>
          </p:grpSpPr>
          <p:sp>
            <p:nvSpPr>
              <p:cNvPr id="373" name=""/>
              <p:cNvSpPr/>
              <p:nvPr/>
            </p:nvSpPr>
            <p:spPr>
              <a:xfrm>
                <a:off x="4408560" y="4329000"/>
                <a:ext cx="114120" cy="131760"/>
              </a:xfrm>
              <a:custGeom>
                <a:avLst/>
                <a:gdLst/>
                <a:ahLst/>
                <a:rect l="l" t="t" r="r" b="b"/>
                <a:pathLst>
                  <a:path w="72" h="83">
                    <a:moveTo>
                      <a:pt x="0" y="0"/>
                    </a:moveTo>
                    <a:lnTo>
                      <a:pt x="14" y="2"/>
                    </a:lnTo>
                    <a:lnTo>
                      <a:pt x="26" y="5"/>
                    </a:lnTo>
                    <a:lnTo>
                      <a:pt x="49" y="25"/>
                    </a:lnTo>
                    <a:lnTo>
                      <a:pt x="66" y="51"/>
                    </a:lnTo>
                    <a:lnTo>
                      <a:pt x="69" y="65"/>
                    </a:lnTo>
                    <a:lnTo>
                      <a:pt x="72" y="83"/>
                    </a:lnTo>
                    <a:lnTo>
                      <a:pt x="0" y="8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4408560" y="4329000"/>
                <a:ext cx="114120" cy="131760"/>
              </a:xfrm>
              <a:custGeom>
                <a:avLst/>
                <a:gdLst/>
                <a:ahLst/>
                <a:rect l="l" t="t" r="r" b="b"/>
                <a:pathLst>
                  <a:path w="72" h="83">
                    <a:moveTo>
                      <a:pt x="0" y="0"/>
                    </a:moveTo>
                    <a:lnTo>
                      <a:pt x="14" y="2"/>
                    </a:lnTo>
                    <a:lnTo>
                      <a:pt x="26" y="5"/>
                    </a:lnTo>
                    <a:lnTo>
                      <a:pt x="49" y="25"/>
                    </a:lnTo>
                    <a:lnTo>
                      <a:pt x="66" y="51"/>
                    </a:lnTo>
                    <a:lnTo>
                      <a:pt x="69" y="65"/>
                    </a:lnTo>
                    <a:lnTo>
                      <a:pt x="72" y="83"/>
                    </a:lnTo>
                  </a:path>
                </a:pathLst>
              </a:custGeom>
              <a:noFill/>
              <a:ln w="176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5" name=""/>
            <p:cNvGrpSpPr/>
            <p:nvPr/>
          </p:nvGrpSpPr>
          <p:grpSpPr>
            <a:xfrm>
              <a:off x="4264200" y="4246560"/>
              <a:ext cx="153720" cy="82440"/>
              <a:chOff x="4264200" y="4246560"/>
              <a:chExt cx="153720" cy="82440"/>
            </a:xfrm>
          </p:grpSpPr>
          <p:sp>
            <p:nvSpPr>
              <p:cNvPr id="376" name=""/>
              <p:cNvSpPr/>
              <p:nvPr/>
            </p:nvSpPr>
            <p:spPr>
              <a:xfrm>
                <a:off x="4264200" y="4246560"/>
                <a:ext cx="153720" cy="82440"/>
              </a:xfrm>
              <a:custGeom>
                <a:avLst/>
                <a:gdLst/>
                <a:ahLst/>
                <a:rect l="l" t="t" r="r" b="b"/>
                <a:pathLst>
                  <a:path w="97" h="52">
                    <a:moveTo>
                      <a:pt x="97" y="52"/>
                    </a:moveTo>
                    <a:lnTo>
                      <a:pt x="60" y="49"/>
                    </a:lnTo>
                    <a:lnTo>
                      <a:pt x="28" y="37"/>
                    </a:lnTo>
                    <a:lnTo>
                      <a:pt x="17" y="29"/>
                    </a:lnTo>
                    <a:lnTo>
                      <a:pt x="8" y="20"/>
                    </a:lnTo>
                    <a:lnTo>
                      <a:pt x="2" y="12"/>
                    </a:lnTo>
                    <a:lnTo>
                      <a:pt x="0" y="0"/>
                    </a:lnTo>
                    <a:lnTo>
                      <a:pt x="97" y="0"/>
                    </a:lnTo>
                    <a:lnTo>
                      <a:pt x="97" y="5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4264200" y="4246560"/>
                <a:ext cx="153720" cy="82440"/>
              </a:xfrm>
              <a:custGeom>
                <a:avLst/>
                <a:gdLst/>
                <a:ahLst/>
                <a:rect l="l" t="t" r="r" b="b"/>
                <a:pathLst>
                  <a:path w="97" h="52">
                    <a:moveTo>
                      <a:pt x="97" y="52"/>
                    </a:moveTo>
                    <a:lnTo>
                      <a:pt x="60" y="49"/>
                    </a:lnTo>
                    <a:lnTo>
                      <a:pt x="28" y="37"/>
                    </a:lnTo>
                    <a:lnTo>
                      <a:pt x="17" y="29"/>
                    </a:lnTo>
                    <a:lnTo>
                      <a:pt x="8" y="20"/>
                    </a:lnTo>
                    <a:lnTo>
                      <a:pt x="2" y="12"/>
                    </a:lnTo>
                    <a:lnTo>
                      <a:pt x="0" y="0"/>
                    </a:lnTo>
                  </a:path>
                </a:pathLst>
              </a:custGeom>
              <a:noFill/>
              <a:ln w="176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8" name=""/>
            <p:cNvGrpSpPr/>
            <p:nvPr/>
          </p:nvGrpSpPr>
          <p:grpSpPr>
            <a:xfrm>
              <a:off x="4264200" y="4133880"/>
              <a:ext cx="102960" cy="100080"/>
              <a:chOff x="4264200" y="4133880"/>
              <a:chExt cx="102960" cy="100080"/>
            </a:xfrm>
          </p:grpSpPr>
          <p:sp>
            <p:nvSpPr>
              <p:cNvPr id="379" name=""/>
              <p:cNvSpPr/>
              <p:nvPr/>
            </p:nvSpPr>
            <p:spPr>
              <a:xfrm>
                <a:off x="4264200" y="4133880"/>
                <a:ext cx="102960" cy="100080"/>
              </a:xfrm>
              <a:custGeom>
                <a:avLst/>
                <a:gdLst/>
                <a:ahLst/>
                <a:rect l="l" t="t" r="r" b="b"/>
                <a:pathLst>
                  <a:path w="65" h="63">
                    <a:moveTo>
                      <a:pt x="65" y="0"/>
                    </a:moveTo>
                    <a:lnTo>
                      <a:pt x="40" y="5"/>
                    </a:lnTo>
                    <a:lnTo>
                      <a:pt x="20" y="20"/>
                    </a:lnTo>
                    <a:lnTo>
                      <a:pt x="5" y="40"/>
                    </a:lnTo>
                    <a:lnTo>
                      <a:pt x="0" y="63"/>
                    </a:lnTo>
                    <a:lnTo>
                      <a:pt x="65" y="63"/>
                    </a:lnTo>
                    <a:lnTo>
                      <a:pt x="6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4264200" y="4133880"/>
                <a:ext cx="102960" cy="100080"/>
              </a:xfrm>
              <a:custGeom>
                <a:avLst/>
                <a:gdLst/>
                <a:ahLst/>
                <a:rect l="l" t="t" r="r" b="b"/>
                <a:pathLst>
                  <a:path w="65" h="63">
                    <a:moveTo>
                      <a:pt x="65" y="0"/>
                    </a:moveTo>
                    <a:lnTo>
                      <a:pt x="40" y="5"/>
                    </a:lnTo>
                    <a:lnTo>
                      <a:pt x="20" y="20"/>
                    </a:lnTo>
                    <a:lnTo>
                      <a:pt x="5" y="40"/>
                    </a:lnTo>
                    <a:lnTo>
                      <a:pt x="0" y="63"/>
                    </a:lnTo>
                  </a:path>
                </a:pathLst>
              </a:custGeom>
              <a:noFill/>
              <a:ln w="176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1" name=""/>
            <p:cNvSpPr/>
            <p:nvPr/>
          </p:nvSpPr>
          <p:spPr>
            <a:xfrm>
              <a:off x="4518000" y="3679920"/>
              <a:ext cx="4680" cy="925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2" name=""/>
            <p:cNvGrpSpPr/>
            <p:nvPr/>
          </p:nvGrpSpPr>
          <p:grpSpPr>
            <a:xfrm>
              <a:off x="4363920" y="3987720"/>
              <a:ext cx="103320" cy="136800"/>
              <a:chOff x="4363920" y="3987720"/>
              <a:chExt cx="103320" cy="136800"/>
            </a:xfrm>
          </p:grpSpPr>
          <p:sp>
            <p:nvSpPr>
              <p:cNvPr id="383" name=""/>
              <p:cNvSpPr/>
              <p:nvPr/>
            </p:nvSpPr>
            <p:spPr>
              <a:xfrm>
                <a:off x="4363920" y="3987720"/>
                <a:ext cx="103320" cy="136800"/>
              </a:xfrm>
              <a:custGeom>
                <a:avLst/>
                <a:gdLst/>
                <a:ahLst/>
                <a:rect l="l" t="t" r="r" b="b"/>
                <a:pathLst>
                  <a:path w="65" h="86">
                    <a:moveTo>
                      <a:pt x="0" y="86"/>
                    </a:moveTo>
                    <a:lnTo>
                      <a:pt x="14" y="83"/>
                    </a:lnTo>
                    <a:lnTo>
                      <a:pt x="25" y="80"/>
                    </a:lnTo>
                    <a:lnTo>
                      <a:pt x="37" y="72"/>
                    </a:lnTo>
                    <a:lnTo>
                      <a:pt x="45" y="60"/>
                    </a:lnTo>
                    <a:lnTo>
                      <a:pt x="60" y="32"/>
                    </a:lnTo>
                    <a:lnTo>
                      <a:pt x="65" y="0"/>
                    </a:lnTo>
                    <a:lnTo>
                      <a:pt x="0" y="0"/>
                    </a:lnTo>
                    <a:lnTo>
                      <a:pt x="0" y="8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4363920" y="3987720"/>
                <a:ext cx="103320" cy="136800"/>
              </a:xfrm>
              <a:custGeom>
                <a:avLst/>
                <a:gdLst/>
                <a:ahLst/>
                <a:rect l="l" t="t" r="r" b="b"/>
                <a:pathLst>
                  <a:path w="65" h="86">
                    <a:moveTo>
                      <a:pt x="0" y="86"/>
                    </a:moveTo>
                    <a:lnTo>
                      <a:pt x="14" y="83"/>
                    </a:lnTo>
                    <a:lnTo>
                      <a:pt x="25" y="80"/>
                    </a:lnTo>
                    <a:lnTo>
                      <a:pt x="37" y="72"/>
                    </a:lnTo>
                    <a:lnTo>
                      <a:pt x="45" y="60"/>
                    </a:lnTo>
                    <a:lnTo>
                      <a:pt x="60" y="32"/>
                    </a:lnTo>
                    <a:lnTo>
                      <a:pt x="65" y="0"/>
                    </a:lnTo>
                  </a:path>
                </a:pathLst>
              </a:custGeom>
              <a:noFill/>
              <a:ln w="176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5" name=""/>
            <p:cNvSpPr/>
            <p:nvPr/>
          </p:nvSpPr>
          <p:spPr>
            <a:xfrm>
              <a:off x="3873600" y="4419720"/>
              <a:ext cx="1108080" cy="1440"/>
            </a:xfrm>
            <a:prstGeom prst="line">
              <a:avLst/>
            </a:prstGeom>
            <a:ln w="176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6" name=""/>
            <p:cNvGrpSpPr/>
            <p:nvPr/>
          </p:nvGrpSpPr>
          <p:grpSpPr>
            <a:xfrm>
              <a:off x="4467240" y="3824280"/>
              <a:ext cx="23760" cy="163440"/>
              <a:chOff x="4467240" y="3824280"/>
              <a:chExt cx="23760" cy="163440"/>
            </a:xfrm>
          </p:grpSpPr>
          <p:sp>
            <p:nvSpPr>
              <p:cNvPr id="387" name=""/>
              <p:cNvSpPr/>
              <p:nvPr/>
            </p:nvSpPr>
            <p:spPr>
              <a:xfrm>
                <a:off x="4467240" y="3824280"/>
                <a:ext cx="23760" cy="163440"/>
              </a:xfrm>
              <a:custGeom>
                <a:avLst/>
                <a:gdLst/>
                <a:ahLst/>
                <a:rect l="l" t="t" r="r" b="b"/>
                <a:pathLst>
                  <a:path w="15" h="103">
                    <a:moveTo>
                      <a:pt x="0" y="103"/>
                    </a:moveTo>
                    <a:lnTo>
                      <a:pt x="3" y="100"/>
                    </a:lnTo>
                    <a:lnTo>
                      <a:pt x="6" y="95"/>
                    </a:lnTo>
                    <a:lnTo>
                      <a:pt x="9" y="86"/>
                    </a:lnTo>
                    <a:lnTo>
                      <a:pt x="12" y="75"/>
                    </a:lnTo>
                    <a:lnTo>
                      <a:pt x="15" y="40"/>
                    </a:lnTo>
                    <a:lnTo>
                      <a:pt x="15" y="0"/>
                    </a:lnTo>
                    <a:lnTo>
                      <a:pt x="0" y="0"/>
                    </a:lnTo>
                    <a:lnTo>
                      <a:pt x="0" y="10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4467240" y="3824280"/>
                <a:ext cx="23760" cy="163440"/>
              </a:xfrm>
              <a:custGeom>
                <a:avLst/>
                <a:gdLst/>
                <a:ahLst/>
                <a:rect l="l" t="t" r="r" b="b"/>
                <a:pathLst>
                  <a:path w="15" h="103">
                    <a:moveTo>
                      <a:pt x="0" y="103"/>
                    </a:moveTo>
                    <a:lnTo>
                      <a:pt x="3" y="100"/>
                    </a:lnTo>
                    <a:lnTo>
                      <a:pt x="6" y="95"/>
                    </a:lnTo>
                    <a:lnTo>
                      <a:pt x="9" y="86"/>
                    </a:lnTo>
                    <a:lnTo>
                      <a:pt x="12" y="75"/>
                    </a:lnTo>
                    <a:lnTo>
                      <a:pt x="15" y="40"/>
                    </a:lnTo>
                    <a:lnTo>
                      <a:pt x="15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9" name=""/>
            <p:cNvGrpSpPr/>
            <p:nvPr/>
          </p:nvGrpSpPr>
          <p:grpSpPr>
            <a:xfrm>
              <a:off x="4491000" y="3679920"/>
              <a:ext cx="17640" cy="144360"/>
              <a:chOff x="4491000" y="3679920"/>
              <a:chExt cx="17640" cy="144360"/>
            </a:xfrm>
          </p:grpSpPr>
          <p:sp>
            <p:nvSpPr>
              <p:cNvPr id="390" name=""/>
              <p:cNvSpPr/>
              <p:nvPr/>
            </p:nvSpPr>
            <p:spPr>
              <a:xfrm>
                <a:off x="4491000" y="3679920"/>
                <a:ext cx="17640" cy="144360"/>
              </a:xfrm>
              <a:custGeom>
                <a:avLst/>
                <a:gdLst/>
                <a:ahLst/>
                <a:rect l="l" t="t" r="r" b="b"/>
                <a:pathLst>
                  <a:path w="11" h="91">
                    <a:moveTo>
                      <a:pt x="0" y="91"/>
                    </a:moveTo>
                    <a:lnTo>
                      <a:pt x="2" y="88"/>
                    </a:lnTo>
                    <a:lnTo>
                      <a:pt x="5" y="85"/>
                    </a:lnTo>
                    <a:lnTo>
                      <a:pt x="5" y="77"/>
                    </a:lnTo>
                    <a:lnTo>
                      <a:pt x="8" y="65"/>
                    </a:lnTo>
                    <a:lnTo>
                      <a:pt x="11" y="37"/>
                    </a:lnTo>
                    <a:lnTo>
                      <a:pt x="11" y="0"/>
                    </a:lnTo>
                    <a:lnTo>
                      <a:pt x="0" y="0"/>
                    </a:lnTo>
                    <a:lnTo>
                      <a:pt x="0" y="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4491000" y="3679920"/>
                <a:ext cx="17640" cy="144360"/>
              </a:xfrm>
              <a:custGeom>
                <a:avLst/>
                <a:gdLst/>
                <a:ahLst/>
                <a:rect l="l" t="t" r="r" b="b"/>
                <a:pathLst>
                  <a:path w="11" h="91">
                    <a:moveTo>
                      <a:pt x="0" y="91"/>
                    </a:moveTo>
                    <a:lnTo>
                      <a:pt x="2" y="88"/>
                    </a:lnTo>
                    <a:lnTo>
                      <a:pt x="5" y="85"/>
                    </a:lnTo>
                    <a:lnTo>
                      <a:pt x="5" y="77"/>
                    </a:lnTo>
                    <a:lnTo>
                      <a:pt x="8" y="65"/>
                    </a:lnTo>
                    <a:lnTo>
                      <a:pt x="11" y="37"/>
                    </a:lnTo>
                    <a:lnTo>
                      <a:pt x="11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2" name=""/>
            <p:cNvSpPr/>
            <p:nvPr/>
          </p:nvSpPr>
          <p:spPr>
            <a:xfrm>
              <a:off x="4476600" y="4346640"/>
              <a:ext cx="46080" cy="1440"/>
            </a:xfrm>
            <a:prstGeom prst="line">
              <a:avLst/>
            </a:prstGeom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272120" y="4265640"/>
              <a:ext cx="245880" cy="1440"/>
            </a:xfrm>
            <a:prstGeom prst="line">
              <a:avLst/>
            </a:prstGeom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322880" y="4305240"/>
              <a:ext cx="195120" cy="1800"/>
            </a:xfrm>
            <a:prstGeom prst="line">
              <a:avLst/>
            </a:prstGeom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272120" y="4224240"/>
              <a:ext cx="245880" cy="1800"/>
            </a:xfrm>
            <a:prstGeom prst="line">
              <a:avLst/>
            </a:prstGeom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476600" y="4019760"/>
              <a:ext cx="46080" cy="1440"/>
            </a:xfrm>
            <a:prstGeom prst="line">
              <a:avLst/>
            </a:prstGeom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467240" y="4060800"/>
              <a:ext cx="55440" cy="1800"/>
            </a:xfrm>
            <a:prstGeom prst="line">
              <a:avLst/>
            </a:prstGeom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427640" y="4102200"/>
              <a:ext cx="90360" cy="1440"/>
            </a:xfrm>
            <a:prstGeom prst="line">
              <a:avLst/>
            </a:prstGeom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322880" y="4141800"/>
              <a:ext cx="195120" cy="1440"/>
            </a:xfrm>
            <a:prstGeom prst="line">
              <a:avLst/>
            </a:prstGeom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295880" y="4183200"/>
              <a:ext cx="226800" cy="1440"/>
            </a:xfrm>
            <a:prstGeom prst="line">
              <a:avLst/>
            </a:prstGeom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498920" y="3875040"/>
              <a:ext cx="19080" cy="1800"/>
            </a:xfrm>
            <a:prstGeom prst="line">
              <a:avLst/>
            </a:prstGeom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498920" y="3938760"/>
              <a:ext cx="19080" cy="1440"/>
            </a:xfrm>
            <a:prstGeom prst="line">
              <a:avLst/>
            </a:prstGeom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 flipV="1">
              <a:off x="4491000" y="3978360"/>
              <a:ext cx="27000" cy="9360"/>
            </a:xfrm>
            <a:prstGeom prst="line">
              <a:avLst/>
            </a:prstGeom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4" name=""/>
            <p:cNvGrpSpPr/>
            <p:nvPr/>
          </p:nvGrpSpPr>
          <p:grpSpPr>
            <a:xfrm>
              <a:off x="4830840" y="4737240"/>
              <a:ext cx="581040" cy="595080"/>
              <a:chOff x="4830840" y="4737240"/>
              <a:chExt cx="581040" cy="595080"/>
            </a:xfrm>
          </p:grpSpPr>
          <p:sp>
            <p:nvSpPr>
              <p:cNvPr id="405" name=""/>
              <p:cNvSpPr/>
              <p:nvPr/>
            </p:nvSpPr>
            <p:spPr>
              <a:xfrm>
                <a:off x="4830840" y="4737240"/>
                <a:ext cx="581040" cy="595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4830840" y="4737240"/>
                <a:ext cx="104760" cy="100080"/>
              </a:xfrm>
              <a:custGeom>
                <a:avLst/>
                <a:gdLst/>
                <a:ahLst/>
                <a:rect l="l" t="t" r="r" b="b"/>
                <a:pathLst>
                  <a:path w="66" h="63">
                    <a:moveTo>
                      <a:pt x="66" y="20"/>
                    </a:moveTo>
                    <a:lnTo>
                      <a:pt x="0" y="0"/>
                    </a:lnTo>
                    <a:lnTo>
                      <a:pt x="23" y="63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7" name=""/>
            <p:cNvSpPr/>
            <p:nvPr/>
          </p:nvSpPr>
          <p:spPr>
            <a:xfrm flipH="1">
              <a:off x="6005520" y="3232080"/>
              <a:ext cx="432000" cy="8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866040" y="1909800"/>
              <a:ext cx="4338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DZ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9" name=""/>
          <p:cNvGrpSpPr/>
          <p:nvPr/>
        </p:nvGrpSpPr>
        <p:grpSpPr>
          <a:xfrm>
            <a:off x="1620720" y="668160"/>
            <a:ext cx="6343560" cy="5678640"/>
            <a:chOff x="1620720" y="668160"/>
            <a:chExt cx="6343560" cy="5678640"/>
          </a:xfrm>
        </p:grpSpPr>
        <p:grpSp>
          <p:nvGrpSpPr>
            <p:cNvPr id="410" name=""/>
            <p:cNvGrpSpPr/>
            <p:nvPr/>
          </p:nvGrpSpPr>
          <p:grpSpPr>
            <a:xfrm>
              <a:off x="1941480" y="831600"/>
              <a:ext cx="84240" cy="2116080"/>
              <a:chOff x="1941480" y="831600"/>
              <a:chExt cx="84240" cy="2116080"/>
            </a:xfrm>
          </p:grpSpPr>
          <p:sp>
            <p:nvSpPr>
              <p:cNvPr id="411" name=""/>
              <p:cNvSpPr/>
              <p:nvPr/>
            </p:nvSpPr>
            <p:spPr>
              <a:xfrm>
                <a:off x="1981080" y="907920"/>
                <a:ext cx="1440" cy="20397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1941480" y="831600"/>
                <a:ext cx="84240" cy="84240"/>
              </a:xfrm>
              <a:custGeom>
                <a:avLst/>
                <a:gdLst/>
                <a:ahLst/>
                <a:rect l="l" t="t" r="r" b="b"/>
                <a:pathLst>
                  <a:path w="53" h="53">
                    <a:moveTo>
                      <a:pt x="53" y="53"/>
                    </a:moveTo>
                    <a:lnTo>
                      <a:pt x="25" y="0"/>
                    </a:lnTo>
                    <a:lnTo>
                      <a:pt x="0" y="53"/>
                    </a:lnTo>
                    <a:lnTo>
                      <a:pt x="53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3" name=""/>
            <p:cNvGrpSpPr/>
            <p:nvPr/>
          </p:nvGrpSpPr>
          <p:grpSpPr>
            <a:xfrm>
              <a:off x="1965240" y="2906280"/>
              <a:ext cx="4237200" cy="84240"/>
              <a:chOff x="1965240" y="2906280"/>
              <a:chExt cx="4237200" cy="84240"/>
            </a:xfrm>
          </p:grpSpPr>
          <p:sp>
            <p:nvSpPr>
              <p:cNvPr id="414" name=""/>
              <p:cNvSpPr/>
              <p:nvPr/>
            </p:nvSpPr>
            <p:spPr>
              <a:xfrm flipH="1">
                <a:off x="1965240" y="2947680"/>
                <a:ext cx="4160880" cy="79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6118200" y="2906280"/>
                <a:ext cx="84240" cy="84240"/>
              </a:xfrm>
              <a:custGeom>
                <a:avLst/>
                <a:gdLst/>
                <a:ahLst/>
                <a:rect l="l" t="t" r="r" b="b"/>
                <a:pathLst>
                  <a:path w="53" h="53">
                    <a:moveTo>
                      <a:pt x="0" y="53"/>
                    </a:moveTo>
                    <a:lnTo>
                      <a:pt x="53" y="26"/>
                    </a:lnTo>
                    <a:lnTo>
                      <a:pt x="0" y="0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6" name=""/>
            <p:cNvSpPr/>
            <p:nvPr/>
          </p:nvSpPr>
          <p:spPr>
            <a:xfrm>
              <a:off x="1981080" y="2070000"/>
              <a:ext cx="183024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811320" y="2070000"/>
              <a:ext cx="1613160" cy="877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8" name=""/>
            <p:cNvGrpSpPr/>
            <p:nvPr/>
          </p:nvGrpSpPr>
          <p:grpSpPr>
            <a:xfrm>
              <a:off x="1933560" y="1064880"/>
              <a:ext cx="392040" cy="7920"/>
              <a:chOff x="1933560" y="1064880"/>
              <a:chExt cx="392040" cy="7920"/>
            </a:xfrm>
          </p:grpSpPr>
          <p:sp>
            <p:nvSpPr>
              <p:cNvPr id="419" name=""/>
              <p:cNvSpPr/>
              <p:nvPr/>
            </p:nvSpPr>
            <p:spPr>
              <a:xfrm>
                <a:off x="2317680" y="1064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2301840" y="1064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286000" y="1064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2270160" y="1064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2254320" y="1064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2238120" y="1064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2220840" y="1064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205000" y="1064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2189160" y="1064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2173320" y="1064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2157480" y="1064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2141280" y="1064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125440" y="1064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2109600" y="1064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2093760" y="1064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2077920" y="1064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2062080" y="1064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044440" y="1064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2028600" y="1064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2012760" y="1064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1996920" y="1064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1981080" y="1064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965240" y="1064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1949400" y="1064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1933560" y="1064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4" name=""/>
            <p:cNvGrpSpPr/>
            <p:nvPr/>
          </p:nvGrpSpPr>
          <p:grpSpPr>
            <a:xfrm>
              <a:off x="1941480" y="3847680"/>
              <a:ext cx="84240" cy="2116440"/>
              <a:chOff x="1941480" y="3847680"/>
              <a:chExt cx="84240" cy="2116440"/>
            </a:xfrm>
          </p:grpSpPr>
          <p:sp>
            <p:nvSpPr>
              <p:cNvPr id="445" name=""/>
              <p:cNvSpPr/>
              <p:nvPr/>
            </p:nvSpPr>
            <p:spPr>
              <a:xfrm>
                <a:off x="1981080" y="3924000"/>
                <a:ext cx="1440" cy="20401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941480" y="3847680"/>
                <a:ext cx="84240" cy="84240"/>
              </a:xfrm>
              <a:custGeom>
                <a:avLst/>
                <a:gdLst/>
                <a:ahLst/>
                <a:rect l="l" t="t" r="r" b="b"/>
                <a:pathLst>
                  <a:path w="53" h="53">
                    <a:moveTo>
                      <a:pt x="53" y="53"/>
                    </a:moveTo>
                    <a:lnTo>
                      <a:pt x="25" y="0"/>
                    </a:lnTo>
                    <a:lnTo>
                      <a:pt x="0" y="53"/>
                    </a:lnTo>
                    <a:lnTo>
                      <a:pt x="53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7" name=""/>
            <p:cNvGrpSpPr/>
            <p:nvPr/>
          </p:nvGrpSpPr>
          <p:grpSpPr>
            <a:xfrm>
              <a:off x="5397480" y="5927400"/>
              <a:ext cx="796680" cy="84240"/>
              <a:chOff x="5397480" y="5927400"/>
              <a:chExt cx="796680" cy="84240"/>
            </a:xfrm>
          </p:grpSpPr>
          <p:sp>
            <p:nvSpPr>
              <p:cNvPr id="448" name=""/>
              <p:cNvSpPr/>
              <p:nvPr/>
            </p:nvSpPr>
            <p:spPr>
              <a:xfrm flipH="1" flipV="1">
                <a:off x="5397480" y="5964120"/>
                <a:ext cx="720720" cy="2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6110280" y="5927400"/>
                <a:ext cx="83880" cy="84240"/>
              </a:xfrm>
              <a:custGeom>
                <a:avLst/>
                <a:gdLst/>
                <a:ahLst/>
                <a:rect l="l" t="t" r="r" b="b"/>
                <a:pathLst>
                  <a:path w="53" h="53">
                    <a:moveTo>
                      <a:pt x="0" y="53"/>
                    </a:moveTo>
                    <a:lnTo>
                      <a:pt x="53" y="25"/>
                    </a:lnTo>
                    <a:lnTo>
                      <a:pt x="0" y="0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0" name=""/>
            <p:cNvSpPr/>
            <p:nvPr/>
          </p:nvSpPr>
          <p:spPr>
            <a:xfrm>
              <a:off x="1981080" y="4149360"/>
              <a:ext cx="1790640" cy="1793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1" name=""/>
            <p:cNvGrpSpPr/>
            <p:nvPr/>
          </p:nvGrpSpPr>
          <p:grpSpPr>
            <a:xfrm>
              <a:off x="3535200" y="5798880"/>
              <a:ext cx="504720" cy="7920"/>
              <a:chOff x="3535200" y="5798880"/>
              <a:chExt cx="504720" cy="7920"/>
            </a:xfrm>
          </p:grpSpPr>
          <p:sp>
            <p:nvSpPr>
              <p:cNvPr id="452" name=""/>
              <p:cNvSpPr/>
              <p:nvPr/>
            </p:nvSpPr>
            <p:spPr>
              <a:xfrm>
                <a:off x="4032000" y="5798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4016160" y="5798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3998880" y="5798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3983040" y="5798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3967200" y="5798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3951360" y="5798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935160" y="5798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3919320" y="5798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3903480" y="5798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3887640" y="5798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3871800" y="5798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855960" y="5798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3840120" y="5798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3822480" y="5798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3806640" y="5798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3790800" y="5798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3774960" y="5798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3759120" y="5798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3743280" y="5798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3727440" y="5798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3711600" y="5798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3695760" y="5798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3679560" y="5798880"/>
                <a:ext cx="828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3663720" y="5798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3646440" y="5798880"/>
                <a:ext cx="936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5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6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3630600" y="5798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3614760" y="5798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3598920" y="5798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3582720" y="5798880"/>
                <a:ext cx="828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3566880" y="5798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3551040" y="5798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3535200" y="5798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4" name=""/>
            <p:cNvGrpSpPr/>
            <p:nvPr/>
          </p:nvGrpSpPr>
          <p:grpSpPr>
            <a:xfrm>
              <a:off x="1944720" y="4157280"/>
              <a:ext cx="393480" cy="7920"/>
              <a:chOff x="1944720" y="4157280"/>
              <a:chExt cx="393480" cy="7920"/>
            </a:xfrm>
          </p:grpSpPr>
          <p:sp>
            <p:nvSpPr>
              <p:cNvPr id="485" name=""/>
              <p:cNvSpPr/>
              <p:nvPr/>
            </p:nvSpPr>
            <p:spPr>
              <a:xfrm>
                <a:off x="2330280" y="41572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2313000" y="41572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2297160" y="41572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2280960" y="4157280"/>
                <a:ext cx="828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2265120" y="41572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2249280" y="41572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2233440" y="41572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2217600" y="41572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2201760" y="41572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2185920" y="41572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2170080" y="41572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2154240" y="41572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2136600" y="41572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5"/>
                    </a:moveTo>
                    <a:lnTo>
                      <a:pt x="6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6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2120760" y="41572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2104920" y="41572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2089080" y="41572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2073240" y="41572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2057400" y="41572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2041560" y="41572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2025720" y="41572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2009520" y="41572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1993680" y="41572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1977840" y="41572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1960560" y="4157280"/>
                <a:ext cx="936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5"/>
                    </a:moveTo>
                    <a:lnTo>
                      <a:pt x="6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6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1944720" y="41572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0" name=""/>
            <p:cNvSpPr/>
            <p:nvPr/>
          </p:nvSpPr>
          <p:spPr>
            <a:xfrm>
              <a:off x="3606840" y="5775120"/>
              <a:ext cx="56880" cy="5220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357280" y="920520"/>
              <a:ext cx="281160" cy="2682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404440" y="95220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525400" y="10332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633320" y="668160"/>
              <a:ext cx="279360" cy="2682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1680840" y="70452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1801440" y="7840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933640" y="1296720"/>
              <a:ext cx="217440" cy="2523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024360" y="1260360"/>
              <a:ext cx="1299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achylenie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086520" y="3047760"/>
              <a:ext cx="255600" cy="2682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157800" y="307944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212880" y="31590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881000" y="2998440"/>
              <a:ext cx="244440" cy="2653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960200" y="30319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033640" y="1757160"/>
              <a:ext cx="920520" cy="2491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057040" y="1790280"/>
              <a:ext cx="148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220480" y="18698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277720" y="1790280"/>
              <a:ext cx="230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~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533680" y="186984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620720" y="3736800"/>
              <a:ext cx="281160" cy="2682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689120" y="376848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744200" y="384768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086520" y="6051240"/>
              <a:ext cx="255600" cy="2682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157800" y="608292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212880" y="61639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173560" y="6027480"/>
              <a:ext cx="468360" cy="2682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257800" y="605916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313240" y="6140160"/>
              <a:ext cx="329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2ma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571920" y="6014880"/>
              <a:ext cx="468000" cy="2682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655800" y="60480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711600" y="6127560"/>
              <a:ext cx="329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2ma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987720" y="5959080"/>
              <a:ext cx="141768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083120" y="5586120"/>
              <a:ext cx="469800" cy="2682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163760" y="562248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219200" y="5703480"/>
              <a:ext cx="339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200" spc="-1" strike="noStrike">
                  <a:solidFill>
                    <a:srgbClr val="000000"/>
                  </a:solidFill>
                  <a:latin typeface="Times New Roman"/>
                </a:rPr>
                <a:t>Dmi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868400" y="6014880"/>
              <a:ext cx="244440" cy="2682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949040" y="60480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394000" y="3924000"/>
              <a:ext cx="1325520" cy="5047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8" name=""/>
            <p:cNvGrpSpPr/>
            <p:nvPr/>
          </p:nvGrpSpPr>
          <p:grpSpPr>
            <a:xfrm>
              <a:off x="2455920" y="3946320"/>
              <a:ext cx="1187640" cy="449640"/>
              <a:chOff x="2455920" y="3946320"/>
              <a:chExt cx="1187640" cy="449640"/>
            </a:xfrm>
          </p:grpSpPr>
          <p:sp>
            <p:nvSpPr>
              <p:cNvPr id="549" name=""/>
              <p:cNvSpPr/>
              <p:nvPr/>
            </p:nvSpPr>
            <p:spPr>
              <a:xfrm>
                <a:off x="2455920" y="4187520"/>
                <a:ext cx="6076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2457000" y="396540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2806200" y="396540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2712240" y="421308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3257280" y="408276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2952720" y="4051080"/>
                <a:ext cx="93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Z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3337920" y="416844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2590200" y="40510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3511080" y="40827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2695320" y="394632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3111480" y="4063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3450960" y="408276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3592440" y="408276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2" name=""/>
            <p:cNvSpPr/>
            <p:nvPr/>
          </p:nvSpPr>
          <p:spPr>
            <a:xfrm>
              <a:off x="1981080" y="5964120"/>
              <a:ext cx="20178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195800" y="4701960"/>
              <a:ext cx="82044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327920" y="4773240"/>
              <a:ext cx="470160" cy="27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0" lang="en-US" sz="1600" spc="-1" strike="noStrike" baseline="-25000">
                  <a:solidFill>
                    <a:srgbClr val="ff0000"/>
                  </a:solidFill>
                  <a:latin typeface="Times New Roman"/>
                </a:rPr>
                <a:t>D</a:t>
              </a:r>
              <a:r>
                <a:rPr b="0" lang="en-US" sz="1600" spc="-1" strike="noStrike">
                  <a:solidFill>
                    <a:srgbClr val="ff0000"/>
                  </a:solidFill>
                  <a:latin typeface="Times New Roman"/>
                </a:rPr>
                <a:t> =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5" name=""/>
            <p:cNvGrpSpPr/>
            <p:nvPr/>
          </p:nvGrpSpPr>
          <p:grpSpPr>
            <a:xfrm>
              <a:off x="3914640" y="4593960"/>
              <a:ext cx="1401840" cy="135000"/>
              <a:chOff x="3914640" y="4593960"/>
              <a:chExt cx="1401840" cy="135000"/>
            </a:xfrm>
          </p:grpSpPr>
          <p:sp>
            <p:nvSpPr>
              <p:cNvPr id="566" name=""/>
              <p:cNvSpPr/>
              <p:nvPr/>
            </p:nvSpPr>
            <p:spPr>
              <a:xfrm>
                <a:off x="4035240" y="4662360"/>
                <a:ext cx="1162080" cy="144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3914640" y="4593960"/>
                <a:ext cx="128520" cy="131760"/>
              </a:xfrm>
              <a:custGeom>
                <a:avLst/>
                <a:gdLst/>
                <a:ahLst/>
                <a:rect l="l" t="t" r="r" b="b"/>
                <a:pathLst>
                  <a:path w="81" h="83">
                    <a:moveTo>
                      <a:pt x="81" y="0"/>
                    </a:moveTo>
                    <a:lnTo>
                      <a:pt x="0" y="43"/>
                    </a:lnTo>
                    <a:lnTo>
                      <a:pt x="81" y="83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5189400" y="4597200"/>
                <a:ext cx="127080" cy="131760"/>
              </a:xfrm>
              <a:custGeom>
                <a:avLst/>
                <a:gdLst/>
                <a:ahLst/>
                <a:rect l="l" t="t" r="r" b="b"/>
                <a:pathLst>
                  <a:path w="80" h="83">
                    <a:moveTo>
                      <a:pt x="0" y="83"/>
                    </a:moveTo>
                    <a:lnTo>
                      <a:pt x="80" y="41"/>
                    </a:lnTo>
                    <a:lnTo>
                      <a:pt x="0" y="0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9" name=""/>
            <p:cNvGrpSpPr/>
            <p:nvPr/>
          </p:nvGrpSpPr>
          <p:grpSpPr>
            <a:xfrm>
              <a:off x="5499000" y="888840"/>
              <a:ext cx="2465280" cy="1295280"/>
              <a:chOff x="5499000" y="888840"/>
              <a:chExt cx="2465280" cy="1295280"/>
            </a:xfrm>
          </p:grpSpPr>
          <p:sp>
            <p:nvSpPr>
              <p:cNvPr id="570" name=""/>
              <p:cNvSpPr/>
              <p:nvPr/>
            </p:nvSpPr>
            <p:spPr>
              <a:xfrm>
                <a:off x="6664320" y="1620720"/>
                <a:ext cx="358560" cy="24264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DZ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6953040" y="2158560"/>
                <a:ext cx="650880" cy="324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5983200" y="1164960"/>
                <a:ext cx="390600" cy="1602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 flipH="1">
                <a:off x="6360840" y="1244160"/>
                <a:ext cx="1670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 flipH="1">
                <a:off x="5792760" y="1244160"/>
                <a:ext cx="19512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6041880" y="1366560"/>
                <a:ext cx="277920" cy="301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76" name=""/>
              <p:cNvGrpSpPr/>
              <p:nvPr/>
            </p:nvGrpSpPr>
            <p:grpSpPr>
              <a:xfrm>
                <a:off x="6443640" y="1666440"/>
                <a:ext cx="247680" cy="136800"/>
                <a:chOff x="6443640" y="1666440"/>
                <a:chExt cx="247680" cy="136800"/>
              </a:xfrm>
            </p:grpSpPr>
            <p:sp>
              <p:nvSpPr>
                <p:cNvPr id="577" name=""/>
                <p:cNvSpPr/>
                <p:nvPr/>
              </p:nvSpPr>
              <p:spPr>
                <a:xfrm>
                  <a:off x="6470280" y="1802520"/>
                  <a:ext cx="180000" cy="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6546240" y="1682280"/>
                  <a:ext cx="110880" cy="120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>
                  <a:off x="6463800" y="1667160"/>
                  <a:ext cx="180000" cy="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 flipH="1">
                  <a:off x="6443640" y="1682280"/>
                  <a:ext cx="110880" cy="120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6642720" y="1666440"/>
                  <a:ext cx="48600" cy="54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82" name=""/>
              <p:cNvSpPr/>
              <p:nvPr/>
            </p:nvSpPr>
            <p:spPr>
              <a:xfrm>
                <a:off x="5575320" y="1247400"/>
                <a:ext cx="220680" cy="3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553080" y="1247400"/>
                <a:ext cx="0" cy="2415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6540480" y="1247400"/>
                <a:ext cx="222120" cy="3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 flipV="1">
                <a:off x="6553080" y="1483560"/>
                <a:ext cx="3240" cy="1796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 flipV="1">
                <a:off x="6553080" y="1798200"/>
                <a:ext cx="3240" cy="347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5546520" y="2158560"/>
                <a:ext cx="1368360" cy="3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6906960" y="2128680"/>
                <a:ext cx="55800" cy="55440"/>
              </a:xfrm>
              <a:prstGeom prst="ellipse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5499000" y="2128680"/>
                <a:ext cx="55440" cy="55440"/>
              </a:xfrm>
              <a:prstGeom prst="ellipse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5499000" y="1217160"/>
                <a:ext cx="55440" cy="55800"/>
              </a:xfrm>
              <a:prstGeom prst="ellipse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flipH="1">
                <a:off x="6762240" y="1244160"/>
                <a:ext cx="1652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6905520" y="1217160"/>
                <a:ext cx="57240" cy="55800"/>
              </a:xfrm>
              <a:prstGeom prst="ellipse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flipV="1">
                <a:off x="5533920" y="1336320"/>
                <a:ext cx="0" cy="720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flipV="1">
                <a:off x="6939000" y="1336320"/>
                <a:ext cx="2880" cy="720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7502400" y="1493640"/>
                <a:ext cx="144360" cy="4269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flipV="1">
                <a:off x="7574040" y="1904760"/>
                <a:ext cx="1440" cy="25704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flipV="1">
                <a:off x="7574040" y="1247040"/>
                <a:ext cx="1440" cy="25092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7688160" y="1557000"/>
                <a:ext cx="276120" cy="30024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ffff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i="1" lang="en-US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6967440" y="1247400"/>
                <a:ext cx="649440" cy="324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7408800" y="1874520"/>
                <a:ext cx="1440" cy="212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7408800" y="2070000"/>
                <a:ext cx="1951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flipV="1">
                <a:off x="7408800" y="1440720"/>
                <a:ext cx="345960" cy="45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7554960" y="2039760"/>
                <a:ext cx="55440" cy="55440"/>
              </a:xfrm>
              <a:prstGeom prst="ellipse">
                <a:avLst/>
              </a:prstGeom>
              <a:solidFill>
                <a:srgbClr val="0000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6622920" y="1292040"/>
                <a:ext cx="222120" cy="31752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i="1" lang="en-US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5657760" y="888840"/>
                <a:ext cx="220680" cy="31428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i="1" lang="en-US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6608520" y="888840"/>
                <a:ext cx="222480" cy="31428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i="1" lang="en-US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5587920" y="1545840"/>
                <a:ext cx="262080" cy="31752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i="1" lang="en-US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7008840" y="1561680"/>
                <a:ext cx="263520" cy="31608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i="1" lang="en-US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9" name=""/>
            <p:cNvSpPr/>
            <p:nvPr/>
          </p:nvSpPr>
          <p:spPr>
            <a:xfrm flipV="1">
              <a:off x="3771720" y="2069640"/>
              <a:ext cx="0" cy="38862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397480" y="2946240"/>
              <a:ext cx="0" cy="30099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2244600" y="2215800"/>
              <a:ext cx="9698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16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pl-PL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</a:t>
              </a:r>
              <a:r>
                <a:rPr b="0" lang="pl-PL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1600" spc="-1" strike="noStrike" baseline="-25000">
                  <a:solidFill>
                    <a:srgbClr val="000000"/>
                  </a:solidFill>
                  <a:latin typeface="Times New Roman"/>
                </a:rPr>
                <a:t>D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333680" y="2144520"/>
              <a:ext cx="6256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=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 flipH="1" flipV="1">
              <a:off x="1976400" y="1015560"/>
              <a:ext cx="1782720" cy="1028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 flipH="1">
              <a:off x="3301920" y="1536480"/>
              <a:ext cx="216000" cy="17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7066440" y="2885760"/>
              <a:ext cx="47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807240" y="1917360"/>
              <a:ext cx="457200" cy="939960"/>
            </a:xfrm>
            <a:custGeom>
              <a:avLst/>
              <a:gdLst/>
              <a:ahLst/>
              <a:rect l="l" t="t" r="r" b="b"/>
              <a:pathLst>
                <a:path w="256" h="528">
                  <a:moveTo>
                    <a:pt x="256" y="528"/>
                  </a:moveTo>
                  <a:lnTo>
                    <a:pt x="248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METRY S. PARAMETRYCZN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8" name=""/>
              <p:cNvSpPr txBox="1"/>
              <p:nvPr/>
            </p:nvSpPr>
            <p:spPr>
              <a:xfrm>
                <a:off x="2100240" y="1523880"/>
                <a:ext cx="341964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Δ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Z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Z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R</m:t>
                        </m:r>
                      </m:den>
                    </m:f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Z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9" name=""/>
              <p:cNvSpPr txBox="1"/>
              <p:nvPr/>
            </p:nvSpPr>
            <p:spPr>
              <a:xfrm>
                <a:off x="2182680" y="3429000"/>
                <a:ext cx="3300480" cy="83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0" name=""/>
              <p:cNvSpPr txBox="1"/>
              <p:nvPr/>
            </p:nvSpPr>
            <p:spPr>
              <a:xfrm>
                <a:off x="2200320" y="2443320"/>
                <a:ext cx="2035080" cy="92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621" name=""/>
          <p:cNvGrpSpPr/>
          <p:nvPr/>
        </p:nvGrpSpPr>
        <p:grpSpPr>
          <a:xfrm>
            <a:off x="6172200" y="1143000"/>
            <a:ext cx="2465280" cy="1295280"/>
            <a:chOff x="6172200" y="1143000"/>
            <a:chExt cx="2465280" cy="1295280"/>
          </a:xfrm>
        </p:grpSpPr>
        <p:sp>
          <p:nvSpPr>
            <p:cNvPr id="622" name=""/>
            <p:cNvSpPr/>
            <p:nvPr/>
          </p:nvSpPr>
          <p:spPr>
            <a:xfrm>
              <a:off x="7337520" y="1874880"/>
              <a:ext cx="358560" cy="24264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7626240" y="2412720"/>
              <a:ext cx="650880" cy="3240"/>
            </a:xfrm>
            <a:prstGeom prst="line">
              <a:avLst/>
            </a:prstGeom>
            <a:ln w="64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6656400" y="1419120"/>
              <a:ext cx="390600" cy="160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034040" y="1498320"/>
              <a:ext cx="1670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6465960" y="1498320"/>
              <a:ext cx="19512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6715080" y="1620720"/>
              <a:ext cx="277920" cy="301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8" name=""/>
            <p:cNvGrpSpPr/>
            <p:nvPr/>
          </p:nvGrpSpPr>
          <p:grpSpPr>
            <a:xfrm>
              <a:off x="7116840" y="1920600"/>
              <a:ext cx="247680" cy="136800"/>
              <a:chOff x="7116840" y="1920600"/>
              <a:chExt cx="247680" cy="136800"/>
            </a:xfrm>
          </p:grpSpPr>
          <p:sp>
            <p:nvSpPr>
              <p:cNvPr id="629" name=""/>
              <p:cNvSpPr/>
              <p:nvPr/>
            </p:nvSpPr>
            <p:spPr>
              <a:xfrm>
                <a:off x="7143480" y="2056680"/>
                <a:ext cx="18000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7219440" y="1936440"/>
                <a:ext cx="110880" cy="120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7137000" y="1921320"/>
                <a:ext cx="18000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flipH="1">
                <a:off x="7116840" y="1936440"/>
                <a:ext cx="110880" cy="120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7315920" y="1920600"/>
                <a:ext cx="48600" cy="5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4" name=""/>
            <p:cNvSpPr/>
            <p:nvPr/>
          </p:nvSpPr>
          <p:spPr>
            <a:xfrm>
              <a:off x="6248520" y="1501560"/>
              <a:ext cx="220680" cy="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226280" y="1501560"/>
              <a:ext cx="0" cy="2415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7213680" y="1501560"/>
              <a:ext cx="222120" cy="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 flipV="1">
              <a:off x="7226280" y="1737720"/>
              <a:ext cx="3240" cy="1796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 flipV="1">
              <a:off x="7226280" y="2052360"/>
              <a:ext cx="3240" cy="3477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6219720" y="2412720"/>
              <a:ext cx="1368360" cy="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7580160" y="2382840"/>
              <a:ext cx="55800" cy="5544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6172200" y="2382840"/>
              <a:ext cx="55440" cy="5544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172200" y="1471320"/>
              <a:ext cx="55440" cy="558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 flipH="1">
              <a:off x="7435440" y="1498320"/>
              <a:ext cx="1652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578720" y="1471320"/>
              <a:ext cx="57240" cy="558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V="1">
              <a:off x="6207120" y="1590480"/>
              <a:ext cx="0" cy="720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V="1">
              <a:off x="7612200" y="1590480"/>
              <a:ext cx="2880" cy="720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8175600" y="1747800"/>
              <a:ext cx="144360" cy="426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 flipV="1">
              <a:off x="8247240" y="2158920"/>
              <a:ext cx="1440" cy="257040"/>
            </a:xfrm>
            <a:prstGeom prst="line">
              <a:avLst/>
            </a:prstGeom>
            <a:ln w="64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 flipV="1">
              <a:off x="8247240" y="1501200"/>
              <a:ext cx="1440" cy="250920"/>
            </a:xfrm>
            <a:prstGeom prst="line">
              <a:avLst/>
            </a:prstGeom>
            <a:ln w="64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8361360" y="1811160"/>
              <a:ext cx="276120" cy="30024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7640640" y="1501560"/>
              <a:ext cx="649440" cy="3240"/>
            </a:xfrm>
            <a:prstGeom prst="line">
              <a:avLst/>
            </a:prstGeom>
            <a:ln w="64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8082000" y="2128680"/>
              <a:ext cx="1440" cy="2127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8082000" y="2324160"/>
              <a:ext cx="19512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 flipV="1">
              <a:off x="8082000" y="1694880"/>
              <a:ext cx="345960" cy="45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8228160" y="2293920"/>
              <a:ext cx="55440" cy="5544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7296120" y="1546200"/>
              <a:ext cx="222120" cy="3175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6330960" y="1143000"/>
              <a:ext cx="220680" cy="3142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281720" y="1143000"/>
              <a:ext cx="222480" cy="3142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61120" y="1800000"/>
              <a:ext cx="262080" cy="3175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7682040" y="1815840"/>
              <a:ext cx="263520" cy="3160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61" name=""/>
              <p:cNvSpPr txBox="1"/>
              <p:nvPr/>
            </p:nvSpPr>
            <p:spPr>
              <a:xfrm>
                <a:off x="3487680" y="5424480"/>
                <a:ext cx="170352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ΔU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62" name=""/>
          <p:cNvSpPr/>
          <p:nvPr/>
        </p:nvSpPr>
        <p:spPr>
          <a:xfrm>
            <a:off x="970200" y="4756320"/>
            <a:ext cx="66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Współczynnik temperaturowy napięcia wyjściowe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1T08:15:07Z</dcterms:created>
  <dc:creator>Agnieszka Kukawczynska</dc:creator>
  <dc:description/>
  <dc:language>en-US</dc:language>
  <cp:lastModifiedBy>MK</cp:lastModifiedBy>
  <dcterms:modified xsi:type="dcterms:W3CDTF">2004-05-31T12:59:47Z</dcterms:modified>
  <cp:revision>75</cp:revision>
  <dc:subject/>
  <dc:title>STABILIZATORY NAPIĘĆ</dc:title>
</cp:coreProperties>
</file>