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B99-70AB-423C-8E8A-EC75902C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967-E083-49C8-AC6A-564CADD9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4BB-B10C-478C-81AF-F77F0BC0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391-8FFB-44DE-93E9-4E43A740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207F-BD07-4E19-896E-7CB0A862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A6F-9902-46FC-83AB-B14CE392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58C-8886-4562-A43F-91421092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478-5B70-41FE-AE8A-70376D91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222-7DB1-4B99-8D80-03AD6601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0F2-542C-4B84-97F0-718B9F1E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ECE-E759-4BE6-BF98-19B732A4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C5A-8B46-4D77-A49D-E38EA3DF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A8EE-AB5A-4CD1-A83E-AE9C2806C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BILIZATORY NAPIĘĆ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ZIAŁANIU CIĄGŁY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949560" y="601560"/>
            <a:ext cx="23184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415880" y="1862280"/>
            <a:ext cx="2859840" cy="2314440"/>
            <a:chOff x="1415880" y="1862280"/>
            <a:chExt cx="2859840" cy="2314440"/>
          </a:xfrm>
        </p:grpSpPr>
        <p:sp>
          <p:nvSpPr>
            <p:cNvPr id="666" name=""/>
            <p:cNvSpPr/>
            <p:nvPr/>
          </p:nvSpPr>
          <p:spPr>
            <a:xfrm>
              <a:off x="2509920" y="3036960"/>
              <a:ext cx="495360" cy="17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982960" y="3122640"/>
              <a:ext cx="203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274840" y="3122640"/>
              <a:ext cx="2412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49520" y="3271680"/>
              <a:ext cx="349200" cy="3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34840" y="33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22480" y="2228760"/>
              <a:ext cx="555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43080" y="2592360"/>
              <a:ext cx="30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2987280" y="2313000"/>
              <a:ext cx="127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3240000" y="2406240"/>
              <a:ext cx="117360" cy="168120"/>
              <a:chOff x="3240000" y="2406240"/>
              <a:chExt cx="117360" cy="168120"/>
            </a:xfrm>
          </p:grpSpPr>
          <p:sp>
            <p:nvSpPr>
              <p:cNvPr id="675" name=""/>
              <p:cNvSpPr/>
              <p:nvPr/>
            </p:nvSpPr>
            <p:spPr>
              <a:xfrm flipV="1">
                <a:off x="3262680" y="2406240"/>
                <a:ext cx="88560" cy="1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240000" y="240660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41" y="48"/>
                    </a:moveTo>
                    <a:lnTo>
                      <a:pt x="39" y="0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 flipV="1">
              <a:off x="3351240" y="2312640"/>
              <a:ext cx="55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03640" y="2592360"/>
              <a:ext cx="468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3400560" y="2255760"/>
              <a:ext cx="286920" cy="109080"/>
              <a:chOff x="3400560" y="2255760"/>
              <a:chExt cx="286920" cy="10908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3400560" y="2306880"/>
                <a:ext cx="2869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572280" y="2255760"/>
                <a:ext cx="11484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 flipH="1">
              <a:off x="2784240" y="2308320"/>
              <a:ext cx="198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203640" y="2747520"/>
              <a:ext cx="4680" cy="18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143160" y="3124080"/>
              <a:ext cx="114120" cy="233280"/>
              <a:chOff x="3143160" y="3124080"/>
              <a:chExt cx="114120" cy="233280"/>
            </a:xfrm>
          </p:grpSpPr>
          <p:sp>
            <p:nvSpPr>
              <p:cNvPr id="685" name=""/>
              <p:cNvSpPr/>
              <p:nvPr/>
            </p:nvSpPr>
            <p:spPr>
              <a:xfrm>
                <a:off x="3203280" y="3124080"/>
                <a:ext cx="2520" cy="23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43160" y="3247200"/>
                <a:ext cx="114120" cy="1098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0"/>
                    </a:moveTo>
                    <a:lnTo>
                      <a:pt x="21" y="40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3147840" y="2895480"/>
              <a:ext cx="115560" cy="228240"/>
              <a:chOff x="3147840" y="2895480"/>
              <a:chExt cx="115560" cy="228240"/>
            </a:xfrm>
          </p:grpSpPr>
          <p:sp>
            <p:nvSpPr>
              <p:cNvPr id="688" name=""/>
              <p:cNvSpPr/>
              <p:nvPr/>
            </p:nvSpPr>
            <p:spPr>
              <a:xfrm flipV="1">
                <a:off x="3202920" y="2895480"/>
                <a:ext cx="2520" cy="22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147840" y="2895480"/>
                <a:ext cx="115560" cy="108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3083040" y="3533760"/>
              <a:ext cx="255960" cy="146520"/>
              <a:chOff x="3083040" y="3533760"/>
              <a:chExt cx="255960" cy="14652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3083040" y="3533760"/>
                <a:ext cx="255960" cy="146520"/>
                <a:chOff x="3083040" y="3533760"/>
                <a:chExt cx="255960" cy="1465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3083040" y="3664440"/>
                  <a:ext cx="225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3100320" y="3549960"/>
                  <a:ext cx="10260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202920" y="3550320"/>
                  <a:ext cx="1360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100320" y="3533760"/>
                  <a:ext cx="22212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3291120" y="3533760"/>
                <a:ext cx="31680" cy="5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3203640" y="3373560"/>
              <a:ext cx="144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036880" y="2255760"/>
              <a:ext cx="807480" cy="109080"/>
              <a:chOff x="2036880" y="2255760"/>
              <a:chExt cx="807480" cy="109080"/>
            </a:xfrm>
          </p:grpSpPr>
          <p:sp>
            <p:nvSpPr>
              <p:cNvPr id="699" name=""/>
              <p:cNvSpPr/>
              <p:nvPr/>
            </p:nvSpPr>
            <p:spPr>
              <a:xfrm>
                <a:off x="2036880" y="2307240"/>
                <a:ext cx="8074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729880" y="22557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2289240" y="2308320"/>
              <a:ext cx="6120" cy="81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828800" y="2255760"/>
              <a:ext cx="239400" cy="109080"/>
              <a:chOff x="1828800" y="2255760"/>
              <a:chExt cx="239400" cy="109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828800" y="2307240"/>
                <a:ext cx="2394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954080" y="2255760"/>
                <a:ext cx="11376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203640" y="3681360"/>
              <a:ext cx="1440" cy="47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828800" y="4143240"/>
              <a:ext cx="2062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674880" y="2313000"/>
              <a:ext cx="191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3882960" y="2484360"/>
              <a:ext cx="114120" cy="1498320"/>
              <a:chOff x="3882960" y="2484360"/>
              <a:chExt cx="114120" cy="1498320"/>
            </a:xfrm>
          </p:grpSpPr>
          <p:sp>
            <p:nvSpPr>
              <p:cNvPr id="709" name=""/>
              <p:cNvSpPr/>
              <p:nvPr/>
            </p:nvSpPr>
            <p:spPr>
              <a:xfrm flipV="1">
                <a:off x="3936600" y="2484360"/>
                <a:ext cx="3240" cy="149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882960" y="24843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773360" y="2455560"/>
              <a:ext cx="115560" cy="1488600"/>
              <a:chOff x="1773360" y="2455560"/>
              <a:chExt cx="115560" cy="148860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1828080" y="2455560"/>
                <a:ext cx="2520" cy="148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73360" y="245592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3160800" y="3094200"/>
              <a:ext cx="75960" cy="63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60800" y="4108320"/>
              <a:ext cx="75960" cy="68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52520" y="2268360"/>
              <a:ext cx="71640" cy="702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85960" y="4108320"/>
              <a:ext cx="745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85960" y="2268360"/>
              <a:ext cx="7452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48040" y="4108320"/>
              <a:ext cx="763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30760" y="2268360"/>
              <a:ext cx="7596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6048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372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2680" y="2001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9876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8084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611440" y="199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11360" y="1862280"/>
              <a:ext cx="65916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0028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78040" y="2001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670200" y="18972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06280" y="1992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22800" y="274788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406320" y="278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25400" y="2889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322800" y="314172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00200" y="3179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40160" y="326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15880" y="300996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65200" y="3048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53760" y="3132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4111560" y="3106800"/>
              <a:ext cx="164160" cy="228600"/>
              <a:chOff x="4111560" y="3106800"/>
              <a:chExt cx="164160" cy="228600"/>
            </a:xfrm>
          </p:grpSpPr>
          <p:sp>
            <p:nvSpPr>
              <p:cNvPr id="742" name=""/>
              <p:cNvSpPr/>
              <p:nvPr/>
            </p:nvSpPr>
            <p:spPr>
              <a:xfrm>
                <a:off x="4111560" y="3106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210920" y="3182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2687760" y="3699000"/>
              <a:ext cx="473040" cy="349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66960" y="37339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97320" y="3541680"/>
              <a:ext cx="40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416400" y="3454560"/>
              <a:ext cx="0" cy="4572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3339720" y="2476440"/>
              <a:ext cx="343080" cy="336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13960" y="2562120"/>
              <a:ext cx="3650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834080" y="1217520"/>
            <a:ext cx="3243240" cy="5100840"/>
            <a:chOff x="4834080" y="1217520"/>
            <a:chExt cx="3243240" cy="5100840"/>
          </a:xfrm>
        </p:grpSpPr>
        <p:grpSp>
          <p:nvGrpSpPr>
            <p:cNvPr id="751" name=""/>
            <p:cNvGrpSpPr/>
            <p:nvPr/>
          </p:nvGrpSpPr>
          <p:grpSpPr>
            <a:xfrm>
              <a:off x="6554880" y="3476520"/>
              <a:ext cx="457200" cy="417600"/>
              <a:chOff x="6554880" y="3476520"/>
              <a:chExt cx="457200" cy="417600"/>
            </a:xfrm>
          </p:grpSpPr>
          <p:sp>
            <p:nvSpPr>
              <p:cNvPr id="752" name=""/>
              <p:cNvSpPr/>
              <p:nvPr/>
            </p:nvSpPr>
            <p:spPr>
              <a:xfrm>
                <a:off x="6558120" y="3479760"/>
                <a:ext cx="450720" cy="41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55488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55488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55488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55488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55488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55488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55488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55488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55488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55488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55488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55488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55488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55488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55488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55488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55488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55488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55488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55488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55488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55488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55488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55488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55488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5488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5488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55488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55488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55488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55488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55488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55488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5488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5613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5739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5851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5977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10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21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634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6470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6596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670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6834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696000" y="388944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707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197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7327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74388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756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769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780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7928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805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16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295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42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853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8659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8785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8896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026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15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278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390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51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96456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753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883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009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0560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00560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00560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0560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0560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0560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0560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0560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0560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00560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00560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0560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0560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0560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00560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00560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00560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00560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00560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00560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00560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00560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0560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00560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0560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00560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0560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00560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0560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0560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0560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0560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0560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0560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997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985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9724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61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483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357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2460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12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994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8882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875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862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5152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838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8263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8137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8025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7899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777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7658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7532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740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729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7168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703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6931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6801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6675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65640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6438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6312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200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607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94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583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5707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5581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6732720" y="3529080"/>
              <a:ext cx="426240" cy="404640"/>
              <a:chOff x="6732720" y="3529080"/>
              <a:chExt cx="426240" cy="404640"/>
            </a:xfrm>
          </p:grpSpPr>
          <p:sp>
            <p:nvSpPr>
              <p:cNvPr id="896" name=""/>
              <p:cNvSpPr/>
              <p:nvPr/>
            </p:nvSpPr>
            <p:spPr>
              <a:xfrm>
                <a:off x="6732720" y="3722400"/>
                <a:ext cx="358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748200" y="35290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804720" y="359388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835320" y="37810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04880" y="371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906600" y="359388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767280" y="3700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921000" y="37004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6648480" y="5727600"/>
              <a:ext cx="3254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65760" y="5751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741720" y="581328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0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70600" y="5813280"/>
              <a:ext cx="12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5618160" y="3610080"/>
              <a:ext cx="203400" cy="238320"/>
              <a:chOff x="5618160" y="3610080"/>
              <a:chExt cx="203400" cy="238320"/>
            </a:xfrm>
          </p:grpSpPr>
          <p:sp>
            <p:nvSpPr>
              <p:cNvPr id="909" name=""/>
              <p:cNvSpPr/>
              <p:nvPr/>
            </p:nvSpPr>
            <p:spPr>
              <a:xfrm>
                <a:off x="5618160" y="3610080"/>
                <a:ext cx="20340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666040" y="363528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8880" y="3695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657760" y="4017960"/>
              <a:ext cx="204840" cy="238320"/>
              <a:chOff x="5657760" y="4017960"/>
              <a:chExt cx="204840" cy="238320"/>
            </a:xfrm>
          </p:grpSpPr>
          <p:sp>
            <p:nvSpPr>
              <p:cNvPr id="913" name=""/>
              <p:cNvSpPr/>
              <p:nvPr/>
            </p:nvSpPr>
            <p:spPr>
              <a:xfrm>
                <a:off x="5657760" y="4017960"/>
                <a:ext cx="20484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13200" y="404316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56040" y="41036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5214960" y="1306440"/>
              <a:ext cx="63360" cy="1381320"/>
              <a:chOff x="5214960" y="1306440"/>
              <a:chExt cx="63360" cy="1381320"/>
            </a:xfrm>
          </p:grpSpPr>
          <p:sp>
            <p:nvSpPr>
              <p:cNvPr id="917" name=""/>
              <p:cNvSpPr/>
              <p:nvPr/>
            </p:nvSpPr>
            <p:spPr>
              <a:xfrm>
                <a:off x="5244840" y="1363680"/>
                <a:ext cx="324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214960" y="13064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5237280" y="2870280"/>
              <a:ext cx="63360" cy="1380960"/>
              <a:chOff x="5237280" y="2870280"/>
              <a:chExt cx="63360" cy="1380960"/>
            </a:xfrm>
          </p:grpSpPr>
          <p:sp>
            <p:nvSpPr>
              <p:cNvPr id="920" name=""/>
              <p:cNvSpPr/>
              <p:nvPr/>
            </p:nvSpPr>
            <p:spPr>
              <a:xfrm>
                <a:off x="5267160" y="2928960"/>
                <a:ext cx="1080" cy="132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237280" y="28702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5260680" y="4214880"/>
              <a:ext cx="2816640" cy="63360"/>
              <a:chOff x="5260680" y="4214880"/>
              <a:chExt cx="2816640" cy="63360"/>
            </a:xfrm>
          </p:grpSpPr>
          <p:sp>
            <p:nvSpPr>
              <p:cNvPr id="923" name=""/>
              <p:cNvSpPr/>
              <p:nvPr/>
            </p:nvSpPr>
            <p:spPr>
              <a:xfrm flipH="1">
                <a:off x="5260680" y="4245120"/>
                <a:ext cx="2759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013960" y="42148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5237280" y="4651200"/>
              <a:ext cx="63360" cy="1380960"/>
              <a:chOff x="5237280" y="4651200"/>
              <a:chExt cx="63360" cy="1380960"/>
            </a:xfrm>
          </p:grpSpPr>
          <p:sp>
            <p:nvSpPr>
              <p:cNvPr id="926" name=""/>
              <p:cNvSpPr/>
              <p:nvPr/>
            </p:nvSpPr>
            <p:spPr>
              <a:xfrm>
                <a:off x="5267160" y="4708080"/>
                <a:ext cx="108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237280" y="4651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241600" y="2651040"/>
              <a:ext cx="2778480" cy="63720"/>
              <a:chOff x="5241600" y="2651040"/>
              <a:chExt cx="2778480" cy="63720"/>
            </a:xfrm>
          </p:grpSpPr>
          <p:sp>
            <p:nvSpPr>
              <p:cNvPr id="929" name=""/>
              <p:cNvSpPr/>
              <p:nvPr/>
            </p:nvSpPr>
            <p:spPr>
              <a:xfrm flipH="1">
                <a:off x="5241600" y="2681280"/>
                <a:ext cx="27190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956360" y="2651040"/>
                <a:ext cx="6372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5261040" y="5992920"/>
              <a:ext cx="2795040" cy="63360"/>
              <a:chOff x="5261040" y="5992920"/>
              <a:chExt cx="2795040" cy="63360"/>
            </a:xfrm>
          </p:grpSpPr>
          <p:sp>
            <p:nvSpPr>
              <p:cNvPr id="932" name=""/>
              <p:cNvSpPr/>
              <p:nvPr/>
            </p:nvSpPr>
            <p:spPr>
              <a:xfrm flipH="1">
                <a:off x="5261040" y="6023160"/>
                <a:ext cx="273672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93080" y="5992920"/>
                <a:ext cx="6300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245200" y="1915920"/>
              <a:ext cx="1222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64520" y="1915920"/>
              <a:ext cx="1098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51680" y="3633840"/>
              <a:ext cx="1215720" cy="6080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5267520" y="3115800"/>
              <a:ext cx="2279520" cy="112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5267520" y="5889600"/>
              <a:ext cx="1199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6464520" y="5250960"/>
              <a:ext cx="109836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89560" y="1287360"/>
              <a:ext cx="547920" cy="1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416560" y="1312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506560" y="137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550120" y="131292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=con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43640" y="190656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529400" y="26607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241960" y="362736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34280" y="3637080"/>
              <a:ext cx="3960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43640" y="4221000"/>
              <a:ext cx="39600" cy="39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23280" y="308772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29400" y="52419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443640" y="587052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5462640" y="1654200"/>
              <a:ext cx="291600" cy="241200"/>
              <a:chOff x="5462640" y="1654200"/>
              <a:chExt cx="291600" cy="241200"/>
            </a:xfrm>
          </p:grpSpPr>
          <p:sp>
            <p:nvSpPr>
              <p:cNvPr id="953" name=""/>
              <p:cNvSpPr/>
              <p:nvPr/>
            </p:nvSpPr>
            <p:spPr>
              <a:xfrm>
                <a:off x="5462640" y="1654200"/>
                <a:ext cx="29160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513400" y="1682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608080" y="17427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5006880" y="1217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98680" y="127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858080" y="2717640"/>
              <a:ext cx="20160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913520" y="274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956000" y="2803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96200" y="2708280"/>
              <a:ext cx="325440" cy="20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2284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65680" y="2793960"/>
              <a:ext cx="34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19960" y="2708280"/>
              <a:ext cx="27936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44336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86560" y="279396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5016600" y="2797200"/>
              <a:ext cx="204480" cy="238320"/>
              <a:chOff x="5016600" y="2797200"/>
              <a:chExt cx="204480" cy="238320"/>
            </a:xfrm>
          </p:grpSpPr>
          <p:sp>
            <p:nvSpPr>
              <p:cNvPr id="968" name=""/>
              <p:cNvSpPr/>
              <p:nvPr/>
            </p:nvSpPr>
            <p:spPr>
              <a:xfrm>
                <a:off x="5016600" y="2797200"/>
                <a:ext cx="20448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65200" y="2822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108400" y="2882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5016600" y="3031920"/>
              <a:ext cx="2048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071680" y="305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14520" y="3117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4834080" y="3419280"/>
              <a:ext cx="384120" cy="238320"/>
              <a:chOff x="4834080" y="3419280"/>
              <a:chExt cx="384120" cy="238320"/>
            </a:xfrm>
          </p:grpSpPr>
          <p:sp>
            <p:nvSpPr>
              <p:cNvPr id="975" name=""/>
              <p:cNvSpPr/>
              <p:nvPr/>
            </p:nvSpPr>
            <p:spPr>
              <a:xfrm>
                <a:off x="4834080" y="3419280"/>
                <a:ext cx="38412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01760" y="344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943520" y="350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043240" y="3436560"/>
                <a:ext cx="150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7867800" y="6081840"/>
              <a:ext cx="203040" cy="19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21440" y="6105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963920" y="6165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67800" y="4297320"/>
              <a:ext cx="2030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921440" y="43243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963920" y="438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6500880" y="5886360"/>
              <a:ext cx="140760" cy="4680"/>
              <a:chOff x="6500880" y="5886360"/>
              <a:chExt cx="140760" cy="4680"/>
            </a:xfrm>
          </p:grpSpPr>
          <p:sp>
            <p:nvSpPr>
              <p:cNvPr id="986" name=""/>
              <p:cNvSpPr/>
              <p:nvPr/>
            </p:nvSpPr>
            <p:spPr>
              <a:xfrm>
                <a:off x="65008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51348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5260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53868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5498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5624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7540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5865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991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1176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229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355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" name=""/>
            <p:cNvSpPr/>
            <p:nvPr/>
          </p:nvSpPr>
          <p:spPr>
            <a:xfrm>
              <a:off x="5006880" y="4575240"/>
              <a:ext cx="2048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59080" y="459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35400" y="466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599240" y="5157720"/>
              <a:ext cx="32868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642080" y="5181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18400" y="52419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t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052960" y="2571840"/>
              <a:ext cx="168120" cy="207360"/>
              <a:chOff x="5052960" y="2571840"/>
              <a:chExt cx="168120" cy="207360"/>
            </a:xfrm>
          </p:grpSpPr>
          <p:sp>
            <p:nvSpPr>
              <p:cNvPr id="1005" name=""/>
              <p:cNvSpPr/>
              <p:nvPr/>
            </p:nvSpPr>
            <p:spPr>
              <a:xfrm>
                <a:off x="5056200" y="2574720"/>
                <a:ext cx="161640" cy="20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052960" y="257472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052960" y="258732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052960" y="259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052960" y="2611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052960" y="262368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052960" y="2634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052960" y="2647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052960" y="266040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052960" y="2671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52960" y="2684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052960" y="2696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052960" y="2707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052960" y="2720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052960" y="273348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052960" y="2744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052960" y="2757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52960" y="2769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623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749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860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9904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11164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12280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354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1480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096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7176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8472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732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084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14960" y="2766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214960" y="27540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214960" y="27414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214960" y="2730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214960" y="2717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214960" y="2704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214960" y="2693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214960" y="2680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214960" y="26683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4960" y="2657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214960" y="2644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214960" y="263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214960" y="2620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214960" y="2607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214960" y="2595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214960" y="258408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214960" y="2571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20200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1908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1782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16564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5448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14188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12892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11812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1051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0925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08140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688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562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5104800" y="259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5072040" y="4141800"/>
              <a:ext cx="166680" cy="208080"/>
              <a:chOff x="5072040" y="4141800"/>
              <a:chExt cx="166680" cy="208080"/>
            </a:xfrm>
          </p:grpSpPr>
          <p:sp>
            <p:nvSpPr>
              <p:cNvPr id="1068" name=""/>
              <p:cNvSpPr/>
              <p:nvPr/>
            </p:nvSpPr>
            <p:spPr>
              <a:xfrm>
                <a:off x="5074920" y="4145040"/>
                <a:ext cx="16200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072040" y="4145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072040" y="4157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072040" y="4168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072040" y="4181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072040" y="419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72040" y="4205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2040" y="4218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072040" y="4230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072040" y="4241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072040" y="425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072040" y="4267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072040" y="4278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072040" y="4291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072040" y="4303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072040" y="431640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72040" y="4327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72040" y="4340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8140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0925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051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1812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892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14188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15448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16564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782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1908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0200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2149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2275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233680" y="4337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233680" y="43243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33680" y="431316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233680" y="4300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233680" y="428796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33680" y="42768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33680" y="426420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33680" y="42512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233680" y="42386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233680" y="42274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233680" y="42148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233680" y="4202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233680" y="41911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233680" y="41785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233680" y="4165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233680" y="415440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233680" y="4141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21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2084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19732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18472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17176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16096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1480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1354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12280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11164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09904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086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07492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5122440" y="4168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5062680" y="5925960"/>
              <a:ext cx="167760" cy="206280"/>
              <a:chOff x="5062680" y="5925960"/>
              <a:chExt cx="167760" cy="206280"/>
            </a:xfrm>
          </p:grpSpPr>
          <p:sp>
            <p:nvSpPr>
              <p:cNvPr id="1131" name=""/>
              <p:cNvSpPr/>
              <p:nvPr/>
            </p:nvSpPr>
            <p:spPr>
              <a:xfrm>
                <a:off x="5065560" y="5927400"/>
                <a:ext cx="16164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062680" y="5927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062680" y="5940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062680" y="5952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062680" y="59655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062680" y="5976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062680" y="59893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062680" y="6001920"/>
                <a:ext cx="61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062680" y="6013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062680" y="60256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062680" y="6038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62680" y="6049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062680" y="6062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62680" y="6075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062680" y="6086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062680" y="6098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062680" y="6111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062680" y="6122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07204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08464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09580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10840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121000" y="612576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13216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14512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15772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16888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18148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19408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2052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2178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224320" y="61196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224320" y="610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224320" y="60958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224320" y="60829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224320" y="6071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224320" y="6059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224320" y="60465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224320" y="6035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224320" y="6022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224320" y="60098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224320" y="5999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224320" y="5986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224320" y="5973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224320" y="596232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24320" y="5949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224320" y="5937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224320" y="592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21172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1987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18796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1750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1624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1512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386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12604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11488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1019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0893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0781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0655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5114520" y="5950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7575480" y="2944800"/>
              <a:ext cx="345240" cy="339840"/>
              <a:chOff x="7575480" y="2944800"/>
              <a:chExt cx="345240" cy="339840"/>
            </a:xfrm>
          </p:grpSpPr>
          <p:sp>
            <p:nvSpPr>
              <p:cNvPr id="1194" name=""/>
              <p:cNvSpPr/>
              <p:nvPr/>
            </p:nvSpPr>
            <p:spPr>
              <a:xfrm>
                <a:off x="7575480" y="3138480"/>
                <a:ext cx="312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86280" y="294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39920" y="3009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94000" y="3132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700400" y="3009960"/>
                <a:ext cx="220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06800" y="3116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710120" y="3116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497640" y="1525680"/>
              <a:ext cx="0" cy="33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667200" y="1565280"/>
              <a:ext cx="813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&gt;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 min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6456240" y="1963800"/>
              <a:ext cx="0" cy="4044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65720" y="3646440"/>
              <a:ext cx="11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7534440" y="2684520"/>
              <a:ext cx="0" cy="3340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57800" y="1509840"/>
              <a:ext cx="236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1944720" y="1768320"/>
                <a:ext cx="2139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1881360" y="2492280"/>
                <a:ext cx="3382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1957320" y="3514680"/>
                <a:ext cx="3282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2030400" y="4573440"/>
                <a:ext cx="4411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1" name=""/>
          <p:cNvSpPr/>
          <p:nvPr/>
        </p:nvSpPr>
        <p:spPr>
          <a:xfrm>
            <a:off x="0" y="24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1424160" y="909720"/>
            <a:ext cx="6508440" cy="5724360"/>
            <a:chOff x="1424160" y="909720"/>
            <a:chExt cx="6508440" cy="5724360"/>
          </a:xfrm>
        </p:grpSpPr>
        <p:grpSp>
          <p:nvGrpSpPr>
            <p:cNvPr id="1214" name=""/>
            <p:cNvGrpSpPr/>
            <p:nvPr/>
          </p:nvGrpSpPr>
          <p:grpSpPr>
            <a:xfrm>
              <a:off x="1424160" y="909720"/>
              <a:ext cx="6508440" cy="5724360"/>
              <a:chOff x="1424160" y="909720"/>
              <a:chExt cx="6508440" cy="5724360"/>
            </a:xfrm>
          </p:grpSpPr>
          <p:graphicFrame>
            <p:nvGraphicFramePr>
              <p:cNvPr id="1215" name=""/>
              <p:cNvGraphicFramePr/>
              <p:nvPr/>
            </p:nvGraphicFramePr>
            <p:xfrm>
              <a:off x="1424160" y="909720"/>
              <a:ext cx="6508440" cy="5724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1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24160" y="909720"/>
                        <a:ext cx="6508440" cy="572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17" name=""/>
              <p:cNvSpPr/>
              <p:nvPr/>
            </p:nvSpPr>
            <p:spPr>
              <a:xfrm>
                <a:off x="3558240" y="1193760"/>
                <a:ext cx="147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órnik (O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 flipH="1">
              <a:off x="3105000" y="1447920"/>
              <a:ext cx="49536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857880" y="90504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regulacj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1357200" y="1357200"/>
                <a:ext cx="40910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1" name=""/>
          <p:cNvSpPr/>
          <p:nvPr/>
        </p:nvSpPr>
        <p:spPr>
          <a:xfrm>
            <a:off x="923040" y="24559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owane napięc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353960" y="3132000"/>
                <a:ext cx="6004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2446200" y="4122720"/>
                <a:ext cx="22431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4" name=""/>
          <p:cNvSpPr/>
          <p:nvPr/>
        </p:nvSpPr>
        <p:spPr>
          <a:xfrm>
            <a:off x="1392120" y="4095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993600" y="48182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2428920" y="5338800"/>
                <a:ext cx="1512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OC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JEDNOTRANZYS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160200" y="1200240"/>
            <a:ext cx="8664840" cy="5468760"/>
            <a:chOff x="160200" y="1200240"/>
            <a:chExt cx="8664840" cy="5468760"/>
          </a:xfrm>
        </p:grpSpPr>
        <p:sp>
          <p:nvSpPr>
            <p:cNvPr id="1230" name=""/>
            <p:cNvSpPr/>
            <p:nvPr/>
          </p:nvSpPr>
          <p:spPr>
            <a:xfrm>
              <a:off x="5326200" y="3548160"/>
              <a:ext cx="163440" cy="41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05400" y="3384720"/>
              <a:ext cx="180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405400" y="3954600"/>
              <a:ext cx="180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40400" y="363708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659200" y="3675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63600" y="3768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75040" y="3156120"/>
              <a:ext cx="471600" cy="47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192560" y="3259080"/>
              <a:ext cx="3240" cy="26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 flipV="1">
              <a:off x="3944880" y="3213000"/>
              <a:ext cx="2383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4033440" y="3422520"/>
              <a:ext cx="149400" cy="98640"/>
              <a:chOff x="4033440" y="3422520"/>
              <a:chExt cx="149400" cy="98640"/>
            </a:xfrm>
          </p:grpSpPr>
          <p:sp>
            <p:nvSpPr>
              <p:cNvPr id="1240" name=""/>
              <p:cNvSpPr/>
              <p:nvPr/>
            </p:nvSpPr>
            <p:spPr>
              <a:xfrm flipH="1">
                <a:off x="4033440" y="3446640"/>
                <a:ext cx="14940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033800" y="342252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73" h="62">
                    <a:moveTo>
                      <a:pt x="41" y="0"/>
                    </a:moveTo>
                    <a:lnTo>
                      <a:pt x="0" y="62"/>
                    </a:lnTo>
                    <a:lnTo>
                      <a:pt x="73" y="6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"/>
            <p:cNvSpPr/>
            <p:nvPr/>
          </p:nvSpPr>
          <p:spPr>
            <a:xfrm flipH="1">
              <a:off x="3944520" y="3521160"/>
              <a:ext cx="8892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192560" y="3394080"/>
              <a:ext cx="149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944880" y="3562200"/>
              <a:ext cx="468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3935520" y="3016080"/>
              <a:ext cx="468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4336920" y="3393720"/>
              <a:ext cx="1054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26200" y="2801880"/>
              <a:ext cx="163440" cy="419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405400" y="1596960"/>
              <a:ext cx="1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05400" y="321300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540400" y="289080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59200" y="29275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63600" y="3021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052800" y="1765440"/>
              <a:ext cx="158760" cy="420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132000" y="1606680"/>
              <a:ext cx="180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132000" y="217656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262320" y="185436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69960" y="1895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475440" y="198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41480" y="4454640"/>
              <a:ext cx="488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711600" y="15224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3812760" y="1844640"/>
              <a:ext cx="266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4019400" y="1596960"/>
              <a:ext cx="10188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3771720" y="1596960"/>
              <a:ext cx="11556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940200" y="1844640"/>
              <a:ext cx="14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1931760" y="1596960"/>
              <a:ext cx="1839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4130640" y="1591920"/>
              <a:ext cx="27511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3940200" y="1989000"/>
              <a:ext cx="144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127320" y="2367000"/>
              <a:ext cx="82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916440" y="4425840"/>
              <a:ext cx="6516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378400" y="4435560"/>
              <a:ext cx="6048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78400" y="3375000"/>
              <a:ext cx="604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69040" y="1563840"/>
              <a:ext cx="648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94200" y="156384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29560" y="1568520"/>
              <a:ext cx="6480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911760" y="2340000"/>
              <a:ext cx="6012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895400" y="4425840"/>
              <a:ext cx="651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895400" y="1563840"/>
              <a:ext cx="6516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5410080" y="3394080"/>
              <a:ext cx="793800" cy="9360"/>
              <a:chOff x="5410080" y="3394080"/>
              <a:chExt cx="793800" cy="9360"/>
            </a:xfrm>
          </p:grpSpPr>
          <p:sp>
            <p:nvSpPr>
              <p:cNvPr id="1279" name=""/>
              <p:cNvSpPr/>
              <p:nvPr/>
            </p:nvSpPr>
            <p:spPr>
              <a:xfrm>
                <a:off x="54100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4291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4482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4658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4849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5040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5227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5404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5594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5785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5976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61672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6340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6530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6721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69124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7085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7276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7466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7657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7834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8024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8212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8402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8579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770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960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151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3424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515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706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896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00876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0260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0451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642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8328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1009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1196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1387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1578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1754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1945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829560" y="4425840"/>
              <a:ext cx="6012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3" name=""/>
            <p:cNvGrpSpPr/>
            <p:nvPr/>
          </p:nvGrpSpPr>
          <p:grpSpPr>
            <a:xfrm>
              <a:off x="6013440" y="3506760"/>
              <a:ext cx="96840" cy="844560"/>
              <a:chOff x="6013440" y="3506760"/>
              <a:chExt cx="96840" cy="844560"/>
            </a:xfrm>
          </p:grpSpPr>
          <p:sp>
            <p:nvSpPr>
              <p:cNvPr id="1324" name=""/>
              <p:cNvSpPr/>
              <p:nvPr/>
            </p:nvSpPr>
            <p:spPr>
              <a:xfrm>
                <a:off x="6059520" y="3506760"/>
                <a:ext cx="468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013440" y="3506760"/>
                <a:ext cx="96840" cy="9828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6802560" y="1755720"/>
              <a:ext cx="96840" cy="2511360"/>
              <a:chOff x="6802560" y="1755720"/>
              <a:chExt cx="96840" cy="2511360"/>
            </a:xfrm>
          </p:grpSpPr>
          <p:sp>
            <p:nvSpPr>
              <p:cNvPr id="1327" name=""/>
              <p:cNvSpPr/>
              <p:nvPr/>
            </p:nvSpPr>
            <p:spPr>
              <a:xfrm>
                <a:off x="6848640" y="1755720"/>
                <a:ext cx="1440" cy="25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802560" y="1755720"/>
                <a:ext cx="96840" cy="9864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1886040" y="1755720"/>
              <a:ext cx="98280" cy="2511360"/>
              <a:chOff x="1886040" y="1755720"/>
              <a:chExt cx="98280" cy="2511360"/>
            </a:xfrm>
          </p:grpSpPr>
          <p:sp>
            <p:nvSpPr>
              <p:cNvPr id="1330" name=""/>
              <p:cNvSpPr/>
              <p:nvPr/>
            </p:nvSpPr>
            <p:spPr>
              <a:xfrm>
                <a:off x="1932120" y="1755720"/>
                <a:ext cx="1440" cy="25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886040" y="175572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3841920" y="4221000"/>
              <a:ext cx="191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3860640" y="4117680"/>
              <a:ext cx="6984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60640" y="4103640"/>
              <a:ext cx="185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46400" y="4146480"/>
              <a:ext cx="18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046400" y="4108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406680" y="4002120"/>
              <a:ext cx="34128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492720" y="40338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119640" y="3726000"/>
              <a:ext cx="3826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213960" y="374976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297840" y="38052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95400" y="38988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944880" y="4221000"/>
              <a:ext cx="468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4" name=""/>
            <p:cNvGrpSpPr/>
            <p:nvPr/>
          </p:nvGrpSpPr>
          <p:grpSpPr>
            <a:xfrm>
              <a:off x="3940200" y="3894120"/>
              <a:ext cx="644400" cy="14400"/>
              <a:chOff x="3940200" y="3894120"/>
              <a:chExt cx="644400" cy="14400"/>
            </a:xfrm>
          </p:grpSpPr>
          <p:sp>
            <p:nvSpPr>
              <p:cNvPr id="1345" name=""/>
              <p:cNvSpPr/>
              <p:nvPr/>
            </p:nvSpPr>
            <p:spPr>
              <a:xfrm>
                <a:off x="394020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95928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97656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99564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01472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03380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0514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0705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08924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10832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12596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1450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1641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18320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20048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21956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2577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27500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29408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31316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33224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351320" y="3898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3689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38768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40676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425840" y="3898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44348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4625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48164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50072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51800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53708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5561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57524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4187880" y="1765440"/>
              <a:ext cx="171360" cy="303120"/>
              <a:chOff x="4187880" y="1765440"/>
              <a:chExt cx="171360" cy="303120"/>
            </a:xfrm>
          </p:grpSpPr>
          <p:sp>
            <p:nvSpPr>
              <p:cNvPr id="1381" name=""/>
              <p:cNvSpPr/>
              <p:nvPr/>
            </p:nvSpPr>
            <p:spPr>
              <a:xfrm flipV="1">
                <a:off x="4187880" y="1765440"/>
                <a:ext cx="17136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187880" y="1955880"/>
                <a:ext cx="87120" cy="112680"/>
              </a:xfrm>
              <a:custGeom>
                <a:avLst/>
                <a:gdLst/>
                <a:ahLst/>
                <a:rect l="l" t="t" r="r" b="b"/>
                <a:pathLst>
                  <a:path w="55" h="71">
                    <a:moveTo>
                      <a:pt x="3" y="0"/>
                    </a:moveTo>
                    <a:lnTo>
                      <a:pt x="0" y="71"/>
                    </a:lnTo>
                    <a:lnTo>
                      <a:pt x="55" y="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4452840" y="4014720"/>
              <a:ext cx="98640" cy="355680"/>
              <a:chOff x="4452840" y="4014720"/>
              <a:chExt cx="98640" cy="355680"/>
            </a:xfrm>
          </p:grpSpPr>
          <p:sp>
            <p:nvSpPr>
              <p:cNvPr id="1384" name=""/>
              <p:cNvSpPr/>
              <p:nvPr/>
            </p:nvSpPr>
            <p:spPr>
              <a:xfrm>
                <a:off x="4500720" y="4014720"/>
                <a:ext cx="144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452840" y="401472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62"/>
                    </a:moveTo>
                    <a:lnTo>
                      <a:pt x="30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1554120" y="2936880"/>
              <a:ext cx="3780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648080" y="2970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3000" y="30621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383000" y="1863720"/>
              <a:ext cx="4302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455000" y="18954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9200" y="1989000"/>
              <a:ext cx="220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589640" y="4048200"/>
              <a:ext cx="339480" cy="2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688280" y="4081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10680" y="417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23160" y="2922480"/>
              <a:ext cx="411120" cy="2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031520" y="29559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154640" y="30495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72080" y="120024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123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85560" y="13255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78320" y="3287880"/>
              <a:ext cx="3394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603960" y="3319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695040" y="3413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3954240" y="4117680"/>
              <a:ext cx="7452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3995640" y="1676160"/>
              <a:ext cx="98640" cy="144360"/>
              <a:chOff x="3995640" y="1676160"/>
              <a:chExt cx="98640" cy="144360"/>
            </a:xfrm>
          </p:grpSpPr>
          <p:sp>
            <p:nvSpPr>
              <p:cNvPr id="1406" name=""/>
              <p:cNvSpPr/>
              <p:nvPr/>
            </p:nvSpPr>
            <p:spPr>
              <a:xfrm flipV="1">
                <a:off x="4019400" y="167616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995640" y="167652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08" name=""/>
                <p:cNvSpPr txBox="1"/>
                <p:nvPr/>
              </p:nvSpPr>
              <p:spPr>
                <a:xfrm>
                  <a:off x="190440" y="4600440"/>
                  <a:ext cx="446580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9" name=""/>
                <p:cNvSpPr txBox="1"/>
                <p:nvPr/>
              </p:nvSpPr>
              <p:spPr>
                <a:xfrm>
                  <a:off x="511200" y="5870520"/>
                  <a:ext cx="316404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410" name=""/>
            <p:cNvGrpSpPr/>
            <p:nvPr/>
          </p:nvGrpSpPr>
          <p:grpSpPr>
            <a:xfrm>
              <a:off x="4440240" y="2687760"/>
              <a:ext cx="76320" cy="304560"/>
              <a:chOff x="4440240" y="2687760"/>
              <a:chExt cx="76320" cy="304560"/>
            </a:xfrm>
          </p:grpSpPr>
          <p:sp>
            <p:nvSpPr>
              <p:cNvPr id="1411" name=""/>
              <p:cNvSpPr/>
              <p:nvPr/>
            </p:nvSpPr>
            <p:spPr>
              <a:xfrm>
                <a:off x="4440240" y="26877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516560" y="26877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3933720" y="2822400"/>
              <a:ext cx="4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514760" y="282888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753080" y="281952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4640" y="278136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724280" y="336240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419000" y="2389320"/>
              <a:ext cx="347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4083120" y="3451320"/>
              <a:ext cx="43344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31960" y="3530520"/>
              <a:ext cx="53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27600">
              <a:off x="1160640" y="4500360"/>
              <a:ext cx="1974600" cy="97632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2" name=""/>
            <p:cNvGrpSpPr/>
            <p:nvPr/>
          </p:nvGrpSpPr>
          <p:grpSpPr>
            <a:xfrm>
              <a:off x="4849920" y="4654440"/>
              <a:ext cx="3975120" cy="1334880"/>
              <a:chOff x="4849920" y="4654440"/>
              <a:chExt cx="3975120" cy="1334880"/>
            </a:xfrm>
          </p:grpSpPr>
          <mc:AlternateContent>
            <mc:Choice xmlns:a14="http://schemas.microsoft.com/office/drawing/2010/main" Requires="a14">
              <p:sp>
                <p:nvSpPr>
                  <p:cNvPr id="1423" name=""/>
                  <p:cNvSpPr txBox="1"/>
                  <p:nvPr/>
                </p:nvSpPr>
                <p:spPr>
                  <a:xfrm>
                    <a:off x="4989960" y="4778280"/>
                    <a:ext cx="852480" cy="439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4" name=""/>
              <p:cNvSpPr/>
              <p:nvPr/>
            </p:nvSpPr>
            <p:spPr>
              <a:xfrm>
                <a:off x="5364360" y="4809960"/>
                <a:ext cx="346068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zmocnienie 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ako wzmacniacz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rądu stałeg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849920" y="4654440"/>
                <a:ext cx="3265560" cy="1334880"/>
              </a:xfrm>
              <a:prstGeom prst="rect">
                <a:avLst/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6" name=""/>
            <p:cNvSpPr/>
            <p:nvPr/>
          </p:nvSpPr>
          <p:spPr>
            <a:xfrm>
              <a:off x="4345200" y="6056280"/>
              <a:ext cx="23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la dużego 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2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3935520" y="63104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38480" y="3699000"/>
              <a:ext cx="1844640" cy="792000"/>
            </a:xfrm>
            <a:custGeom>
              <a:avLst/>
              <a:gdLst/>
              <a:ahLst/>
              <a:rect l="l" t="t" r="r" b="b"/>
              <a:pathLst>
                <a:path w="1123" h="398">
                  <a:moveTo>
                    <a:pt x="0" y="398"/>
                  </a:moveTo>
                  <a:cubicBezTo>
                    <a:pt x="156" y="275"/>
                    <a:pt x="312" y="152"/>
                    <a:pt x="499" y="86"/>
                  </a:cubicBezTo>
                  <a:cubicBezTo>
                    <a:pt x="686" y="20"/>
                    <a:pt x="904" y="10"/>
                    <a:pt x="1123" y="0"/>
                  </a:cubicBezTo>
                </a:path>
              </a:pathLst>
            </a:custGeom>
            <a:noFill/>
            <a:ln w="936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0200" y="4267080"/>
              <a:ext cx="3216240" cy="1535400"/>
            </a:xfrm>
            <a:prstGeom prst="ellipse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460520" y="2498760"/>
              <a:ext cx="2374920" cy="1770120"/>
            </a:xfrm>
            <a:custGeom>
              <a:avLst/>
              <a:gdLst/>
              <a:ahLst/>
              <a:rect l="l" t="t" r="r" b="b"/>
              <a:pathLst>
                <a:path w="1496" h="1115">
                  <a:moveTo>
                    <a:pt x="0" y="1115"/>
                  </a:moveTo>
                  <a:cubicBezTo>
                    <a:pt x="125" y="904"/>
                    <a:pt x="251" y="694"/>
                    <a:pt x="366" y="546"/>
                  </a:cubicBezTo>
                  <a:cubicBezTo>
                    <a:pt x="481" y="398"/>
                    <a:pt x="505" y="317"/>
                    <a:pt x="693" y="226"/>
                  </a:cubicBezTo>
                  <a:cubicBezTo>
                    <a:pt x="881" y="135"/>
                    <a:pt x="1188" y="67"/>
                    <a:pt x="1496" y="0"/>
                  </a:cubicBezTo>
                </a:path>
              </a:pathLst>
            </a:custGeom>
            <a:noFill/>
            <a:ln w="12600">
              <a:solidFill>
                <a:srgbClr val="0099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OPERACYJ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054840" y="4124160"/>
            <a:ext cx="183960" cy="4716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143760" y="39402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143760" y="4584600"/>
            <a:ext cx="1440" cy="565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297480" y="422604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381360" y="4267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519600" y="4373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 flipV="1">
            <a:off x="5179680" y="3987720"/>
            <a:ext cx="9478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054840" y="3279600"/>
            <a:ext cx="183960" cy="4748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43760" y="1914480"/>
            <a:ext cx="1440" cy="1381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143760" y="3745080"/>
            <a:ext cx="1440" cy="231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297480" y="3379680"/>
            <a:ext cx="38592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381360" y="3421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519600" y="3527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573880" y="284652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259080" y="222408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763640" y="5167440"/>
            <a:ext cx="5533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67040" y="1847880"/>
            <a:ext cx="538200" cy="533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82960" y="2212920"/>
            <a:ext cx="3016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4114800" y="1932120"/>
            <a:ext cx="1173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835440" y="1932120"/>
            <a:ext cx="1317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025880" y="2212920"/>
            <a:ext cx="1440" cy="163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1752480" y="1932120"/>
            <a:ext cx="2082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241880" y="1927080"/>
            <a:ext cx="311472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4025880" y="2376000"/>
            <a:ext cx="1440" cy="1189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603760" y="5135400"/>
            <a:ext cx="74880" cy="637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111720" y="5129280"/>
            <a:ext cx="6984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111720" y="3929040"/>
            <a:ext cx="6984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102360" y="1878120"/>
            <a:ext cx="7308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640480" y="1905120"/>
            <a:ext cx="6804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297560" y="1900080"/>
            <a:ext cx="7488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09640" y="5135400"/>
            <a:ext cx="7488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709640" y="1895400"/>
            <a:ext cx="74880" cy="684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6149880" y="3949560"/>
            <a:ext cx="898560" cy="11160"/>
            <a:chOff x="6149880" y="3949560"/>
            <a:chExt cx="898560" cy="11160"/>
          </a:xfrm>
        </p:grpSpPr>
        <p:sp>
          <p:nvSpPr>
            <p:cNvPr id="1465" name=""/>
            <p:cNvSpPr/>
            <p:nvPr/>
          </p:nvSpPr>
          <p:spPr>
            <a:xfrm>
              <a:off x="61498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1704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19128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132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341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546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69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974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180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34032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360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381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4022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4245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450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465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48792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08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293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55164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5721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5926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61500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6355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65640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67836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69924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7197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7420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762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7831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054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259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46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6880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896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9102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930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9530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739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94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167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0372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7297560" y="5135400"/>
            <a:ext cx="6840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6831000" y="4076640"/>
            <a:ext cx="110880" cy="957240"/>
            <a:chOff x="6831000" y="4076640"/>
            <a:chExt cx="110880" cy="957240"/>
          </a:xfrm>
        </p:grpSpPr>
        <p:sp>
          <p:nvSpPr>
            <p:cNvPr id="1510" name=""/>
            <p:cNvSpPr/>
            <p:nvPr/>
          </p:nvSpPr>
          <p:spPr>
            <a:xfrm>
              <a:off x="6883200" y="4076640"/>
              <a:ext cx="648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31000" y="407664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265880" y="2112840"/>
            <a:ext cx="111240" cy="2843280"/>
            <a:chOff x="7265880" y="2112840"/>
            <a:chExt cx="111240" cy="2843280"/>
          </a:xfrm>
        </p:grpSpPr>
        <p:sp>
          <p:nvSpPr>
            <p:cNvPr id="1513" name=""/>
            <p:cNvSpPr/>
            <p:nvPr/>
          </p:nvSpPr>
          <p:spPr>
            <a:xfrm>
              <a:off x="7318440" y="2112840"/>
              <a:ext cx="144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265880" y="211284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700280" y="2112840"/>
            <a:ext cx="110880" cy="2843280"/>
            <a:chOff x="1700280" y="2112840"/>
            <a:chExt cx="110880" cy="2843280"/>
          </a:xfrm>
        </p:grpSpPr>
        <p:sp>
          <p:nvSpPr>
            <p:cNvPr id="1516" name=""/>
            <p:cNvSpPr/>
            <p:nvPr/>
          </p:nvSpPr>
          <p:spPr>
            <a:xfrm>
              <a:off x="1752480" y="2112840"/>
              <a:ext cx="180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700280" y="2112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5519880" y="4903920"/>
            <a:ext cx="215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5540400" y="4788000"/>
            <a:ext cx="7920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40400" y="4772160"/>
            <a:ext cx="210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751360" y="4819680"/>
            <a:ext cx="180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751360" y="4776840"/>
            <a:ext cx="180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027760" y="4654440"/>
            <a:ext cx="385560" cy="3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075280" y="46926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953400" y="4325760"/>
            <a:ext cx="433080" cy="401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973560" y="4352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105680" y="4416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264080" y="45212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635800" y="4903920"/>
            <a:ext cx="468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4305240" y="2122200"/>
            <a:ext cx="195480" cy="344880"/>
            <a:chOff x="4305240" y="2122200"/>
            <a:chExt cx="195480" cy="344880"/>
          </a:xfrm>
        </p:grpSpPr>
        <p:sp>
          <p:nvSpPr>
            <p:cNvPr id="1531" name=""/>
            <p:cNvSpPr/>
            <p:nvPr/>
          </p:nvSpPr>
          <p:spPr>
            <a:xfrm flipV="1">
              <a:off x="4305240" y="2122200"/>
              <a:ext cx="19548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305240" y="23400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4" y="0"/>
                  </a:moveTo>
                  <a:lnTo>
                    <a:pt x="0" y="80"/>
                  </a:lnTo>
                  <a:lnTo>
                    <a:pt x="64" y="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783400" y="4641840"/>
            <a:ext cx="110880" cy="401760"/>
            <a:chOff x="5783400" y="4641840"/>
            <a:chExt cx="110880" cy="401760"/>
          </a:xfrm>
        </p:grpSpPr>
        <p:sp>
          <p:nvSpPr>
            <p:cNvPr id="1534" name=""/>
            <p:cNvSpPr/>
            <p:nvPr/>
          </p:nvSpPr>
          <p:spPr>
            <a:xfrm>
              <a:off x="5835600" y="4641840"/>
              <a:ext cx="1080" cy="401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783400" y="4641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1324080" y="3449520"/>
            <a:ext cx="42840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427040" y="3486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582200" y="359244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527720" y="2233440"/>
            <a:ext cx="48564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603680" y="227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3880" y="237636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65880" y="4708440"/>
            <a:ext cx="385920" cy="31752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886360" y="4782960"/>
            <a:ext cx="5479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402680" y="3433680"/>
            <a:ext cx="466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521480" y="3470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676640" y="357660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35440" y="1482840"/>
            <a:ext cx="385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970800" y="1521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082400" y="1625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 flipV="1">
            <a:off x="5646600" y="4788000"/>
            <a:ext cx="8424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4089240" y="2022480"/>
            <a:ext cx="111240" cy="163440"/>
            <a:chOff x="4089240" y="2022480"/>
            <a:chExt cx="111240" cy="163440"/>
          </a:xfrm>
        </p:grpSpPr>
        <p:sp>
          <p:nvSpPr>
            <p:cNvPr id="1552" name=""/>
            <p:cNvSpPr/>
            <p:nvPr/>
          </p:nvSpPr>
          <p:spPr>
            <a:xfrm flipV="1">
              <a:off x="4114800" y="2022480"/>
              <a:ext cx="79200" cy="163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089240" y="202248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70" y="83"/>
                  </a:moveTo>
                  <a:lnTo>
                    <a:pt x="66" y="0"/>
                  </a:lnTo>
                  <a:lnTo>
                    <a:pt x="0" y="5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4375080" y="3792600"/>
            <a:ext cx="811440" cy="722160"/>
          </a:xfrm>
          <a:custGeom>
            <a:avLst/>
            <a:gdLst/>
            <a:ahLst/>
            <a:rect l="l" t="t" r="r" b="b"/>
            <a:pathLst>
              <a:path w="400" h="455">
                <a:moveTo>
                  <a:pt x="400" y="0"/>
                </a:moveTo>
                <a:lnTo>
                  <a:pt x="400" y="455"/>
                </a:lnTo>
                <a:lnTo>
                  <a:pt x="0" y="255"/>
                </a:lnTo>
                <a:lnTo>
                  <a:pt x="40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5648400" y="33332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5181120" y="43815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930480" y="3575160"/>
            <a:ext cx="184320" cy="4744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029120" y="40482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038480" y="42102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57560" y="378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929120" y="417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5657760" y="1924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611680" y="4343400"/>
            <a:ext cx="6840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344040" y="35956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998960" y="2862360"/>
            <a:ext cx="54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762800" y="397656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2608200" y="5446800"/>
                <a:ext cx="31672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016080" y="2714760"/>
            <a:ext cx="1498680" cy="128736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121200" y="1779480"/>
            <a:ext cx="84744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562040" y="1790640"/>
            <a:ext cx="84780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968640" y="19033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903920" y="19033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4514400" y="33847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416320" y="19033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2839680" y="303048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2820960" y="1903320"/>
            <a:ext cx="0" cy="11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309760" y="4583160"/>
            <a:ext cx="600120" cy="565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2610000" y="4706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2644560" y="366696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627280" y="3666960"/>
            <a:ext cx="0" cy="9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610000" y="5148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03440" y="54831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1287360" y="192096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270080" y="177948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763720" y="187020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869000" y="3346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445920" y="3132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048120" y="27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7400" y="346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076200" y="452592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6012000" y="2990880"/>
                <a:ext cx="22968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484640" y="11397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329280" y="1204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528920" y="583416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jemne sprzężenie zwrotne jest bardzo sil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48040" y="987480"/>
            <a:ext cx="10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171880" y="1876320"/>
                <a:ext cx="1312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326200" y="33195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405400" y="31561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5398920" y="3726000"/>
            <a:ext cx="648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540400" y="34084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659200" y="344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763600" y="3540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875040" y="29275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192560" y="30304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 flipV="1">
            <a:off x="3944880" y="29844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4033440" y="3193920"/>
            <a:ext cx="149400" cy="98640"/>
            <a:chOff x="4033440" y="3193920"/>
            <a:chExt cx="149400" cy="98640"/>
          </a:xfrm>
        </p:grpSpPr>
        <p:sp>
          <p:nvSpPr>
            <p:cNvPr id="1637" name=""/>
            <p:cNvSpPr/>
            <p:nvPr/>
          </p:nvSpPr>
          <p:spPr>
            <a:xfrm flipH="1">
              <a:off x="4033440" y="32180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033800" y="31939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 flipH="1">
            <a:off x="3944520" y="32925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192560" y="31654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944880" y="33336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3935520" y="27874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 flipV="1">
            <a:off x="4336920" y="31651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326200" y="25732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405400" y="1368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405400" y="29844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540400" y="26622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659200" y="2698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763600" y="27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052800" y="15368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32000" y="13780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132000" y="19479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262320" y="16257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369960" y="1666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475440" y="1760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941480" y="42260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711600" y="12938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812760" y="16160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4019400" y="13683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 flipV="1">
            <a:off x="3771720" y="13683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940200" y="16160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1931760" y="13683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4130640" y="13633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3940200" y="17604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127320" y="21384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378400" y="31464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369040" y="13352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94200" y="13352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829560" y="13399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911760" y="21114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895400" y="41972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95400" y="13352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5410080" y="3165480"/>
            <a:ext cx="793800" cy="9360"/>
            <a:chOff x="5410080" y="3165480"/>
            <a:chExt cx="793800" cy="9360"/>
          </a:xfrm>
        </p:grpSpPr>
        <p:sp>
          <p:nvSpPr>
            <p:cNvPr id="1674" name=""/>
            <p:cNvSpPr/>
            <p:nvPr/>
          </p:nvSpPr>
          <p:spPr>
            <a:xfrm>
              <a:off x="54100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4291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4482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658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4849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5040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522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540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559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5785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5976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61672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6340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653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72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91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708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276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7466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765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783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02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821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8402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57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8770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896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915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34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951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9706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9896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00876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260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0451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064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08328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00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196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1387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1578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1754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1945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7" name=""/>
          <p:cNvSpPr/>
          <p:nvPr/>
        </p:nvSpPr>
        <p:spPr>
          <a:xfrm>
            <a:off x="6829560" y="41972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6802560" y="1527120"/>
            <a:ext cx="96840" cy="2511360"/>
            <a:chOff x="6802560" y="1527120"/>
            <a:chExt cx="96840" cy="2511360"/>
          </a:xfrm>
        </p:grpSpPr>
        <p:sp>
          <p:nvSpPr>
            <p:cNvPr id="1719" name=""/>
            <p:cNvSpPr/>
            <p:nvPr/>
          </p:nvSpPr>
          <p:spPr>
            <a:xfrm>
              <a:off x="684864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802560" y="15271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1886040" y="1527120"/>
            <a:ext cx="98280" cy="2511360"/>
            <a:chOff x="1886040" y="1527120"/>
            <a:chExt cx="98280" cy="2511360"/>
          </a:xfrm>
        </p:grpSpPr>
        <p:sp>
          <p:nvSpPr>
            <p:cNvPr id="1722" name=""/>
            <p:cNvSpPr/>
            <p:nvPr/>
          </p:nvSpPr>
          <p:spPr>
            <a:xfrm>
              <a:off x="193212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886040" y="15271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4" name=""/>
          <p:cNvSpPr/>
          <p:nvPr/>
        </p:nvSpPr>
        <p:spPr>
          <a:xfrm>
            <a:off x="3841920" y="39924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3860640" y="38890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60640" y="38750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046400" y="39178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046400" y="38797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406680" y="37735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492720" y="38052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119640" y="34974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213960" y="35211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254640" y="3576600"/>
            <a:ext cx="1033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3940200" y="3665520"/>
            <a:ext cx="644400" cy="14400"/>
            <a:chOff x="3940200" y="3665520"/>
            <a:chExt cx="644400" cy="14400"/>
          </a:xfrm>
        </p:grpSpPr>
        <p:sp>
          <p:nvSpPr>
            <p:cNvPr id="1735" name=""/>
            <p:cNvSpPr/>
            <p:nvPr/>
          </p:nvSpPr>
          <p:spPr>
            <a:xfrm>
              <a:off x="3940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5928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76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956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1472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3380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514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05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0892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10832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12596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1450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1641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183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20048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219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2386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2577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275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2940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3131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33224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5132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3689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876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067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42584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4434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4625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4816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50072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518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5370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561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5752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4187880" y="1536840"/>
            <a:ext cx="171360" cy="303120"/>
            <a:chOff x="4187880" y="1536840"/>
            <a:chExt cx="171360" cy="303120"/>
          </a:xfrm>
        </p:grpSpPr>
        <p:sp>
          <p:nvSpPr>
            <p:cNvPr id="1771" name=""/>
            <p:cNvSpPr/>
            <p:nvPr/>
          </p:nvSpPr>
          <p:spPr>
            <a:xfrm flipV="1">
              <a:off x="4187880" y="15368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187880" y="17272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3" name=""/>
          <p:cNvSpPr/>
          <p:nvPr/>
        </p:nvSpPr>
        <p:spPr>
          <a:xfrm>
            <a:off x="1554120" y="27082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48080" y="27417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773000" y="28335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383000" y="16351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455000" y="1666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579200" y="17604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589640" y="38196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318200" y="434808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923160" y="26938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031520" y="2727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154640" y="28209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772080" y="9716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893040" y="1004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85560" y="1096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478320" y="30592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603960" y="3090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695040" y="3184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3954240" y="38890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3995640" y="1447560"/>
            <a:ext cx="98640" cy="144360"/>
            <a:chOff x="3995640" y="1447560"/>
            <a:chExt cx="98640" cy="144360"/>
          </a:xfrm>
        </p:grpSpPr>
        <p:sp>
          <p:nvSpPr>
            <p:cNvPr id="1792" name=""/>
            <p:cNvSpPr/>
            <p:nvPr/>
          </p:nvSpPr>
          <p:spPr>
            <a:xfrm flipV="1">
              <a:off x="4019400" y="14475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995640" y="1447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4" name=""/>
          <p:cNvSpPr/>
          <p:nvPr/>
        </p:nvSpPr>
        <p:spPr>
          <a:xfrm>
            <a:off x="3943440" y="399096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790720" y="4362480"/>
            <a:ext cx="371520" cy="352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2981160" y="44481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971800" y="4219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971800" y="47149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971800" y="4848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951280" y="42116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913200" y="48020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297520" y="437688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5962680" y="328572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4257720" y="37036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063960" y="5110200"/>
            <a:ext cx="27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wyjś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2200320" y="5656320"/>
                <a:ext cx="46767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8" name=""/>
              <p:cNvSpPr txBox="1"/>
              <p:nvPr/>
            </p:nvSpPr>
            <p:spPr>
              <a:xfrm>
                <a:off x="3135240" y="5472000"/>
                <a:ext cx="25718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9" name=""/>
          <p:cNvGrpSpPr/>
          <p:nvPr/>
        </p:nvGrpSpPr>
        <p:grpSpPr>
          <a:xfrm>
            <a:off x="567360" y="1180800"/>
            <a:ext cx="7044480" cy="4264200"/>
            <a:chOff x="567360" y="1180800"/>
            <a:chExt cx="7044480" cy="4264200"/>
          </a:xfrm>
        </p:grpSpPr>
        <p:sp>
          <p:nvSpPr>
            <p:cNvPr id="1810" name=""/>
            <p:cNvSpPr/>
            <p:nvPr/>
          </p:nvSpPr>
          <p:spPr>
            <a:xfrm flipH="1">
              <a:off x="1285560" y="197316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5648400" y="2147760"/>
              <a:ext cx="547560" cy="495360"/>
              <a:chOff x="5648400" y="2147760"/>
              <a:chExt cx="547560" cy="495360"/>
            </a:xfrm>
          </p:grpSpPr>
          <p:sp>
            <p:nvSpPr>
              <p:cNvPr id="1812" name=""/>
              <p:cNvSpPr/>
              <p:nvPr/>
            </p:nvSpPr>
            <p:spPr>
              <a:xfrm flipV="1">
                <a:off x="5648400" y="214776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922360" y="22870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4" name=""/>
            <p:cNvSpPr/>
            <p:nvPr/>
          </p:nvSpPr>
          <p:spPr>
            <a:xfrm flipH="1">
              <a:off x="2627280" y="355932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78152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3015720" y="2909880"/>
              <a:ext cx="1498680" cy="1287360"/>
              <a:chOff x="3015720" y="2909880"/>
              <a:chExt cx="1498680" cy="1287360"/>
            </a:xfrm>
          </p:grpSpPr>
          <p:sp>
            <p:nvSpPr>
              <p:cNvPr id="1817" name=""/>
              <p:cNvSpPr/>
              <p:nvPr/>
            </p:nvSpPr>
            <p:spPr>
              <a:xfrm flipH="1">
                <a:off x="3015360" y="2909880"/>
                <a:ext cx="1498680" cy="1287360"/>
              </a:xfrm>
              <a:custGeom>
                <a:avLst/>
                <a:gdLst/>
                <a:ahLst/>
                <a:rect l="l" t="t" r="r" b="b"/>
                <a:pathLst>
                  <a:path w="944" h="811">
                    <a:moveTo>
                      <a:pt x="0" y="0"/>
                    </a:moveTo>
                    <a:lnTo>
                      <a:pt x="0" y="811"/>
                    </a:lnTo>
                    <a:lnTo>
                      <a:pt x="944" y="4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3494520" y="3376440"/>
                <a:ext cx="41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>
                <a:off x="3079800" y="30524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3074400" y="371160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6283800" y="21574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5964120" y="357480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981760" y="5164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40280" y="544500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16200000">
              <a:off x="5931000" y="38746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190840" y="4815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56000" y="2970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8" name=""/>
            <p:cNvGrpSpPr/>
            <p:nvPr/>
          </p:nvGrpSpPr>
          <p:grpSpPr>
            <a:xfrm>
              <a:off x="2368440" y="1552680"/>
              <a:ext cx="476280" cy="793800"/>
              <a:chOff x="2368440" y="1552680"/>
              <a:chExt cx="476280" cy="793800"/>
            </a:xfrm>
          </p:grpSpPr>
          <p:sp>
            <p:nvSpPr>
              <p:cNvPr id="1829" name=""/>
              <p:cNvSpPr/>
              <p:nvPr/>
            </p:nvSpPr>
            <p:spPr>
              <a:xfrm>
                <a:off x="2368440" y="187488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2469600" y="219708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2676600" y="194940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 flipV="1">
                <a:off x="2428920" y="194940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597040" y="219708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428920" y="155268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507760" y="1585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615400" y="1677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7" name=""/>
              <p:cNvGrpSpPr/>
              <p:nvPr/>
            </p:nvGrpSpPr>
            <p:grpSpPr>
              <a:xfrm>
                <a:off x="2652480" y="2028600"/>
                <a:ext cx="98640" cy="144360"/>
                <a:chOff x="2652480" y="2028600"/>
                <a:chExt cx="98640" cy="144360"/>
              </a:xfrm>
            </p:grpSpPr>
            <p:sp>
              <p:nvSpPr>
                <p:cNvPr id="1838" name=""/>
                <p:cNvSpPr/>
                <p:nvPr/>
              </p:nvSpPr>
              <p:spPr>
                <a:xfrm flipV="1">
                  <a:off x="2676240" y="202860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2652480" y="202896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0" name=""/>
            <p:cNvSpPr/>
            <p:nvPr/>
          </p:nvSpPr>
          <p:spPr>
            <a:xfrm>
              <a:off x="2787480" y="195588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4533480" y="391320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799160" y="1955880"/>
              <a:ext cx="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4498920" y="32608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927760" y="195588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5945040" y="2625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rot="16200000">
              <a:off x="2324520" y="298512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2629080" y="3401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2593800" y="234288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16200000">
              <a:off x="5669280" y="472500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16200000">
              <a:off x="5645880" y="31658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6986520" y="2112840"/>
              <a:ext cx="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097400" y="3041640"/>
              <a:ext cx="51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67360" y="17892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896080" y="190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5" name=""/>
            <p:cNvGrpSpPr/>
            <p:nvPr/>
          </p:nvGrpSpPr>
          <p:grpSpPr>
            <a:xfrm>
              <a:off x="3790800" y="1371600"/>
              <a:ext cx="371520" cy="343080"/>
              <a:chOff x="3790800" y="1371600"/>
              <a:chExt cx="371520" cy="343080"/>
            </a:xfrm>
          </p:grpSpPr>
          <p:sp>
            <p:nvSpPr>
              <p:cNvPr id="1856" name=""/>
              <p:cNvSpPr/>
              <p:nvPr/>
            </p:nvSpPr>
            <p:spPr>
              <a:xfrm>
                <a:off x="3790800" y="137160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V="1">
                <a:off x="3981600" y="142884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3790800" y="2143080"/>
              <a:ext cx="371520" cy="343080"/>
              <a:chOff x="3790800" y="2143080"/>
              <a:chExt cx="371520" cy="343080"/>
            </a:xfrm>
          </p:grpSpPr>
          <p:sp>
            <p:nvSpPr>
              <p:cNvPr id="1859" name=""/>
              <p:cNvSpPr/>
              <p:nvPr/>
            </p:nvSpPr>
            <p:spPr>
              <a:xfrm>
                <a:off x="3790800" y="214308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V="1">
                <a:off x="3981600" y="220032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3971880" y="1714680"/>
              <a:ext cx="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4344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981600" y="2495520"/>
              <a:ext cx="0" cy="638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971880" y="3971880"/>
              <a:ext cx="0" cy="5526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1857240" y="4524480"/>
              <a:ext cx="21146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1847880" y="1180800"/>
              <a:ext cx="0" cy="3352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847880" y="1181160"/>
              <a:ext cx="21430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990960" y="1181160"/>
              <a:ext cx="0" cy="190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222080" y="13190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79320" y="210996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80880" y="1371600"/>
          <a:ext cx="8382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382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17520" y="1746360"/>
            <a:ext cx="13939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93640" y="1158840"/>
            <a:ext cx="89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-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6880" y="3484440"/>
            <a:ext cx="17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str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-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1320" y="4702320"/>
            <a:ext cx="42498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ów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 uwzględniać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widywaną temperaturę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54468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A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CZANIE PRĄDU WY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3" name=""/>
          <p:cNvGraphicFramePr/>
          <p:nvPr/>
        </p:nvGraphicFramePr>
        <p:xfrm>
          <a:off x="1347840" y="905040"/>
          <a:ext cx="722952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905040"/>
                    <a:ext cx="722952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5245200" y="2913120"/>
                <a:ext cx="26701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6" name=""/>
          <p:cNvSpPr/>
          <p:nvPr/>
        </p:nvSpPr>
        <p:spPr>
          <a:xfrm>
            <a:off x="2099520" y="3851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c st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7" name=""/>
          <p:cNvGraphicFramePr/>
          <p:nvPr/>
        </p:nvGraphicFramePr>
        <p:xfrm>
          <a:off x="1019160" y="905040"/>
          <a:ext cx="7327800" cy="55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905040"/>
                    <a:ext cx="7327800" cy="55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E TYPU Fold-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703440" y="19209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4951440" y="4552920"/>
            <a:ext cx="547560" cy="495360"/>
            <a:chOff x="4951440" y="4552920"/>
            <a:chExt cx="547560" cy="495360"/>
          </a:xfrm>
        </p:grpSpPr>
        <p:sp>
          <p:nvSpPr>
            <p:cNvPr id="1883" name=""/>
            <p:cNvSpPr/>
            <p:nvPr/>
          </p:nvSpPr>
          <p:spPr>
            <a:xfrm>
              <a:off x="4951440" y="4552920"/>
              <a:ext cx="547560" cy="495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5225400" y="46612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 flipH="1">
            <a:off x="2997360" y="35067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H="1">
            <a:off x="3394800" y="2876400"/>
            <a:ext cx="1498680" cy="128772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>
            <a:off x="4002480" y="3294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619880" y="3567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459324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419360" y="461808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6334200" y="352224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351480" y="511164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208560" y="565632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rot="16200000">
            <a:off x="6300720" y="3822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686920" y="4608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628240" y="2868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2738520" y="1500120"/>
            <a:ext cx="476280" cy="793800"/>
            <a:chOff x="2738520" y="1500120"/>
            <a:chExt cx="476280" cy="793800"/>
          </a:xfrm>
        </p:grpSpPr>
        <p:sp>
          <p:nvSpPr>
            <p:cNvPr id="1898" name=""/>
            <p:cNvSpPr/>
            <p:nvPr/>
          </p:nvSpPr>
          <p:spPr>
            <a:xfrm>
              <a:off x="2738520" y="182232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2839680" y="2144520"/>
              <a:ext cx="266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3046680" y="1896840"/>
              <a:ext cx="1015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 flipV="1">
              <a:off x="2799000" y="1896840"/>
              <a:ext cx="1159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67120" y="2144520"/>
              <a:ext cx="18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99000" y="150012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77840" y="1533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85480" y="1625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6" name=""/>
            <p:cNvGrpSpPr/>
            <p:nvPr/>
          </p:nvGrpSpPr>
          <p:grpSpPr>
            <a:xfrm>
              <a:off x="3022560" y="1976040"/>
              <a:ext cx="98640" cy="144360"/>
              <a:chOff x="3022560" y="1976040"/>
              <a:chExt cx="98640" cy="144360"/>
            </a:xfrm>
          </p:grpSpPr>
          <p:sp>
            <p:nvSpPr>
              <p:cNvPr id="1907" name=""/>
              <p:cNvSpPr/>
              <p:nvPr/>
            </p:nvSpPr>
            <p:spPr>
              <a:xfrm flipV="1">
                <a:off x="3046320" y="197604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022560" y="197640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9" name=""/>
          <p:cNvSpPr/>
          <p:nvPr/>
        </p:nvSpPr>
        <p:spPr>
          <a:xfrm>
            <a:off x="3157560" y="1903320"/>
            <a:ext cx="42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4903560" y="386064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4868640" y="320832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6315120" y="1896840"/>
            <a:ext cx="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rot="16200000">
            <a:off x="2694960" y="29325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2998800" y="3349800"/>
            <a:ext cx="0" cy="15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2963880" y="22903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rot="16200000">
            <a:off x="6039720" y="46724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rot="16200000">
            <a:off x="6015960" y="31136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7356600" y="2060280"/>
            <a:ext cx="0" cy="32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473600" y="29401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22840" y="274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265800" y="18543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rot="10800000">
            <a:off x="1722240" y="525420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1390680" y="4349880"/>
            <a:ext cx="471600" cy="476280"/>
            <a:chOff x="1390680" y="4349880"/>
            <a:chExt cx="471600" cy="476280"/>
          </a:xfrm>
        </p:grpSpPr>
        <p:sp>
          <p:nvSpPr>
            <p:cNvPr id="1924" name=""/>
            <p:cNvSpPr/>
            <p:nvPr/>
          </p:nvSpPr>
          <p:spPr>
            <a:xfrm flipH="1" rot="16200000">
              <a:off x="1388160" y="43520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1712880" y="4451040"/>
              <a:ext cx="1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1464840" y="4657680"/>
              <a:ext cx="2336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 flipV="1">
              <a:off x="1464840" y="4410000"/>
              <a:ext cx="2336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712880" y="4578480"/>
              <a:ext cx="144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9" name=""/>
            <p:cNvGrpSpPr/>
            <p:nvPr/>
          </p:nvGrpSpPr>
          <p:grpSpPr>
            <a:xfrm>
              <a:off x="1544400" y="4633920"/>
              <a:ext cx="144360" cy="98280"/>
              <a:chOff x="1544400" y="4633920"/>
              <a:chExt cx="144360" cy="98280"/>
            </a:xfrm>
          </p:grpSpPr>
          <p:sp>
            <p:nvSpPr>
              <p:cNvPr id="1930" name=""/>
              <p:cNvSpPr/>
              <p:nvPr/>
            </p:nvSpPr>
            <p:spPr>
              <a:xfrm flipH="1">
                <a:off x="1544400" y="4657320"/>
                <a:ext cx="14436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 rot="16200000">
                <a:off x="1553400" y="462492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2" name=""/>
          <p:cNvSpPr/>
          <p:nvPr/>
        </p:nvSpPr>
        <p:spPr>
          <a:xfrm rot="5400000">
            <a:off x="1626120" y="339300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H="1" flipV="1">
            <a:off x="1774800" y="3490560"/>
            <a:ext cx="144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790640" y="3697200"/>
            <a:ext cx="233280" cy="10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1790640" y="3451320"/>
            <a:ext cx="23328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1631520" y="3618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819080" y="3454560"/>
            <a:ext cx="144360" cy="98280"/>
            <a:chOff x="1819080" y="3454560"/>
            <a:chExt cx="144360" cy="98280"/>
          </a:xfrm>
        </p:grpSpPr>
        <p:sp>
          <p:nvSpPr>
            <p:cNvPr id="1938" name=""/>
            <p:cNvSpPr/>
            <p:nvPr/>
          </p:nvSpPr>
          <p:spPr>
            <a:xfrm flipH="1">
              <a:off x="1819080" y="3477960"/>
              <a:ext cx="144360" cy="6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 rot="5400000">
              <a:off x="1828080" y="344520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0" name=""/>
          <p:cNvSpPr/>
          <p:nvPr/>
        </p:nvSpPr>
        <p:spPr>
          <a:xfrm flipV="1">
            <a:off x="1471680" y="3376440"/>
            <a:ext cx="1440" cy="10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471680" y="3605040"/>
            <a:ext cx="1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461960" y="4767120"/>
            <a:ext cx="180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701640" y="53625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62280" y="4567320"/>
            <a:ext cx="66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2309400" y="535788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023920" y="3795840"/>
            <a:ext cx="180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rot="16200000">
            <a:off x="2215080" y="4848840"/>
            <a:ext cx="60192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rot="16200000">
            <a:off x="1167480" y="29721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519280" y="456732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509920" y="526248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2033640" y="2604600"/>
            <a:ext cx="1440" cy="8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461960" y="2602080"/>
            <a:ext cx="15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461960" y="261468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rot="16200000">
            <a:off x="2000160" y="45126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rot="16200000">
            <a:off x="2457360" y="531324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rot="16200000">
            <a:off x="2009880" y="2579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489040" y="5362560"/>
            <a:ext cx="483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rot="16200000">
            <a:off x="6313320" y="531576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rot="16200000">
            <a:off x="1442880" y="53143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rot="16200000">
            <a:off x="2927520" y="2571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5238720" y="3209400"/>
            <a:ext cx="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219640" y="50482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rot="16200000">
            <a:off x="5180040" y="53258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rot="16200000">
            <a:off x="1436400" y="355428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677960" y="5394240"/>
            <a:ext cx="59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181160" y="2425680"/>
            <a:ext cx="1562040" cy="354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430200" y="3206880"/>
            <a:ext cx="547560" cy="558720"/>
            <a:chOff x="430200" y="3206880"/>
            <a:chExt cx="547560" cy="558720"/>
          </a:xfrm>
        </p:grpSpPr>
        <p:sp>
          <p:nvSpPr>
            <p:cNvPr id="1968" name=""/>
            <p:cNvSpPr/>
            <p:nvPr/>
          </p:nvSpPr>
          <p:spPr>
            <a:xfrm>
              <a:off x="430200" y="3206880"/>
              <a:ext cx="547560" cy="558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04160" y="33292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0" name=""/>
          <p:cNvSpPr/>
          <p:nvPr/>
        </p:nvSpPr>
        <p:spPr>
          <a:xfrm flipV="1">
            <a:off x="711360" y="190476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85800" y="3759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901440" y="5359320"/>
            <a:ext cx="59943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344760" y="53244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347840" y="6359400"/>
            <a:ext cx="1349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2912760" y="6031080"/>
            <a:ext cx="3144240" cy="523800"/>
            <a:chOff x="2912760" y="6031080"/>
            <a:chExt cx="3144240" cy="523800"/>
          </a:xfrm>
        </p:grpSpPr>
        <p:sp>
          <p:nvSpPr>
            <p:cNvPr id="1976" name=""/>
            <p:cNvSpPr/>
            <p:nvPr/>
          </p:nvSpPr>
          <p:spPr>
            <a:xfrm>
              <a:off x="2912760" y="6031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48640" y="62784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Times New Roman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466800" y="6049800"/>
              <a:ext cx="2590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= R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CS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U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BE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0,7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222840" y="1500120"/>
            <a:ext cx="7827840" cy="4469040"/>
            <a:chOff x="222840" y="1500120"/>
            <a:chExt cx="7827840" cy="4469040"/>
          </a:xfrm>
        </p:grpSpPr>
        <p:sp>
          <p:nvSpPr>
            <p:cNvPr id="1981" name=""/>
            <p:cNvSpPr/>
            <p:nvPr/>
          </p:nvSpPr>
          <p:spPr>
            <a:xfrm flipH="1">
              <a:off x="703440" y="1920960"/>
              <a:ext cx="20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2" name=""/>
            <p:cNvGrpSpPr/>
            <p:nvPr/>
          </p:nvGrpSpPr>
          <p:grpSpPr>
            <a:xfrm>
              <a:off x="4951440" y="4552920"/>
              <a:ext cx="547560" cy="495360"/>
              <a:chOff x="4951440" y="4552920"/>
              <a:chExt cx="547560" cy="495360"/>
            </a:xfrm>
          </p:grpSpPr>
          <p:sp>
            <p:nvSpPr>
              <p:cNvPr id="1983" name=""/>
              <p:cNvSpPr/>
              <p:nvPr/>
            </p:nvSpPr>
            <p:spPr>
              <a:xfrm>
                <a:off x="4951440" y="455292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5225400" y="46612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5" name=""/>
            <p:cNvSpPr/>
            <p:nvPr/>
          </p:nvSpPr>
          <p:spPr>
            <a:xfrm flipH="1">
              <a:off x="2997360" y="350676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3394800" y="2876400"/>
              <a:ext cx="1498680" cy="128772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002480" y="3294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619880" y="3567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459324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419360" y="4618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6334200" y="352224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351480" y="51116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208560" y="565632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6200000">
              <a:off x="6300720" y="3822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686920" y="46083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628240" y="2868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2738520" y="1500120"/>
              <a:ext cx="476280" cy="793800"/>
              <a:chOff x="2738520" y="1500120"/>
              <a:chExt cx="476280" cy="793800"/>
            </a:xfrm>
          </p:grpSpPr>
          <p:sp>
            <p:nvSpPr>
              <p:cNvPr id="1998" name=""/>
              <p:cNvSpPr/>
              <p:nvPr/>
            </p:nvSpPr>
            <p:spPr>
              <a:xfrm>
                <a:off x="2738520" y="182232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2839680" y="214452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V="1">
                <a:off x="3046680" y="189684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 flipV="1">
                <a:off x="2799000" y="189684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967120" y="214452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99000" y="150012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877840" y="15332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985480" y="1625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6" name=""/>
              <p:cNvGrpSpPr/>
              <p:nvPr/>
            </p:nvGrpSpPr>
            <p:grpSpPr>
              <a:xfrm>
                <a:off x="3022560" y="1976040"/>
                <a:ext cx="98640" cy="144360"/>
                <a:chOff x="3022560" y="1976040"/>
                <a:chExt cx="98640" cy="144360"/>
              </a:xfrm>
            </p:grpSpPr>
            <p:sp>
              <p:nvSpPr>
                <p:cNvPr id="2007" name=""/>
                <p:cNvSpPr/>
                <p:nvPr/>
              </p:nvSpPr>
              <p:spPr>
                <a:xfrm flipV="1">
                  <a:off x="3046320" y="197604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3022560" y="197640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9" name=""/>
            <p:cNvSpPr/>
            <p:nvPr/>
          </p:nvSpPr>
          <p:spPr>
            <a:xfrm>
              <a:off x="3157560" y="190332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4903560" y="386064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4868640" y="32083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6315120" y="189684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16200000">
              <a:off x="2694960" y="293256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2998800" y="334980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2963880" y="22903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16200000">
              <a:off x="6039720" y="46724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16200000">
              <a:off x="6015960" y="31136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7356600" y="2060280"/>
              <a:ext cx="0" cy="32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473600" y="294012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22840" y="27417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265800" y="1854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1722240" y="525420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455840" y="2620800"/>
              <a:ext cx="7920" cy="274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01640" y="5362560"/>
              <a:ext cx="10080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2309400" y="5357880"/>
              <a:ext cx="21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509920" y="5262480"/>
              <a:ext cx="14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1461960" y="2602080"/>
              <a:ext cx="151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rot="16200000">
              <a:off x="2457360" y="53132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489040" y="5362560"/>
              <a:ext cx="48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rot="16200000">
              <a:off x="6313320" y="53157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rot="16200000">
              <a:off x="1442880" y="531432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rot="16200000">
              <a:off x="2927520" y="2571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V="1">
              <a:off x="5238720" y="3209400"/>
              <a:ext cx="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219640" y="504828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6200000">
              <a:off x="5180040" y="5325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677960" y="5394240"/>
              <a:ext cx="59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181160" y="2425680"/>
              <a:ext cx="1562040" cy="3543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8" name=""/>
            <p:cNvGrpSpPr/>
            <p:nvPr/>
          </p:nvGrpSpPr>
          <p:grpSpPr>
            <a:xfrm>
              <a:off x="430200" y="3206880"/>
              <a:ext cx="547560" cy="558720"/>
              <a:chOff x="430200" y="3206880"/>
              <a:chExt cx="547560" cy="558720"/>
            </a:xfrm>
          </p:grpSpPr>
          <p:sp>
            <p:nvSpPr>
              <p:cNvPr id="2039" name=""/>
              <p:cNvSpPr/>
              <p:nvPr/>
            </p:nvSpPr>
            <p:spPr>
              <a:xfrm>
                <a:off x="430200" y="3206880"/>
                <a:ext cx="547560" cy="558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704160" y="33292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 flipV="1">
              <a:off x="711360" y="190476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85800" y="37591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901440" y="5359320"/>
              <a:ext cx="599436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344760" y="53244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TABILIZATORÓW NAPIĘ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4320" y="690480"/>
            <a:ext cx="8284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  nominalne (znamionowe) napięcie stabilizacj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0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największy prąd wyjściowy w zakresie stabilizacj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największy prąd wyjściowy zwarciow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1min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1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akres dopuszczalnych zmian napięcia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  moc strat w stabilizatorze - </a:t>
            </a:r>
            <a:r>
              <a:rPr b="0" i="1" lang="pl-PL" sz="2400" spc="-1" strike="noStrike">
                <a:solidFill>
                  <a:srgbClr val="ff3300"/>
                </a:solidFill>
                <a:latin typeface="Times New Roman"/>
              </a:rPr>
              <a:t>tranzystory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0440" y="2959200"/>
          <a:ext cx="6251400" cy="349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959200"/>
                    <a:ext cx="62514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DZAJE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1108080"/>
            <a:ext cx="5588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arametryc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korzystują wprost właściwości elemen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ych - dioda Zenera, wary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ensa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e - małe i średnie moce (do n•10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regulow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wnoległe  - większe m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o stałym napięciu wyjści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40480" y="1434960"/>
            <a:ext cx="584280" cy="1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7200360" y="19303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89640" y="1828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24760" y="153684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80440" y="1549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93040" y="23115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58080" y="24764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94360" y="15368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06960" y="16506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44160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7670520" y="3936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99200" y="3263760"/>
            <a:ext cx="444600" cy="52092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94560" y="35434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50240" y="35560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62840" y="43178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527520" y="4483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463800" y="354348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77120" y="365760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94840" y="36446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0600" y="29210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7886160" y="19051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66240" y="15238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78840" y="22860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8610480" y="1612800"/>
            <a:ext cx="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1120" y="5079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6921000" y="55753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5473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5400" y="518148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01080" y="5194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13680" y="59562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78000" y="61214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715000" y="51814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26080" y="53082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7606800" y="5549760"/>
            <a:ext cx="58392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86880" y="51688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99480" y="593100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331120" y="52574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77640" y="61977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302600" y="363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38592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56480" y="57024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5535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34400" y="18781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el. nielini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44640" y="1093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44640" y="3125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44640" y="4802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96800" y="10810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60160" y="37609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1440" y="47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680" y="273060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77440" y="30384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  PARAMETR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0960" y="52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DIODY ZE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59000" y="11174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160" y="1828800"/>
            <a:ext cx="29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6880" y="1828800"/>
            <a:ext cx="1392120" cy="2625840"/>
          </a:xfrm>
          <a:custGeom>
            <a:avLst/>
            <a:gdLst/>
            <a:ahLst/>
            <a:rect l="l" t="t" r="r" b="b"/>
            <a:pathLst>
              <a:path w="608" h="1240">
                <a:moveTo>
                  <a:pt x="608" y="0"/>
                </a:moveTo>
                <a:lnTo>
                  <a:pt x="268" y="12"/>
                </a:lnTo>
                <a:lnTo>
                  <a:pt x="140" y="16"/>
                </a:lnTo>
                <a:lnTo>
                  <a:pt x="112" y="28"/>
                </a:lnTo>
                <a:lnTo>
                  <a:pt x="100" y="52"/>
                </a:lnTo>
                <a:lnTo>
                  <a:pt x="68" y="236"/>
                </a:lnTo>
                <a:lnTo>
                  <a:pt x="28" y="664"/>
                </a:lnTo>
                <a:lnTo>
                  <a:pt x="0" y="124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143000"/>
            <a:ext cx="466920" cy="685800"/>
          </a:xfrm>
          <a:custGeom>
            <a:avLst/>
            <a:gdLst/>
            <a:ahLst/>
            <a:rect l="l" t="t" r="r" b="b"/>
            <a:pathLst>
              <a:path w="204" h="324">
                <a:moveTo>
                  <a:pt x="0" y="324"/>
                </a:moveTo>
                <a:lnTo>
                  <a:pt x="136" y="320"/>
                </a:lnTo>
                <a:lnTo>
                  <a:pt x="160" y="304"/>
                </a:lnTo>
                <a:lnTo>
                  <a:pt x="168" y="280"/>
                </a:lnTo>
                <a:lnTo>
                  <a:pt x="188" y="188"/>
                </a:lnTo>
                <a:lnTo>
                  <a:pt x="204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840" y="1279440"/>
            <a:ext cx="66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27400" y="2530440"/>
            <a:ext cx="860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6320" y="1828800"/>
            <a:ext cx="0" cy="93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8400" y="276876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1160" y="270360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34080" y="3448080"/>
            <a:ext cx="30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84840" y="116532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94880" y="30830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0720" y="1411200"/>
            <a:ext cx="2735280" cy="2000160"/>
          </a:xfrm>
          <a:custGeom>
            <a:avLst/>
            <a:gdLst/>
            <a:ahLst/>
            <a:rect l="l" t="t" r="r" b="b"/>
            <a:pathLst>
              <a:path w="1723" h="1260">
                <a:moveTo>
                  <a:pt x="0" y="600"/>
                </a:moveTo>
                <a:cubicBezTo>
                  <a:pt x="86" y="692"/>
                  <a:pt x="173" y="785"/>
                  <a:pt x="312" y="878"/>
                </a:cubicBezTo>
                <a:cubicBezTo>
                  <a:pt x="451" y="971"/>
                  <a:pt x="690" y="1125"/>
                  <a:pt x="834" y="1156"/>
                </a:cubicBezTo>
                <a:cubicBezTo>
                  <a:pt x="978" y="1187"/>
                  <a:pt x="1030" y="1260"/>
                  <a:pt x="1178" y="1067"/>
                </a:cubicBezTo>
                <a:cubicBezTo>
                  <a:pt x="1326" y="874"/>
                  <a:pt x="1524" y="437"/>
                  <a:pt x="17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4680" y="1817640"/>
            <a:ext cx="1393920" cy="2944800"/>
          </a:xfrm>
          <a:custGeom>
            <a:avLst/>
            <a:gdLst/>
            <a:ahLst/>
            <a:rect l="l" t="t" r="r" b="b"/>
            <a:pathLst>
              <a:path w="878" h="1855">
                <a:moveTo>
                  <a:pt x="878" y="0"/>
                </a:moveTo>
                <a:cubicBezTo>
                  <a:pt x="812" y="293"/>
                  <a:pt x="746" y="587"/>
                  <a:pt x="678" y="789"/>
                </a:cubicBezTo>
                <a:cubicBezTo>
                  <a:pt x="610" y="991"/>
                  <a:pt x="580" y="1033"/>
                  <a:pt x="467" y="1211"/>
                </a:cubicBezTo>
                <a:cubicBezTo>
                  <a:pt x="354" y="1389"/>
                  <a:pt x="76" y="1748"/>
                  <a:pt x="0" y="18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8800" y="843120"/>
            <a:ext cx="18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82920" y="3956040"/>
            <a:ext cx="10317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12760" y="4387680"/>
            <a:ext cx="1340640" cy="2170080"/>
            <a:chOff x="1112760" y="4387680"/>
            <a:chExt cx="1340640" cy="2170080"/>
          </a:xfrm>
        </p:grpSpPr>
        <p:sp>
          <p:nvSpPr>
            <p:cNvPr id="124" name=""/>
            <p:cNvSpPr/>
            <p:nvPr/>
          </p:nvSpPr>
          <p:spPr>
            <a:xfrm>
              <a:off x="1359000" y="4653000"/>
              <a:ext cx="195120" cy="6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12760" y="5568840"/>
              <a:ext cx="72396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465200" y="5728680"/>
              <a:ext cx="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920" y="438768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65200" y="525312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65200" y="632772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69040" y="484344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56520" y="57006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V="1">
            <a:off x="831960" y="1821960"/>
            <a:ext cx="218880" cy="248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55800" y="1514520"/>
            <a:ext cx="463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cc0000"/>
                </a:solidFill>
                <a:latin typeface="Times New Roman"/>
              </a:rPr>
              <a:t>Z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13920" y="3787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- 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60640" y="22845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&lt;10o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10360" y="2681280"/>
            <a:ext cx="547560" cy="5367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5004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 - U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1480" y="2371680"/>
            <a:ext cx="2551320" cy="1421640"/>
            <a:chOff x="231480" y="2371680"/>
            <a:chExt cx="2551320" cy="1421640"/>
          </a:xfrm>
        </p:grpSpPr>
        <p:sp>
          <p:nvSpPr>
            <p:cNvPr id="140" name=""/>
            <p:cNvSpPr/>
            <p:nvPr/>
          </p:nvSpPr>
          <p:spPr>
            <a:xfrm>
              <a:off x="231480" y="3579840"/>
              <a:ext cx="232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61960" y="306216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800" y="2598840"/>
              <a:ext cx="409680" cy="154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130040" y="2676600"/>
              <a:ext cx="16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44320" y="26766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8480" y="2789280"/>
              <a:ext cx="290520" cy="290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0920" y="2830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212480" y="3075120"/>
              <a:ext cx="259200" cy="128520"/>
              <a:chOff x="1212480" y="3075120"/>
              <a:chExt cx="259200" cy="128520"/>
            </a:xfrm>
          </p:grpSpPr>
          <p:sp>
            <p:nvSpPr>
              <p:cNvPr id="148" name=""/>
              <p:cNvSpPr/>
              <p:nvPr/>
            </p:nvSpPr>
            <p:spPr>
              <a:xfrm>
                <a:off x="1239840" y="3201840"/>
                <a:ext cx="1857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20840" y="3089160"/>
                <a:ext cx="11412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35160" y="307512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212480" y="3089160"/>
                <a:ext cx="11268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16240" y="3075120"/>
                <a:ext cx="55440" cy="507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17520" y="2630520"/>
              <a:ext cx="227160" cy="95400"/>
              <a:chOff x="317520" y="2630520"/>
              <a:chExt cx="227160" cy="95400"/>
            </a:xfrm>
          </p:grpSpPr>
          <p:sp>
            <p:nvSpPr>
              <p:cNvPr id="154" name=""/>
              <p:cNvSpPr/>
              <p:nvPr/>
            </p:nvSpPr>
            <p:spPr>
              <a:xfrm>
                <a:off x="3175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92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276200" y="2676600"/>
              <a:ext cx="95400" cy="226800"/>
              <a:chOff x="1276200" y="2676600"/>
              <a:chExt cx="95400" cy="226800"/>
            </a:xfrm>
          </p:grpSpPr>
          <p:sp>
            <p:nvSpPr>
              <p:cNvPr id="157" name=""/>
              <p:cNvSpPr/>
              <p:nvPr/>
            </p:nvSpPr>
            <p:spPr>
              <a:xfrm>
                <a:off x="1325520" y="2676600"/>
                <a:ext cx="180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76200" y="280656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0"/>
                    </a:moveTo>
                    <a:lnTo>
                      <a:pt x="31" y="61"/>
                    </a:lnTo>
                    <a:lnTo>
                      <a:pt x="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1312920" y="2630520"/>
              <a:ext cx="227160" cy="95400"/>
              <a:chOff x="1312920" y="2630520"/>
              <a:chExt cx="227160" cy="95400"/>
            </a:xfrm>
          </p:grpSpPr>
          <p:sp>
            <p:nvSpPr>
              <p:cNvPr id="160" name=""/>
              <p:cNvSpPr/>
              <p:nvPr/>
            </p:nvSpPr>
            <p:spPr>
              <a:xfrm>
                <a:off x="13129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446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V="1">
              <a:off x="1325520" y="2903040"/>
              <a:ext cx="1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325520" y="3197160"/>
              <a:ext cx="180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0520" y="3543480"/>
              <a:ext cx="140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89120" y="351648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200" y="351648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1200" y="264816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540080" y="2676600"/>
              <a:ext cx="17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89120" y="2648160"/>
              <a:ext cx="633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1840" y="2762280"/>
              <a:ext cx="95040" cy="681120"/>
              <a:chOff x="231840" y="2762280"/>
              <a:chExt cx="95040" cy="68112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27612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184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679760" y="2762280"/>
              <a:ext cx="95040" cy="681120"/>
              <a:chOff x="1679760" y="2762280"/>
              <a:chExt cx="95040" cy="68112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172548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7976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487600" y="2967120"/>
              <a:ext cx="295200" cy="293760"/>
              <a:chOff x="2487600" y="2967120"/>
              <a:chExt cx="295200" cy="293760"/>
            </a:xfrm>
          </p:grpSpPr>
          <p:sp>
            <p:nvSpPr>
              <p:cNvPr id="177" name=""/>
              <p:cNvSpPr/>
              <p:nvPr/>
            </p:nvSpPr>
            <p:spPr>
              <a:xfrm>
                <a:off x="2492280" y="2970360"/>
                <a:ext cx="28584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87600" y="29703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87600" y="2989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87600" y="300672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87600" y="302580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87600" y="3043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87600" y="3062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87600" y="3079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87600" y="30988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87600" y="3116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87600" y="3133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487600" y="3152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87600" y="3170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87600" y="31892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87600" y="3206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87600" y="3225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87600" y="32432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97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1460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33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51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70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87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0676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624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64312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60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78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97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714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73384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51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7020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74880" y="3238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774880" y="32209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74880" y="320184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880" y="3184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74880" y="3165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74880" y="314820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74880" y="31305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74880" y="3111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74880" y="30942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74880" y="3075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74880" y="3057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74880" y="3038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74880" y="3021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74880" y="300204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74880" y="2984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74880" y="2967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75580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3852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19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0180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683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665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46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29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61144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92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7508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56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38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1928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02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538360" y="3002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55360" y="30942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06800" y="327492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06800" y="34560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206800" y="2862360"/>
              <a:ext cx="353880" cy="426960"/>
              <a:chOff x="2206800" y="2862360"/>
              <a:chExt cx="353880" cy="42696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206800" y="2862360"/>
                <a:ext cx="353880" cy="42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465280" y="286236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6" y="66"/>
                    </a:moveTo>
                    <a:lnTo>
                      <a:pt x="60" y="0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55840" y="3429000"/>
              <a:ext cx="633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20200" y="2752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8428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624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996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0256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6628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880" y="299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9960" y="308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16200" y="3006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51920" y="309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31960" y="267660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41680" y="355284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9600" y="2676600"/>
              <a:ext cx="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01840" y="2911680"/>
              <a:ext cx="154080" cy="409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583080" y="1909800"/>
            <a:ext cx="5006880" cy="4012200"/>
            <a:chOff x="3583080" y="1909800"/>
            <a:chExt cx="5006880" cy="4012200"/>
          </a:xfrm>
        </p:grpSpPr>
        <p:sp>
          <p:nvSpPr>
            <p:cNvPr id="264" name=""/>
            <p:cNvSpPr/>
            <p:nvPr/>
          </p:nvSpPr>
          <p:spPr>
            <a:xfrm>
              <a:off x="5452920" y="411012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29440" y="2998800"/>
              <a:ext cx="1476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Nachylenie - 1/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6040" y="3089160"/>
              <a:ext cx="2174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48360" y="3121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075360" y="2276640"/>
              <a:ext cx="300240" cy="9360"/>
              <a:chOff x="6075360" y="2276640"/>
              <a:chExt cx="300240" cy="9360"/>
            </a:xfrm>
          </p:grpSpPr>
          <p:sp>
            <p:nvSpPr>
              <p:cNvPr id="269" name=""/>
              <p:cNvSpPr/>
              <p:nvPr/>
            </p:nvSpPr>
            <p:spPr>
              <a:xfrm>
                <a:off x="607536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9300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120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29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4844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65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83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202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219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3880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56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7552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92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118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2952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46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6588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5435640" y="5113440"/>
              <a:ext cx="298440" cy="9360"/>
              <a:chOff x="5435640" y="5113440"/>
              <a:chExt cx="298440" cy="9360"/>
            </a:xfrm>
          </p:grpSpPr>
          <p:sp>
            <p:nvSpPr>
              <p:cNvPr id="287" name=""/>
              <p:cNvSpPr/>
              <p:nvPr/>
            </p:nvSpPr>
            <p:spPr>
              <a:xfrm>
                <a:off x="543564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52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7056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89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06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260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43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6272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580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97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16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4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5308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70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898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0708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2616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367240" y="5332320"/>
              <a:ext cx="217440" cy="21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5366880" y="5396040"/>
              <a:ext cx="3223080" cy="104760"/>
              <a:chOff x="5366880" y="5396040"/>
              <a:chExt cx="3223080" cy="10476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366880" y="5445000"/>
                <a:ext cx="31323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489880" y="5396040"/>
                <a:ext cx="100080" cy="1047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0" y="66"/>
                    </a:moveTo>
                    <a:lnTo>
                      <a:pt x="63" y="31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3632400" y="2081160"/>
              <a:ext cx="95040" cy="3378240"/>
              <a:chOff x="3632400" y="2081160"/>
              <a:chExt cx="95040" cy="3378240"/>
            </a:xfrm>
          </p:grpSpPr>
          <p:sp>
            <p:nvSpPr>
              <p:cNvPr id="309" name=""/>
              <p:cNvSpPr/>
              <p:nvPr/>
            </p:nvSpPr>
            <p:spPr>
              <a:xfrm>
                <a:off x="3678120" y="2166840"/>
                <a:ext cx="5040" cy="329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32400" y="20811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3678120" y="5445000"/>
              <a:ext cx="1721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380200" y="5400720"/>
              <a:ext cx="131760" cy="44280"/>
              <a:chOff x="5380200" y="5400720"/>
              <a:chExt cx="131760" cy="44280"/>
            </a:xfrm>
          </p:grpSpPr>
          <p:sp>
            <p:nvSpPr>
              <p:cNvPr id="313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flipV="1">
              <a:off x="5511960" y="2139480"/>
              <a:ext cx="722160" cy="3264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70760" y="225432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48320" y="509112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59400" y="2835360"/>
              <a:ext cx="280980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3360" y="2820960"/>
              <a:ext cx="2836800" cy="26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89520" y="398304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75200" y="3616200"/>
              <a:ext cx="5904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69200" y="4890960"/>
              <a:ext cx="144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50160" y="4890960"/>
              <a:ext cx="180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5807160" y="2747880"/>
              <a:ext cx="144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892840" y="2747880"/>
              <a:ext cx="14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34240" y="3643200"/>
              <a:ext cx="85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65840" y="4010040"/>
              <a:ext cx="157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369200" y="4896000"/>
              <a:ext cx="480960" cy="104760"/>
              <a:chOff x="7369200" y="4896000"/>
              <a:chExt cx="480960" cy="104760"/>
            </a:xfrm>
          </p:grpSpPr>
          <p:sp>
            <p:nvSpPr>
              <p:cNvPr id="329" name=""/>
              <p:cNvSpPr/>
              <p:nvPr/>
            </p:nvSpPr>
            <p:spPr>
              <a:xfrm>
                <a:off x="7454880" y="4946760"/>
                <a:ext cx="3096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69200" y="48960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55120" y="49053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651720" y="3643200"/>
              <a:ext cx="100080" cy="366840"/>
              <a:chOff x="6651720" y="3643200"/>
              <a:chExt cx="100080" cy="366840"/>
            </a:xfrm>
          </p:grpSpPr>
          <p:sp>
            <p:nvSpPr>
              <p:cNvPr id="333" name=""/>
              <p:cNvSpPr/>
              <p:nvPr/>
            </p:nvSpPr>
            <p:spPr>
              <a:xfrm>
                <a:off x="6701040" y="3729240"/>
                <a:ext cx="144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6400" y="36432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51720" y="391464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0"/>
                    </a:moveTo>
                    <a:lnTo>
                      <a:pt x="31" y="60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807160" y="286236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892840" y="2811600"/>
              <a:ext cx="441360" cy="95040"/>
              <a:chOff x="5892840" y="2811600"/>
              <a:chExt cx="441360" cy="95040"/>
            </a:xfrm>
          </p:grpSpPr>
          <p:sp>
            <p:nvSpPr>
              <p:cNvPr id="338" name=""/>
              <p:cNvSpPr/>
              <p:nvPr/>
            </p:nvSpPr>
            <p:spPr>
              <a:xfrm>
                <a:off x="5980320" y="2862360"/>
                <a:ext cx="353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92840" y="2811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252760" y="2816280"/>
              <a:ext cx="554400" cy="95400"/>
              <a:chOff x="5252760" y="2816280"/>
              <a:chExt cx="554400" cy="95400"/>
            </a:xfrm>
          </p:grpSpPr>
          <p:sp>
            <p:nvSpPr>
              <p:cNvPr id="341" name=""/>
              <p:cNvSpPr/>
              <p:nvPr/>
            </p:nvSpPr>
            <p:spPr>
              <a:xfrm flipH="1">
                <a:off x="5252760" y="2862360"/>
                <a:ext cx="468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11760" y="28162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306760" y="25304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26280" y="254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62000" y="2639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0120" y="36925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27120" y="371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93000" y="3801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37240" y="46324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54960" y="4651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0680" y="474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92760" y="4950000"/>
              <a:ext cx="459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15800" y="498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78800" y="507384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02240" y="2112840"/>
              <a:ext cx="46224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28880" y="2144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92240" y="223524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1880" y="3855960"/>
              <a:ext cx="2905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04920" y="388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69360" y="3978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83080" y="5518080"/>
              <a:ext cx="20304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04680" y="554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8800" y="5586480"/>
              <a:ext cx="3049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62560" y="5618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98640" y="5708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28080" y="54864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51840" y="551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85760" y="5608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63080" y="55008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286840" y="553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49840" y="3670200"/>
              <a:ext cx="1171440" cy="117180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408560" y="4329000"/>
              <a:ext cx="114120" cy="131760"/>
              <a:chOff x="4408560" y="4329000"/>
              <a:chExt cx="114120" cy="131760"/>
            </a:xfrm>
          </p:grpSpPr>
          <p:sp>
            <p:nvSpPr>
              <p:cNvPr id="373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264200" y="4246560"/>
              <a:ext cx="153720" cy="82440"/>
              <a:chOff x="4264200" y="4246560"/>
              <a:chExt cx="153720" cy="82440"/>
            </a:xfrm>
          </p:grpSpPr>
          <p:sp>
            <p:nvSpPr>
              <p:cNvPr id="376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97" y="0"/>
                    </a:lnTo>
                    <a:lnTo>
                      <a:pt x="9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264200" y="4133880"/>
              <a:ext cx="102960" cy="100080"/>
              <a:chOff x="4264200" y="4133880"/>
              <a:chExt cx="102960" cy="100080"/>
            </a:xfrm>
          </p:grpSpPr>
          <p:sp>
            <p:nvSpPr>
              <p:cNvPr id="379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  <a:lnTo>
                      <a:pt x="65" y="63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4518000" y="3679920"/>
              <a:ext cx="4680" cy="925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4363920" y="3987720"/>
              <a:ext cx="103320" cy="136800"/>
              <a:chOff x="4363920" y="3987720"/>
              <a:chExt cx="103320" cy="136800"/>
            </a:xfrm>
          </p:grpSpPr>
          <p:sp>
            <p:nvSpPr>
              <p:cNvPr id="383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873600" y="4419720"/>
              <a:ext cx="1108080" cy="1440"/>
            </a:xfrm>
            <a:prstGeom prst="line">
              <a:avLst/>
            </a:prstGeom>
            <a:ln w="176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467240" y="3824280"/>
              <a:ext cx="23760" cy="163440"/>
              <a:chOff x="4467240" y="3824280"/>
              <a:chExt cx="23760" cy="163440"/>
            </a:xfrm>
          </p:grpSpPr>
          <p:sp>
            <p:nvSpPr>
              <p:cNvPr id="387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491000" y="3679920"/>
              <a:ext cx="17640" cy="144360"/>
              <a:chOff x="4491000" y="3679920"/>
              <a:chExt cx="17640" cy="144360"/>
            </a:xfrm>
          </p:grpSpPr>
          <p:sp>
            <p:nvSpPr>
              <p:cNvPr id="390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476600" y="434664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72120" y="4265640"/>
              <a:ext cx="2458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22880" y="4305240"/>
              <a:ext cx="19512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72120" y="4224240"/>
              <a:ext cx="2458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76600" y="401976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67240" y="4060800"/>
              <a:ext cx="5544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27640" y="4102200"/>
              <a:ext cx="9036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22880" y="4141800"/>
              <a:ext cx="19512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95880" y="4183200"/>
              <a:ext cx="22680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98920" y="3875040"/>
              <a:ext cx="190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98920" y="3938760"/>
              <a:ext cx="19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491000" y="3978360"/>
              <a:ext cx="27000" cy="936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830840" y="4737240"/>
              <a:ext cx="581040" cy="595080"/>
              <a:chOff x="4830840" y="4737240"/>
              <a:chExt cx="581040" cy="59508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0840" y="4737240"/>
                <a:ext cx="581040" cy="5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30840" y="473724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66" y="20"/>
                    </a:moveTo>
                    <a:lnTo>
                      <a:pt x="0" y="0"/>
                    </a:lnTo>
                    <a:lnTo>
                      <a:pt x="23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 flipH="1">
              <a:off x="6005520" y="3232080"/>
              <a:ext cx="4320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66040" y="190980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1620720" y="668160"/>
            <a:ext cx="6343560" cy="5678640"/>
            <a:chOff x="1620720" y="668160"/>
            <a:chExt cx="6343560" cy="5678640"/>
          </a:xfrm>
        </p:grpSpPr>
        <p:grpSp>
          <p:nvGrpSpPr>
            <p:cNvPr id="410" name=""/>
            <p:cNvGrpSpPr/>
            <p:nvPr/>
          </p:nvGrpSpPr>
          <p:grpSpPr>
            <a:xfrm>
              <a:off x="1941480" y="831600"/>
              <a:ext cx="84240" cy="2116080"/>
              <a:chOff x="1941480" y="831600"/>
              <a:chExt cx="84240" cy="2116080"/>
            </a:xfrm>
          </p:grpSpPr>
          <p:sp>
            <p:nvSpPr>
              <p:cNvPr id="411" name=""/>
              <p:cNvSpPr/>
              <p:nvPr/>
            </p:nvSpPr>
            <p:spPr>
              <a:xfrm>
                <a:off x="1981080" y="907920"/>
                <a:ext cx="1440" cy="2039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41480" y="8316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965240" y="2906280"/>
              <a:ext cx="4237200" cy="84240"/>
              <a:chOff x="1965240" y="2906280"/>
              <a:chExt cx="4237200" cy="8424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1965240" y="2947680"/>
                <a:ext cx="4160880" cy="7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18200" y="290628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981080" y="2070000"/>
              <a:ext cx="183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11320" y="2070000"/>
              <a:ext cx="1613160" cy="87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933560" y="1064880"/>
              <a:ext cx="392040" cy="7920"/>
              <a:chOff x="1933560" y="1064880"/>
              <a:chExt cx="392040" cy="7920"/>
            </a:xfrm>
          </p:grpSpPr>
          <p:sp>
            <p:nvSpPr>
              <p:cNvPr id="419" name=""/>
              <p:cNvSpPr/>
              <p:nvPr/>
            </p:nvSpPr>
            <p:spPr>
              <a:xfrm>
                <a:off x="23176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3018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701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543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381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208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050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1891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733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574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412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254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096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0937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779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0620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444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286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7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969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9810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9494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9335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41480" y="3847680"/>
              <a:ext cx="84240" cy="2116440"/>
              <a:chOff x="1941480" y="3847680"/>
              <a:chExt cx="84240" cy="2116440"/>
            </a:xfrm>
          </p:grpSpPr>
          <p:sp>
            <p:nvSpPr>
              <p:cNvPr id="445" name=""/>
              <p:cNvSpPr/>
              <p:nvPr/>
            </p:nvSpPr>
            <p:spPr>
              <a:xfrm>
                <a:off x="1981080" y="3924000"/>
                <a:ext cx="1440" cy="2040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41480" y="384768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5397480" y="5927400"/>
              <a:ext cx="796680" cy="84240"/>
              <a:chOff x="5397480" y="5927400"/>
              <a:chExt cx="796680" cy="84240"/>
            </a:xfrm>
          </p:grpSpPr>
          <p:sp>
            <p:nvSpPr>
              <p:cNvPr id="448" name=""/>
              <p:cNvSpPr/>
              <p:nvPr/>
            </p:nvSpPr>
            <p:spPr>
              <a:xfrm flipH="1" flipV="1">
                <a:off x="5397480" y="5964120"/>
                <a:ext cx="72072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10280" y="5927400"/>
                <a:ext cx="8388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5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1981080" y="4149360"/>
              <a:ext cx="1790640" cy="1793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535200" y="5798880"/>
              <a:ext cx="504720" cy="7920"/>
              <a:chOff x="3535200" y="5798880"/>
              <a:chExt cx="504720" cy="7920"/>
            </a:xfrm>
          </p:grpSpPr>
          <p:sp>
            <p:nvSpPr>
              <p:cNvPr id="452" name=""/>
              <p:cNvSpPr/>
              <p:nvPr/>
            </p:nvSpPr>
            <p:spPr>
              <a:xfrm>
                <a:off x="40320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0161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988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830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672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513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351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9193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034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876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8718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8559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401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8224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066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7908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7749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7591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7432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7274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7116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957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79560" y="579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6637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646440" y="57988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306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147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989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582720" y="579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668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510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5352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944720" y="4157280"/>
              <a:ext cx="393480" cy="7920"/>
              <a:chOff x="1944720" y="4157280"/>
              <a:chExt cx="393480" cy="7920"/>
            </a:xfrm>
          </p:grpSpPr>
          <p:sp>
            <p:nvSpPr>
              <p:cNvPr id="485" name=""/>
              <p:cNvSpPr/>
              <p:nvPr/>
            </p:nvSpPr>
            <p:spPr>
              <a:xfrm>
                <a:off x="23302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130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2971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280960" y="41572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2651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2492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334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2176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2017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1859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1700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542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136600" y="4157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1207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1049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890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32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0574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0415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0257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095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936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9778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960560" y="41572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447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3606840" y="5775120"/>
              <a:ext cx="568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57280" y="920520"/>
              <a:ext cx="2811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04440" y="952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25400" y="103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33320" y="668160"/>
              <a:ext cx="2793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0840" y="704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01440" y="78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33640" y="1296720"/>
              <a:ext cx="217440" cy="252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24360" y="1260360"/>
              <a:ext cx="129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chyleni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86520" y="3047760"/>
              <a:ext cx="2556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57800" y="3079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12880" y="315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81000" y="2998440"/>
              <a:ext cx="244440" cy="265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60200" y="3031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33640" y="1757160"/>
              <a:ext cx="920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57040" y="179028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20480" y="1869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77720" y="179028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33680" y="1869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20720" y="3736800"/>
              <a:ext cx="2811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89120" y="3768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44200" y="3847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86520" y="6051240"/>
              <a:ext cx="2556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157800" y="608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12880" y="6163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73560" y="6027480"/>
              <a:ext cx="4683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57800" y="6059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13240" y="61401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71920" y="6014880"/>
              <a:ext cx="4680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55800" y="6048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1600" y="61275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87720" y="5959080"/>
              <a:ext cx="1417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83120" y="5586120"/>
              <a:ext cx="4698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63760" y="562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19200" y="57034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68400" y="6014880"/>
              <a:ext cx="24444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9040" y="6048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94000" y="3924000"/>
              <a:ext cx="1325520" cy="504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2455920" y="3946320"/>
              <a:ext cx="1187640" cy="449640"/>
              <a:chOff x="2455920" y="3946320"/>
              <a:chExt cx="1187640" cy="449640"/>
            </a:xfrm>
          </p:grpSpPr>
          <p:sp>
            <p:nvSpPr>
              <p:cNvPr id="549" name=""/>
              <p:cNvSpPr/>
              <p:nvPr/>
            </p:nvSpPr>
            <p:spPr>
              <a:xfrm>
                <a:off x="2455920" y="4187520"/>
                <a:ext cx="607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457000" y="396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06200" y="396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12240" y="4213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5728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952720" y="40510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37920" y="4168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90200" y="4051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11080" y="4082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695320" y="39463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11480" y="40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45096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59244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981080" y="5964120"/>
              <a:ext cx="2017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95800" y="4701960"/>
              <a:ext cx="820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27920" y="4773240"/>
              <a:ext cx="4701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914640" y="4593960"/>
              <a:ext cx="1401840" cy="135000"/>
              <a:chOff x="3914640" y="4593960"/>
              <a:chExt cx="1401840" cy="135000"/>
            </a:xfrm>
          </p:grpSpPr>
          <p:sp>
            <p:nvSpPr>
              <p:cNvPr id="566" name=""/>
              <p:cNvSpPr/>
              <p:nvPr/>
            </p:nvSpPr>
            <p:spPr>
              <a:xfrm>
                <a:off x="4035240" y="4662360"/>
                <a:ext cx="1162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914640" y="4593960"/>
                <a:ext cx="128520" cy="131760"/>
              </a:xfrm>
              <a:custGeom>
                <a:avLst/>
                <a:gdLst/>
                <a:ahLst/>
                <a:rect l="l" t="t" r="r" b="b"/>
                <a:pathLst>
                  <a:path w="81" h="83">
                    <a:moveTo>
                      <a:pt x="81" y="0"/>
                    </a:moveTo>
                    <a:lnTo>
                      <a:pt x="0" y="43"/>
                    </a:lnTo>
                    <a:lnTo>
                      <a:pt x="81" y="8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89400" y="4597200"/>
                <a:ext cx="127080" cy="131760"/>
              </a:xfrm>
              <a:custGeom>
                <a:avLst/>
                <a:gdLst/>
                <a:ahLst/>
                <a:rect l="l" t="t" r="r" b="b"/>
                <a:pathLst>
                  <a:path w="80" h="83">
                    <a:moveTo>
                      <a:pt x="0" y="83"/>
                    </a:moveTo>
                    <a:lnTo>
                      <a:pt x="80" y="41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5499000" y="888840"/>
              <a:ext cx="2465280" cy="1295280"/>
              <a:chOff x="5499000" y="888840"/>
              <a:chExt cx="2465280" cy="1295280"/>
            </a:xfrm>
          </p:grpSpPr>
          <p:sp>
            <p:nvSpPr>
              <p:cNvPr id="570" name=""/>
              <p:cNvSpPr/>
              <p:nvPr/>
            </p:nvSpPr>
            <p:spPr>
              <a:xfrm>
                <a:off x="6664320" y="1620720"/>
                <a:ext cx="358560" cy="2426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53040" y="2158560"/>
                <a:ext cx="6508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83200" y="1164960"/>
                <a:ext cx="390600" cy="16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360840" y="1244160"/>
                <a:ext cx="167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5792760" y="1244160"/>
                <a:ext cx="195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41880" y="1366560"/>
                <a:ext cx="27792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6443640" y="1666440"/>
                <a:ext cx="247680" cy="136800"/>
                <a:chOff x="6443640" y="1666440"/>
                <a:chExt cx="247680" cy="1368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6470280" y="1802520"/>
                  <a:ext cx="1800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546240" y="1682280"/>
                  <a:ext cx="11088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463800" y="1667160"/>
                  <a:ext cx="1800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>
                  <a:off x="6443640" y="1682280"/>
                  <a:ext cx="11088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642720" y="1666440"/>
                  <a:ext cx="486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5575320" y="1247400"/>
                <a:ext cx="2206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53080" y="1247400"/>
                <a:ext cx="0" cy="241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40480" y="1247400"/>
                <a:ext cx="22212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6553080" y="1483560"/>
                <a:ext cx="3240" cy="17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6553080" y="1798200"/>
                <a:ext cx="3240" cy="347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546520" y="2158560"/>
                <a:ext cx="136836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906960" y="2128680"/>
                <a:ext cx="55800" cy="55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99000" y="2128680"/>
                <a:ext cx="55440" cy="55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99000" y="1217160"/>
                <a:ext cx="55440" cy="55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762240" y="1244160"/>
                <a:ext cx="165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05520" y="1217160"/>
                <a:ext cx="57240" cy="55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5533920" y="1336320"/>
                <a:ext cx="0" cy="72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939000" y="1336320"/>
                <a:ext cx="2880" cy="72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502400" y="1493640"/>
                <a:ext cx="144360" cy="426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7574040" y="1904760"/>
                <a:ext cx="1440" cy="2570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7574040" y="1247040"/>
                <a:ext cx="1440" cy="25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688160" y="1557000"/>
                <a:ext cx="276120" cy="3002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967440" y="1247400"/>
                <a:ext cx="649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408800" y="1874520"/>
                <a:ext cx="1440" cy="212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408800" y="2070000"/>
                <a:ext cx="195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7408800" y="1440720"/>
                <a:ext cx="345960" cy="45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554960" y="20397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622920" y="1292040"/>
                <a:ext cx="222120" cy="3175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57760" y="888840"/>
                <a:ext cx="220680" cy="314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08520" y="888840"/>
                <a:ext cx="222480" cy="314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87920" y="1545840"/>
                <a:ext cx="262080" cy="3175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008840" y="1561680"/>
                <a:ext cx="263520" cy="316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V="1">
              <a:off x="3771720" y="20696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97480" y="2946240"/>
              <a:ext cx="0" cy="300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244600" y="2215800"/>
              <a:ext cx="96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33680" y="2144520"/>
              <a:ext cx="62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=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976400" y="1015560"/>
              <a:ext cx="1782720" cy="10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301920" y="1536480"/>
              <a:ext cx="21600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66440" y="28857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07240" y="1917360"/>
              <a:ext cx="457200" cy="939960"/>
            </a:xfrm>
            <a:custGeom>
              <a:avLst/>
              <a:gdLst/>
              <a:ahLst/>
              <a:rect l="l" t="t" r="r" b="b"/>
              <a:pathLst>
                <a:path w="256" h="528">
                  <a:moveTo>
                    <a:pt x="256" y="528"/>
                  </a:move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. PARAMETRY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00240" y="1523880"/>
                <a:ext cx="3419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182680" y="3429000"/>
                <a:ext cx="33004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2200320" y="2443320"/>
                <a:ext cx="20350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6172200" y="1143000"/>
            <a:ext cx="2465280" cy="1295280"/>
            <a:chOff x="6172200" y="1143000"/>
            <a:chExt cx="2465280" cy="1295280"/>
          </a:xfrm>
        </p:grpSpPr>
        <p:sp>
          <p:nvSpPr>
            <p:cNvPr id="622" name=""/>
            <p:cNvSpPr/>
            <p:nvPr/>
          </p:nvSpPr>
          <p:spPr>
            <a:xfrm>
              <a:off x="7337520" y="1874880"/>
              <a:ext cx="358560" cy="242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26240" y="2412720"/>
              <a:ext cx="65088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656400" y="1419120"/>
              <a:ext cx="390600" cy="16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034040" y="1498320"/>
              <a:ext cx="16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465960" y="1498320"/>
              <a:ext cx="195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15080" y="1620720"/>
              <a:ext cx="27792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7116840" y="1920600"/>
              <a:ext cx="247680" cy="136800"/>
              <a:chOff x="7116840" y="1920600"/>
              <a:chExt cx="247680" cy="136800"/>
            </a:xfrm>
          </p:grpSpPr>
          <p:sp>
            <p:nvSpPr>
              <p:cNvPr id="629" name=""/>
              <p:cNvSpPr/>
              <p:nvPr/>
            </p:nvSpPr>
            <p:spPr>
              <a:xfrm>
                <a:off x="7143480" y="205668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194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137000" y="192132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1168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15920" y="1920600"/>
                <a:ext cx="4860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6248520" y="1501560"/>
              <a:ext cx="220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26280" y="1501560"/>
              <a:ext cx="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13680" y="1501560"/>
              <a:ext cx="222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226280" y="1737720"/>
              <a:ext cx="3240" cy="17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226280" y="2052360"/>
              <a:ext cx="3240" cy="34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19720" y="2412720"/>
              <a:ext cx="13683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80160" y="2382840"/>
              <a:ext cx="5580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72200" y="2382840"/>
              <a:ext cx="5544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72200" y="1471320"/>
              <a:ext cx="554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435440" y="1498320"/>
              <a:ext cx="16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78720" y="1471320"/>
              <a:ext cx="572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207120" y="159048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7612200" y="1590480"/>
              <a:ext cx="288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75600" y="1747800"/>
              <a:ext cx="144360" cy="42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8247240" y="2158920"/>
              <a:ext cx="1440" cy="257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8247240" y="1501200"/>
              <a:ext cx="1440" cy="250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61360" y="1811160"/>
              <a:ext cx="276120" cy="300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40640" y="1501560"/>
              <a:ext cx="64944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82000" y="2128680"/>
              <a:ext cx="1440" cy="21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82000" y="2324160"/>
              <a:ext cx="195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8082000" y="1694880"/>
              <a:ext cx="34596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228160" y="2293920"/>
              <a:ext cx="55440" cy="5544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96120" y="1546200"/>
              <a:ext cx="22212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30960" y="1143000"/>
              <a:ext cx="2206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81720" y="1143000"/>
              <a:ext cx="2224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61120" y="1800000"/>
              <a:ext cx="26208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82040" y="1815840"/>
              <a:ext cx="263520" cy="316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87680" y="5424480"/>
                <a:ext cx="170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970200" y="475632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spółczynnik temperaturowy napięcia wy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8:15:07Z</dcterms:created>
  <dc:creator>Agnieszka Kukawczynska</dc:creator>
  <dc:description/>
  <dc:language>en-US</dc:language>
  <cp:lastModifiedBy>MK</cp:lastModifiedBy>
  <dcterms:modified xsi:type="dcterms:W3CDTF">2004-05-31T12:59:47Z</dcterms:modified>
  <cp:revision>75</cp:revision>
  <dc:subject/>
  <dc:title>STABILIZATORY NAPIĘĆ</dc:title>
</cp:coreProperties>
</file>