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C28-4CE1-4B1F-A84C-725EA953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3EF-2B8C-46F3-B9CB-68C5C90C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76B-913F-4B07-AFD1-9BC0E0D6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E10-9A9F-486F-8948-DDF52EEA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AB1-8825-44CB-9E4D-A4B69C45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1F5-5E92-4BE9-B1EE-27A5C85F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611-E035-4751-B4BD-D82DB161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9F7-270D-4494-A8B3-31CEFACB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CC8-D8F4-474F-82AE-F0BDEB72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94A-855F-42BC-822D-989F276D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691-03BE-41AA-8856-E1B38502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EF8-46B1-4048-8A1D-67F0BA6B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FB4A-78B6-4679-A29A-DC60C0A85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003/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660680" y="2133720"/>
            <a:ext cx="5995800" cy="222084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wielkosygnałowy, lini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520" y="13651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83000" y="258444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8772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1024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891040" y="338472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89284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4600" y="2502000"/>
            <a:ext cx="4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68760" y="442260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00440" y="5462640"/>
                <a:ext cx="1843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6940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84240" y="534672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162160" y="5838840"/>
            <a:ext cx="85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9760" y="47750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hybryd - pi”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4200" y="15955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50920" y="1808280"/>
            <a:ext cx="2820240" cy="2707560"/>
            <a:chOff x="250920" y="1808280"/>
            <a:chExt cx="2820240" cy="2707560"/>
          </a:xfrm>
        </p:grpSpPr>
        <p:sp>
          <p:nvSpPr>
            <p:cNvPr id="376" name=""/>
            <p:cNvSpPr/>
            <p:nvPr/>
          </p:nvSpPr>
          <p:spPr>
            <a:xfrm>
              <a:off x="1488960" y="234792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88960" y="250020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20720" y="2336760"/>
              <a:ext cx="18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4360" y="295740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92280" y="29131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81120" y="19875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20720" y="2043000"/>
              <a:ext cx="860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20720" y="4300560"/>
              <a:ext cx="860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20720" y="2043000"/>
              <a:ext cx="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62040" y="423720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1960" y="29242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958680" y="2232000"/>
                  <a:ext cx="41292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88" name=""/>
            <p:cNvSpPr/>
            <p:nvPr/>
          </p:nvSpPr>
          <p:spPr>
            <a:xfrm>
              <a:off x="1631880" y="29574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0920" y="3110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70840" y="180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39880" y="40561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31880" y="2676600"/>
              <a:ext cx="0" cy="647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947960" y="20430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80920" y="29574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1080" y="30337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36840" y="333540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606680" y="4074840"/>
              <a:ext cx="0" cy="23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623960" y="3863520"/>
              <a:ext cx="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08080" y="3332160"/>
              <a:ext cx="49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048000" y="17733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349800" y="2241360"/>
            <a:ext cx="5252400" cy="2767320"/>
            <a:chOff x="3349800" y="2241360"/>
            <a:chExt cx="5252400" cy="2767320"/>
          </a:xfrm>
        </p:grpSpPr>
        <p:sp>
          <p:nvSpPr>
            <p:cNvPr id="402" name=""/>
            <p:cNvSpPr/>
            <p:nvPr/>
          </p:nvSpPr>
          <p:spPr>
            <a:xfrm>
              <a:off x="511164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6200000">
              <a:off x="428364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983280" y="3195720"/>
              <a:ext cx="417600" cy="717480"/>
              <a:chOff x="6983280" y="3195720"/>
              <a:chExt cx="417600" cy="717480"/>
            </a:xfrm>
          </p:grpSpPr>
          <p:sp>
            <p:nvSpPr>
              <p:cNvPr id="405" name=""/>
              <p:cNvSpPr/>
              <p:nvPr/>
            </p:nvSpPr>
            <p:spPr>
              <a:xfrm>
                <a:off x="698328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9444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21368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445000" y="3441600"/>
              <a:ext cx="324000" cy="81000"/>
              <a:chOff x="5445000" y="3441600"/>
              <a:chExt cx="324000" cy="81000"/>
            </a:xfrm>
          </p:grpSpPr>
          <p:sp>
            <p:nvSpPr>
              <p:cNvPr id="409" name=""/>
              <p:cNvSpPr/>
              <p:nvPr/>
            </p:nvSpPr>
            <p:spPr>
              <a:xfrm>
                <a:off x="545148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44500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053040" y="2927520"/>
              <a:ext cx="81000" cy="323280"/>
              <a:chOff x="6053040" y="2927520"/>
              <a:chExt cx="81000" cy="323280"/>
            </a:xfrm>
          </p:grpSpPr>
          <p:sp>
            <p:nvSpPr>
              <p:cNvPr id="412" name=""/>
              <p:cNvSpPr/>
              <p:nvPr/>
            </p:nvSpPr>
            <p:spPr>
              <a:xfrm flipV="1">
                <a:off x="605304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13404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77496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3860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20380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61024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0380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2752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380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3872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1512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978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4980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18800" y="2836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4240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2812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81524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3288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0688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4312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6432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3108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5464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3809520" y="3211560"/>
              <a:ext cx="141480" cy="1146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82560" y="359424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956120" y="3317760"/>
              <a:ext cx="0" cy="81144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83760" y="246528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8792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4060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9796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5952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7876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8824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620496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61024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1024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721512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56244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6416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454968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5248440" y="4464000"/>
                  <a:ext cx="30542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379260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9108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84040" y="90792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4040" y="3227400"/>
                <a:ext cx="1457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040" y="2043000"/>
                <a:ext cx="43689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84040" y="5543640"/>
                <a:ext cx="34038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5" name="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466" name="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467" name="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spółczynnika wzmocnienia prąd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1587600" y="1639440"/>
            <a:ext cx="0" cy="277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83640" y="41338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72080" y="136512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3800" y="2066760"/>
            <a:ext cx="50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58840" y="516420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938760" y="538632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6150960" y="5445000"/>
            <a:ext cx="2614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e wzmocni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723960" y="1991880"/>
            <a:ext cx="0" cy="294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17400" y="4921200"/>
            <a:ext cx="289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05040" y="17175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0920" y="5110200"/>
            <a:ext cx="41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7640" y="2727360"/>
            <a:ext cx="2311200" cy="852480"/>
          </a:xfrm>
          <a:custGeom>
            <a:avLst/>
            <a:gdLst/>
            <a:ahLst/>
            <a:rect l="l" t="t" r="r" b="b"/>
            <a:pathLst>
              <a:path w="1456" h="537">
                <a:moveTo>
                  <a:pt x="0" y="537"/>
                </a:moveTo>
                <a:cubicBezTo>
                  <a:pt x="83" y="454"/>
                  <a:pt x="166" y="371"/>
                  <a:pt x="244" y="304"/>
                </a:cubicBezTo>
                <a:cubicBezTo>
                  <a:pt x="322" y="237"/>
                  <a:pt x="387" y="185"/>
                  <a:pt x="467" y="137"/>
                </a:cubicBezTo>
                <a:cubicBezTo>
                  <a:pt x="547" y="89"/>
                  <a:pt x="631" y="30"/>
                  <a:pt x="722" y="15"/>
                </a:cubicBezTo>
                <a:cubicBezTo>
                  <a:pt x="813" y="0"/>
                  <a:pt x="918" y="10"/>
                  <a:pt x="1011" y="49"/>
                </a:cubicBezTo>
                <a:cubicBezTo>
                  <a:pt x="1104" y="88"/>
                  <a:pt x="1204" y="202"/>
                  <a:pt x="1278" y="248"/>
                </a:cubicBezTo>
                <a:cubicBezTo>
                  <a:pt x="1352" y="294"/>
                  <a:pt x="1404" y="310"/>
                  <a:pt x="1456" y="32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773600" y="2037960"/>
            <a:ext cx="0" cy="294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67400" y="4967280"/>
            <a:ext cx="289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4680" y="176364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99920" y="515628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010120" y="2857680"/>
            <a:ext cx="2452680" cy="863280"/>
          </a:xfrm>
          <a:custGeom>
            <a:avLst/>
            <a:gdLst/>
            <a:ahLst/>
            <a:rect l="l" t="t" r="r" b="b"/>
            <a:pathLst>
              <a:path w="1545" h="544">
                <a:moveTo>
                  <a:pt x="0" y="544"/>
                </a:moveTo>
                <a:cubicBezTo>
                  <a:pt x="50" y="464"/>
                  <a:pt x="100" y="385"/>
                  <a:pt x="167" y="344"/>
                </a:cubicBezTo>
                <a:cubicBezTo>
                  <a:pt x="234" y="303"/>
                  <a:pt x="319" y="309"/>
                  <a:pt x="400" y="300"/>
                </a:cubicBezTo>
                <a:cubicBezTo>
                  <a:pt x="481" y="291"/>
                  <a:pt x="543" y="302"/>
                  <a:pt x="656" y="289"/>
                </a:cubicBezTo>
                <a:cubicBezTo>
                  <a:pt x="769" y="276"/>
                  <a:pt x="961" y="239"/>
                  <a:pt x="1078" y="222"/>
                </a:cubicBezTo>
                <a:cubicBezTo>
                  <a:pt x="1195" y="205"/>
                  <a:pt x="1278" y="226"/>
                  <a:pt x="1356" y="189"/>
                </a:cubicBezTo>
                <a:cubicBezTo>
                  <a:pt x="1434" y="152"/>
                  <a:pt x="1489" y="76"/>
                  <a:pt x="1545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517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520" name="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523" name="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537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541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545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025720" y="1954080"/>
            <a:ext cx="4356360" cy="2211120"/>
            <a:chOff x="2025720" y="1954080"/>
            <a:chExt cx="4356360" cy="2211120"/>
          </a:xfrm>
        </p:grpSpPr>
        <p:grpSp>
          <p:nvGrpSpPr>
            <p:cNvPr id="613" name=""/>
            <p:cNvGrpSpPr/>
            <p:nvPr/>
          </p:nvGrpSpPr>
          <p:grpSpPr>
            <a:xfrm>
              <a:off x="4649040" y="2816280"/>
              <a:ext cx="449640" cy="826920"/>
              <a:chOff x="4649040" y="2816280"/>
              <a:chExt cx="449640" cy="826920"/>
            </a:xfrm>
          </p:grpSpPr>
          <p:sp>
            <p:nvSpPr>
              <p:cNvPr id="614" name=""/>
              <p:cNvSpPr/>
              <p:nvPr/>
            </p:nvSpPr>
            <p:spPr>
              <a:xfrm>
                <a:off x="4649040" y="2816280"/>
                <a:ext cx="437760" cy="528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60920" y="3114000"/>
                <a:ext cx="437760" cy="529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7080" y="3018960"/>
                <a:ext cx="0" cy="48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990880" y="3099600"/>
              <a:ext cx="348840" cy="92880"/>
              <a:chOff x="2990880" y="3099600"/>
              <a:chExt cx="348840" cy="92880"/>
            </a:xfrm>
          </p:grpSpPr>
          <p:sp>
            <p:nvSpPr>
              <p:cNvPr id="618" name=""/>
              <p:cNvSpPr/>
              <p:nvPr/>
            </p:nvSpPr>
            <p:spPr>
              <a:xfrm>
                <a:off x="2997720" y="309960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90880" y="319248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3646440" y="2507400"/>
              <a:ext cx="86760" cy="372600"/>
              <a:chOff x="3646440" y="2507400"/>
              <a:chExt cx="86760" cy="372600"/>
            </a:xfrm>
          </p:grpSpPr>
          <p:sp>
            <p:nvSpPr>
              <p:cNvPr id="621" name=""/>
              <p:cNvSpPr/>
              <p:nvPr/>
            </p:nvSpPr>
            <p:spPr>
              <a:xfrm flipV="1">
                <a:off x="3646440" y="250740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3733200" y="251460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2672640" y="2691720"/>
              <a:ext cx="95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3169080" y="2691720"/>
              <a:ext cx="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87440" y="3200400"/>
              <a:ext cx="0" cy="77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30600" y="3933000"/>
              <a:ext cx="30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38600" y="2711880"/>
              <a:ext cx="21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99240" y="2711880"/>
              <a:ext cx="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80520" y="364716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00600" y="2382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81760" y="240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91320" y="368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35040" y="3012120"/>
              <a:ext cx="75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1692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2862720" y="2793960"/>
              <a:ext cx="0" cy="93528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12840" y="2969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44960" y="388872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18600" y="385596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60000" y="268092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19400" y="266040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2025720" y="3918240"/>
                  <a:ext cx="121320" cy="24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381640" y="2087640"/>
                <a:ext cx="19051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, 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46" name=""/>
          <p:cNvGrpSpPr/>
          <p:nvPr/>
        </p:nvGrpSpPr>
        <p:grpSpPr>
          <a:xfrm>
            <a:off x="255600" y="1453680"/>
            <a:ext cx="4695480" cy="3207240"/>
            <a:chOff x="255600" y="1453680"/>
            <a:chExt cx="4695480" cy="3207240"/>
          </a:xfrm>
        </p:grpSpPr>
        <p:sp>
          <p:nvSpPr>
            <p:cNvPr id="647" name=""/>
            <p:cNvSpPr/>
            <p:nvPr/>
          </p:nvSpPr>
          <p:spPr>
            <a:xfrm rot="10800000">
              <a:off x="1763280" y="1628640"/>
              <a:ext cx="276120" cy="781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1716120" y="3933720"/>
              <a:ext cx="394920" cy="399960"/>
              <a:chOff x="1716120" y="3933720"/>
              <a:chExt cx="394920" cy="399960"/>
            </a:xfrm>
          </p:grpSpPr>
          <p:sp>
            <p:nvSpPr>
              <p:cNvPr id="649" name=""/>
              <p:cNvSpPr/>
              <p:nvPr/>
            </p:nvSpPr>
            <p:spPr>
              <a:xfrm>
                <a:off x="1920600" y="3933720"/>
                <a:ext cx="0" cy="39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716120" y="42966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506760" y="2884320"/>
              <a:ext cx="1129680" cy="941040"/>
              <a:chOff x="3506760" y="2884320"/>
              <a:chExt cx="1129680" cy="94104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3845520" y="3290040"/>
                <a:ext cx="790920" cy="134640"/>
                <a:chOff x="3845520" y="3290040"/>
                <a:chExt cx="790920" cy="1346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845520" y="3290040"/>
                  <a:ext cx="790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08680" y="3424680"/>
                  <a:ext cx="26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>
                <a:off x="4241520" y="3425400"/>
                <a:ext cx="0" cy="39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6760" y="2884320"/>
                <a:ext cx="364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4349880" y="263844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3640" y="1724040"/>
              <a:ext cx="59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508120" y="2827080"/>
              <a:ext cx="0" cy="9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84520" y="2962440"/>
              <a:ext cx="101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271680" y="1996920"/>
              <a:ext cx="63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671400" y="2953800"/>
              <a:ext cx="1236240" cy="936720"/>
              <a:chOff x="671400" y="2953800"/>
              <a:chExt cx="1236240" cy="936720"/>
            </a:xfrm>
          </p:grpSpPr>
          <p:sp>
            <p:nvSpPr>
              <p:cNvPr id="663" name=""/>
              <p:cNvSpPr/>
              <p:nvPr/>
            </p:nvSpPr>
            <p:spPr>
              <a:xfrm>
                <a:off x="1512720" y="3141000"/>
                <a:ext cx="0" cy="66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512720" y="3621960"/>
                <a:ext cx="394920" cy="268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1512720" y="2953800"/>
                <a:ext cx="394920" cy="401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671400" y="3486960"/>
                <a:ext cx="78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 flipV="1">
              <a:off x="1889280" y="24206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1913040" y="14536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13040" y="1454040"/>
              <a:ext cx="23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251240" y="1453680"/>
              <a:ext cx="0" cy="18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4049640" y="3844800"/>
              <a:ext cx="393480" cy="399960"/>
              <a:chOff x="4049640" y="3844800"/>
              <a:chExt cx="393480" cy="399960"/>
            </a:xfrm>
          </p:grpSpPr>
          <p:sp>
            <p:nvSpPr>
              <p:cNvPr id="672" name=""/>
              <p:cNvSpPr/>
              <p:nvPr/>
            </p:nvSpPr>
            <p:spPr>
              <a:xfrm>
                <a:off x="4253400" y="3844800"/>
                <a:ext cx="0" cy="39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49640" y="4207680"/>
                <a:ext cx="39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255600" y="318780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11480" y="1736640"/>
              <a:ext cx="1738080" cy="292428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994040" y="211464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976400" y="253800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1870200" y="3279240"/>
            <a:ext cx="2981160" cy="26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1852560" y="3649680"/>
            <a:ext cx="29466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710160" y="892080"/>
            <a:ext cx="1954080" cy="745560"/>
          </a:xfrm>
          <a:noFill/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-1/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97880" y="202572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00160" y="193500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6411960" y="4282920"/>
                <a:ext cx="14731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759120" y="345744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010120" y="187020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59680" y="9079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46400" y="914400"/>
            <a:ext cx="41130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matematyczne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iowy      -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liniowy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3600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541680"/>
            <a:ext cx="55612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kształcenie modeli nieliniowych w lin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otoczeniu ich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60960" y="4578480"/>
            <a:ext cx="5485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np.. Pr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760" y="5508720"/>
            <a:ext cx="677808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662440" y="3303720"/>
                <a:ext cx="249876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5796000" y="2019240"/>
                <a:ext cx="1554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 rot="10800000">
            <a:off x="1709640" y="2228760"/>
            <a:ext cx="27648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757680" y="3343320"/>
            <a:ext cx="1120320" cy="1530360"/>
            <a:chOff x="3757680" y="3343320"/>
            <a:chExt cx="1120320" cy="1530360"/>
          </a:xfrm>
        </p:grpSpPr>
        <p:grpSp>
          <p:nvGrpSpPr>
            <p:cNvPr id="726" name=""/>
            <p:cNvGrpSpPr/>
            <p:nvPr/>
          </p:nvGrpSpPr>
          <p:grpSpPr>
            <a:xfrm>
              <a:off x="3792600" y="3890880"/>
              <a:ext cx="790200" cy="134640"/>
              <a:chOff x="3792600" y="3890880"/>
              <a:chExt cx="790200" cy="134640"/>
            </a:xfrm>
          </p:grpSpPr>
          <p:sp>
            <p:nvSpPr>
              <p:cNvPr id="727" name=""/>
              <p:cNvSpPr/>
              <p:nvPr/>
            </p:nvSpPr>
            <p:spPr>
              <a:xfrm>
                <a:off x="3792600" y="3890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055760" y="4025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4187880" y="4025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57680" y="3579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76800" y="3343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92280" y="2360520"/>
            <a:ext cx="87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60440" y="3568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89040" y="3738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06600" y="236700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617400" y="3553920"/>
            <a:ext cx="1236600" cy="936720"/>
            <a:chOff x="617400" y="3553920"/>
            <a:chExt cx="1236600" cy="936720"/>
          </a:xfrm>
        </p:grpSpPr>
        <p:sp>
          <p:nvSpPr>
            <p:cNvPr id="737" name=""/>
            <p:cNvSpPr/>
            <p:nvPr/>
          </p:nvSpPr>
          <p:spPr>
            <a:xfrm>
              <a:off x="1458720" y="374112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58720" y="4222080"/>
              <a:ext cx="395280" cy="26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458720" y="3553920"/>
              <a:ext cx="39528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617400" y="4087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 flipV="1">
            <a:off x="1835280" y="302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1859040" y="2053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59040" y="2054160"/>
            <a:ext cx="23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197240" y="2053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1600" y="3787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78000" y="3881520"/>
            <a:ext cx="276480" cy="78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627280" y="3132000"/>
            <a:ext cx="100080" cy="447480"/>
            <a:chOff x="2627280" y="3132000"/>
            <a:chExt cx="100080" cy="447480"/>
          </a:xfrm>
        </p:grpSpPr>
        <p:sp>
          <p:nvSpPr>
            <p:cNvPr id="748" name=""/>
            <p:cNvSpPr/>
            <p:nvPr/>
          </p:nvSpPr>
          <p:spPr>
            <a:xfrm>
              <a:off x="2627280" y="313812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27360" y="313200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 flipH="1">
            <a:off x="1798560" y="333360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51120" y="3351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27400" y="3351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3000240" y="4651200"/>
            <a:ext cx="393840" cy="399960"/>
            <a:chOff x="3000240" y="4651200"/>
            <a:chExt cx="393840" cy="399960"/>
          </a:xfrm>
        </p:grpSpPr>
        <p:sp>
          <p:nvSpPr>
            <p:cNvPr id="754" name=""/>
            <p:cNvSpPr/>
            <p:nvPr/>
          </p:nvSpPr>
          <p:spPr>
            <a:xfrm>
              <a:off x="3205080" y="46512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00240" y="50241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3162600" y="28368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36120" y="3559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84520" y="3292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981600" y="4680000"/>
            <a:ext cx="393480" cy="399960"/>
            <a:chOff x="3981600" y="4680000"/>
            <a:chExt cx="393480" cy="399960"/>
          </a:xfrm>
        </p:grpSpPr>
        <p:sp>
          <p:nvSpPr>
            <p:cNvPr id="760" name=""/>
            <p:cNvSpPr/>
            <p:nvPr/>
          </p:nvSpPr>
          <p:spPr>
            <a:xfrm>
              <a:off x="4186080" y="4680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81600" y="505296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1619280" y="4632480"/>
            <a:ext cx="393840" cy="399960"/>
            <a:chOff x="1619280" y="4632480"/>
            <a:chExt cx="393840" cy="399960"/>
          </a:xfrm>
        </p:grpSpPr>
        <p:sp>
          <p:nvSpPr>
            <p:cNvPr id="763" name=""/>
            <p:cNvSpPr/>
            <p:nvPr/>
          </p:nvSpPr>
          <p:spPr>
            <a:xfrm>
              <a:off x="1824120" y="4632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19280" y="5005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 flipV="1">
            <a:off x="1822320" y="44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8040" y="2154240"/>
            <a:ext cx="2019240" cy="3487680"/>
          </a:xfrm>
          <a:custGeom>
            <a:avLst/>
            <a:gdLst/>
            <a:ahLst/>
            <a:rect l="l" t="t" r="r" b="b"/>
            <a:pathLst>
              <a:path w="1272" h="2197">
                <a:moveTo>
                  <a:pt x="1265" y="521"/>
                </a:moveTo>
                <a:cubicBezTo>
                  <a:pt x="1268" y="336"/>
                  <a:pt x="1272" y="152"/>
                  <a:pt x="1165" y="76"/>
                </a:cubicBezTo>
                <a:cubicBezTo>
                  <a:pt x="1058" y="0"/>
                  <a:pt x="775" y="48"/>
                  <a:pt x="621" y="65"/>
                </a:cubicBezTo>
                <a:cubicBezTo>
                  <a:pt x="467" y="82"/>
                  <a:pt x="334" y="56"/>
                  <a:pt x="243" y="176"/>
                </a:cubicBezTo>
                <a:cubicBezTo>
                  <a:pt x="152" y="296"/>
                  <a:pt x="109" y="573"/>
                  <a:pt x="76" y="788"/>
                </a:cubicBezTo>
                <a:cubicBezTo>
                  <a:pt x="43" y="1003"/>
                  <a:pt x="34" y="1284"/>
                  <a:pt x="43" y="1465"/>
                </a:cubicBezTo>
                <a:cubicBezTo>
                  <a:pt x="52" y="1646"/>
                  <a:pt x="0" y="1765"/>
                  <a:pt x="132" y="1876"/>
                </a:cubicBezTo>
                <a:cubicBezTo>
                  <a:pt x="264" y="1987"/>
                  <a:pt x="656" y="2197"/>
                  <a:pt x="832" y="2132"/>
                </a:cubicBezTo>
                <a:cubicBezTo>
                  <a:pt x="1008" y="2067"/>
                  <a:pt x="1128" y="1592"/>
                  <a:pt x="1187" y="148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01760" y="1714680"/>
            <a:ext cx="2630520" cy="1989000"/>
          </a:xfrm>
          <a:custGeom>
            <a:avLst/>
            <a:gdLst/>
            <a:ahLst/>
            <a:rect l="l" t="t" r="r" b="b"/>
            <a:pathLst>
              <a:path w="1657" h="1253">
                <a:moveTo>
                  <a:pt x="1657" y="65"/>
                </a:moveTo>
                <a:cubicBezTo>
                  <a:pt x="1596" y="32"/>
                  <a:pt x="1536" y="0"/>
                  <a:pt x="1469" y="9"/>
                </a:cubicBezTo>
                <a:cubicBezTo>
                  <a:pt x="1402" y="18"/>
                  <a:pt x="1326" y="115"/>
                  <a:pt x="1257" y="120"/>
                </a:cubicBezTo>
                <a:cubicBezTo>
                  <a:pt x="1188" y="125"/>
                  <a:pt x="1129" y="38"/>
                  <a:pt x="1057" y="42"/>
                </a:cubicBezTo>
                <a:cubicBezTo>
                  <a:pt x="985" y="46"/>
                  <a:pt x="891" y="144"/>
                  <a:pt x="824" y="142"/>
                </a:cubicBezTo>
                <a:cubicBezTo>
                  <a:pt x="757" y="140"/>
                  <a:pt x="731" y="25"/>
                  <a:pt x="657" y="31"/>
                </a:cubicBezTo>
                <a:cubicBezTo>
                  <a:pt x="583" y="37"/>
                  <a:pt x="451" y="169"/>
                  <a:pt x="379" y="176"/>
                </a:cubicBezTo>
                <a:cubicBezTo>
                  <a:pt x="307" y="183"/>
                  <a:pt x="272" y="63"/>
                  <a:pt x="224" y="76"/>
                </a:cubicBezTo>
                <a:cubicBezTo>
                  <a:pt x="176" y="89"/>
                  <a:pt x="93" y="190"/>
                  <a:pt x="91" y="253"/>
                </a:cubicBezTo>
                <a:cubicBezTo>
                  <a:pt x="89" y="316"/>
                  <a:pt x="226" y="396"/>
                  <a:pt x="213" y="453"/>
                </a:cubicBezTo>
                <a:cubicBezTo>
                  <a:pt x="200" y="510"/>
                  <a:pt x="26" y="542"/>
                  <a:pt x="13" y="598"/>
                </a:cubicBezTo>
                <a:cubicBezTo>
                  <a:pt x="0" y="654"/>
                  <a:pt x="124" y="728"/>
                  <a:pt x="135" y="787"/>
                </a:cubicBezTo>
                <a:cubicBezTo>
                  <a:pt x="146" y="846"/>
                  <a:pt x="62" y="909"/>
                  <a:pt x="79" y="953"/>
                </a:cubicBezTo>
                <a:cubicBezTo>
                  <a:pt x="96" y="997"/>
                  <a:pt x="218" y="1003"/>
                  <a:pt x="235" y="1053"/>
                </a:cubicBezTo>
                <a:cubicBezTo>
                  <a:pt x="252" y="1103"/>
                  <a:pt x="215" y="1178"/>
                  <a:pt x="179" y="125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51120" y="3044880"/>
            <a:ext cx="1895400" cy="1647720"/>
          </a:xfrm>
          <a:custGeom>
            <a:avLst/>
            <a:gdLst/>
            <a:ahLst/>
            <a:rect l="l" t="t" r="r" b="b"/>
            <a:pathLst>
              <a:path w="1194" h="1038">
                <a:moveTo>
                  <a:pt x="1134" y="1038"/>
                </a:moveTo>
                <a:cubicBezTo>
                  <a:pt x="1099" y="1005"/>
                  <a:pt x="1065" y="973"/>
                  <a:pt x="1067" y="938"/>
                </a:cubicBezTo>
                <a:cubicBezTo>
                  <a:pt x="1069" y="903"/>
                  <a:pt x="1145" y="874"/>
                  <a:pt x="1145" y="826"/>
                </a:cubicBezTo>
                <a:cubicBezTo>
                  <a:pt x="1145" y="778"/>
                  <a:pt x="1060" y="699"/>
                  <a:pt x="1067" y="649"/>
                </a:cubicBezTo>
                <a:cubicBezTo>
                  <a:pt x="1074" y="599"/>
                  <a:pt x="1194" y="563"/>
                  <a:pt x="1189" y="526"/>
                </a:cubicBezTo>
                <a:cubicBezTo>
                  <a:pt x="1184" y="489"/>
                  <a:pt x="1045" y="465"/>
                  <a:pt x="1034" y="426"/>
                </a:cubicBezTo>
                <a:cubicBezTo>
                  <a:pt x="1023" y="387"/>
                  <a:pt x="1127" y="328"/>
                  <a:pt x="1123" y="293"/>
                </a:cubicBezTo>
                <a:cubicBezTo>
                  <a:pt x="1119" y="258"/>
                  <a:pt x="1039" y="246"/>
                  <a:pt x="1011" y="215"/>
                </a:cubicBezTo>
                <a:cubicBezTo>
                  <a:pt x="983" y="184"/>
                  <a:pt x="987" y="111"/>
                  <a:pt x="956" y="104"/>
                </a:cubicBezTo>
                <a:cubicBezTo>
                  <a:pt x="925" y="97"/>
                  <a:pt x="857" y="180"/>
                  <a:pt x="822" y="171"/>
                </a:cubicBezTo>
                <a:cubicBezTo>
                  <a:pt x="787" y="162"/>
                  <a:pt x="774" y="49"/>
                  <a:pt x="745" y="49"/>
                </a:cubicBezTo>
                <a:cubicBezTo>
                  <a:pt x="716" y="49"/>
                  <a:pt x="676" y="178"/>
                  <a:pt x="645" y="171"/>
                </a:cubicBezTo>
                <a:cubicBezTo>
                  <a:pt x="614" y="164"/>
                  <a:pt x="597" y="8"/>
                  <a:pt x="556" y="4"/>
                </a:cubicBezTo>
                <a:cubicBezTo>
                  <a:pt x="515" y="0"/>
                  <a:pt x="441" y="138"/>
                  <a:pt x="400" y="149"/>
                </a:cubicBezTo>
                <a:cubicBezTo>
                  <a:pt x="359" y="160"/>
                  <a:pt x="342" y="73"/>
                  <a:pt x="311" y="71"/>
                </a:cubicBezTo>
                <a:cubicBezTo>
                  <a:pt x="280" y="69"/>
                  <a:pt x="246" y="136"/>
                  <a:pt x="211" y="138"/>
                </a:cubicBezTo>
                <a:cubicBezTo>
                  <a:pt x="176" y="140"/>
                  <a:pt x="120" y="62"/>
                  <a:pt x="100" y="82"/>
                </a:cubicBezTo>
                <a:cubicBezTo>
                  <a:pt x="80" y="102"/>
                  <a:pt x="106" y="197"/>
                  <a:pt x="89" y="260"/>
                </a:cubicBezTo>
                <a:cubicBezTo>
                  <a:pt x="72" y="323"/>
                  <a:pt x="15" y="427"/>
                  <a:pt x="0" y="46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88440" y="1512720"/>
            <a:ext cx="42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'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12600" y="3235320"/>
            <a:ext cx="4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5708520" y="4630680"/>
                <a:ext cx="1814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849240" y="1243080"/>
            <a:ext cx="7916040" cy="5406840"/>
            <a:chOff x="849240" y="1243080"/>
            <a:chExt cx="7916040" cy="5406840"/>
          </a:xfrm>
        </p:grpSpPr>
        <p:sp>
          <p:nvSpPr>
            <p:cNvPr id="774" name=""/>
            <p:cNvSpPr/>
            <p:nvPr/>
          </p:nvSpPr>
          <p:spPr>
            <a:xfrm flipV="1">
              <a:off x="1800360" y="1864800"/>
              <a:ext cx="0" cy="24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93800" y="42559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817640" y="2280960"/>
              <a:ext cx="193680" cy="19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2028960" y="1881000"/>
              <a:ext cx="284004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1994040" y="2379240"/>
              <a:ext cx="285732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1976400" y="2777760"/>
              <a:ext cx="292896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1941480" y="3125880"/>
              <a:ext cx="290988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1870200" y="3476520"/>
              <a:ext cx="298116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1852560" y="3823920"/>
              <a:ext cx="29466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903560" y="377028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46960" y="16714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817640" y="2379600"/>
              <a:ext cx="2840040" cy="1860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03520" y="4148280"/>
              <a:ext cx="82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49240" y="286236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17640" y="329400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93920" y="3276720"/>
              <a:ext cx="0" cy="1012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91400" y="2822400"/>
              <a:ext cx="400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11560" y="1243080"/>
              <a:ext cx="1954080" cy="745560"/>
            </a:xfrm>
            <a:noFill/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Nachyl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-1/(R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||R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93120" y="28749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209760" y="4390920"/>
              <a:ext cx="0" cy="225900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68760" y="327816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856120" y="1916280"/>
              <a:ext cx="0" cy="234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873760" y="2463840"/>
              <a:ext cx="1676520" cy="16621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19200" y="169560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200000">
              <a:off x="2388240" y="4917240"/>
              <a:ext cx="157968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87480" y="465624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845600" y="468468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058600" y="30751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342240" y="61754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297480" y="25300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16200" y="586908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00160" y="220968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20920" y="5634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122880" y="4324320"/>
                  <a:ext cx="2024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8" name=""/>
            <p:cNvSpPr/>
            <p:nvPr/>
          </p:nvSpPr>
          <p:spPr>
            <a:xfrm>
              <a:off x="2401920" y="2081160"/>
              <a:ext cx="1373040" cy="207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39920" y="3228840"/>
              <a:ext cx="74880" cy="6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757680" y="414180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91040" y="2862360"/>
              <a:ext cx="1676520" cy="75096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25440" y="1243080"/>
              <a:ext cx="33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Dynamiczna prosta pr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6161040" y="5410080"/>
                  <a:ext cx="1533600" cy="101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Q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Q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817" name="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818" name="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00160" y="193500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021040" y="55897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843520" y="4535640"/>
                <a:ext cx="21686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859" name="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896" name="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0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937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940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943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85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003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071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1149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1213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1286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1359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1432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1505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1578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9" name="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4" name="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5" name="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7" name="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1700" name="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1708" name="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1711" name="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2" name="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0120" y="907920"/>
            <a:ext cx="0" cy="425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8600" y="5184720"/>
            <a:ext cx="628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110120" y="1584000"/>
            <a:ext cx="28260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6400" y="1076400"/>
            <a:ext cx="2116080" cy="410832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81400" y="942840"/>
            <a:ext cx="3033720" cy="3712680"/>
            <a:chOff x="4181400" y="942840"/>
            <a:chExt cx="3033720" cy="3712680"/>
          </a:xfrm>
        </p:grpSpPr>
        <p:sp>
          <p:nvSpPr>
            <p:cNvPr id="56" name=""/>
            <p:cNvSpPr/>
            <p:nvPr/>
          </p:nvSpPr>
          <p:spPr>
            <a:xfrm flipV="1">
              <a:off x="4410000" y="1535040"/>
              <a:ext cx="2803320" cy="52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0160" y="2256840"/>
              <a:ext cx="2874960" cy="3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286160" y="2874960"/>
              <a:ext cx="292896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51240" y="3526920"/>
              <a:ext cx="2946240" cy="15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16320" y="4092120"/>
              <a:ext cx="298116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181400" y="4620600"/>
              <a:ext cx="301608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427280" y="942840"/>
              <a:ext cx="2735280" cy="62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375720" y="85896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242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78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199760" y="579600"/>
            <a:ext cx="3183840" cy="4023360"/>
            <a:chOff x="4199760" y="579600"/>
            <a:chExt cx="3183840" cy="4023360"/>
          </a:xfrm>
        </p:grpSpPr>
        <p:sp>
          <p:nvSpPr>
            <p:cNvPr id="67" name=""/>
            <p:cNvSpPr/>
            <p:nvPr/>
          </p:nvSpPr>
          <p:spPr>
            <a:xfrm flipV="1">
              <a:off x="4401000" y="1185120"/>
              <a:ext cx="2910600" cy="72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361400" y="1927080"/>
              <a:ext cx="2997720" cy="528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286160" y="2560320"/>
              <a:ext cx="3059280" cy="46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246560" y="3249000"/>
              <a:ext cx="3083040" cy="35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260600" y="3814560"/>
              <a:ext cx="3123000" cy="298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99760" y="4373640"/>
              <a:ext cx="3164040" cy="229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388040" y="579600"/>
              <a:ext cx="2831760" cy="818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181240" y="1071720"/>
            <a:ext cx="1940040" cy="408924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58880" y="2398680"/>
            <a:ext cx="1074960" cy="6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920" y="304632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z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421320" y="3703680"/>
            <a:ext cx="247680" cy="109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812160" y="498600"/>
            <a:ext cx="77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ąc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685800" y="1523880"/>
            <a:ext cx="7358760" cy="4406760"/>
            <a:chOff x="685800" y="1523880"/>
            <a:chExt cx="7358760" cy="4406760"/>
          </a:xfrm>
        </p:grpSpPr>
        <p:sp>
          <p:nvSpPr>
            <p:cNvPr id="1745" name=""/>
            <p:cNvSpPr/>
            <p:nvPr/>
          </p:nvSpPr>
          <p:spPr>
            <a:xfrm>
              <a:off x="2032560" y="2324880"/>
              <a:ext cx="75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014200" y="2324880"/>
              <a:ext cx="0" cy="62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rot="10800000">
              <a:off x="1888560" y="2948400"/>
              <a:ext cx="253800" cy="784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6578640" y="4415400"/>
              <a:ext cx="727920" cy="135000"/>
              <a:chOff x="6578640" y="4415400"/>
              <a:chExt cx="727920" cy="135000"/>
            </a:xfrm>
          </p:grpSpPr>
          <p:sp>
            <p:nvSpPr>
              <p:cNvPr id="1749" name=""/>
              <p:cNvSpPr/>
              <p:nvPr/>
            </p:nvSpPr>
            <p:spPr>
              <a:xfrm>
                <a:off x="6578640" y="4415400"/>
                <a:ext cx="727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820920" y="4550400"/>
                <a:ext cx="24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1604520" y="4415400"/>
              <a:ext cx="728280" cy="135000"/>
              <a:chOff x="1604520" y="4415400"/>
              <a:chExt cx="728280" cy="135000"/>
            </a:xfrm>
          </p:grpSpPr>
          <p:sp>
            <p:nvSpPr>
              <p:cNvPr id="1752" name=""/>
              <p:cNvSpPr/>
              <p:nvPr/>
            </p:nvSpPr>
            <p:spPr>
              <a:xfrm>
                <a:off x="1604520" y="4415400"/>
                <a:ext cx="728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846800" y="4550400"/>
                <a:ext cx="24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4" name=""/>
            <p:cNvSpPr/>
            <p:nvPr/>
          </p:nvSpPr>
          <p:spPr>
            <a:xfrm>
              <a:off x="1969200" y="4550760"/>
              <a:ext cx="0" cy="97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942600" y="4550760"/>
              <a:ext cx="0" cy="97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969200" y="5529960"/>
              <a:ext cx="497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999080" y="374940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57360" y="348228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257360" y="5151960"/>
              <a:ext cx="0" cy="37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272120" y="55299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071600" y="5893920"/>
              <a:ext cx="363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407600" y="4016520"/>
              <a:ext cx="33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443360" y="4194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265160" y="4020480"/>
              <a:ext cx="352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85800" y="410580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43640" y="3037320"/>
              <a:ext cx="54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176840" y="29484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10800000">
              <a:off x="4134960" y="4391280"/>
              <a:ext cx="253800" cy="782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536000" y="4461480"/>
              <a:ext cx="537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10800000">
              <a:off x="3807360" y="2770200"/>
              <a:ext cx="203760" cy="2260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3780720" y="3037320"/>
              <a:ext cx="272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931840" y="2324880"/>
              <a:ext cx="100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060600" y="2251080"/>
              <a:ext cx="113400" cy="1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597920" y="2314080"/>
              <a:ext cx="1462320" cy="1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894480" y="3482280"/>
              <a:ext cx="72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911040" y="3037320"/>
              <a:ext cx="0" cy="444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455720" y="2770200"/>
              <a:ext cx="280800" cy="31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455720" y="2948400"/>
              <a:ext cx="280800" cy="31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594680" y="2757240"/>
              <a:ext cx="1800" cy="53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15240" y="3415680"/>
              <a:ext cx="75240" cy="8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586040" y="2304720"/>
              <a:ext cx="0" cy="461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206960" y="3838680"/>
              <a:ext cx="113400" cy="1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802960" y="2271240"/>
              <a:ext cx="113400" cy="1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4" name=""/>
                <p:cNvSpPr txBox="1"/>
                <p:nvPr/>
              </p:nvSpPr>
              <p:spPr>
                <a:xfrm>
                  <a:off x="5258160" y="3482280"/>
                  <a:ext cx="1325160" cy="42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85" name=""/>
            <p:cNvSpPr/>
            <p:nvPr/>
          </p:nvSpPr>
          <p:spPr>
            <a:xfrm>
              <a:off x="4937040" y="1702080"/>
              <a:ext cx="41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771280" y="2859120"/>
              <a:ext cx="72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452320" y="1523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741280" y="1612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455720" y="3660480"/>
              <a:ext cx="4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916080" y="2324880"/>
              <a:ext cx="0" cy="454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4936680" y="230472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138840" y="2324880"/>
              <a:ext cx="40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356800" y="27126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332880" y="1702080"/>
              <a:ext cx="41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594680" y="3037320"/>
              <a:ext cx="0" cy="453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215240" y="5461200"/>
              <a:ext cx="75240" cy="8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5097960" y="2503080"/>
              <a:ext cx="0" cy="80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3573360" y="2680920"/>
              <a:ext cx="0" cy="80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253760" y="3957120"/>
              <a:ext cx="0" cy="41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974640" y="2324880"/>
              <a:ext cx="0" cy="62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10800000">
              <a:off x="6848640" y="2948400"/>
              <a:ext cx="253800" cy="784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59520" y="374940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185520" y="2324880"/>
              <a:ext cx="75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 flipV="1">
              <a:off x="4776480" y="3215520"/>
              <a:ext cx="400680" cy="44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245480" y="3482280"/>
              <a:ext cx="0" cy="35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742920" y="342468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610720" y="3877560"/>
              <a:ext cx="932400" cy="1029600"/>
            </a:xfrm>
            <a:prstGeom prst="uturnArrow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093120" y="4550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5308200" y="3927600"/>
              <a:ext cx="992880" cy="1029600"/>
            </a:xfrm>
            <a:prstGeom prst="uturnArrow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99720" y="455076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4" name=""/>
              <p:cNvSpPr txBox="1"/>
              <p:nvPr/>
            </p:nvSpPr>
            <p:spPr>
              <a:xfrm>
                <a:off x="2865600" y="2441520"/>
                <a:ext cx="31636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5" name="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882720" y="4708440"/>
                <a:ext cx="674532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876240" y="4303800"/>
                <a:ext cx="696456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1052640" y="48096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870120" y="1622520"/>
                <a:ext cx="72928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3" name="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669960" y="4343400"/>
                <a:ext cx="7805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6" name="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β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6" name="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11800" y="839880"/>
            <a:ext cx="434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β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1600200" y="2424240"/>
                <a:ext cx="63705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d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1" name="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1703520" y="4648320"/>
                <a:ext cx="616248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r>
                          <m:t xml:space="preserve">Δβ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142920" y="4403880"/>
                <a:ext cx="7392960" cy="20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Δβ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1889280" y="2930400"/>
                <a:ext cx="48402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3011400" y="4683240"/>
                <a:ext cx="2594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1" name="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β &gt;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1965240" y="1406520"/>
                <a:ext cx="46846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57600" y="4179960"/>
                <a:ext cx="2421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" name=""/>
          <p:cNvGrpSpPr/>
          <p:nvPr/>
        </p:nvGrpSpPr>
        <p:grpSpPr>
          <a:xfrm>
            <a:off x="285480" y="1365120"/>
            <a:ext cx="3891960" cy="3596760"/>
            <a:chOff x="285480" y="1365120"/>
            <a:chExt cx="3891960" cy="3596760"/>
          </a:xfrm>
        </p:grpSpPr>
        <p:sp>
          <p:nvSpPr>
            <p:cNvPr id="83" name=""/>
            <p:cNvSpPr/>
            <p:nvPr/>
          </p:nvSpPr>
          <p:spPr>
            <a:xfrm>
              <a:off x="1676520" y="23860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25714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24480" y="2372400"/>
              <a:ext cx="1440" cy="55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6520" y="35002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36856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1824480" y="3468600"/>
              <a:ext cx="1440" cy="55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2508840" y="3592800"/>
              <a:ext cx="217440" cy="2358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480040" y="3871440"/>
              <a:ext cx="290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475000" y="2496240"/>
              <a:ext cx="290160" cy="261000"/>
              <a:chOff x="2475000" y="2496240"/>
              <a:chExt cx="290160" cy="261000"/>
            </a:xfrm>
          </p:grpSpPr>
          <p:sp>
            <p:nvSpPr>
              <p:cNvPr id="92" name=""/>
              <p:cNvSpPr/>
              <p:nvPr/>
            </p:nvSpPr>
            <p:spPr>
              <a:xfrm>
                <a:off x="2521440" y="2521440"/>
                <a:ext cx="21708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475000" y="2496240"/>
                <a:ext cx="29016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72200" y="3128760"/>
              <a:ext cx="1882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7720" y="2757600"/>
              <a:ext cx="0" cy="835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94520" y="3078720"/>
              <a:ext cx="7992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92080" y="3074760"/>
              <a:ext cx="8028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80120" y="1964520"/>
              <a:ext cx="8028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80120" y="4258440"/>
              <a:ext cx="8028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06920" y="1946880"/>
              <a:ext cx="120960" cy="1314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47520" y="2921400"/>
              <a:ext cx="0" cy="556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4480" y="2014560"/>
              <a:ext cx="1882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4480" y="4335840"/>
              <a:ext cx="1882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19360" y="2014560"/>
              <a:ext cx="0" cy="46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9360" y="3871440"/>
              <a:ext cx="0" cy="464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4480" y="2014560"/>
              <a:ext cx="0" cy="37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24480" y="3964320"/>
              <a:ext cx="0" cy="37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06920" y="4258440"/>
              <a:ext cx="120960" cy="1310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680" y="3088080"/>
              <a:ext cx="120960" cy="1314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882720" y="2200320"/>
                  <a:ext cx="848520" cy="46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927720" y="3778560"/>
                  <a:ext cx="725040" cy="46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 flipV="1">
              <a:off x="2637720" y="2757240"/>
              <a:ext cx="0" cy="27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37720" y="3128760"/>
              <a:ext cx="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65880" y="2664720"/>
              <a:ext cx="440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65880" y="3035880"/>
              <a:ext cx="440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480" y="3314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09080" y="2107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4040" y="3685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022560" y="2014560"/>
              <a:ext cx="42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36880" y="4335840"/>
              <a:ext cx="42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4080" y="3128760"/>
              <a:ext cx="42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51560" y="1365120"/>
              <a:ext cx="51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22560" y="4521240"/>
              <a:ext cx="599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9200" y="3035880"/>
              <a:ext cx="378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65080" y="4667400"/>
                <a:ext cx="177192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0" name="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6" name="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12720" y="614520"/>
            <a:ext cx="779472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69720" y="4173480"/>
            <a:ext cx="828072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jest odpowiednim dzielnikiem rezystancyjn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3352680" y="5105520"/>
            <a:ext cx="1600200" cy="1218960"/>
          </a:xfrm>
          <a:prstGeom prst="wedgeRoundRectCallout">
            <a:avLst>
              <a:gd name="adj1" fmla="val -120930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1873" name="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8" name="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1879" name="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1" name="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8" name=""/>
          <p:cNvSpPr/>
          <p:nvPr/>
        </p:nvSpPr>
        <p:spPr>
          <a:xfrm>
            <a:off x="146160" y="304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z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9" name="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0" name=""/>
          <p:cNvSpPr/>
          <p:nvPr/>
        </p:nvSpPr>
        <p:spPr>
          <a:xfrm>
            <a:off x="3425400" y="1811160"/>
            <a:ext cx="4992120" cy="87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zadko stosowany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bardzo duż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1915" name="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6" name="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1917" name="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4" name="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7" name="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0" name=""/>
          <p:cNvSpPr/>
          <p:nvPr/>
        </p:nvSpPr>
        <p:spPr>
          <a:xfrm>
            <a:off x="305280" y="228600"/>
            <a:ext cx="84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emite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304920" y="5029200"/>
                <a:ext cx="789444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ęciowe 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układy o małych prądach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 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układy o dużych prądach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5" name="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6" name=""/>
          <p:cNvGraphicFramePr/>
          <p:nvPr/>
        </p:nvGraphicFramePr>
        <p:xfrm>
          <a:off x="833400" y="103356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356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ształcenie w układ dwubateryu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971640" y="3944880"/>
                <a:ext cx="2316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5162400" y="510048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971640" y="506412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5035680" y="387828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971640" y="582444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4" name=""/>
          <p:cNvSpPr/>
          <p:nvPr/>
        </p:nvSpPr>
        <p:spPr>
          <a:xfrm>
            <a:off x="3429000" y="12193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10960" y="225756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1978" name="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rot="10800000">
              <a:off x="858600" y="3300120"/>
              <a:ext cx="13788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1987" name="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925560" y="421632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925560" y="4446720"/>
              <a:ext cx="178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925560" y="3753000"/>
              <a:ext cx="0" cy="48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925560" y="305748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04920" y="3206880"/>
              <a:ext cx="49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066680" y="1779480"/>
              <a:ext cx="4622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1" name="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2" name="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3" name="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4" name="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509840" y="304920"/>
                <a:ext cx="3205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525680" y="1523880"/>
                <a:ext cx="3205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1525680" y="2819520"/>
                <a:ext cx="3205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1616040" y="3962520"/>
                <a:ext cx="38116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1555920" y="5257800"/>
                <a:ext cx="3960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1677960" y="1112760"/>
            <a:ext cx="5894280" cy="4516560"/>
            <a:chOff x="1677960" y="1112760"/>
            <a:chExt cx="5894280" cy="4516560"/>
          </a:xfrm>
        </p:grpSpPr>
        <p:sp>
          <p:nvSpPr>
            <p:cNvPr id="2032" name="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9" name=""/>
            <p:cNvGrpSpPr/>
            <p:nvPr/>
          </p:nvGrpSpPr>
          <p:grpSpPr>
            <a:xfrm>
              <a:off x="4552920" y="2948040"/>
              <a:ext cx="541080" cy="102600"/>
              <a:chOff x="4552920" y="2948040"/>
              <a:chExt cx="541080" cy="102600"/>
            </a:xfrm>
          </p:grpSpPr>
          <p:sp>
            <p:nvSpPr>
              <p:cNvPr id="2040" name=""/>
              <p:cNvSpPr/>
              <p:nvPr/>
            </p:nvSpPr>
            <p:spPr>
              <a:xfrm>
                <a:off x="4552920" y="294804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73292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2" name=""/>
            <p:cNvSpPr/>
            <p:nvPr/>
          </p:nvSpPr>
          <p:spPr>
            <a:xfrm>
              <a:off x="3673440" y="5629320"/>
              <a:ext cx="113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602160" y="112716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753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9" name="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2050" name="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2" name=""/>
            <p:cNvSpPr/>
            <p:nvPr/>
          </p:nvSpPr>
          <p:spPr>
            <a:xfrm>
              <a:off x="4998960" y="2581200"/>
              <a:ext cx="24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4692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80708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7" name="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2068" name="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1" name="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932440" y="3270240"/>
              <a:ext cx="163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4" name=""/>
            <p:cNvGrpSpPr/>
            <p:nvPr/>
          </p:nvGrpSpPr>
          <p:grpSpPr>
            <a:xfrm>
              <a:off x="4511520" y="5305320"/>
              <a:ext cx="541080" cy="102960"/>
              <a:chOff x="4511520" y="5305320"/>
              <a:chExt cx="541080" cy="102960"/>
            </a:xfrm>
          </p:grpSpPr>
          <p:sp>
            <p:nvSpPr>
              <p:cNvPr id="2075" name=""/>
              <p:cNvSpPr/>
              <p:nvPr/>
            </p:nvSpPr>
            <p:spPr>
              <a:xfrm>
                <a:off x="451152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69152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7" name=""/>
            <p:cNvSpPr/>
            <p:nvPr/>
          </p:nvSpPr>
          <p:spPr>
            <a:xfrm>
              <a:off x="479916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79916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438280" y="48387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137200" y="5057640"/>
              <a:ext cx="61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657600" y="36291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3" name=""/>
            <p:cNvGrpSpPr/>
            <p:nvPr/>
          </p:nvGrpSpPr>
          <p:grpSpPr>
            <a:xfrm>
              <a:off x="4276800" y="3828960"/>
              <a:ext cx="295200" cy="76320"/>
              <a:chOff x="4276800" y="3828960"/>
              <a:chExt cx="295200" cy="76320"/>
            </a:xfrm>
          </p:grpSpPr>
          <p:sp>
            <p:nvSpPr>
              <p:cNvPr id="2084" name=""/>
              <p:cNvSpPr/>
              <p:nvPr/>
            </p:nvSpPr>
            <p:spPr>
              <a:xfrm>
                <a:off x="4276800" y="3828960"/>
                <a:ext cx="28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4286160" y="3905280"/>
                <a:ext cx="28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>
              <a:off x="4429080" y="362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429080" y="39052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371840" y="477360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926160" y="36766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693960" y="2857680"/>
              <a:ext cx="98424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677960" y="35798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64968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rot="10800000">
            <a:off x="3546000" y="1452240"/>
            <a:ext cx="1890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7101000" y="2948040"/>
            <a:ext cx="540720" cy="102600"/>
            <a:chOff x="7101000" y="2948040"/>
            <a:chExt cx="540720" cy="102600"/>
          </a:xfrm>
        </p:grpSpPr>
        <p:sp>
          <p:nvSpPr>
            <p:cNvPr id="2097" name=""/>
            <p:cNvSpPr/>
            <p:nvPr/>
          </p:nvSpPr>
          <p:spPr>
            <a:xfrm>
              <a:off x="7101000" y="2948040"/>
              <a:ext cx="54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281000" y="3050640"/>
              <a:ext cx="18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3673440" y="562932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670200" y="455940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36302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649680" y="1127160"/>
            <a:ext cx="37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436840" y="3149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52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300800" y="479268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6" name=""/>
          <p:cNvGrpSpPr/>
          <p:nvPr/>
        </p:nvGrpSpPr>
        <p:grpSpPr>
          <a:xfrm>
            <a:off x="2300400" y="4856040"/>
            <a:ext cx="271440" cy="306360"/>
            <a:chOff x="2300400" y="4856040"/>
            <a:chExt cx="271440" cy="306360"/>
          </a:xfrm>
        </p:grpSpPr>
        <p:sp>
          <p:nvSpPr>
            <p:cNvPr id="2107" name=""/>
            <p:cNvSpPr/>
            <p:nvPr/>
          </p:nvSpPr>
          <p:spPr>
            <a:xfrm>
              <a:off x="244152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300400" y="5133960"/>
              <a:ext cx="27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9" name=""/>
          <p:cNvSpPr/>
          <p:nvPr/>
        </p:nvSpPr>
        <p:spPr>
          <a:xfrm>
            <a:off x="7547040" y="2581200"/>
            <a:ext cx="2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769464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 flipV="1">
            <a:off x="3068640" y="3385800"/>
            <a:ext cx="357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86308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rot="10800000">
            <a:off x="2341080" y="3436560"/>
            <a:ext cx="18756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43684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V="1">
            <a:off x="243684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3548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844800" y="14954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3441600" y="3855960"/>
            <a:ext cx="457200" cy="685800"/>
            <a:chOff x="3441600" y="3855960"/>
            <a:chExt cx="457200" cy="685800"/>
          </a:xfrm>
        </p:grpSpPr>
        <p:sp>
          <p:nvSpPr>
            <p:cNvPr id="2119" name=""/>
            <p:cNvSpPr/>
            <p:nvPr/>
          </p:nvSpPr>
          <p:spPr>
            <a:xfrm>
              <a:off x="3441600" y="3855960"/>
              <a:ext cx="457200" cy="457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441600" y="4084560"/>
              <a:ext cx="457200" cy="457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670200" y="4008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2" name=""/>
          <p:cNvSpPr/>
          <p:nvPr/>
        </p:nvSpPr>
        <p:spPr>
          <a:xfrm>
            <a:off x="2838600" y="415116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5932440" y="3270240"/>
            <a:ext cx="163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1765440" y="3173400"/>
            <a:ext cx="564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5" name=""/>
          <p:cNvGrpSpPr/>
          <p:nvPr/>
        </p:nvGrpSpPr>
        <p:grpSpPr>
          <a:xfrm>
            <a:off x="7059600" y="5305320"/>
            <a:ext cx="541080" cy="102960"/>
            <a:chOff x="7059600" y="5305320"/>
            <a:chExt cx="541080" cy="102960"/>
          </a:xfrm>
        </p:grpSpPr>
        <p:sp>
          <p:nvSpPr>
            <p:cNvPr id="2126" name=""/>
            <p:cNvSpPr/>
            <p:nvPr/>
          </p:nvSpPr>
          <p:spPr>
            <a:xfrm>
              <a:off x="7059600" y="5305320"/>
              <a:ext cx="54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39600" y="5408280"/>
              <a:ext cx="18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8" name=""/>
          <p:cNvSpPr/>
          <p:nvPr/>
        </p:nvSpPr>
        <p:spPr>
          <a:xfrm>
            <a:off x="73468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3468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438280" y="4838760"/>
            <a:ext cx="498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381400" y="4782960"/>
            <a:ext cx="8712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684920" y="505764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5896080" y="4792680"/>
            <a:ext cx="8712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37824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378240" y="3251160"/>
            <a:ext cx="27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108240" y="314964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V="1">
            <a:off x="3378240" y="2738520"/>
            <a:ext cx="27144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84600" y="315108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6352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39625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941640" y="2963880"/>
            <a:ext cx="91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7817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35280" y="231300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657600" y="362916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600360" y="358308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357880" y="286380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H="1">
            <a:off x="5086440" y="3243240"/>
            <a:ext cx="27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 flipH="1">
            <a:off x="5357520" y="314172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 flipV="1">
            <a:off x="5086440" y="2730600"/>
            <a:ext cx="27144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5533920" y="3143160"/>
            <a:ext cx="41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100480" y="230508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4773600" y="283176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5553720" y="2560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4628520" y="230508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5048280" y="1089000"/>
            <a:ext cx="8712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5067360" y="34290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5095800" y="1133280"/>
            <a:ext cx="0" cy="16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952960" y="3143160"/>
            <a:ext cx="0" cy="169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175280" y="3662280"/>
            <a:ext cx="906480" cy="510120"/>
          </a:xfrm>
          <a:prstGeom prst="rect">
            <a:avLst/>
          </a:prstGeom>
          <a:solidFill>
            <a:srgbClr val="ff6699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61600" y="1295280"/>
            <a:ext cx="813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wiadomo, że tranzystor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0 ) dla tranzystora n-p-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-p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131" name="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158" name="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3" name="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64" name="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2165" name="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4" name="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2285" name="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8" name="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0" name="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2291" name="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5" name="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2428" name="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2463" name="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0" name="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2510" name="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2" name="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1" name="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2522" name="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4" name="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2525" name="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7" name="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0" name="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2531" name="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3" name="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2534" name="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6" name="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2538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0" name="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1" name="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2542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4" name="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5" name="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2546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8" name="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2" name="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2553" name="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2579" name="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2619" name="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6" name="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2647" name="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1" name="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7" name="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2688" name="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6" name="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2697" name="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9" name="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2" name="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2703" name="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5" name="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2706" name="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8" name="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5" name="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2726" name="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4" name="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2735" name="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7" name="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0" name="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2741" name="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3" name="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2744" name="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6" name="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2386080" y="1224000"/>
            <a:ext cx="3821040" cy="2901960"/>
            <a:chOff x="2386080" y="1224000"/>
            <a:chExt cx="3821040" cy="2901960"/>
          </a:xfrm>
        </p:grpSpPr>
        <p:sp>
          <p:nvSpPr>
            <p:cNvPr id="2771" name=""/>
            <p:cNvSpPr/>
            <p:nvPr/>
          </p:nvSpPr>
          <p:spPr>
            <a:xfrm>
              <a:off x="2832120" y="1887480"/>
              <a:ext cx="1792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921040" y="17017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921040" y="235440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386080" y="198756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552040" y="20304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780080" y="2916360"/>
              <a:ext cx="536400" cy="5364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944960" y="303372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4960800" y="298620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9" name=""/>
            <p:cNvGrpSpPr/>
            <p:nvPr/>
          </p:nvGrpSpPr>
          <p:grpSpPr>
            <a:xfrm>
              <a:off x="4960800" y="3224160"/>
              <a:ext cx="163800" cy="111240"/>
              <a:chOff x="4960800" y="3224160"/>
              <a:chExt cx="163800" cy="111240"/>
            </a:xfrm>
          </p:grpSpPr>
          <p:sp>
            <p:nvSpPr>
              <p:cNvPr id="2780" name=""/>
              <p:cNvSpPr/>
              <p:nvPr/>
            </p:nvSpPr>
            <p:spPr>
              <a:xfrm>
                <a:off x="4960800" y="3251160"/>
                <a:ext cx="1638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992840" y="3224160"/>
                <a:ext cx="1317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2" name=""/>
            <p:cNvSpPr/>
            <p:nvPr/>
          </p:nvSpPr>
          <p:spPr>
            <a:xfrm>
              <a:off x="5124600" y="3330720"/>
              <a:ext cx="10152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H="1">
              <a:off x="4775040" y="318780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226120" y="3378240"/>
              <a:ext cx="144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V="1">
              <a:off x="5226120" y="2204640"/>
              <a:ext cx="144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594320" y="318780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884320" y="2544840"/>
              <a:ext cx="74880" cy="6336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836800" y="2916360"/>
              <a:ext cx="541440" cy="541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203640" y="30337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H="1" flipV="1">
              <a:off x="2920680" y="2986200"/>
              <a:ext cx="2667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1" name=""/>
            <p:cNvGrpSpPr/>
            <p:nvPr/>
          </p:nvGrpSpPr>
          <p:grpSpPr>
            <a:xfrm>
              <a:off x="3022200" y="3224160"/>
              <a:ext cx="165240" cy="111240"/>
              <a:chOff x="3022200" y="3224160"/>
              <a:chExt cx="165240" cy="111240"/>
            </a:xfrm>
          </p:grpSpPr>
          <p:sp>
            <p:nvSpPr>
              <p:cNvPr id="2792" name=""/>
              <p:cNvSpPr/>
              <p:nvPr/>
            </p:nvSpPr>
            <p:spPr>
              <a:xfrm flipH="1">
                <a:off x="3022200" y="32511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3022560" y="32241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4" name=""/>
            <p:cNvSpPr/>
            <p:nvPr/>
          </p:nvSpPr>
          <p:spPr>
            <a:xfrm flipH="1">
              <a:off x="2921040" y="3335400"/>
              <a:ext cx="1015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203640" y="31924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921040" y="33829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2916360" y="2789280"/>
              <a:ext cx="468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H="1">
              <a:off x="3367080" y="31924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936880" y="3994200"/>
              <a:ext cx="2289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0" name=""/>
            <p:cNvGrpSpPr/>
            <p:nvPr/>
          </p:nvGrpSpPr>
          <p:grpSpPr>
            <a:xfrm>
              <a:off x="3559320" y="3133800"/>
              <a:ext cx="1046160" cy="117360"/>
              <a:chOff x="3559320" y="3133800"/>
              <a:chExt cx="1046160" cy="117360"/>
            </a:xfrm>
          </p:grpSpPr>
          <p:sp>
            <p:nvSpPr>
              <p:cNvPr id="2801" name=""/>
              <p:cNvSpPr/>
              <p:nvPr/>
            </p:nvSpPr>
            <p:spPr>
              <a:xfrm>
                <a:off x="3559320" y="3192480"/>
                <a:ext cx="1046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559320" y="31338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4492800" y="3138480"/>
                <a:ext cx="11268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4" name=""/>
            <p:cNvSpPr/>
            <p:nvPr/>
          </p:nvSpPr>
          <p:spPr>
            <a:xfrm flipV="1">
              <a:off x="4078440" y="2549160"/>
              <a:ext cx="144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916360" y="2565360"/>
              <a:ext cx="116208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6" name=""/>
            <p:cNvGrpSpPr/>
            <p:nvPr/>
          </p:nvGrpSpPr>
          <p:grpSpPr>
            <a:xfrm>
              <a:off x="2857680" y="2560680"/>
              <a:ext cx="112680" cy="264960"/>
              <a:chOff x="2857680" y="2560680"/>
              <a:chExt cx="112680" cy="264960"/>
            </a:xfrm>
          </p:grpSpPr>
          <p:sp>
            <p:nvSpPr>
              <p:cNvPr id="2807" name=""/>
              <p:cNvSpPr/>
              <p:nvPr/>
            </p:nvSpPr>
            <p:spPr>
              <a:xfrm flipV="1">
                <a:off x="2916360" y="256068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857680" y="271476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9" name=""/>
            <p:cNvGrpSpPr/>
            <p:nvPr/>
          </p:nvGrpSpPr>
          <p:grpSpPr>
            <a:xfrm>
              <a:off x="2857680" y="1425600"/>
              <a:ext cx="112680" cy="264960"/>
              <a:chOff x="2857680" y="1425600"/>
              <a:chExt cx="112680" cy="264960"/>
            </a:xfrm>
          </p:grpSpPr>
          <p:sp>
            <p:nvSpPr>
              <p:cNvPr id="2810" name=""/>
              <p:cNvSpPr/>
              <p:nvPr/>
            </p:nvSpPr>
            <p:spPr>
              <a:xfrm flipV="1">
                <a:off x="2916360" y="142560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857680" y="157968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2" name=""/>
            <p:cNvGrpSpPr/>
            <p:nvPr/>
          </p:nvGrpSpPr>
          <p:grpSpPr>
            <a:xfrm>
              <a:off x="5167440" y="1674360"/>
              <a:ext cx="110880" cy="530640"/>
              <a:chOff x="5167440" y="1674360"/>
              <a:chExt cx="110880" cy="530640"/>
            </a:xfrm>
          </p:grpSpPr>
          <p:sp>
            <p:nvSpPr>
              <p:cNvPr id="2813" name=""/>
              <p:cNvSpPr/>
              <p:nvPr/>
            </p:nvSpPr>
            <p:spPr>
              <a:xfrm flipV="1">
                <a:off x="5226120" y="16743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167440" y="20937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5" name=""/>
            <p:cNvGrpSpPr/>
            <p:nvPr/>
          </p:nvGrpSpPr>
          <p:grpSpPr>
            <a:xfrm>
              <a:off x="4025880" y="3330720"/>
              <a:ext cx="111240" cy="566640"/>
              <a:chOff x="4025880" y="3330720"/>
              <a:chExt cx="111240" cy="566640"/>
            </a:xfrm>
          </p:grpSpPr>
          <p:sp>
            <p:nvSpPr>
              <p:cNvPr id="2816" name=""/>
              <p:cNvSpPr/>
              <p:nvPr/>
            </p:nvSpPr>
            <p:spPr>
              <a:xfrm>
                <a:off x="4078440" y="333072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025880" y="333072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8" name=""/>
            <p:cNvGrpSpPr/>
            <p:nvPr/>
          </p:nvGrpSpPr>
          <p:grpSpPr>
            <a:xfrm>
              <a:off x="5783400" y="2189160"/>
              <a:ext cx="110880" cy="1576440"/>
              <a:chOff x="5783400" y="2189160"/>
              <a:chExt cx="110880" cy="1576440"/>
            </a:xfrm>
          </p:grpSpPr>
          <p:sp>
            <p:nvSpPr>
              <p:cNvPr id="2819" name=""/>
              <p:cNvSpPr/>
              <p:nvPr/>
            </p:nvSpPr>
            <p:spPr>
              <a:xfrm>
                <a:off x="5835600" y="2189160"/>
                <a:ext cx="6480" cy="1576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783400" y="21891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1" name=""/>
            <p:cNvSpPr/>
            <p:nvPr/>
          </p:nvSpPr>
          <p:spPr>
            <a:xfrm>
              <a:off x="2879640" y="14097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046400" y="3154320"/>
              <a:ext cx="748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454120" y="3017880"/>
              <a:ext cx="33984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56284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67588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342040" y="301788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45040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56380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310360" y="20192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412960" y="2066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678200" y="2236680"/>
              <a:ext cx="3034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85840" y="2279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852800" y="23860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540160" y="1504800"/>
              <a:ext cx="301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647440" y="15526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714400" y="1658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313160" y="27669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436640" y="2809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507920" y="2916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484440" y="2782800"/>
              <a:ext cx="355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580920" y="28256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652560" y="2932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556000" y="2619360"/>
              <a:ext cx="301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640960" y="26622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711520" y="27669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148280" y="3430440"/>
              <a:ext cx="4507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245480" y="3473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02800" y="357984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038400" y="122400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114000" y="1265400"/>
              <a:ext cx="29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94080" y="1371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921280" y="2800440"/>
              <a:ext cx="28584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024960" y="2847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211640" y="3994200"/>
              <a:ext cx="1440" cy="11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078440" y="4094280"/>
              <a:ext cx="26640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8" name=""/>
          <p:cNvSpPr/>
          <p:nvPr/>
        </p:nvSpPr>
        <p:spPr>
          <a:xfrm>
            <a:off x="6748920" y="4697280"/>
            <a:ext cx="21038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9" name="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2860" name="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2871" name="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3" name="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1" name="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2882" name="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4" name="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2" name="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2893" name="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5" name="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2904" name="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6" name="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4" name="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2915" name="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7" name="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5" name="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2926" name="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8" name="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6" name="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2937" name="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9" name="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8" name="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2949" name="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1" name="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2952" name="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4" name="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2955" name="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7" name="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2958" name="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0" name="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3" name="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2964" name="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6" name="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4" name="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2975" name="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7" name="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5" name="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2986" name="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8" name="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6" name="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2997" name="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9" name="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3000" name="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2" name="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3003" name="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5" name="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3006" name="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8" name="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3009" name="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8" name="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4" name=""/>
          <p:cNvGrpSpPr/>
          <p:nvPr/>
        </p:nvGrpSpPr>
        <p:grpSpPr>
          <a:xfrm>
            <a:off x="295200" y="1668600"/>
            <a:ext cx="8424720" cy="4105080"/>
            <a:chOff x="295200" y="1668600"/>
            <a:chExt cx="8424720" cy="4105080"/>
          </a:xfrm>
        </p:grpSpPr>
        <p:sp>
          <p:nvSpPr>
            <p:cNvPr id="3115" name=""/>
            <p:cNvSpPr/>
            <p:nvPr/>
          </p:nvSpPr>
          <p:spPr>
            <a:xfrm>
              <a:off x="295200" y="212400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6" name=""/>
                <p:cNvSpPr txBox="1"/>
                <p:nvPr/>
              </p:nvSpPr>
              <p:spPr>
                <a:xfrm>
                  <a:off x="3155760" y="5286240"/>
                  <a:ext cx="300348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17" name=""/>
            <p:cNvSpPr/>
            <p:nvPr/>
          </p:nvSpPr>
          <p:spPr>
            <a:xfrm>
              <a:off x="1015920" y="2332080"/>
              <a:ext cx="1774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1104840" y="21463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1104840" y="2798640"/>
              <a:ext cx="144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91920" y="2475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068120" y="2989080"/>
              <a:ext cx="74520" cy="637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020600" y="3360600"/>
              <a:ext cx="539640" cy="541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385640" y="34783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H="1" flipV="1">
              <a:off x="1104840" y="3430440"/>
              <a:ext cx="2649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5" name=""/>
            <p:cNvGrpSpPr/>
            <p:nvPr/>
          </p:nvGrpSpPr>
          <p:grpSpPr>
            <a:xfrm>
              <a:off x="1204200" y="3668760"/>
              <a:ext cx="165240" cy="111240"/>
              <a:chOff x="1204200" y="3668760"/>
              <a:chExt cx="165240" cy="111240"/>
            </a:xfrm>
          </p:grpSpPr>
          <p:sp>
            <p:nvSpPr>
              <p:cNvPr id="3126" name=""/>
              <p:cNvSpPr/>
              <p:nvPr/>
            </p:nvSpPr>
            <p:spPr>
              <a:xfrm flipH="1">
                <a:off x="1204200" y="36957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1204560" y="36687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8" name=""/>
            <p:cNvSpPr/>
            <p:nvPr/>
          </p:nvSpPr>
          <p:spPr>
            <a:xfrm flipH="1">
              <a:off x="1104480" y="3780000"/>
              <a:ext cx="997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1385640" y="36370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1104840" y="38275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V="1">
              <a:off x="1099800" y="3233880"/>
              <a:ext cx="504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H="1">
              <a:off x="1549080" y="36370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1120680" y="4438800"/>
              <a:ext cx="654984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4" name=""/>
            <p:cNvGrpSpPr/>
            <p:nvPr/>
          </p:nvGrpSpPr>
          <p:grpSpPr>
            <a:xfrm>
              <a:off x="1741320" y="3578040"/>
              <a:ext cx="1044360" cy="117360"/>
              <a:chOff x="1741320" y="3578040"/>
              <a:chExt cx="1044360" cy="117360"/>
            </a:xfrm>
          </p:grpSpPr>
          <p:sp>
            <p:nvSpPr>
              <p:cNvPr id="3135" name=""/>
              <p:cNvSpPr/>
              <p:nvPr/>
            </p:nvSpPr>
            <p:spPr>
              <a:xfrm>
                <a:off x="1741320" y="3636720"/>
                <a:ext cx="1044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1741320" y="3578040"/>
                <a:ext cx="11052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673000" y="3582720"/>
                <a:ext cx="11232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8" name=""/>
            <p:cNvSpPr/>
            <p:nvPr/>
          </p:nvSpPr>
          <p:spPr>
            <a:xfrm flipV="1">
              <a:off x="2258640" y="2993760"/>
              <a:ext cx="180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099800" y="3009960"/>
              <a:ext cx="115884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0" name=""/>
            <p:cNvGrpSpPr/>
            <p:nvPr/>
          </p:nvGrpSpPr>
          <p:grpSpPr>
            <a:xfrm>
              <a:off x="1041120" y="3005280"/>
              <a:ext cx="111240" cy="264960"/>
              <a:chOff x="1041120" y="3005280"/>
              <a:chExt cx="111240" cy="264960"/>
            </a:xfrm>
          </p:grpSpPr>
          <p:sp>
            <p:nvSpPr>
              <p:cNvPr id="3141" name=""/>
              <p:cNvSpPr/>
              <p:nvPr/>
            </p:nvSpPr>
            <p:spPr>
              <a:xfrm flipV="1">
                <a:off x="1098720" y="300528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1041120" y="31593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3" name=""/>
            <p:cNvGrpSpPr/>
            <p:nvPr/>
          </p:nvGrpSpPr>
          <p:grpSpPr>
            <a:xfrm>
              <a:off x="1041120" y="1870200"/>
              <a:ext cx="111240" cy="264960"/>
              <a:chOff x="1041120" y="1870200"/>
              <a:chExt cx="111240" cy="264960"/>
            </a:xfrm>
          </p:grpSpPr>
          <p:sp>
            <p:nvSpPr>
              <p:cNvPr id="3144" name=""/>
              <p:cNvSpPr/>
              <p:nvPr/>
            </p:nvSpPr>
            <p:spPr>
              <a:xfrm flipV="1">
                <a:off x="1098720" y="187020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041120" y="202428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2206440" y="3774960"/>
              <a:ext cx="111240" cy="566640"/>
              <a:chOff x="2206440" y="3774960"/>
              <a:chExt cx="111240" cy="566640"/>
            </a:xfrm>
          </p:grpSpPr>
          <p:sp>
            <p:nvSpPr>
              <p:cNvPr id="3147" name=""/>
              <p:cNvSpPr/>
              <p:nvPr/>
            </p:nvSpPr>
            <p:spPr>
              <a:xfrm>
                <a:off x="2259000" y="377496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2206440" y="37749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1063440" y="18543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226960" y="35989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37920" y="3462480"/>
              <a:ext cx="33984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00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2332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55200" y="1960560"/>
              <a:ext cx="176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493720" y="32115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666800" y="3227400"/>
              <a:ext cx="355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719000" y="327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793520" y="33764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39440" y="3063960"/>
              <a:ext cx="3016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80840" y="310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55360" y="3211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328480" y="387504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380680" y="391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220400" y="1668600"/>
              <a:ext cx="4510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252080" y="170964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960280" y="3360600"/>
              <a:ext cx="53532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125520" y="3478320"/>
              <a:ext cx="1800" cy="29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3141360" y="343044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9" name=""/>
            <p:cNvGrpSpPr/>
            <p:nvPr/>
          </p:nvGrpSpPr>
          <p:grpSpPr>
            <a:xfrm>
              <a:off x="3141360" y="3668760"/>
              <a:ext cx="162000" cy="111240"/>
              <a:chOff x="3141360" y="3668760"/>
              <a:chExt cx="162000" cy="111240"/>
            </a:xfrm>
          </p:grpSpPr>
          <p:sp>
            <p:nvSpPr>
              <p:cNvPr id="3170" name=""/>
              <p:cNvSpPr/>
              <p:nvPr/>
            </p:nvSpPr>
            <p:spPr>
              <a:xfrm>
                <a:off x="3141360" y="3695760"/>
                <a:ext cx="1620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3173040" y="3668760"/>
                <a:ext cx="1299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3303360" y="3774960"/>
              <a:ext cx="10152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>
              <a:off x="2955600" y="3632040"/>
              <a:ext cx="16992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404880" y="3822840"/>
              <a:ext cx="180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V="1">
              <a:off x="3404880" y="2649240"/>
              <a:ext cx="180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6" name=""/>
            <p:cNvGrpSpPr/>
            <p:nvPr/>
          </p:nvGrpSpPr>
          <p:grpSpPr>
            <a:xfrm>
              <a:off x="3346200" y="2118960"/>
              <a:ext cx="110880" cy="530640"/>
              <a:chOff x="3346200" y="2118960"/>
              <a:chExt cx="110880" cy="530640"/>
            </a:xfrm>
          </p:grpSpPr>
          <p:sp>
            <p:nvSpPr>
              <p:cNvPr id="3177" name=""/>
              <p:cNvSpPr/>
              <p:nvPr/>
            </p:nvSpPr>
            <p:spPr>
              <a:xfrm flipV="1">
                <a:off x="3404880" y="21189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3346200" y="25383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3520800" y="3462480"/>
              <a:ext cx="33516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58344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70620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489120" y="24638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547800" y="2511360"/>
              <a:ext cx="8002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źr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573280" y="3254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647800" y="33606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541600" y="40244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100400" y="324468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79088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956120" y="3481200"/>
              <a:ext cx="144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V="1">
              <a:off x="4971960" y="343368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1" name=""/>
            <p:cNvGrpSpPr/>
            <p:nvPr/>
          </p:nvGrpSpPr>
          <p:grpSpPr>
            <a:xfrm>
              <a:off x="4971960" y="3672000"/>
              <a:ext cx="163440" cy="110880"/>
              <a:chOff x="4971960" y="3672000"/>
              <a:chExt cx="163440" cy="110880"/>
            </a:xfrm>
          </p:grpSpPr>
          <p:sp>
            <p:nvSpPr>
              <p:cNvPr id="3192" name=""/>
              <p:cNvSpPr/>
              <p:nvPr/>
            </p:nvSpPr>
            <p:spPr>
              <a:xfrm>
                <a:off x="497196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00364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4" name=""/>
            <p:cNvSpPr/>
            <p:nvPr/>
          </p:nvSpPr>
          <p:spPr>
            <a:xfrm>
              <a:off x="5135400" y="3778200"/>
              <a:ext cx="1000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478620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23548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V="1">
              <a:off x="523548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460512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9" name=""/>
            <p:cNvGrpSpPr/>
            <p:nvPr/>
          </p:nvGrpSpPr>
          <p:grpSpPr>
            <a:xfrm>
              <a:off x="5178240" y="2122200"/>
              <a:ext cx="109440" cy="530640"/>
              <a:chOff x="5178240" y="2122200"/>
              <a:chExt cx="109440" cy="530640"/>
            </a:xfrm>
          </p:grpSpPr>
          <p:sp>
            <p:nvSpPr>
              <p:cNvPr id="3200" name=""/>
              <p:cNvSpPr/>
              <p:nvPr/>
            </p:nvSpPr>
            <p:spPr>
              <a:xfrm flipV="1">
                <a:off x="523584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17824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2" name=""/>
            <p:cNvSpPr/>
            <p:nvPr/>
          </p:nvSpPr>
          <p:spPr>
            <a:xfrm>
              <a:off x="5351400" y="346536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41404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53644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31936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378400" y="2514600"/>
              <a:ext cx="572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40352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47804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930640" y="324792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73092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895800" y="348120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 flipV="1">
              <a:off x="6911640" y="343368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3" name=""/>
            <p:cNvGrpSpPr/>
            <p:nvPr/>
          </p:nvGrpSpPr>
          <p:grpSpPr>
            <a:xfrm>
              <a:off x="6911640" y="3672000"/>
              <a:ext cx="163440" cy="110880"/>
              <a:chOff x="6911640" y="3672000"/>
              <a:chExt cx="163440" cy="110880"/>
            </a:xfrm>
          </p:grpSpPr>
          <p:sp>
            <p:nvSpPr>
              <p:cNvPr id="3214" name=""/>
              <p:cNvSpPr/>
              <p:nvPr/>
            </p:nvSpPr>
            <p:spPr>
              <a:xfrm>
                <a:off x="691164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94332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7075080" y="3778200"/>
              <a:ext cx="1018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H="1">
              <a:off x="672588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17696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 flipV="1">
              <a:off x="717696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54516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1" name=""/>
            <p:cNvGrpSpPr/>
            <p:nvPr/>
          </p:nvGrpSpPr>
          <p:grpSpPr>
            <a:xfrm>
              <a:off x="7118280" y="2122200"/>
              <a:ext cx="109440" cy="530640"/>
              <a:chOff x="7118280" y="2122200"/>
              <a:chExt cx="109440" cy="530640"/>
            </a:xfrm>
          </p:grpSpPr>
          <p:sp>
            <p:nvSpPr>
              <p:cNvPr id="3222" name=""/>
              <p:cNvSpPr/>
              <p:nvPr/>
            </p:nvSpPr>
            <p:spPr>
              <a:xfrm flipV="1">
                <a:off x="717588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11828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4" name=""/>
            <p:cNvGrpSpPr/>
            <p:nvPr/>
          </p:nvGrpSpPr>
          <p:grpSpPr>
            <a:xfrm>
              <a:off x="7732440" y="2637000"/>
              <a:ext cx="110880" cy="1576080"/>
              <a:chOff x="7732440" y="2637000"/>
              <a:chExt cx="110880" cy="1576080"/>
            </a:xfrm>
          </p:grpSpPr>
          <p:sp>
            <p:nvSpPr>
              <p:cNvPr id="3225" name=""/>
              <p:cNvSpPr/>
              <p:nvPr/>
            </p:nvSpPr>
            <p:spPr>
              <a:xfrm>
                <a:off x="7784640" y="2637000"/>
                <a:ext cx="6480" cy="157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732440" y="26370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7" name=""/>
            <p:cNvSpPr/>
            <p:nvPr/>
          </p:nvSpPr>
          <p:spPr>
            <a:xfrm>
              <a:off x="7291080" y="3465360"/>
              <a:ext cx="3351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35372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47648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25940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318080" y="2514600"/>
              <a:ext cx="677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34356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641808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70680" y="3247920"/>
              <a:ext cx="2858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929000" y="3295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H="1">
              <a:off x="2766600" y="3637080"/>
              <a:ext cx="3817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3368520" y="441180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213160" y="44053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135560" y="4398840"/>
              <a:ext cx="730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781760" y="4438800"/>
              <a:ext cx="938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1" name=""/>
            <p:cNvGrpSpPr/>
            <p:nvPr/>
          </p:nvGrpSpPr>
          <p:grpSpPr>
            <a:xfrm>
              <a:off x="3282840" y="4402080"/>
              <a:ext cx="266760" cy="191880"/>
              <a:chOff x="3282840" y="4402080"/>
              <a:chExt cx="266760" cy="191880"/>
            </a:xfrm>
          </p:grpSpPr>
          <p:sp>
            <p:nvSpPr>
              <p:cNvPr id="3242" name=""/>
              <p:cNvSpPr/>
              <p:nvPr/>
            </p:nvSpPr>
            <p:spPr>
              <a:xfrm>
                <a:off x="3282840" y="4562280"/>
                <a:ext cx="26676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V="1">
                <a:off x="3411360" y="4402080"/>
                <a:ext cx="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5" name="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6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4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255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7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3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264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7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9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270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2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273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5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276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8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8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299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1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5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306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8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0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321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3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8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329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1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2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343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5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0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351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354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6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0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371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3" name="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3381" name="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5" name="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3396" name="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0" name="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3401" name="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3" name="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4" name="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3425" name="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7" name="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5" name="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3436" name="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8" name="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2" name="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3453" name="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5" name="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3456" name="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3" name="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3484" name="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6" name="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2" name="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3493" name="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5" name="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3496" name="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8" name="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3499" name="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1" name="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60000" y="5146560"/>
            <a:ext cx="358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042160" y="5181480"/>
            <a:ext cx="3243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wpływ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ższe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8" name="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3519" name="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3" name="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3534" name="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6" name="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1" name="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2" name="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3563" name="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5" name="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3" name="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3574" name="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6" name="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0" name="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3591" name="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3" name="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3594" name="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6" name="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3603" name="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3606" name="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3609" name="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1" name="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79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8" name="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3639" name="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0" name="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1" name="Clipboard01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3642" name=""/>
          <p:cNvSpPr/>
          <p:nvPr/>
        </p:nvSpPr>
        <p:spPr>
          <a:xfrm>
            <a:off x="3225960" y="5289480"/>
            <a:ext cx="1231920" cy="662040"/>
          </a:xfrm>
          <a:prstGeom prst="wedgeRoundRectCallout">
            <a:avLst>
              <a:gd name="adj1" fmla="val 185310"/>
              <a:gd name="adj2" fmla="val -91245"/>
              <a:gd name="adj3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3" name="Clipboard04" descr="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 -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6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 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2" name="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3663" name="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5" name="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3702" name="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4" name="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7" name="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3718" name="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0" name="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3721" name="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3" name="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3729" name="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3732" name="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4" name="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3742" name="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4" name="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5" name="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3806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8" name="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9" name="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3810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2" name="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168" name="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172" name="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27400" y="53352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549520" y="4343400"/>
                <a:ext cx="35114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552920" y="5421240"/>
                <a:ext cx="13082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3825" name="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8" name="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3829" name="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1" name="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4" name="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3835" name="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3838" name="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0" name="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4" name="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3855" name="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7" name="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7" name="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3868" name="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0" name="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5" name="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3886" name="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8" name="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3" name="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3904" name="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6" name="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0" name="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3921" name="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3" name="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5" name="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3936" name="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8" name="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9" name="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2" name="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3" name="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4" name="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3945" name="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2" name="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7" name="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3958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0" name="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3961" name="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2" name="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5" name="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3976" name="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8" name="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3979" name="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1" name="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3982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4" name="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3986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9" name="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4000" name="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2" name="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4003" name="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5" name="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5" name="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4016" name="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2" name="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3" name="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4034" name="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9" name="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4040" name="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2" name="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5" name="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4046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8" name="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1" name="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4052" name="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4" name="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4055" name="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7" name="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4058" name="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0" name="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8" name="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4069" name="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7" name="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853320" y="2378160"/>
              <a:ext cx="1285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Dopuszcz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miana prą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2" name="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4123" name="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5" name="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0" name="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4151" name="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3" name="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9" name="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60" name="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187280" y="1600200"/>
                <a:ext cx="60073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251160" y="2543040"/>
                <a:ext cx="18781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00200" y="5562720"/>
                <a:ext cx="5181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temperatura złącza tranzystora bipolarnego jest wys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liska maksymalnej temperaturze złącza przyjmowanej zw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jako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5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,. to może być konieczne uwzględnienie w modelu tranzystora  zerowego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1905120"/>
            <a:ext cx="4613760" cy="2212200"/>
            <a:chOff x="1828800" y="1905120"/>
            <a:chExt cx="4613760" cy="2212200"/>
          </a:xfrm>
        </p:grpSpPr>
        <p:sp>
          <p:nvSpPr>
            <p:cNvPr id="214" name=""/>
            <p:cNvSpPr/>
            <p:nvPr/>
          </p:nvSpPr>
          <p:spPr>
            <a:xfrm rot="10800000">
              <a:off x="3498840" y="297144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473280" y="320040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7240" y="259056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39040" y="252720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49800" y="2581200"/>
              <a:ext cx="1389240" cy="9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67240" y="35812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97480" y="320040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297180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14800" y="31240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46560" y="2960640"/>
              <a:ext cx="180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5800" y="35240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38640" y="257328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9040" y="351792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44840" y="254448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4380120" y="2971800"/>
                  <a:ext cx="1258920" cy="36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4572000" y="20574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2895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11840" y="1905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6280" y="1981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96040" y="36576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02160" y="259056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571640" y="25732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63800" y="259056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79520" y="289548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190512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46560" y="320040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59240" y="35193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65800" y="35240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715000" y="274320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90920" y="274320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286000" y="5470560"/>
                <a:ext cx="39625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- model lin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58720" y="1198440"/>
            <a:ext cx="1902960" cy="1087560"/>
            <a:chOff x="558720" y="1198440"/>
            <a:chExt cx="1902960" cy="1087560"/>
          </a:xfrm>
        </p:grpSpPr>
        <p:sp>
          <p:nvSpPr>
            <p:cNvPr id="249" name=""/>
            <p:cNvSpPr/>
            <p:nvPr/>
          </p:nvSpPr>
          <p:spPr>
            <a:xfrm>
              <a:off x="1565280" y="1198440"/>
              <a:ext cx="72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8720" y="1203480"/>
              <a:ext cx="1902960" cy="1082520"/>
              <a:chOff x="558720" y="1203480"/>
              <a:chExt cx="1902960" cy="1082520"/>
            </a:xfrm>
          </p:grpSpPr>
          <p:sp>
            <p:nvSpPr>
              <p:cNvPr id="251" name=""/>
              <p:cNvSpPr/>
              <p:nvPr/>
            </p:nvSpPr>
            <p:spPr>
              <a:xfrm rot="10800000">
                <a:off x="2228040" y="1630440"/>
                <a:ext cx="193320" cy="1936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203200" y="1859040"/>
                <a:ext cx="258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96800" y="1249560"/>
                <a:ext cx="958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96800" y="2239920"/>
                <a:ext cx="924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27040" y="1859040"/>
                <a:ext cx="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74400" y="1203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58720" y="155412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31720" y="1249560"/>
                <a:ext cx="0" cy="38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93360" y="124956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288800" y="21780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1320480" y="140148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87720" y="1177920"/>
                <a:ext cx="32004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84040" y="2557440"/>
                <a:ext cx="6621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41440" y="4048200"/>
                <a:ext cx="29988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 flipV="1">
            <a:off x="2874960" y="5714640"/>
            <a:ext cx="2822400" cy="176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392800" y="3514680"/>
            <a:ext cx="3477960" cy="3061800"/>
            <a:chOff x="5392800" y="3514680"/>
            <a:chExt cx="3477960" cy="3061800"/>
          </a:xfrm>
        </p:grpSpPr>
        <p:sp>
          <p:nvSpPr>
            <p:cNvPr id="267" name=""/>
            <p:cNvSpPr/>
            <p:nvPr/>
          </p:nvSpPr>
          <p:spPr>
            <a:xfrm flipV="1">
              <a:off x="5955480" y="3714480"/>
              <a:ext cx="0" cy="228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55480" y="6001560"/>
              <a:ext cx="221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51880" y="3808800"/>
              <a:ext cx="1747080" cy="2188800"/>
            </a:xfrm>
            <a:custGeom>
              <a:avLst/>
              <a:gdLst/>
              <a:ahLst/>
              <a:rect l="l" t="t" r="r" b="b"/>
              <a:pathLst>
                <a:path w="906" h="1014">
                  <a:moveTo>
                    <a:pt x="0" y="1014"/>
                  </a:moveTo>
                  <a:cubicBezTo>
                    <a:pt x="143" y="1013"/>
                    <a:pt x="288" y="1012"/>
                    <a:pt x="384" y="1010"/>
                  </a:cubicBezTo>
                  <a:cubicBezTo>
                    <a:pt x="480" y="1009"/>
                    <a:pt x="525" y="1011"/>
                    <a:pt x="579" y="1003"/>
                  </a:cubicBezTo>
                  <a:cubicBezTo>
                    <a:pt x="633" y="995"/>
                    <a:pt x="673" y="991"/>
                    <a:pt x="708" y="962"/>
                  </a:cubicBezTo>
                  <a:cubicBezTo>
                    <a:pt x="743" y="933"/>
                    <a:pt x="767" y="879"/>
                    <a:pt x="788" y="830"/>
                  </a:cubicBezTo>
                  <a:cubicBezTo>
                    <a:pt x="809" y="781"/>
                    <a:pt x="821" y="716"/>
                    <a:pt x="832" y="666"/>
                  </a:cubicBezTo>
                  <a:cubicBezTo>
                    <a:pt x="843" y="616"/>
                    <a:pt x="843" y="599"/>
                    <a:pt x="852" y="530"/>
                  </a:cubicBezTo>
                  <a:cubicBezTo>
                    <a:pt x="861" y="461"/>
                    <a:pt x="875" y="338"/>
                    <a:pt x="884" y="250"/>
                  </a:cubicBezTo>
                  <a:cubicBezTo>
                    <a:pt x="893" y="162"/>
                    <a:pt x="902" y="52"/>
                    <a:pt x="9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459560" y="3514680"/>
              <a:ext cx="345600" cy="2540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21840" y="5090040"/>
              <a:ext cx="91440" cy="101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940720" y="5156280"/>
              <a:ext cx="15879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63960" y="5211360"/>
              <a:ext cx="0" cy="830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17320" y="467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92800" y="4836240"/>
              <a:ext cx="72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06160" y="617076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01880" y="5552280"/>
              <a:ext cx="66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41160" y="366912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65760" y="6161760"/>
              <a:ext cx="100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613280" y="6023160"/>
              <a:ext cx="142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185600" y="6063480"/>
              <a:ext cx="244800" cy="224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095960" y="2617920"/>
            <a:ext cx="1692360" cy="87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73" y="2968"/>
                </a:moveTo>
                <a:lnTo>
                  <a:pt x="25186" y="2968"/>
                </a:lnTo>
                <a:lnTo>
                  <a:pt x="25186" y="31040"/>
                </a:lnTo>
                <a:lnTo>
                  <a:pt x="8549" y="30377"/>
                </a:lnTo>
              </a:path>
            </a:pathLst>
          </a:custGeom>
          <a:solidFill>
            <a:srgbClr val="ff7c80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achylenie g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90520" y="3716280"/>
            <a:ext cx="1895400" cy="2703600"/>
            <a:chOff x="290520" y="3716280"/>
            <a:chExt cx="1895400" cy="2703600"/>
          </a:xfrm>
        </p:grpSpPr>
        <p:sp>
          <p:nvSpPr>
            <p:cNvPr id="284" name=""/>
            <p:cNvSpPr/>
            <p:nvPr/>
          </p:nvSpPr>
          <p:spPr>
            <a:xfrm>
              <a:off x="1782720" y="4427640"/>
              <a:ext cx="193680" cy="58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50880" y="5484960"/>
              <a:ext cx="635040" cy="56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870200" y="55386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1870200" y="4992480"/>
              <a:ext cx="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887480" y="416196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70200" y="604980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9680" y="4541760"/>
              <a:ext cx="941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8960" y="5533920"/>
              <a:ext cx="11318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76280" y="419724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17600" y="639612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7400" y="4197240"/>
              <a:ext cx="81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17440" y="3716280"/>
              <a:ext cx="42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34800" y="426888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0520" y="459900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MK</cp:lastModifiedBy>
  <dcterms:modified xsi:type="dcterms:W3CDTF">2004-03-09T11:27:38Z</dcterms:modified>
  <cp:revision>189</cp:revision>
  <dc:subject/>
  <dc:title>UKŁADY ZASILANIA TRANZYSTORÓW</dc:title>
</cp:coreProperties>
</file>