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B9F-1E56-4CCE-9A89-F9DF8EAE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DFB-2C92-46F3-8F58-56020D9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52B-9389-4860-BDC8-C7293F10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D5A-E3EA-417F-944B-F4417F97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4FB-DF57-4EBC-A259-24AE287C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8F6-9D56-4135-88AE-4ABBEB6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5E0-DD4E-4BFA-BE53-9FC4D203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544-7F4F-4EA8-9C5E-E890D94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636-C46C-4CA9-B50E-0860EB5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CB3-658A-4FDC-B1F1-97769C31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9F1-5F0F-482C-9214-5226763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83A-7106-46E5-ADAE-7C369F9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FBF-42C0-485E-A09A-8D2886B4B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311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wielkosygnałowy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7880" y="987480"/>
            <a:ext cx="1071720" cy="87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79800" y="423864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5468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800" y="10922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5080" y="374184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03680" y="5659560"/>
            <a:ext cx="788760" cy="839520"/>
            <a:chOff x="2803680" y="5659560"/>
            <a:chExt cx="788760" cy="839520"/>
          </a:xfrm>
        </p:grpSpPr>
        <p:sp>
          <p:nvSpPr>
            <p:cNvPr id="416" name=""/>
            <p:cNvSpPr/>
            <p:nvPr/>
          </p:nvSpPr>
          <p:spPr>
            <a:xfrm>
              <a:off x="30906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03680" y="5757840"/>
              <a:ext cx="7887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790000" y="5942160"/>
              <a:ext cx="586800" cy="2451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216240" y="341424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60680" y="3809880"/>
            <a:ext cx="46980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80" y="21589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ametry opisują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736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84556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080" y="1595520"/>
            <a:ext cx="2820240" cy="2932920"/>
            <a:chOff x="289080" y="1595520"/>
            <a:chExt cx="2820240" cy="2932920"/>
          </a:xfrm>
        </p:grpSpPr>
        <p:sp>
          <p:nvSpPr>
            <p:cNvPr id="467" name=""/>
            <p:cNvSpPr/>
            <p:nvPr/>
          </p:nvSpPr>
          <p:spPr>
            <a:xfrm>
              <a:off x="1924200" y="15955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080" y="1820880"/>
              <a:ext cx="2820240" cy="2707560"/>
              <a:chOff x="289080" y="1820880"/>
              <a:chExt cx="2820240" cy="27075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27120" y="236052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27120" y="251280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58880" y="2349360"/>
                <a:ext cx="18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2520" y="2970000"/>
                <a:ext cx="9586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30440" y="29257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19280" y="20001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58880" y="205560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8880" y="431316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8880" y="205560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00200" y="424980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0120" y="2936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996840" y="2244600"/>
                    <a:ext cx="4129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1670040" y="29700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9080" y="3122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09000" y="182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8040" y="4068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2689200"/>
                <a:ext cx="0" cy="64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986120" y="2055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19080" y="297000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9240" y="3046320"/>
                <a:ext cx="33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75000" y="3348000"/>
                <a:ext cx="176040" cy="530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644840" y="4087440"/>
                <a:ext cx="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662120" y="3876120"/>
                <a:ext cx="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146240" y="334476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flipV="1">
              <a:off x="729720" y="321480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400" y="359712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49800" y="1773360"/>
            <a:ext cx="5511240" cy="3308400"/>
            <a:chOff x="3349800" y="1773360"/>
            <a:chExt cx="5511240" cy="3308400"/>
          </a:xfrm>
        </p:grpSpPr>
        <p:sp>
          <p:nvSpPr>
            <p:cNvPr id="496" name=""/>
            <p:cNvSpPr/>
            <p:nvPr/>
          </p:nvSpPr>
          <p:spPr>
            <a:xfrm>
              <a:off x="604800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500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7764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8220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8376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653000" y="4537080"/>
                  <a:ext cx="3749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41656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00244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2044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93680" y="3227400"/>
                <a:ext cx="1641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564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601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621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624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627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641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645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649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0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721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723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727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50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5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756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758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772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781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791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794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795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805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814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8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877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878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887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898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04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10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13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92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40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46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49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04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005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046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83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124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127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130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172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90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258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336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400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473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546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619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692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765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1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4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887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895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898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1935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1938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1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1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2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63680" y="4556160"/>
                <a:ext cx="25081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85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86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3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4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8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7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5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6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2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059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065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7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6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101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103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6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1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2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7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8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6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164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172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0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208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231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3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271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308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0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8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9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20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2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332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342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362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371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384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1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392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1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402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9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427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436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447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451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2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473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6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479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175280" y="3662280"/>
              <a:ext cx="90648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4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5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9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520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640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646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783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818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865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877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880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886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889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893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897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901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908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934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974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002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043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052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4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061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081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9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090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096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099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3126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3135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7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6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3147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5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3156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1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3162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3168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3171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3174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6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3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4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215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226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6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9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7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248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259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1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270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2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281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292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4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3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304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307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310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313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5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319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1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9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330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2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341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352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355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361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364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7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470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1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2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481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3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490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3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5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502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525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7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1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532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6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547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9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555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569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577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580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597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1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10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2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19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25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28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31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654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6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661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3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676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8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684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698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5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06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09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1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26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73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736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751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756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780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0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791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808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811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839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848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851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854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874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889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3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894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6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0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8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929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1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5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946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949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1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958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961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964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994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5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6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997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8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1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7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018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0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057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2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073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076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8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084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087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097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9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161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165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180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184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6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9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190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2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193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210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2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223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5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0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241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3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259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1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5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276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8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0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291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3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4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7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8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9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300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7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313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316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7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0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331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334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337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9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0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341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3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355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358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371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7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8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389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4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395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7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401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6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407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410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413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424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478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0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5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506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8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4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15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253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255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2400" y="59547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4-10-13T13:08:45Z</dcterms:modified>
  <cp:revision>217</cp:revision>
  <dc:subject/>
  <dc:title>UKŁADY ZASILANIA TRANZYSTORÓW</dc:title>
</cp:coreProperties>
</file>