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43AF-B30B-497C-A02D-C5C69A36E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13BC-54A9-4B88-BE8C-CB81030FB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27C5-C71B-4F9F-8D01-9F70DFC73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74A4-AEF1-422A-8C75-FD4D0C19E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EE60-FD86-49D8-81D1-A1C509E13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A2A7-0FF6-42E6-AA32-F4BBBE633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AC4E-7942-4505-B463-CCA11FD62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8B5B-637B-4FF9-AF88-1758C6DD3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8463-0909-44E6-B32B-407EEE4E4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0636-78B9-4929-9088-BA1567859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1FD5-F1C6-4004-AE8F-7D737F008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AC8C-3C1A-48AB-B596-CF64201FD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9785C-82A9-4185-927F-B2BA373078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łaściwości częstotliwościow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zmacniaczy tranzystorowy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90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 symula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1"/>
          <a:stretch/>
        </p:blipFill>
        <p:spPr>
          <a:xfrm>
            <a:off x="228600" y="1074600"/>
            <a:ext cx="8534520" cy="52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5940360" y="1600200"/>
            <a:ext cx="3203640" cy="525780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959200" y="1600200"/>
            <a:ext cx="2820960" cy="525780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0" y="1600200"/>
            <a:ext cx="2820960" cy="5257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ołączenia dwutranzystor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617200" y="1020600"/>
            <a:ext cx="346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pracować w do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3019320" y="2428560"/>
            <a:ext cx="2560320" cy="2735640"/>
            <a:chOff x="3019320" y="2428560"/>
            <a:chExt cx="2560320" cy="2735640"/>
          </a:xfrm>
        </p:grpSpPr>
        <p:grpSp>
          <p:nvGrpSpPr>
            <p:cNvPr id="543" name=""/>
            <p:cNvGrpSpPr/>
            <p:nvPr/>
          </p:nvGrpSpPr>
          <p:grpSpPr>
            <a:xfrm>
              <a:off x="3703320" y="4298760"/>
              <a:ext cx="792000" cy="493920"/>
              <a:chOff x="3703320" y="4298760"/>
              <a:chExt cx="792000" cy="493920"/>
            </a:xfrm>
          </p:grpSpPr>
          <p:sp>
            <p:nvSpPr>
              <p:cNvPr id="544" name=""/>
              <p:cNvSpPr/>
              <p:nvPr/>
            </p:nvSpPr>
            <p:spPr>
              <a:xfrm>
                <a:off x="4230360" y="4299120"/>
                <a:ext cx="1440" cy="481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flipV="1">
                <a:off x="4230360" y="4298760"/>
                <a:ext cx="261720" cy="24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4230360" y="4540680"/>
                <a:ext cx="264960" cy="2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flipH="1">
                <a:off x="3703320" y="4540680"/>
                <a:ext cx="52668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4291200" y="4593240"/>
                <a:ext cx="192600" cy="17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9" name=""/>
            <p:cNvGrpSpPr/>
            <p:nvPr/>
          </p:nvGrpSpPr>
          <p:grpSpPr>
            <a:xfrm>
              <a:off x="3701880" y="3320280"/>
              <a:ext cx="791640" cy="493920"/>
              <a:chOff x="3701880" y="3320280"/>
              <a:chExt cx="791640" cy="493920"/>
            </a:xfrm>
          </p:grpSpPr>
          <p:sp>
            <p:nvSpPr>
              <p:cNvPr id="550" name=""/>
              <p:cNvSpPr/>
              <p:nvPr/>
            </p:nvSpPr>
            <p:spPr>
              <a:xfrm>
                <a:off x="4228920" y="3320640"/>
                <a:ext cx="1440" cy="481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flipV="1">
                <a:off x="4228920" y="3320280"/>
                <a:ext cx="261720" cy="24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228920" y="3562200"/>
                <a:ext cx="264600" cy="2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flipH="1">
                <a:off x="3701880" y="3562200"/>
                <a:ext cx="52668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4289400" y="3614760"/>
                <a:ext cx="192600" cy="17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5" name=""/>
            <p:cNvSpPr/>
            <p:nvPr/>
          </p:nvSpPr>
          <p:spPr>
            <a:xfrm>
              <a:off x="4485600" y="3806640"/>
              <a:ext cx="0" cy="50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708360" y="3461040"/>
              <a:ext cx="0" cy="219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391200" y="5006160"/>
              <a:ext cx="218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485600" y="4785120"/>
              <a:ext cx="0" cy="37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453920" y="4965840"/>
              <a:ext cx="67680" cy="63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4475520" y="3049560"/>
              <a:ext cx="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394520" y="2662200"/>
              <a:ext cx="180720" cy="38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4475520" y="2428560"/>
              <a:ext cx="0" cy="22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716360" y="2635200"/>
              <a:ext cx="500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019320" y="4785120"/>
              <a:ext cx="5976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H="1">
              <a:off x="3390840" y="4543200"/>
              <a:ext cx="417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621680" y="3249360"/>
              <a:ext cx="66600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419000" y="5164200"/>
              <a:ext cx="134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" name=""/>
          <p:cNvSpPr/>
          <p:nvPr/>
        </p:nvSpPr>
        <p:spPr>
          <a:xfrm>
            <a:off x="254880" y="1600200"/>
            <a:ext cx="24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kład Darlingt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337560" y="1600200"/>
            <a:ext cx="23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askoda: OE-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1060560" y="5818320"/>
                <a:ext cx="1098360" cy="36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≃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1" name=""/>
              <p:cNvSpPr txBox="1"/>
              <p:nvPr/>
            </p:nvSpPr>
            <p:spPr>
              <a:xfrm>
                <a:off x="3746520" y="5726160"/>
                <a:ext cx="127944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≃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O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2" name=""/>
              <p:cNvSpPr txBox="1"/>
              <p:nvPr/>
            </p:nvSpPr>
            <p:spPr>
              <a:xfrm>
                <a:off x="3780000" y="6145200"/>
                <a:ext cx="111600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O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73" name=""/>
          <p:cNvSpPr/>
          <p:nvPr/>
        </p:nvSpPr>
        <p:spPr>
          <a:xfrm>
            <a:off x="2457720" y="2494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4" name=""/>
          <p:cNvGrpSpPr/>
          <p:nvPr/>
        </p:nvGrpSpPr>
        <p:grpSpPr>
          <a:xfrm>
            <a:off x="279360" y="2943360"/>
            <a:ext cx="2155320" cy="2033280"/>
            <a:chOff x="279360" y="2943360"/>
            <a:chExt cx="2155320" cy="2033280"/>
          </a:xfrm>
        </p:grpSpPr>
        <p:sp>
          <p:nvSpPr>
            <p:cNvPr id="575" name=""/>
            <p:cNvSpPr/>
            <p:nvPr/>
          </p:nvSpPr>
          <p:spPr>
            <a:xfrm>
              <a:off x="1793520" y="3515760"/>
              <a:ext cx="1440" cy="492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1793520" y="3515400"/>
              <a:ext cx="252000" cy="24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793520" y="3762360"/>
              <a:ext cx="252000" cy="24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H="1">
              <a:off x="1286640" y="3762360"/>
              <a:ext cx="5065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282680" y="3277080"/>
              <a:ext cx="74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2030040" y="2943360"/>
              <a:ext cx="0" cy="58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2044080" y="3988800"/>
              <a:ext cx="0" cy="72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857600" y="3826080"/>
              <a:ext cx="151560" cy="15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3" name=""/>
            <p:cNvGrpSpPr/>
            <p:nvPr/>
          </p:nvGrpSpPr>
          <p:grpSpPr>
            <a:xfrm>
              <a:off x="525600" y="3270240"/>
              <a:ext cx="760680" cy="504360"/>
              <a:chOff x="525600" y="3270240"/>
              <a:chExt cx="760680" cy="504360"/>
            </a:xfrm>
          </p:grpSpPr>
          <p:sp>
            <p:nvSpPr>
              <p:cNvPr id="584" name=""/>
              <p:cNvSpPr/>
              <p:nvPr/>
            </p:nvSpPr>
            <p:spPr>
              <a:xfrm>
                <a:off x="1031760" y="3270240"/>
                <a:ext cx="1440" cy="492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V="1">
                <a:off x="1031760" y="3270240"/>
                <a:ext cx="251640" cy="246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1031760" y="3517200"/>
                <a:ext cx="254520" cy="25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flipH="1">
                <a:off x="525600" y="3517200"/>
                <a:ext cx="50616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1090080" y="3570840"/>
                <a:ext cx="185040" cy="18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9" name=""/>
            <p:cNvSpPr/>
            <p:nvPr/>
          </p:nvSpPr>
          <p:spPr>
            <a:xfrm>
              <a:off x="1991160" y="3243960"/>
              <a:ext cx="65160" cy="64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9360" y="31212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068200" y="45169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335600" y="4419000"/>
              <a:ext cx="704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V="1">
              <a:off x="1343880" y="3755160"/>
              <a:ext cx="0" cy="66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306440" y="3707280"/>
              <a:ext cx="65160" cy="64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016360" y="4385880"/>
              <a:ext cx="65160" cy="64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281600" y="3900600"/>
              <a:ext cx="129240" cy="363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7" name=""/>
          <p:cNvSpPr/>
          <p:nvPr/>
        </p:nvSpPr>
        <p:spPr>
          <a:xfrm>
            <a:off x="4816440" y="1967040"/>
            <a:ext cx="60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6138720" y="1996920"/>
            <a:ext cx="2553120" cy="3864960"/>
            <a:chOff x="6138720" y="1996920"/>
            <a:chExt cx="2553120" cy="3864960"/>
          </a:xfrm>
        </p:grpSpPr>
        <p:grpSp>
          <p:nvGrpSpPr>
            <p:cNvPr id="599" name=""/>
            <p:cNvGrpSpPr/>
            <p:nvPr/>
          </p:nvGrpSpPr>
          <p:grpSpPr>
            <a:xfrm>
              <a:off x="6493320" y="4140000"/>
              <a:ext cx="786240" cy="510480"/>
              <a:chOff x="6493320" y="4140000"/>
              <a:chExt cx="786240" cy="510480"/>
            </a:xfrm>
          </p:grpSpPr>
          <p:sp>
            <p:nvSpPr>
              <p:cNvPr id="600" name=""/>
              <p:cNvSpPr/>
              <p:nvPr/>
            </p:nvSpPr>
            <p:spPr>
              <a:xfrm>
                <a:off x="7016760" y="4140000"/>
                <a:ext cx="1440" cy="498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V="1">
                <a:off x="7016760" y="4140000"/>
                <a:ext cx="259920" cy="24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7016760" y="4389840"/>
                <a:ext cx="262800" cy="260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flipH="1">
                <a:off x="6493320" y="4389840"/>
                <a:ext cx="52308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7076880" y="4444200"/>
                <a:ext cx="191160" cy="18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5" name=""/>
            <p:cNvGrpSpPr/>
            <p:nvPr/>
          </p:nvGrpSpPr>
          <p:grpSpPr>
            <a:xfrm>
              <a:off x="7757640" y="4149720"/>
              <a:ext cx="786240" cy="510480"/>
              <a:chOff x="7757640" y="4149720"/>
              <a:chExt cx="786240" cy="510480"/>
            </a:xfrm>
          </p:grpSpPr>
          <p:sp>
            <p:nvSpPr>
              <p:cNvPr id="606" name=""/>
              <p:cNvSpPr/>
              <p:nvPr/>
            </p:nvSpPr>
            <p:spPr>
              <a:xfrm flipH="1">
                <a:off x="8019000" y="4149720"/>
                <a:ext cx="1440" cy="498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H="1" flipV="1">
                <a:off x="7760520" y="4149720"/>
                <a:ext cx="259920" cy="24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flipH="1">
                <a:off x="7757640" y="4399560"/>
                <a:ext cx="262800" cy="260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8020800" y="4399560"/>
                <a:ext cx="52308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H="1">
                <a:off x="7769160" y="4453920"/>
                <a:ext cx="191160" cy="18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1" name=""/>
            <p:cNvSpPr/>
            <p:nvPr/>
          </p:nvSpPr>
          <p:spPr>
            <a:xfrm>
              <a:off x="6364080" y="5023800"/>
              <a:ext cx="2173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515720" y="4641120"/>
              <a:ext cx="0" cy="114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732800" y="3164040"/>
              <a:ext cx="67320" cy="65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V="1">
              <a:off x="7764480" y="3836880"/>
              <a:ext cx="0" cy="29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683840" y="3436560"/>
              <a:ext cx="179280" cy="40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V="1">
              <a:off x="7764480" y="2268720"/>
              <a:ext cx="0" cy="115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981200" y="3407040"/>
              <a:ext cx="500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138720" y="4642560"/>
              <a:ext cx="59364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flipH="1">
              <a:off x="6183000" y="4392720"/>
              <a:ext cx="41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853400" y="3968280"/>
              <a:ext cx="66132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609960" y="5166000"/>
              <a:ext cx="133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7265160" y="463428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V="1">
              <a:off x="7265520" y="320832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265520" y="3208680"/>
              <a:ext cx="49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423560" y="5157720"/>
              <a:ext cx="16812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478280" y="4593960"/>
              <a:ext cx="67680" cy="65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918200" y="1996920"/>
              <a:ext cx="773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616880" y="5351760"/>
              <a:ext cx="68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E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8532000" y="4416480"/>
              <a:ext cx="0" cy="61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683400" y="5026680"/>
              <a:ext cx="0" cy="16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660000" y="4996080"/>
              <a:ext cx="67680" cy="65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2" name=""/>
          <p:cNvSpPr/>
          <p:nvPr/>
        </p:nvSpPr>
        <p:spPr>
          <a:xfrm>
            <a:off x="7223040" y="1600200"/>
            <a:ext cx="11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-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3" name=""/>
              <p:cNvSpPr txBox="1"/>
              <p:nvPr/>
            </p:nvSpPr>
            <p:spPr>
              <a:xfrm>
                <a:off x="5958000" y="5495760"/>
                <a:ext cx="148572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≃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O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6008760" y="6126120"/>
                <a:ext cx="111600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O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98400" y="90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Efekt Mill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rot="5368800">
            <a:off x="4152600" y="2933640"/>
            <a:ext cx="1600200" cy="182880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Ku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038480" y="2057400"/>
            <a:ext cx="16765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819520" y="2286000"/>
            <a:ext cx="1218960" cy="1676520"/>
          </a:xfrm>
          <a:custGeom>
            <a:avLst/>
            <a:gdLst/>
            <a:ahLst/>
            <a:rect l="l" t="t" r="r" b="b"/>
            <a:pathLst>
              <a:path w="768" h="1056">
                <a:moveTo>
                  <a:pt x="768" y="0"/>
                </a:moveTo>
                <a:lnTo>
                  <a:pt x="0" y="0"/>
                </a:lnTo>
                <a:lnTo>
                  <a:pt x="0" y="1056"/>
                </a:lnTo>
                <a:lnTo>
                  <a:pt x="768" y="105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715000" y="2209680"/>
            <a:ext cx="1066680" cy="1676520"/>
          </a:xfrm>
          <a:custGeom>
            <a:avLst/>
            <a:gdLst/>
            <a:ahLst/>
            <a:rect l="l" t="t" r="r" b="b"/>
            <a:pathLst>
              <a:path w="672" h="1056">
                <a:moveTo>
                  <a:pt x="96" y="1056"/>
                </a:moveTo>
                <a:lnTo>
                  <a:pt x="672" y="1056"/>
                </a:lnTo>
                <a:lnTo>
                  <a:pt x="672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H="1">
            <a:off x="1828800" y="39625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64640" y="373392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Y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293280" y="5334120"/>
            <a:ext cx="2546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Ywe=(1-Ku)Y+y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47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Efekt Mill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rot="5368800">
            <a:off x="4152600" y="2933640"/>
            <a:ext cx="1600200" cy="182880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Ku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819520" y="2286000"/>
            <a:ext cx="1218960" cy="1676520"/>
          </a:xfrm>
          <a:custGeom>
            <a:avLst/>
            <a:gdLst/>
            <a:ahLst/>
            <a:rect l="l" t="t" r="r" b="b"/>
            <a:pathLst>
              <a:path w="768" h="1056">
                <a:moveTo>
                  <a:pt x="768" y="0"/>
                </a:moveTo>
                <a:lnTo>
                  <a:pt x="0" y="0"/>
                </a:lnTo>
                <a:lnTo>
                  <a:pt x="0" y="1056"/>
                </a:lnTo>
                <a:lnTo>
                  <a:pt x="768" y="105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715000" y="2286000"/>
            <a:ext cx="1066680" cy="1600200"/>
          </a:xfrm>
          <a:custGeom>
            <a:avLst/>
            <a:gdLst/>
            <a:ahLst/>
            <a:rect l="l" t="t" r="r" b="b"/>
            <a:pathLst>
              <a:path w="672" h="1056">
                <a:moveTo>
                  <a:pt x="96" y="1056"/>
                </a:moveTo>
                <a:lnTo>
                  <a:pt x="672" y="1056"/>
                </a:lnTo>
                <a:lnTo>
                  <a:pt x="672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H="1">
            <a:off x="1828800" y="39625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64640" y="373392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C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292920" y="5334120"/>
            <a:ext cx="2529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Cwe=(1-Ku)C+c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572000" y="1981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724280" y="1981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96252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H="1">
            <a:off x="4724280" y="2286000"/>
            <a:ext cx="1067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786920" y="1641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zęstotliwość górna wzmacniacza O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1373400" y="1390680"/>
            <a:ext cx="6750720" cy="4355280"/>
            <a:chOff x="1373400" y="1390680"/>
            <a:chExt cx="6750720" cy="4355280"/>
          </a:xfrm>
        </p:grpSpPr>
        <p:sp>
          <p:nvSpPr>
            <p:cNvPr id="657" name=""/>
            <p:cNvSpPr/>
            <p:nvPr/>
          </p:nvSpPr>
          <p:spPr>
            <a:xfrm>
              <a:off x="3537720" y="2003760"/>
              <a:ext cx="1800" cy="2968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8" name=""/>
            <p:cNvGrpSpPr/>
            <p:nvPr/>
          </p:nvGrpSpPr>
          <p:grpSpPr>
            <a:xfrm>
              <a:off x="3825720" y="3133080"/>
              <a:ext cx="865800" cy="567360"/>
              <a:chOff x="3825720" y="3133080"/>
              <a:chExt cx="865800" cy="567360"/>
            </a:xfrm>
          </p:grpSpPr>
          <p:sp>
            <p:nvSpPr>
              <p:cNvPr id="659" name=""/>
              <p:cNvSpPr/>
              <p:nvPr/>
            </p:nvSpPr>
            <p:spPr>
              <a:xfrm>
                <a:off x="4402440" y="3133440"/>
                <a:ext cx="1800" cy="565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flipV="1">
                <a:off x="4402440" y="3133080"/>
                <a:ext cx="287640" cy="283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4402440" y="3416760"/>
                <a:ext cx="287640" cy="281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flipV="1">
                <a:off x="4690080" y="3558240"/>
                <a:ext cx="1440" cy="140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flipH="1">
                <a:off x="4546800" y="3698640"/>
                <a:ext cx="142920" cy="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flipH="1">
                <a:off x="3825720" y="3416760"/>
                <a:ext cx="57672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5" name=""/>
            <p:cNvSpPr/>
            <p:nvPr/>
          </p:nvSpPr>
          <p:spPr>
            <a:xfrm>
              <a:off x="4690440" y="2003760"/>
              <a:ext cx="2880" cy="11401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547520" y="2285640"/>
              <a:ext cx="287280" cy="565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>
              <a:off x="4690440" y="3699360"/>
              <a:ext cx="2880" cy="8848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690440" y="4513680"/>
              <a:ext cx="1440" cy="4237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547520" y="4946040"/>
              <a:ext cx="28728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835160" y="1390680"/>
              <a:ext cx="398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267160" y="1656000"/>
              <a:ext cx="25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258080" y="249696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114440" y="231444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654080" y="1968120"/>
              <a:ext cx="80640" cy="79560"/>
            </a:xfrm>
            <a:prstGeom prst="ellipse">
              <a:avLst/>
            </a:prstGeom>
            <a:solidFill>
              <a:srgbClr val="0000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690440" y="2993400"/>
              <a:ext cx="57672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663920" y="4549320"/>
              <a:ext cx="1440" cy="4233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521000" y="4981320"/>
              <a:ext cx="287280" cy="180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V="1">
              <a:off x="6996600" y="4406760"/>
              <a:ext cx="1800" cy="5655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851880" y="4946040"/>
              <a:ext cx="28908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393000" y="2285640"/>
              <a:ext cx="289080" cy="565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393000" y="3983040"/>
              <a:ext cx="289080" cy="565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541320" y="2003760"/>
              <a:ext cx="143784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943520" y="1968120"/>
              <a:ext cx="80640" cy="79560"/>
            </a:xfrm>
            <a:prstGeom prst="ellipse">
              <a:avLst/>
            </a:prstGeom>
            <a:solidFill>
              <a:srgbClr val="0000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4" name=""/>
            <p:cNvGrpSpPr/>
            <p:nvPr/>
          </p:nvGrpSpPr>
          <p:grpSpPr>
            <a:xfrm>
              <a:off x="5267160" y="2709720"/>
              <a:ext cx="145800" cy="565560"/>
              <a:chOff x="5267160" y="2709720"/>
              <a:chExt cx="145800" cy="565560"/>
            </a:xfrm>
          </p:grpSpPr>
          <p:sp>
            <p:nvSpPr>
              <p:cNvPr id="685" name=""/>
              <p:cNvSpPr/>
              <p:nvPr/>
            </p:nvSpPr>
            <p:spPr>
              <a:xfrm>
                <a:off x="5267160" y="2709720"/>
                <a:ext cx="1440" cy="565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5411160" y="2709720"/>
                <a:ext cx="1800" cy="565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7" name=""/>
            <p:cNvGrpSpPr/>
            <p:nvPr/>
          </p:nvGrpSpPr>
          <p:grpSpPr>
            <a:xfrm>
              <a:off x="2960640" y="3133440"/>
              <a:ext cx="145800" cy="565200"/>
              <a:chOff x="2960640" y="3133440"/>
              <a:chExt cx="145800" cy="565200"/>
            </a:xfrm>
          </p:grpSpPr>
          <p:sp>
            <p:nvSpPr>
              <p:cNvPr id="688" name=""/>
              <p:cNvSpPr/>
              <p:nvPr/>
            </p:nvSpPr>
            <p:spPr>
              <a:xfrm>
                <a:off x="2960640" y="3133440"/>
                <a:ext cx="1800" cy="565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3105000" y="3133440"/>
                <a:ext cx="1440" cy="565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0" name=""/>
            <p:cNvSpPr/>
            <p:nvPr/>
          </p:nvSpPr>
          <p:spPr>
            <a:xfrm>
              <a:off x="3105720" y="3417480"/>
              <a:ext cx="86436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851880" y="3841560"/>
              <a:ext cx="289080" cy="565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411880" y="2993400"/>
              <a:ext cx="158436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996600" y="2993400"/>
              <a:ext cx="1800" cy="847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547520" y="4123440"/>
              <a:ext cx="287280" cy="565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93000" y="4946040"/>
              <a:ext cx="28908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448280" y="4123440"/>
              <a:ext cx="432360" cy="425880"/>
            </a:xfrm>
            <a:prstGeom prst="ellipse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V="1">
              <a:off x="1663920" y="3417480"/>
              <a:ext cx="1440" cy="705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H="1">
              <a:off x="1663920" y="3417480"/>
              <a:ext cx="129672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953000" y="3275640"/>
              <a:ext cx="573480" cy="281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538280" y="4096440"/>
              <a:ext cx="23076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673360" y="2567880"/>
              <a:ext cx="1440" cy="29707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708960" y="2285640"/>
              <a:ext cx="1440" cy="325296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849360" y="5283720"/>
              <a:ext cx="1274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obciążeni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373400" y="5425560"/>
              <a:ext cx="1719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źródło sygnału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122440" y="433620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79520" y="415404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334600" y="29210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095920" y="274032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970080" y="4194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825720" y="401184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105000" y="24969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959920" y="231444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562520" y="40525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284240" y="387000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105000" y="29210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959920" y="274032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267160" y="23547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122440" y="217404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095920" y="4194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952280" y="4011840"/>
              <a:ext cx="1789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654080" y="2958120"/>
              <a:ext cx="80640" cy="79200"/>
            </a:xfrm>
            <a:prstGeom prst="ellipse">
              <a:avLst/>
            </a:prstGeom>
            <a:solidFill>
              <a:srgbClr val="0000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501720" y="3381840"/>
              <a:ext cx="80640" cy="79560"/>
            </a:xfrm>
            <a:prstGeom prst="ellipse">
              <a:avLst/>
            </a:prstGeom>
            <a:solidFill>
              <a:srgbClr val="0000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690440" y="3841560"/>
              <a:ext cx="129672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V="1">
              <a:off x="5987160" y="3841200"/>
              <a:ext cx="1440" cy="4237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699520" y="4265280"/>
              <a:ext cx="5767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699520" y="4407120"/>
              <a:ext cx="5767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844240" y="4946040"/>
              <a:ext cx="28728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V="1">
              <a:off x="5987160" y="4406760"/>
              <a:ext cx="1440" cy="5655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276600" y="391068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131520" y="372996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641840" y="3789000"/>
              <a:ext cx="80640" cy="79200"/>
            </a:xfrm>
            <a:prstGeom prst="ellipse">
              <a:avLst/>
            </a:prstGeom>
            <a:solidFill>
              <a:srgbClr val="0000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5416560" y="1411200"/>
            <a:ext cx="2292480" cy="16225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zęstotliwość górna wzmacniacza O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2309760" y="3554280"/>
            <a:ext cx="1800" cy="9907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139760" y="4275000"/>
            <a:ext cx="1800" cy="2700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2219400" y="3914640"/>
            <a:ext cx="182520" cy="360360"/>
          </a:xfrm>
          <a:prstGeom prst="rect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050840" y="4527720"/>
            <a:ext cx="17964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004760" y="4003560"/>
            <a:ext cx="271440" cy="271440"/>
          </a:xfrm>
          <a:prstGeom prst="ellipse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1139760" y="3553920"/>
            <a:ext cx="1800" cy="4510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139760" y="3554280"/>
            <a:ext cx="207000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319040" y="3463920"/>
            <a:ext cx="360360" cy="182520"/>
          </a:xfrm>
          <a:prstGeom prst="rect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127520" y="3987720"/>
            <a:ext cx="156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533240" y="32400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1458720" y="312408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612160" y="4049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2538360" y="393228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286000" y="3532320"/>
            <a:ext cx="54000" cy="52200"/>
          </a:xfrm>
          <a:prstGeom prst="ellipse">
            <a:avLst/>
          </a:prstGeom>
          <a:solidFill>
            <a:srgbClr val="00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209760" y="3554280"/>
            <a:ext cx="1800" cy="9907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121200" y="4527720"/>
            <a:ext cx="17928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220840" y="4527720"/>
            <a:ext cx="17964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119400" y="3914640"/>
            <a:ext cx="181080" cy="360360"/>
          </a:xfrm>
          <a:prstGeom prst="rect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 flipH="1" flipV="1">
            <a:off x="2039760" y="3465000"/>
            <a:ext cx="90720" cy="889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H="1">
            <a:off x="2039760" y="3554280"/>
            <a:ext cx="90720" cy="907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082600" y="32130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2163600" y="33307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534400" y="312408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2577960" y="3240000"/>
            <a:ext cx="20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b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489040" y="3463920"/>
            <a:ext cx="360360" cy="182520"/>
          </a:xfrm>
          <a:prstGeom prst="rect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806200" y="39322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849400" y="4049640"/>
            <a:ext cx="20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'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1" name=""/>
          <p:cNvGrpSpPr/>
          <p:nvPr/>
        </p:nvGrpSpPr>
        <p:grpSpPr>
          <a:xfrm>
            <a:off x="3300120" y="3735360"/>
            <a:ext cx="179640" cy="719280"/>
            <a:chOff x="3300120" y="3735360"/>
            <a:chExt cx="179640" cy="719280"/>
          </a:xfrm>
        </p:grpSpPr>
        <p:sp>
          <p:nvSpPr>
            <p:cNvPr id="762" name=""/>
            <p:cNvSpPr/>
            <p:nvPr/>
          </p:nvSpPr>
          <p:spPr>
            <a:xfrm>
              <a:off x="3390840" y="3735360"/>
              <a:ext cx="1800" cy="71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H="1">
              <a:off x="3300120" y="3735360"/>
              <a:ext cx="90360" cy="88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90840" y="3735360"/>
              <a:ext cx="88920" cy="88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5" name=""/>
          <p:cNvSpPr/>
          <p:nvPr/>
        </p:nvSpPr>
        <p:spPr>
          <a:xfrm>
            <a:off x="3527280" y="40226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209760" y="3554280"/>
            <a:ext cx="126072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840120" y="3554280"/>
            <a:ext cx="1800" cy="4510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660840" y="4005360"/>
            <a:ext cx="35856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660840" y="4094280"/>
            <a:ext cx="35856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840120" y="4094280"/>
            <a:ext cx="1800" cy="4507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749760" y="4545000"/>
            <a:ext cx="18072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186000" y="3532320"/>
            <a:ext cx="54000" cy="52200"/>
          </a:xfrm>
          <a:prstGeom prst="ellipse">
            <a:avLst/>
          </a:prstGeom>
          <a:solidFill>
            <a:srgbClr val="00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816360" y="3532320"/>
            <a:ext cx="52200" cy="52200"/>
          </a:xfrm>
          <a:prstGeom prst="ellipse">
            <a:avLst/>
          </a:prstGeom>
          <a:solidFill>
            <a:srgbClr val="00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470480" y="3554280"/>
            <a:ext cx="1440" cy="4510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289400" y="4005360"/>
            <a:ext cx="36036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289400" y="4094280"/>
            <a:ext cx="36036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4470480" y="4094280"/>
            <a:ext cx="1440" cy="4507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379760" y="4545000"/>
            <a:ext cx="18108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275000" y="3184560"/>
            <a:ext cx="170676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Arial"/>
              </a:rPr>
              <a:t>b’c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(1+g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R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’ 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flipV="1">
            <a:off x="5729400" y="3554280"/>
            <a:ext cx="1440" cy="9907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594400" y="4094280"/>
            <a:ext cx="271440" cy="271440"/>
          </a:xfrm>
          <a:prstGeom prst="ellipse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6359400" y="3327480"/>
            <a:ext cx="47628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270480" y="3554280"/>
            <a:ext cx="1800" cy="9907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6180120" y="4527720"/>
            <a:ext cx="17928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6178680" y="3914640"/>
            <a:ext cx="182520" cy="360360"/>
          </a:xfrm>
          <a:prstGeom prst="rect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5640480" y="4546440"/>
            <a:ext cx="17928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594400" y="3914640"/>
            <a:ext cx="271440" cy="271440"/>
          </a:xfrm>
          <a:prstGeom prst="ellipse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5729400" y="4005360"/>
            <a:ext cx="1440" cy="2696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flipH="1" flipV="1">
            <a:off x="5640120" y="4184280"/>
            <a:ext cx="88920" cy="903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 flipV="1">
            <a:off x="5729400" y="4184280"/>
            <a:ext cx="90360" cy="903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5594400" y="4094280"/>
            <a:ext cx="271440" cy="271440"/>
          </a:xfrm>
          <a:prstGeom prst="ellipse">
            <a:avLst/>
          </a:prstGeom>
          <a:noFill/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4960440" y="4029120"/>
            <a:ext cx="37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   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5052960" y="4146480"/>
            <a:ext cx="12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5729400" y="3554280"/>
            <a:ext cx="54108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5" name=""/>
          <p:cNvGrpSpPr/>
          <p:nvPr/>
        </p:nvGrpSpPr>
        <p:grpSpPr>
          <a:xfrm>
            <a:off x="6719760" y="3735360"/>
            <a:ext cx="179640" cy="719280"/>
            <a:chOff x="6719760" y="3735360"/>
            <a:chExt cx="179640" cy="719280"/>
          </a:xfrm>
        </p:grpSpPr>
        <p:sp>
          <p:nvSpPr>
            <p:cNvPr id="796" name=""/>
            <p:cNvSpPr/>
            <p:nvPr/>
          </p:nvSpPr>
          <p:spPr>
            <a:xfrm>
              <a:off x="6810480" y="3735360"/>
              <a:ext cx="1440" cy="71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flipH="1">
              <a:off x="6719760" y="3735360"/>
              <a:ext cx="90720" cy="88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6810480" y="3735360"/>
              <a:ext cx="88920" cy="88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9" name=""/>
          <p:cNvSpPr/>
          <p:nvPr/>
        </p:nvSpPr>
        <p:spPr>
          <a:xfrm flipV="1">
            <a:off x="5191200" y="1734840"/>
            <a:ext cx="1440" cy="1011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5052960" y="2287440"/>
            <a:ext cx="27468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 flipV="1">
            <a:off x="2340000" y="1734840"/>
            <a:ext cx="1440" cy="1011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1144440" y="2470320"/>
            <a:ext cx="1800" cy="2761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2246400" y="2101680"/>
            <a:ext cx="185760" cy="370080"/>
          </a:xfrm>
          <a:prstGeom prst="rect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1052640" y="2728800"/>
            <a:ext cx="18252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1006560" y="2195640"/>
            <a:ext cx="27468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1144440" y="1734840"/>
            <a:ext cx="1800" cy="460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1144440" y="1735200"/>
            <a:ext cx="21146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327320" y="1643040"/>
            <a:ext cx="368280" cy="185760"/>
          </a:xfrm>
          <a:prstGeom prst="rect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124640" y="2176560"/>
            <a:ext cx="163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1543680" y="14144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1461240" y="129528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2647080" y="22399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2566080" y="212076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1326600" y="2120760"/>
            <a:ext cx="230400" cy="371880"/>
            <a:chOff x="1326600" y="2120760"/>
            <a:chExt cx="230400" cy="371880"/>
          </a:xfrm>
        </p:grpSpPr>
        <p:sp>
          <p:nvSpPr>
            <p:cNvPr id="815" name=""/>
            <p:cNvSpPr/>
            <p:nvPr/>
          </p:nvSpPr>
          <p:spPr>
            <a:xfrm>
              <a:off x="1470960" y="2309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326600" y="2120760"/>
              <a:ext cx="136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7" name=""/>
          <p:cNvSpPr/>
          <p:nvPr/>
        </p:nvSpPr>
        <p:spPr>
          <a:xfrm>
            <a:off x="2316240" y="1712880"/>
            <a:ext cx="52200" cy="5076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259080" y="1735200"/>
            <a:ext cx="1800" cy="1011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166920" y="2728800"/>
            <a:ext cx="18432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247840" y="2728800"/>
            <a:ext cx="18432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3165480" y="2101680"/>
            <a:ext cx="187200" cy="370080"/>
          </a:xfrm>
          <a:prstGeom prst="rect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V="1">
            <a:off x="5742000" y="1734840"/>
            <a:ext cx="1440" cy="1011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5649840" y="2101680"/>
            <a:ext cx="185760" cy="370080"/>
          </a:xfrm>
          <a:prstGeom prst="rect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6696360" y="196524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6612840" y="184644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5719680" y="1712880"/>
            <a:ext cx="50760" cy="5076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6478560" y="1735200"/>
            <a:ext cx="1440" cy="1011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6386400" y="2728800"/>
            <a:ext cx="18432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5649840" y="2728800"/>
            <a:ext cx="18432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6384960" y="2101680"/>
            <a:ext cx="185760" cy="370080"/>
          </a:xfrm>
          <a:prstGeom prst="rect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5966640" y="212076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6017400" y="2239920"/>
            <a:ext cx="162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6454800" y="1712880"/>
            <a:ext cx="52200" cy="5076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5191200" y="1735200"/>
            <a:ext cx="202248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7213680" y="1735200"/>
            <a:ext cx="1440" cy="1011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7121520" y="2728800"/>
            <a:ext cx="18432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5099040" y="2728800"/>
            <a:ext cx="18432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7121520" y="2101680"/>
            <a:ext cx="185760" cy="370080"/>
          </a:xfrm>
          <a:prstGeom prst="rect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7364880" y="2120760"/>
            <a:ext cx="3193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7680240" y="1936800"/>
            <a:ext cx="184320" cy="735120"/>
            <a:chOff x="7680240" y="1936800"/>
            <a:chExt cx="184320" cy="735120"/>
          </a:xfrm>
        </p:grpSpPr>
        <p:sp>
          <p:nvSpPr>
            <p:cNvPr id="841" name=""/>
            <p:cNvSpPr/>
            <p:nvPr/>
          </p:nvSpPr>
          <p:spPr>
            <a:xfrm>
              <a:off x="7772400" y="1936800"/>
              <a:ext cx="144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H="1">
              <a:off x="7680240" y="1936800"/>
              <a:ext cx="92160" cy="9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772400" y="1936800"/>
              <a:ext cx="92160" cy="9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4" name=""/>
          <p:cNvSpPr/>
          <p:nvPr/>
        </p:nvSpPr>
        <p:spPr>
          <a:xfrm>
            <a:off x="7711920" y="1500120"/>
            <a:ext cx="50184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Arial"/>
              </a:rPr>
              <a:t>R</a:t>
            </a:r>
            <a:r>
              <a:rPr b="1" lang="en-US" sz="2400" spc="-1" strike="noStrike" baseline="-25000">
                <a:solidFill>
                  <a:srgbClr val="6699ff"/>
                </a:solidFill>
                <a:latin typeface="Arial"/>
              </a:rPr>
              <a:t>L</a:t>
            </a:r>
            <a:r>
              <a:rPr b="1" lang="en-US" sz="2400" spc="-1" strike="noStrike">
                <a:solidFill>
                  <a:srgbClr val="6699ff"/>
                </a:solidFill>
                <a:latin typeface="Arial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167440" y="1712880"/>
            <a:ext cx="52200" cy="5076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5051520" y="2101680"/>
            <a:ext cx="277560" cy="277920"/>
          </a:xfrm>
          <a:prstGeom prst="ellipse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5191200" y="2195640"/>
            <a:ext cx="1440" cy="2746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flipH="1" flipV="1">
            <a:off x="5099040" y="2378160"/>
            <a:ext cx="9216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 flipV="1">
            <a:off x="5191200" y="2378160"/>
            <a:ext cx="9216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051520" y="2286000"/>
            <a:ext cx="277560" cy="277920"/>
          </a:xfrm>
          <a:prstGeom prst="ellipse">
            <a:avLst/>
          </a:prstGeom>
          <a:noFill/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 flipH="1" flipV="1">
            <a:off x="2063520" y="1643040"/>
            <a:ext cx="9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 flipH="1">
            <a:off x="2063520" y="1735200"/>
            <a:ext cx="9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2105640" y="1387440"/>
            <a:ext cx="5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2188080" y="15048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565360" y="1295280"/>
            <a:ext cx="64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2612880" y="1414440"/>
            <a:ext cx="20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b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522520" y="1643040"/>
            <a:ext cx="368280" cy="185760"/>
          </a:xfrm>
          <a:prstGeom prst="rect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2839320" y="212076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2889000" y="2239920"/>
            <a:ext cx="20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'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0" name=""/>
          <p:cNvGrpSpPr/>
          <p:nvPr/>
        </p:nvGrpSpPr>
        <p:grpSpPr>
          <a:xfrm>
            <a:off x="3351240" y="1919160"/>
            <a:ext cx="183960" cy="735120"/>
            <a:chOff x="3351240" y="1919160"/>
            <a:chExt cx="183960" cy="735120"/>
          </a:xfrm>
        </p:grpSpPr>
        <p:sp>
          <p:nvSpPr>
            <p:cNvPr id="861" name=""/>
            <p:cNvSpPr/>
            <p:nvPr/>
          </p:nvSpPr>
          <p:spPr>
            <a:xfrm>
              <a:off x="3443400" y="1919160"/>
              <a:ext cx="144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H="1">
              <a:off x="3351240" y="1919160"/>
              <a:ext cx="92160" cy="9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443400" y="1919160"/>
              <a:ext cx="91800" cy="9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4" name=""/>
          <p:cNvSpPr/>
          <p:nvPr/>
        </p:nvSpPr>
        <p:spPr>
          <a:xfrm>
            <a:off x="3577320" y="221292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4534200" y="2009880"/>
            <a:ext cx="404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g   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4627440" y="2128680"/>
            <a:ext cx="12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259080" y="1735200"/>
            <a:ext cx="15638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4203720" y="1735200"/>
            <a:ext cx="1440" cy="460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4019400" y="2195640"/>
            <a:ext cx="36684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4019400" y="2286000"/>
            <a:ext cx="36684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4203720" y="2286000"/>
            <a:ext cx="1440" cy="460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4111560" y="2746440"/>
            <a:ext cx="18252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822920" y="1552680"/>
            <a:ext cx="1440" cy="3664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4915080" y="1552680"/>
            <a:ext cx="1440" cy="3664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915080" y="1735200"/>
            <a:ext cx="2761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236760" y="1712880"/>
            <a:ext cx="51120" cy="5076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179960" y="1712880"/>
            <a:ext cx="50760" cy="5076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 flipV="1">
            <a:off x="3346560" y="5392800"/>
            <a:ext cx="1440" cy="1009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209760" y="5943600"/>
            <a:ext cx="27468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1143000" y="6126120"/>
            <a:ext cx="1440" cy="2761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052640" y="6384960"/>
            <a:ext cx="18252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1006560" y="5851440"/>
            <a:ext cx="27468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 flipV="1">
            <a:off x="1143000" y="5392800"/>
            <a:ext cx="1440" cy="458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1143000" y="5392800"/>
            <a:ext cx="11016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1325520" y="5300640"/>
            <a:ext cx="368280" cy="184320"/>
          </a:xfrm>
          <a:prstGeom prst="rect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1123920" y="5834160"/>
            <a:ext cx="163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419120" y="4952880"/>
            <a:ext cx="29844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pl-PL" sz="15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3897360" y="5392800"/>
            <a:ext cx="1440" cy="1009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3805200" y="6384960"/>
            <a:ext cx="18432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3805200" y="5759280"/>
            <a:ext cx="185760" cy="368640"/>
          </a:xfrm>
          <a:prstGeom prst="rect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254400" y="6384960"/>
            <a:ext cx="18396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517760" y="559764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3" name=""/>
          <p:cNvGrpSpPr/>
          <p:nvPr/>
        </p:nvGrpSpPr>
        <p:grpSpPr>
          <a:xfrm>
            <a:off x="1693800" y="5576760"/>
            <a:ext cx="184320" cy="733680"/>
            <a:chOff x="1693800" y="5576760"/>
            <a:chExt cx="184320" cy="733680"/>
          </a:xfrm>
        </p:grpSpPr>
        <p:sp>
          <p:nvSpPr>
            <p:cNvPr id="894" name=""/>
            <p:cNvSpPr/>
            <p:nvPr/>
          </p:nvSpPr>
          <p:spPr>
            <a:xfrm>
              <a:off x="1785960" y="5576760"/>
              <a:ext cx="1440" cy="733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H="1">
              <a:off x="1693800" y="5576760"/>
              <a:ext cx="9216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1785960" y="5576760"/>
              <a:ext cx="9216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7" name=""/>
          <p:cNvSpPr/>
          <p:nvPr/>
        </p:nvSpPr>
        <p:spPr>
          <a:xfrm>
            <a:off x="3208320" y="5759280"/>
            <a:ext cx="277920" cy="276480"/>
          </a:xfrm>
          <a:prstGeom prst="ellipse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346560" y="5851440"/>
            <a:ext cx="1440" cy="2746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 flipH="1" flipV="1">
            <a:off x="3254400" y="6035400"/>
            <a:ext cx="92160" cy="90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flipV="1">
            <a:off x="3346560" y="6035400"/>
            <a:ext cx="91800" cy="90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3208320" y="5942160"/>
            <a:ext cx="277920" cy="277560"/>
          </a:xfrm>
          <a:prstGeom prst="ellipse">
            <a:avLst/>
          </a:prstGeom>
          <a:noFill/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928960" y="5594400"/>
            <a:ext cx="404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g   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013560" y="5713560"/>
            <a:ext cx="12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2244600" y="5392800"/>
            <a:ext cx="1800" cy="458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2062080" y="5851440"/>
            <a:ext cx="36684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2062080" y="5943600"/>
            <a:ext cx="36684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2244600" y="5943600"/>
            <a:ext cx="1800" cy="458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2152800" y="6402240"/>
            <a:ext cx="18396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346560" y="5392800"/>
            <a:ext cx="550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2157480" y="5060880"/>
            <a:ext cx="3268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Arial"/>
              </a:rPr>
              <a:t>w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1" name=""/>
          <p:cNvGrpSpPr/>
          <p:nvPr/>
        </p:nvGrpSpPr>
        <p:grpSpPr>
          <a:xfrm>
            <a:off x="4356000" y="5576760"/>
            <a:ext cx="184320" cy="733680"/>
            <a:chOff x="4356000" y="5576760"/>
            <a:chExt cx="184320" cy="733680"/>
          </a:xfrm>
        </p:grpSpPr>
        <p:sp>
          <p:nvSpPr>
            <p:cNvPr id="912" name=""/>
            <p:cNvSpPr/>
            <p:nvPr/>
          </p:nvSpPr>
          <p:spPr>
            <a:xfrm>
              <a:off x="4448160" y="5576760"/>
              <a:ext cx="1440" cy="733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H="1">
              <a:off x="4356000" y="5576760"/>
              <a:ext cx="9216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448160" y="5576760"/>
              <a:ext cx="9216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5" name=""/>
          <p:cNvSpPr/>
          <p:nvPr/>
        </p:nvSpPr>
        <p:spPr>
          <a:xfrm>
            <a:off x="5317920" y="5403960"/>
            <a:ext cx="1739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u sk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= K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5203440" y="4834080"/>
            <a:ext cx="3134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=C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b’e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+C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b’c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(1+g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3659040" y="22986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Cb’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4514040" y="116208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Cb’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3505320" y="31240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954600" y="4689360"/>
            <a:ext cx="574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 flipH="1">
            <a:off x="3276720" y="49528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2" name=""/>
          <p:cNvGrpSpPr/>
          <p:nvPr/>
        </p:nvGrpSpPr>
        <p:grpSpPr>
          <a:xfrm>
            <a:off x="1320120" y="4000680"/>
            <a:ext cx="230400" cy="371520"/>
            <a:chOff x="1320120" y="4000680"/>
            <a:chExt cx="230400" cy="371520"/>
          </a:xfrm>
        </p:grpSpPr>
        <p:sp>
          <p:nvSpPr>
            <p:cNvPr id="923" name=""/>
            <p:cNvSpPr/>
            <p:nvPr/>
          </p:nvSpPr>
          <p:spPr>
            <a:xfrm>
              <a:off x="1464480" y="4189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1320120" y="4000680"/>
              <a:ext cx="136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5" name=""/>
          <p:cNvGrpSpPr/>
          <p:nvPr/>
        </p:nvGrpSpPr>
        <p:grpSpPr>
          <a:xfrm>
            <a:off x="1356120" y="5783400"/>
            <a:ext cx="314640" cy="371520"/>
            <a:chOff x="1356120" y="5783400"/>
            <a:chExt cx="314640" cy="371520"/>
          </a:xfrm>
        </p:grpSpPr>
        <p:sp>
          <p:nvSpPr>
            <p:cNvPr id="926" name=""/>
            <p:cNvSpPr/>
            <p:nvPr/>
          </p:nvSpPr>
          <p:spPr>
            <a:xfrm>
              <a:off x="1500840" y="5972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1356120" y="5783400"/>
              <a:ext cx="314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 `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8" name=""/>
          <p:cNvSpPr/>
          <p:nvPr/>
        </p:nvSpPr>
        <p:spPr>
          <a:xfrm>
            <a:off x="3506400" y="3156120"/>
            <a:ext cx="503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b’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6971040" y="3843360"/>
            <a:ext cx="3193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4690080" y="5811840"/>
            <a:ext cx="3193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581280" y="1060560"/>
            <a:ext cx="2892600" cy="527040"/>
          </a:xfrm>
          <a:custGeom>
            <a:avLst/>
            <a:gdLst/>
            <a:ahLst/>
            <a:rect l="l" t="t" r="r" b="b"/>
            <a:pathLst>
              <a:path w="1822" h="332">
                <a:moveTo>
                  <a:pt x="0" y="310"/>
                </a:moveTo>
                <a:cubicBezTo>
                  <a:pt x="55" y="255"/>
                  <a:pt x="111" y="200"/>
                  <a:pt x="200" y="154"/>
                </a:cubicBezTo>
                <a:cubicBezTo>
                  <a:pt x="289" y="108"/>
                  <a:pt x="418" y="56"/>
                  <a:pt x="533" y="32"/>
                </a:cubicBezTo>
                <a:cubicBezTo>
                  <a:pt x="648" y="8"/>
                  <a:pt x="774" y="6"/>
                  <a:pt x="889" y="10"/>
                </a:cubicBezTo>
                <a:cubicBezTo>
                  <a:pt x="1004" y="14"/>
                  <a:pt x="1067" y="0"/>
                  <a:pt x="1222" y="54"/>
                </a:cubicBezTo>
                <a:cubicBezTo>
                  <a:pt x="1377" y="108"/>
                  <a:pt x="1722" y="286"/>
                  <a:pt x="1822" y="3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6144480" y="1017720"/>
            <a:ext cx="1694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 - g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420520" y="5950080"/>
            <a:ext cx="1154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U/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54600" y="5330880"/>
            <a:ext cx="47628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zęstotliwość górna wzmacniacza O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6" name=""/>
              <p:cNvSpPr txBox="1"/>
              <p:nvPr/>
            </p:nvSpPr>
            <p:spPr>
              <a:xfrm>
                <a:off x="588960" y="1049400"/>
                <a:ext cx="5340240" cy="24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s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-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'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+j</m:t>
                            </m:r>
                            <m:r>
                              <m:t xml:space="preserve">ω</m:t>
                            </m:r>
                            <m:r>
                              <m:t xml:space="preserve">⋅</m:t>
                            </m:r>
                            <m:r>
                              <m:t xml:space="preserve">R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</m:sub>
                            </m:sSub>
                          </m:den>
                        </m:f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 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usk0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+</m:t>
                            </m:r>
                            <m:f>
                              <m:num>
                                <m:r>
                                  <m:t xml:space="preserve">jω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= 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usk0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+</m:t>
                            </m:r>
                            <m:f>
                              <m:num>
                                <m:r>
                                  <m:t xml:space="preserve">jf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gdzie: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=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Π</m:t>
                            </m:r>
                            <m:r>
                              <m:t xml:space="preserve">⋅</m:t>
                            </m:r>
                            <m:r>
                              <m:t xml:space="preserve">R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937" name=""/>
          <p:cNvGraphicFramePr/>
          <p:nvPr/>
        </p:nvGraphicFramePr>
        <p:xfrm>
          <a:off x="990720" y="4267080"/>
          <a:ext cx="2361960" cy="134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4267080"/>
                    <a:ext cx="2361960" cy="13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39" name=""/>
              <p:cNvSpPr txBox="1"/>
              <p:nvPr/>
            </p:nvSpPr>
            <p:spPr>
              <a:xfrm>
                <a:off x="990720" y="5791320"/>
                <a:ext cx="266688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940" name=""/>
          <p:cNvGraphicFramePr/>
          <p:nvPr/>
        </p:nvGraphicFramePr>
        <p:xfrm>
          <a:off x="5025960" y="4454640"/>
          <a:ext cx="3557520" cy="240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5960" y="4454640"/>
                    <a:ext cx="3557520" cy="24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2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135840" y="11080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059520" y="255600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6135840" y="164160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6897600" y="1641600"/>
            <a:ext cx="106704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7027920" y="1239840"/>
            <a:ext cx="985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6737400" y="2521080"/>
            <a:ext cx="371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8178480" y="19875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145200" y="1630440"/>
            <a:ext cx="2271600" cy="930240"/>
          </a:xfrm>
          <a:custGeom>
            <a:avLst/>
            <a:gdLst/>
            <a:ahLst/>
            <a:rect l="l" t="t" r="r" b="b"/>
            <a:pathLst>
              <a:path w="1431" h="586">
                <a:moveTo>
                  <a:pt x="0" y="7"/>
                </a:moveTo>
                <a:cubicBezTo>
                  <a:pt x="105" y="4"/>
                  <a:pt x="207" y="0"/>
                  <a:pt x="285" y="7"/>
                </a:cubicBezTo>
                <a:cubicBezTo>
                  <a:pt x="363" y="14"/>
                  <a:pt x="419" y="33"/>
                  <a:pt x="471" y="52"/>
                </a:cubicBezTo>
                <a:cubicBezTo>
                  <a:pt x="523" y="71"/>
                  <a:pt x="552" y="90"/>
                  <a:pt x="597" y="121"/>
                </a:cubicBezTo>
                <a:cubicBezTo>
                  <a:pt x="642" y="152"/>
                  <a:pt x="684" y="189"/>
                  <a:pt x="744" y="241"/>
                </a:cubicBezTo>
                <a:cubicBezTo>
                  <a:pt x="804" y="293"/>
                  <a:pt x="899" y="382"/>
                  <a:pt x="960" y="433"/>
                </a:cubicBezTo>
                <a:cubicBezTo>
                  <a:pt x="1021" y="484"/>
                  <a:pt x="1053" y="523"/>
                  <a:pt x="1110" y="547"/>
                </a:cubicBezTo>
                <a:cubicBezTo>
                  <a:pt x="1167" y="571"/>
                  <a:pt x="1249" y="574"/>
                  <a:pt x="1302" y="580"/>
                </a:cubicBezTo>
                <a:cubicBezTo>
                  <a:pt x="1355" y="586"/>
                  <a:pt x="1409" y="582"/>
                  <a:pt x="1431" y="583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7063560" y="1650960"/>
            <a:ext cx="52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6892920" y="1646280"/>
            <a:ext cx="0" cy="9334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1616040" y="3716280"/>
            <a:ext cx="50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kład całkujący RC (pierwszego rzęd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6159240" y="911160"/>
            <a:ext cx="81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|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 s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2490840" y="1049400"/>
            <a:ext cx="0" cy="3151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2354400" y="3770280"/>
            <a:ext cx="465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2490840" y="2052720"/>
            <a:ext cx="1369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860640" y="2052720"/>
            <a:ext cx="1916280" cy="1717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52720" y="1789200"/>
            <a:ext cx="1144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3565440" y="3705120"/>
            <a:ext cx="371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6160680" y="27036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2508120" y="2031840"/>
            <a:ext cx="4081680" cy="1748160"/>
          </a:xfrm>
          <a:custGeom>
            <a:avLst/>
            <a:gdLst/>
            <a:ahLst/>
            <a:rect l="l" t="t" r="r" b="b"/>
            <a:pathLst>
              <a:path w="1431" h="586">
                <a:moveTo>
                  <a:pt x="0" y="7"/>
                </a:moveTo>
                <a:cubicBezTo>
                  <a:pt x="105" y="4"/>
                  <a:pt x="207" y="0"/>
                  <a:pt x="285" y="7"/>
                </a:cubicBezTo>
                <a:cubicBezTo>
                  <a:pt x="363" y="14"/>
                  <a:pt x="419" y="33"/>
                  <a:pt x="471" y="52"/>
                </a:cubicBezTo>
                <a:cubicBezTo>
                  <a:pt x="523" y="71"/>
                  <a:pt x="552" y="90"/>
                  <a:pt x="597" y="121"/>
                </a:cubicBezTo>
                <a:cubicBezTo>
                  <a:pt x="642" y="152"/>
                  <a:pt x="684" y="189"/>
                  <a:pt x="744" y="241"/>
                </a:cubicBezTo>
                <a:cubicBezTo>
                  <a:pt x="804" y="293"/>
                  <a:pt x="899" y="382"/>
                  <a:pt x="960" y="433"/>
                </a:cubicBezTo>
                <a:cubicBezTo>
                  <a:pt x="1021" y="484"/>
                  <a:pt x="1053" y="523"/>
                  <a:pt x="1110" y="547"/>
                </a:cubicBezTo>
                <a:cubicBezTo>
                  <a:pt x="1167" y="571"/>
                  <a:pt x="1249" y="574"/>
                  <a:pt x="1302" y="580"/>
                </a:cubicBezTo>
                <a:cubicBezTo>
                  <a:pt x="1355" y="586"/>
                  <a:pt x="1409" y="582"/>
                  <a:pt x="1431" y="583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4156920" y="2070000"/>
            <a:ext cx="52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851280" y="2060640"/>
            <a:ext cx="0" cy="17557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2451240" y="4603680"/>
            <a:ext cx="4533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2486160" y="4356000"/>
            <a:ext cx="0" cy="190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2487600" y="4603680"/>
            <a:ext cx="3510000" cy="1305000"/>
          </a:xfrm>
          <a:custGeom>
            <a:avLst/>
            <a:gdLst/>
            <a:ahLst/>
            <a:rect l="l" t="t" r="r" b="b"/>
            <a:pathLst>
              <a:path w="2211" h="644">
                <a:moveTo>
                  <a:pt x="0" y="0"/>
                </a:moveTo>
                <a:lnTo>
                  <a:pt x="867" y="0"/>
                </a:lnTo>
                <a:lnTo>
                  <a:pt x="867" y="633"/>
                </a:lnTo>
                <a:lnTo>
                  <a:pt x="2211" y="6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2490840" y="4610160"/>
            <a:ext cx="3500280" cy="1270080"/>
          </a:xfrm>
          <a:custGeom>
            <a:avLst/>
            <a:gdLst/>
            <a:ahLst/>
            <a:rect l="l" t="t" r="r" b="b"/>
            <a:pathLst>
              <a:path w="2205" h="633">
                <a:moveTo>
                  <a:pt x="0" y="0"/>
                </a:moveTo>
                <a:cubicBezTo>
                  <a:pt x="122" y="7"/>
                  <a:pt x="274" y="30"/>
                  <a:pt x="390" y="66"/>
                </a:cubicBezTo>
                <a:cubicBezTo>
                  <a:pt x="506" y="102"/>
                  <a:pt x="617" y="175"/>
                  <a:pt x="696" y="216"/>
                </a:cubicBezTo>
                <a:cubicBezTo>
                  <a:pt x="775" y="257"/>
                  <a:pt x="809" y="281"/>
                  <a:pt x="867" y="315"/>
                </a:cubicBezTo>
                <a:cubicBezTo>
                  <a:pt x="925" y="349"/>
                  <a:pt x="951" y="383"/>
                  <a:pt x="1047" y="423"/>
                </a:cubicBezTo>
                <a:cubicBezTo>
                  <a:pt x="1143" y="463"/>
                  <a:pt x="1302" y="524"/>
                  <a:pt x="1440" y="555"/>
                </a:cubicBezTo>
                <a:cubicBezTo>
                  <a:pt x="1578" y="586"/>
                  <a:pt x="1751" y="596"/>
                  <a:pt x="1878" y="609"/>
                </a:cubicBezTo>
                <a:cubicBezTo>
                  <a:pt x="2005" y="622"/>
                  <a:pt x="2120" y="631"/>
                  <a:pt x="2205" y="633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1848240" y="608004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1292040" y="4246560"/>
            <a:ext cx="82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8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22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27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 flipH="1">
            <a:off x="2415960" y="525636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zęstotliwość górna wzmacniacza O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2733120" y="1071720"/>
            <a:ext cx="767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|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s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zęstotliwość dolna (wzmacniacza O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5" name=""/>
              <p:cNvSpPr txBox="1"/>
              <p:nvPr/>
            </p:nvSpPr>
            <p:spPr>
              <a:xfrm>
                <a:off x="4751280" y="1157400"/>
                <a:ext cx="328320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k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+cs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+as+b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cs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6" name=""/>
              <p:cNvSpPr txBox="1"/>
              <p:nvPr/>
            </p:nvSpPr>
            <p:spPr>
              <a:xfrm>
                <a:off x="4905360" y="3443400"/>
                <a:ext cx="25113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≈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+ 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+ f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977" name=""/>
          <p:cNvSpPr/>
          <p:nvPr/>
        </p:nvSpPr>
        <p:spPr>
          <a:xfrm flipV="1">
            <a:off x="2417760" y="1622520"/>
            <a:ext cx="14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2303640" y="207972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817560" y="2232000"/>
            <a:ext cx="14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741240" y="2446200"/>
            <a:ext cx="1526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703440" y="200340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 flipV="1">
            <a:off x="817560" y="1622520"/>
            <a:ext cx="144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817560" y="1622520"/>
            <a:ext cx="6858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969840" y="1546200"/>
            <a:ext cx="303480" cy="152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800640" y="1989000"/>
            <a:ext cx="13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1078920" y="12574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1073160" y="20415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969120" y="19432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488040" y="1714680"/>
            <a:ext cx="15912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3408480" y="1622520"/>
            <a:ext cx="14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332160" y="2446200"/>
            <a:ext cx="1522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3332160" y="1927080"/>
            <a:ext cx="152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2932200" y="1603440"/>
            <a:ext cx="4284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2341440" y="2446200"/>
            <a:ext cx="1526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231200" y="19432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6" name=""/>
          <p:cNvGrpSpPr/>
          <p:nvPr/>
        </p:nvGrpSpPr>
        <p:grpSpPr>
          <a:xfrm>
            <a:off x="1274760" y="1774800"/>
            <a:ext cx="152280" cy="609480"/>
            <a:chOff x="1274760" y="1774800"/>
            <a:chExt cx="152280" cy="609480"/>
          </a:xfrm>
        </p:grpSpPr>
        <p:sp>
          <p:nvSpPr>
            <p:cNvPr id="997" name=""/>
            <p:cNvSpPr/>
            <p:nvPr/>
          </p:nvSpPr>
          <p:spPr>
            <a:xfrm>
              <a:off x="1351080" y="1774800"/>
              <a:ext cx="1440" cy="609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 flipH="1">
              <a:off x="1274760" y="177480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1351080" y="1774800"/>
              <a:ext cx="7596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0" name=""/>
          <p:cNvSpPr/>
          <p:nvPr/>
        </p:nvSpPr>
        <p:spPr>
          <a:xfrm>
            <a:off x="2303640" y="192708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2417760" y="2003400"/>
            <a:ext cx="14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 flipH="1" flipV="1">
            <a:off x="2341440" y="2155680"/>
            <a:ext cx="7632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 flipV="1">
            <a:off x="2417760" y="2155680"/>
            <a:ext cx="7632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2303640" y="2079720"/>
            <a:ext cx="228600" cy="2286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 flipV="1">
            <a:off x="1884240" y="1622520"/>
            <a:ext cx="180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1808280" y="2460600"/>
            <a:ext cx="1522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2417760" y="1622520"/>
            <a:ext cx="9907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1865160" y="1603440"/>
            <a:ext cx="4284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1536120" y="12574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0" name=""/>
          <p:cNvGrpSpPr/>
          <p:nvPr/>
        </p:nvGrpSpPr>
        <p:grpSpPr>
          <a:xfrm>
            <a:off x="3789360" y="1774800"/>
            <a:ext cx="152280" cy="609480"/>
            <a:chOff x="3789360" y="1774800"/>
            <a:chExt cx="152280" cy="609480"/>
          </a:xfrm>
        </p:grpSpPr>
        <p:sp>
          <p:nvSpPr>
            <p:cNvPr id="1011" name=""/>
            <p:cNvSpPr/>
            <p:nvPr/>
          </p:nvSpPr>
          <p:spPr>
            <a:xfrm>
              <a:off x="3865680" y="1774800"/>
              <a:ext cx="1440" cy="609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 flipH="1">
              <a:off x="3789360" y="177480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3865680" y="1774800"/>
              <a:ext cx="7596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4" name=""/>
          <p:cNvSpPr/>
          <p:nvPr/>
        </p:nvSpPr>
        <p:spPr>
          <a:xfrm>
            <a:off x="1808280" y="1927080"/>
            <a:ext cx="152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1149480" y="135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1301760" y="20415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2069640" y="19432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2112840" y="2041560"/>
            <a:ext cx="98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2951280" y="1622520"/>
            <a:ext cx="14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2874960" y="2446200"/>
            <a:ext cx="1522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2874960" y="1927080"/>
            <a:ext cx="152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1332000" y="1603440"/>
            <a:ext cx="4284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3130560" y="1812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060000" y="17146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1503360" y="1469880"/>
            <a:ext cx="144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1579680" y="1469880"/>
            <a:ext cx="144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1579680" y="1622520"/>
            <a:ext cx="3045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1606680" y="135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1731960" y="1317600"/>
            <a:ext cx="1447920" cy="1447920"/>
          </a:xfrm>
          <a:prstGeom prst="rect">
            <a:avLst/>
          </a:pr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 flipV="1">
            <a:off x="2468520" y="3359160"/>
            <a:ext cx="180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868320" y="3968640"/>
            <a:ext cx="180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792000" y="4183200"/>
            <a:ext cx="1526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754200" y="374004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 flipV="1">
            <a:off x="868320" y="3359160"/>
            <a:ext cx="18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868320" y="3359160"/>
            <a:ext cx="10666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1020600" y="3282840"/>
            <a:ext cx="303480" cy="152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851760" y="3726000"/>
            <a:ext cx="13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1129680" y="29941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123920" y="3778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1019880" y="36799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3538800" y="3451320"/>
            <a:ext cx="15912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3459240" y="3359160"/>
            <a:ext cx="14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3382920" y="4183200"/>
            <a:ext cx="1522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3382920" y="3664080"/>
            <a:ext cx="1522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2392200" y="4183200"/>
            <a:ext cx="1526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1281960" y="36799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7" name=""/>
          <p:cNvGrpSpPr/>
          <p:nvPr/>
        </p:nvGrpSpPr>
        <p:grpSpPr>
          <a:xfrm>
            <a:off x="1325520" y="3511440"/>
            <a:ext cx="152280" cy="609840"/>
            <a:chOff x="1325520" y="3511440"/>
            <a:chExt cx="152280" cy="609840"/>
          </a:xfrm>
        </p:grpSpPr>
        <p:sp>
          <p:nvSpPr>
            <p:cNvPr id="1048" name=""/>
            <p:cNvSpPr/>
            <p:nvPr/>
          </p:nvSpPr>
          <p:spPr>
            <a:xfrm>
              <a:off x="1401840" y="3511440"/>
              <a:ext cx="1440" cy="60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H="1">
              <a:off x="1325520" y="351144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1401840" y="3511440"/>
              <a:ext cx="7596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1" name=""/>
          <p:cNvSpPr/>
          <p:nvPr/>
        </p:nvSpPr>
        <p:spPr>
          <a:xfrm flipV="1">
            <a:off x="1935000" y="3359160"/>
            <a:ext cx="180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1859040" y="4197240"/>
            <a:ext cx="1522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2468520" y="3359160"/>
            <a:ext cx="8380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1916280" y="3340080"/>
            <a:ext cx="4284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3339360" y="29941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6" name=""/>
          <p:cNvGrpSpPr/>
          <p:nvPr/>
        </p:nvGrpSpPr>
        <p:grpSpPr>
          <a:xfrm>
            <a:off x="3840120" y="3511440"/>
            <a:ext cx="152280" cy="609840"/>
            <a:chOff x="3840120" y="3511440"/>
            <a:chExt cx="152280" cy="609840"/>
          </a:xfrm>
        </p:grpSpPr>
        <p:sp>
          <p:nvSpPr>
            <p:cNvPr id="1057" name=""/>
            <p:cNvSpPr/>
            <p:nvPr/>
          </p:nvSpPr>
          <p:spPr>
            <a:xfrm>
              <a:off x="3916440" y="3511440"/>
              <a:ext cx="1440" cy="60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 flipH="1">
              <a:off x="3840120" y="351144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916440" y="3511440"/>
              <a:ext cx="7596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0" name=""/>
          <p:cNvSpPr/>
          <p:nvPr/>
        </p:nvSpPr>
        <p:spPr>
          <a:xfrm>
            <a:off x="1859040" y="3664080"/>
            <a:ext cx="1522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1200240" y="30924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1352520" y="3778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2120400" y="36799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2163600" y="3778200"/>
            <a:ext cx="98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1382760" y="3340080"/>
            <a:ext cx="4284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2876760" y="31687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2806200" y="30700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3306600" y="3206880"/>
            <a:ext cx="180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3382920" y="3206880"/>
            <a:ext cx="180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3382920" y="3359160"/>
            <a:ext cx="763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3409920" y="30924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1782720" y="3054240"/>
            <a:ext cx="1447920" cy="1219320"/>
          </a:xfrm>
          <a:prstGeom prst="rect">
            <a:avLst/>
          </a:pr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2697120" y="3282840"/>
            <a:ext cx="303120" cy="152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2354400" y="366408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2451960" y="3649680"/>
            <a:ext cx="13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6" name=""/>
          <p:cNvGrpSpPr/>
          <p:nvPr/>
        </p:nvGrpSpPr>
        <p:grpSpPr>
          <a:xfrm>
            <a:off x="2620800" y="3511440"/>
            <a:ext cx="152640" cy="609840"/>
            <a:chOff x="2620800" y="3511440"/>
            <a:chExt cx="152640" cy="609840"/>
          </a:xfrm>
        </p:grpSpPr>
        <p:sp>
          <p:nvSpPr>
            <p:cNvPr id="1077" name=""/>
            <p:cNvSpPr/>
            <p:nvPr/>
          </p:nvSpPr>
          <p:spPr>
            <a:xfrm>
              <a:off x="2697120" y="3511440"/>
              <a:ext cx="1800" cy="60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H="1">
              <a:off x="2620800" y="351144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2697120" y="351144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0" name=""/>
          <p:cNvSpPr/>
          <p:nvPr/>
        </p:nvSpPr>
        <p:spPr>
          <a:xfrm flipV="1">
            <a:off x="2467080" y="4916160"/>
            <a:ext cx="144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2352600" y="537372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866880" y="5526000"/>
            <a:ext cx="14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790560" y="5740560"/>
            <a:ext cx="1522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752400" y="529740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V="1">
            <a:off x="866880" y="4916520"/>
            <a:ext cx="144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866880" y="4916520"/>
            <a:ext cx="10666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1019160" y="4840200"/>
            <a:ext cx="303120" cy="152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849960" y="5283360"/>
            <a:ext cx="13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1128240" y="45514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1122480" y="53355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1018440" y="52372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4070880" y="5008680"/>
            <a:ext cx="15912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3990960" y="4916520"/>
            <a:ext cx="14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3914640" y="5740560"/>
            <a:ext cx="1526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914640" y="5221440"/>
            <a:ext cx="1526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3514680" y="4897440"/>
            <a:ext cx="4284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2352600" y="522144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2467080" y="5297400"/>
            <a:ext cx="14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 flipH="1" flipV="1">
            <a:off x="2390760" y="5449680"/>
            <a:ext cx="7632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 flipV="1">
            <a:off x="2467080" y="5449680"/>
            <a:ext cx="7596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2352600" y="5373720"/>
            <a:ext cx="228600" cy="2286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 flipV="1">
            <a:off x="1933560" y="4916520"/>
            <a:ext cx="14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2467080" y="4916520"/>
            <a:ext cx="15238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2448000" y="5735520"/>
            <a:ext cx="4284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5" name=""/>
          <p:cNvGrpSpPr/>
          <p:nvPr/>
        </p:nvGrpSpPr>
        <p:grpSpPr>
          <a:xfrm>
            <a:off x="4371840" y="5068800"/>
            <a:ext cx="152640" cy="609840"/>
            <a:chOff x="4371840" y="5068800"/>
            <a:chExt cx="152640" cy="609840"/>
          </a:xfrm>
        </p:grpSpPr>
        <p:sp>
          <p:nvSpPr>
            <p:cNvPr id="1106" name=""/>
            <p:cNvSpPr/>
            <p:nvPr/>
          </p:nvSpPr>
          <p:spPr>
            <a:xfrm>
              <a:off x="4448160" y="5068800"/>
              <a:ext cx="1440" cy="60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 flipH="1">
              <a:off x="4371840" y="506880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448160" y="506880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9" name=""/>
          <p:cNvSpPr/>
          <p:nvPr/>
        </p:nvSpPr>
        <p:spPr>
          <a:xfrm>
            <a:off x="1857240" y="5221440"/>
            <a:ext cx="1526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1198800" y="4649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1655640" y="53355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3533760" y="4916520"/>
            <a:ext cx="14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3457440" y="5221440"/>
            <a:ext cx="1526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1380960" y="4897440"/>
            <a:ext cx="4320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3713760" y="510696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3642840" y="50086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905200" y="4897440"/>
            <a:ext cx="4284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924280" y="4916520"/>
            <a:ext cx="14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2847960" y="5221440"/>
            <a:ext cx="15228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3457440" y="5740560"/>
            <a:ext cx="1526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1933560" y="5754600"/>
            <a:ext cx="9907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2390760" y="5907240"/>
            <a:ext cx="1522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2390760" y="6426360"/>
            <a:ext cx="1522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2924280" y="5754600"/>
            <a:ext cx="14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2771640" y="5983200"/>
            <a:ext cx="30492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2771640" y="6059520"/>
            <a:ext cx="3049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2924280" y="6059520"/>
            <a:ext cx="144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2847960" y="6426360"/>
            <a:ext cx="1522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1585080" y="52372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 flipH="1" flipV="1">
            <a:off x="1628640" y="4840200"/>
            <a:ext cx="7632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 flipH="1">
            <a:off x="1628640" y="4916520"/>
            <a:ext cx="7632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1661760" y="462744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2265480" y="4726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1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2195280" y="4627440"/>
            <a:ext cx="427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     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3103560" y="50306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3032640" y="49323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2905200" y="5735520"/>
            <a:ext cx="4284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 flipV="1">
            <a:off x="2771640" y="5221440"/>
            <a:ext cx="304920" cy="304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2771640" y="5221440"/>
            <a:ext cx="304920" cy="304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1280520" y="52372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1" name=""/>
          <p:cNvGrpSpPr/>
          <p:nvPr/>
        </p:nvGrpSpPr>
        <p:grpSpPr>
          <a:xfrm>
            <a:off x="1323720" y="5068800"/>
            <a:ext cx="152640" cy="609840"/>
            <a:chOff x="1323720" y="5068800"/>
            <a:chExt cx="152640" cy="609840"/>
          </a:xfrm>
        </p:grpSpPr>
        <p:sp>
          <p:nvSpPr>
            <p:cNvPr id="1142" name=""/>
            <p:cNvSpPr/>
            <p:nvPr/>
          </p:nvSpPr>
          <p:spPr>
            <a:xfrm>
              <a:off x="1400040" y="5068800"/>
              <a:ext cx="1800" cy="60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 flipH="1">
              <a:off x="1323720" y="5068800"/>
              <a:ext cx="7596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1400040" y="506880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5" name=""/>
          <p:cNvSpPr/>
          <p:nvPr/>
        </p:nvSpPr>
        <p:spPr>
          <a:xfrm>
            <a:off x="1351080" y="53355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1814040" y="599904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7" name=""/>
          <p:cNvGrpSpPr/>
          <p:nvPr/>
        </p:nvGrpSpPr>
        <p:grpSpPr>
          <a:xfrm>
            <a:off x="1857240" y="5830920"/>
            <a:ext cx="152640" cy="609480"/>
            <a:chOff x="1857240" y="5830920"/>
            <a:chExt cx="152640" cy="609480"/>
          </a:xfrm>
        </p:grpSpPr>
        <p:sp>
          <p:nvSpPr>
            <p:cNvPr id="1148" name=""/>
            <p:cNvSpPr/>
            <p:nvPr/>
          </p:nvSpPr>
          <p:spPr>
            <a:xfrm>
              <a:off x="1933560" y="5830920"/>
              <a:ext cx="1440" cy="609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H="1">
              <a:off x="1857240" y="583092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1933560" y="583092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1" name=""/>
          <p:cNvSpPr/>
          <p:nvPr/>
        </p:nvSpPr>
        <p:spPr>
          <a:xfrm>
            <a:off x="1884600" y="60976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2194920" y="59230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2265840" y="602136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109320" y="59230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3180240" y="602136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3949560" y="2746440"/>
            <a:ext cx="503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w. o stałych czasowych zwarciowy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4078800" y="1866960"/>
            <a:ext cx="3193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4131360" y="3595680"/>
            <a:ext cx="3193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4731120" y="5183280"/>
            <a:ext cx="3193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zęstotliwość dolna (wzmacniacza O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1" name=""/>
              <p:cNvSpPr txBox="1"/>
              <p:nvPr/>
            </p:nvSpPr>
            <p:spPr>
              <a:xfrm>
                <a:off x="2700360" y="1752480"/>
                <a:ext cx="3125880" cy="17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Πτ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Π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+ R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Πτ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Π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+ 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2" name=""/>
              <p:cNvSpPr txBox="1"/>
              <p:nvPr/>
            </p:nvSpPr>
            <p:spPr>
              <a:xfrm>
                <a:off x="3281400" y="3722760"/>
                <a:ext cx="236700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e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C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  <m:sup>
                            <m:r>
                              <m:t xml:space="preserve">©</m:t>
                            </m:r>
                          </m:sup>
                        </m:sSub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e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3" name=""/>
              <p:cNvSpPr txBox="1"/>
              <p:nvPr/>
            </p:nvSpPr>
            <p:spPr>
              <a:xfrm>
                <a:off x="3618000" y="5000760"/>
                <a:ext cx="1825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&gt;&gt;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konfiguracje pracy elementów aktyw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7360" y="1216080"/>
            <a:ext cx="8397720" cy="4919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JEDYNCZE TRANZYS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1. Układ wspólnego emitera (źródł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2. Układ wspólnego kolektora ( dren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3. Układ wspólnej bazy (bramk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4. Układ o podstawie pośredniej z rezystorem emiter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lub źródł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ARY TRANZYSTOR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1. Układ DARLINGT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2. Wspólny emiter-wspólna baza: KASKO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3. Wspólny kolektor-wspólna ba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207120" y="5407200"/>
            <a:ext cx="311040" cy="642600"/>
          </a:xfrm>
          <a:custGeom>
            <a:avLst/>
            <a:gdLst>
              <a:gd name="textAreaLeft" fmla="*/ 0 w 311040"/>
              <a:gd name="textAreaRight" fmla="*/ 112320 w 311040"/>
              <a:gd name="textAreaTop" fmla="*/ 16560 h 642600"/>
              <a:gd name="textAreaBottom" fmla="*/ 626040 h 64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27"/>
                </a:lnTo>
                <a:cubicBezTo>
                  <a:pt x="10800" y="9927"/>
                  <a:pt x="16200" y="10827"/>
                  <a:pt x="21600" y="10827"/>
                </a:cubicBezTo>
                <a:cubicBezTo>
                  <a:pt x="16200" y="10827"/>
                  <a:pt x="10800" y="11727"/>
                  <a:pt x="10800" y="12627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602400" y="5327640"/>
            <a:ext cx="2079720" cy="7038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zmacniacze szerokopasmow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"/>
          <p:cNvSpPr/>
          <p:nvPr/>
        </p:nvSpPr>
        <p:spPr>
          <a:xfrm>
            <a:off x="3191040" y="1682640"/>
            <a:ext cx="866520" cy="39960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zęstotliwość górna wzmacniacza 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3538440" y="2003400"/>
            <a:ext cx="1800" cy="2970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7" name=""/>
          <p:cNvGrpSpPr/>
          <p:nvPr/>
        </p:nvGrpSpPr>
        <p:grpSpPr>
          <a:xfrm>
            <a:off x="3825360" y="3133800"/>
            <a:ext cx="866880" cy="567720"/>
            <a:chOff x="3825360" y="3133800"/>
            <a:chExt cx="866880" cy="567720"/>
          </a:xfrm>
        </p:grpSpPr>
        <p:sp>
          <p:nvSpPr>
            <p:cNvPr id="1168" name=""/>
            <p:cNvSpPr/>
            <p:nvPr/>
          </p:nvSpPr>
          <p:spPr>
            <a:xfrm>
              <a:off x="4402800" y="3133800"/>
              <a:ext cx="1800" cy="565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V="1">
              <a:off x="4402800" y="3133800"/>
              <a:ext cx="288000" cy="28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402800" y="3417480"/>
              <a:ext cx="288000" cy="281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V="1">
              <a:off x="4690800" y="3558960"/>
              <a:ext cx="1440" cy="140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 flipH="1">
              <a:off x="4547520" y="3699720"/>
              <a:ext cx="1429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 flipH="1">
              <a:off x="3825360" y="3417480"/>
              <a:ext cx="5770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4" name=""/>
          <p:cNvSpPr/>
          <p:nvPr/>
        </p:nvSpPr>
        <p:spPr>
          <a:xfrm>
            <a:off x="4691160" y="2003400"/>
            <a:ext cx="3240" cy="11397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 flipH="1">
            <a:off x="4690800" y="3699000"/>
            <a:ext cx="3240" cy="885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4691160" y="4513320"/>
            <a:ext cx="1440" cy="4237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4548240" y="4946760"/>
            <a:ext cx="28728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4835520" y="1390680"/>
            <a:ext cx="398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5267520" y="1655640"/>
            <a:ext cx="25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4257720" y="24969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4114800" y="2314440"/>
            <a:ext cx="192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4654440" y="1968480"/>
            <a:ext cx="81000" cy="79560"/>
          </a:xfrm>
          <a:prstGeom prst="ellipse">
            <a:avLst/>
          </a:prstGeom>
          <a:solidFill>
            <a:srgbClr val="00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720" bIns="9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4691160" y="3835440"/>
            <a:ext cx="5760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1663560" y="4549680"/>
            <a:ext cx="1800" cy="4240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1521000" y="4981680"/>
            <a:ext cx="28728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3394080" y="2286000"/>
            <a:ext cx="289080" cy="565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3394080" y="3983040"/>
            <a:ext cx="289080" cy="566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3541680" y="2003400"/>
            <a:ext cx="14382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4943520" y="1968480"/>
            <a:ext cx="81000" cy="79560"/>
          </a:xfrm>
          <a:prstGeom prst="ellipse">
            <a:avLst/>
          </a:prstGeom>
          <a:solidFill>
            <a:srgbClr val="00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720" bIns="9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0" name=""/>
          <p:cNvGrpSpPr/>
          <p:nvPr/>
        </p:nvGrpSpPr>
        <p:grpSpPr>
          <a:xfrm>
            <a:off x="5267160" y="3538440"/>
            <a:ext cx="145800" cy="564840"/>
            <a:chOff x="5267160" y="3538440"/>
            <a:chExt cx="145800" cy="564840"/>
          </a:xfrm>
        </p:grpSpPr>
        <p:sp>
          <p:nvSpPr>
            <p:cNvPr id="1191" name=""/>
            <p:cNvSpPr/>
            <p:nvPr/>
          </p:nvSpPr>
          <p:spPr>
            <a:xfrm>
              <a:off x="5267160" y="3538440"/>
              <a:ext cx="1440" cy="564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5411160" y="3538440"/>
              <a:ext cx="1800" cy="564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3" name=""/>
          <p:cNvGrpSpPr/>
          <p:nvPr/>
        </p:nvGrpSpPr>
        <p:grpSpPr>
          <a:xfrm>
            <a:off x="2960640" y="3133800"/>
            <a:ext cx="145800" cy="564840"/>
            <a:chOff x="2960640" y="3133800"/>
            <a:chExt cx="145800" cy="564840"/>
          </a:xfrm>
        </p:grpSpPr>
        <p:sp>
          <p:nvSpPr>
            <p:cNvPr id="1194" name=""/>
            <p:cNvSpPr/>
            <p:nvPr/>
          </p:nvSpPr>
          <p:spPr>
            <a:xfrm>
              <a:off x="2960640" y="3133800"/>
              <a:ext cx="1800" cy="564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3105000" y="3133800"/>
              <a:ext cx="1440" cy="564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6" name=""/>
          <p:cNvSpPr/>
          <p:nvPr/>
        </p:nvSpPr>
        <p:spPr>
          <a:xfrm>
            <a:off x="3105000" y="3417840"/>
            <a:ext cx="86544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5411880" y="3822840"/>
            <a:ext cx="6192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6019920" y="3822840"/>
            <a:ext cx="4680" cy="11062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4548240" y="4124160"/>
            <a:ext cx="287280" cy="565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3394080" y="4946760"/>
            <a:ext cx="28908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1449360" y="4124160"/>
            <a:ext cx="432000" cy="42552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 flipV="1">
            <a:off x="1663560" y="3417840"/>
            <a:ext cx="1800" cy="706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 flipH="1">
            <a:off x="1663200" y="3417840"/>
            <a:ext cx="129708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1952640" y="3274920"/>
            <a:ext cx="574560" cy="28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1537920" y="4095720"/>
            <a:ext cx="2307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2673360" y="2568600"/>
            <a:ext cx="1440" cy="297036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5707080" y="2249640"/>
            <a:ext cx="1440" cy="32526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5969880" y="5195880"/>
            <a:ext cx="12747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bciążeni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396000" y="5313240"/>
            <a:ext cx="1719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źródło sygnału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5122800" y="43369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4979880" y="4154400"/>
            <a:ext cx="192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2335320" y="29210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2097000" y="2739960"/>
            <a:ext cx="192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3052440" y="4073400"/>
            <a:ext cx="277920" cy="3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3105000" y="24969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2960640" y="2314440"/>
            <a:ext cx="192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6229080" y="4290840"/>
            <a:ext cx="31176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2966760" y="2739960"/>
            <a:ext cx="277920" cy="3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5178240" y="3127320"/>
            <a:ext cx="277920" cy="3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2096640" y="41940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1952280" y="4011480"/>
            <a:ext cx="17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3502080" y="3381480"/>
            <a:ext cx="81000" cy="79200"/>
          </a:xfrm>
          <a:prstGeom prst="ellipse">
            <a:avLst/>
          </a:prstGeom>
          <a:solidFill>
            <a:srgbClr val="00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5845320" y="4946760"/>
            <a:ext cx="28728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6276600" y="3909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6132240" y="3730680"/>
            <a:ext cx="192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4641840" y="3789360"/>
            <a:ext cx="81000" cy="79200"/>
          </a:xfrm>
          <a:prstGeom prst="ellipse">
            <a:avLst/>
          </a:prstGeom>
          <a:solidFill>
            <a:srgbClr val="00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5861160" y="4138560"/>
            <a:ext cx="290520" cy="565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2889720" y="5610240"/>
            <a:ext cx="554040" cy="579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zęstotliwość górna wzmacniacza 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0" name=""/>
              <p:cNvSpPr txBox="1"/>
              <p:nvPr/>
            </p:nvSpPr>
            <p:spPr>
              <a:xfrm>
                <a:off x="5197320" y="4351320"/>
                <a:ext cx="152100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31" name=""/>
          <p:cNvSpPr/>
          <p:nvPr/>
        </p:nvSpPr>
        <p:spPr>
          <a:xfrm flipV="1">
            <a:off x="2084400" y="4059000"/>
            <a:ext cx="1440" cy="1011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888840" y="4794120"/>
            <a:ext cx="1800" cy="2764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1990800" y="4425840"/>
            <a:ext cx="185760" cy="370080"/>
          </a:xfrm>
          <a:prstGeom prst="rect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797040" y="5052960"/>
            <a:ext cx="18252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750960" y="4519440"/>
            <a:ext cx="27468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 flipV="1">
            <a:off x="888840" y="4059360"/>
            <a:ext cx="1800" cy="4600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888840" y="4059360"/>
            <a:ext cx="21146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1071720" y="3967200"/>
            <a:ext cx="368280" cy="185760"/>
          </a:xfrm>
          <a:prstGeom prst="rect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807480" y="4500720"/>
            <a:ext cx="104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1254960" y="37386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1163520" y="36194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2359080" y="456408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2268360" y="44449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1163160" y="45640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1071360" y="444492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060640" y="4037040"/>
            <a:ext cx="52200" cy="5076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3003480" y="4059360"/>
            <a:ext cx="1800" cy="1011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2911320" y="5052960"/>
            <a:ext cx="18432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1992240" y="5052960"/>
            <a:ext cx="18432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2909880" y="4425840"/>
            <a:ext cx="187200" cy="370080"/>
          </a:xfrm>
          <a:prstGeom prst="rect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 flipH="1" flipV="1">
            <a:off x="1807920" y="3967200"/>
            <a:ext cx="9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 flipH="1">
            <a:off x="1807920" y="4059360"/>
            <a:ext cx="91800" cy="9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807200" y="37116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1899720" y="38289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2268000" y="361944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2358000" y="3738600"/>
            <a:ext cx="232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b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2266920" y="3967200"/>
            <a:ext cx="368280" cy="185760"/>
          </a:xfrm>
          <a:prstGeom prst="rect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2542680" y="44449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2634840" y="4564080"/>
            <a:ext cx="227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3279600" y="453708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3003480" y="4059360"/>
            <a:ext cx="62856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3648240" y="4059360"/>
            <a:ext cx="1440" cy="4600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3463920" y="4519440"/>
            <a:ext cx="36684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3463920" y="4610160"/>
            <a:ext cx="36684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3648240" y="4610160"/>
            <a:ext cx="1440" cy="460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3556080" y="5070600"/>
            <a:ext cx="18252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2981160" y="4037040"/>
            <a:ext cx="51120" cy="5076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3860640" y="4525920"/>
            <a:ext cx="43524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Arial"/>
              </a:rPr>
              <a:t>w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3398760" y="934920"/>
            <a:ext cx="0" cy="47023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3685320" y="50594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 flipH="1">
            <a:off x="3138480" y="5329080"/>
            <a:ext cx="58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358920" y="3614760"/>
            <a:ext cx="3030480" cy="1932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3" name=""/>
              <p:cNvSpPr txBox="1"/>
              <p:nvPr/>
            </p:nvSpPr>
            <p:spPr>
              <a:xfrm>
                <a:off x="3790800" y="5618160"/>
                <a:ext cx="43959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c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oc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e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'</m:t>
                        </m:r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'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4" name=""/>
              <p:cNvSpPr txBox="1"/>
              <p:nvPr/>
            </p:nvSpPr>
            <p:spPr>
              <a:xfrm>
                <a:off x="750960" y="5595840"/>
                <a:ext cx="258120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e</m:t>
                        </m:r>
                      </m:sub>
                    </m:sSub>
                    <m:r>
                      <m:t xml:space="preserve">≃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e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'</m:t>
                        </m:r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'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275" name=""/>
          <p:cNvGrpSpPr/>
          <p:nvPr/>
        </p:nvGrpSpPr>
        <p:grpSpPr>
          <a:xfrm>
            <a:off x="817560" y="992160"/>
            <a:ext cx="7075080" cy="2673360"/>
            <a:chOff x="817560" y="992160"/>
            <a:chExt cx="7075080" cy="2673360"/>
          </a:xfrm>
        </p:grpSpPr>
        <p:sp>
          <p:nvSpPr>
            <p:cNvPr id="1276" name=""/>
            <p:cNvSpPr/>
            <p:nvPr/>
          </p:nvSpPr>
          <p:spPr>
            <a:xfrm flipV="1">
              <a:off x="4935600" y="2268360"/>
              <a:ext cx="1440" cy="968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798800" y="2797200"/>
              <a:ext cx="270000" cy="263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 flipV="1">
              <a:off x="2130480" y="2268360"/>
              <a:ext cx="1440" cy="968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954000" y="2971800"/>
              <a:ext cx="1440" cy="264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2036520" y="2619360"/>
              <a:ext cx="184320" cy="35388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863640" y="3220920"/>
              <a:ext cx="179280" cy="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817560" y="2709720"/>
              <a:ext cx="269640" cy="262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V="1">
              <a:off x="954000" y="2268360"/>
              <a:ext cx="1440" cy="441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954000" y="2268360"/>
              <a:ext cx="20797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1133280" y="2179440"/>
              <a:ext cx="362160" cy="17784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872640" y="2690640"/>
              <a:ext cx="104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1313640" y="1960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1224000" y="18460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2400120" y="2751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2311200" y="26384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1223280" y="27511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1133280" y="26384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2106720" y="2246400"/>
              <a:ext cx="50760" cy="489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3033720" y="2268360"/>
              <a:ext cx="1440" cy="968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2943000" y="3220920"/>
              <a:ext cx="181080" cy="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2038320" y="3220920"/>
              <a:ext cx="182520" cy="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2941560" y="2619360"/>
              <a:ext cx="184320" cy="35388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8" name=""/>
            <p:cNvGrpSpPr/>
            <p:nvPr/>
          </p:nvGrpSpPr>
          <p:grpSpPr>
            <a:xfrm>
              <a:off x="3936600" y="1654200"/>
              <a:ext cx="995400" cy="177840"/>
              <a:chOff x="3936600" y="1654200"/>
              <a:chExt cx="995400" cy="177840"/>
            </a:xfrm>
          </p:grpSpPr>
          <p:sp>
            <p:nvSpPr>
              <p:cNvPr id="1299" name=""/>
              <p:cNvSpPr/>
              <p:nvPr/>
            </p:nvSpPr>
            <p:spPr>
              <a:xfrm flipH="1" flipV="1">
                <a:off x="3936600" y="1742760"/>
                <a:ext cx="99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 rot="16200000">
                <a:off x="4390920" y="1561320"/>
                <a:ext cx="177840" cy="363600"/>
              </a:xfrm>
              <a:prstGeom prst="rect">
                <a:avLst/>
              </a:prstGeom>
              <a:solidFill>
                <a:srgbClr val="ffffff"/>
              </a:solidFill>
              <a:ln w="30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1" name=""/>
            <p:cNvSpPr/>
            <p:nvPr/>
          </p:nvSpPr>
          <p:spPr>
            <a:xfrm>
              <a:off x="6383160" y="24890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6292800" y="23749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6202440" y="2268360"/>
              <a:ext cx="1440" cy="968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6111720" y="3220920"/>
              <a:ext cx="181080" cy="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6110280" y="2619360"/>
              <a:ext cx="182520" cy="35388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809680" y="2685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909040" y="2760480"/>
              <a:ext cx="18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6178320" y="2246400"/>
              <a:ext cx="51120" cy="489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4935600" y="2268360"/>
              <a:ext cx="19890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6924600" y="2268360"/>
              <a:ext cx="1440" cy="968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6834240" y="3220920"/>
              <a:ext cx="180720" cy="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4844880" y="3220920"/>
              <a:ext cx="181080" cy="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6834240" y="2619360"/>
              <a:ext cx="182520" cy="35388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7118280" y="26208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7208280" y="27352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6" name=""/>
            <p:cNvGrpSpPr/>
            <p:nvPr/>
          </p:nvGrpSpPr>
          <p:grpSpPr>
            <a:xfrm>
              <a:off x="7454880" y="2427120"/>
              <a:ext cx="181080" cy="704880"/>
              <a:chOff x="7454880" y="2427120"/>
              <a:chExt cx="181080" cy="704880"/>
            </a:xfrm>
          </p:grpSpPr>
          <p:sp>
            <p:nvSpPr>
              <p:cNvPr id="1317" name=""/>
              <p:cNvSpPr/>
              <p:nvPr/>
            </p:nvSpPr>
            <p:spPr>
              <a:xfrm>
                <a:off x="7545600" y="2427120"/>
                <a:ext cx="1080" cy="704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 flipH="1">
                <a:off x="7454880" y="2427120"/>
                <a:ext cx="90720" cy="88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7545600" y="2427120"/>
                <a:ext cx="90360" cy="88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0" name=""/>
            <p:cNvSpPr/>
            <p:nvPr/>
          </p:nvSpPr>
          <p:spPr>
            <a:xfrm>
              <a:off x="7104960" y="2224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7014960" y="21096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4911480" y="2246400"/>
              <a:ext cx="51120" cy="489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4797360" y="2619360"/>
              <a:ext cx="272880" cy="266760"/>
            </a:xfrm>
            <a:prstGeom prst="ellipse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4" name=""/>
            <p:cNvGrpSpPr/>
            <p:nvPr/>
          </p:nvGrpSpPr>
          <p:grpSpPr>
            <a:xfrm>
              <a:off x="4844520" y="2709720"/>
              <a:ext cx="181440" cy="262080"/>
              <a:chOff x="4844520" y="2709720"/>
              <a:chExt cx="181440" cy="262080"/>
            </a:xfrm>
          </p:grpSpPr>
          <p:sp>
            <p:nvSpPr>
              <p:cNvPr id="1325" name=""/>
              <p:cNvSpPr/>
              <p:nvPr/>
            </p:nvSpPr>
            <p:spPr>
              <a:xfrm flipV="1">
                <a:off x="4935240" y="2709720"/>
                <a:ext cx="1440" cy="262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26" name=""/>
              <p:cNvGrpSpPr/>
              <p:nvPr/>
            </p:nvGrpSpPr>
            <p:grpSpPr>
              <a:xfrm>
                <a:off x="4844520" y="2710080"/>
                <a:ext cx="181440" cy="87840"/>
                <a:chOff x="4844520" y="2710080"/>
                <a:chExt cx="181440" cy="87840"/>
              </a:xfrm>
            </p:grpSpPr>
            <p:sp>
              <p:nvSpPr>
                <p:cNvPr id="1327" name=""/>
                <p:cNvSpPr/>
                <p:nvPr/>
              </p:nvSpPr>
              <p:spPr>
                <a:xfrm flipH="1">
                  <a:off x="4844520" y="2710080"/>
                  <a:ext cx="90360" cy="878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8" name=""/>
                <p:cNvSpPr/>
                <p:nvPr/>
              </p:nvSpPr>
              <p:spPr>
                <a:xfrm>
                  <a:off x="4935240" y="2710080"/>
                  <a:ext cx="90720" cy="878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29" name=""/>
            <p:cNvSpPr/>
            <p:nvPr/>
          </p:nvSpPr>
          <p:spPr>
            <a:xfrm>
              <a:off x="4797360" y="2795400"/>
              <a:ext cx="272880" cy="266760"/>
            </a:xfrm>
            <a:prstGeom prst="ellipse">
              <a:avLst/>
            </a:prstGeom>
            <a:noFill/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 flipH="1" flipV="1">
              <a:off x="1857240" y="2179080"/>
              <a:ext cx="90720" cy="88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 flipH="1">
              <a:off x="1857240" y="2268360"/>
              <a:ext cx="90720" cy="874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1856520" y="19350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1947240" y="20476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2310840" y="18460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2399400" y="1960560"/>
              <a:ext cx="232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b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2309760" y="2179440"/>
              <a:ext cx="361800" cy="17784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2580480" y="2638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2670480" y="2751120"/>
              <a:ext cx="22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’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3238560" y="2676600"/>
              <a:ext cx="26136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pl-PL" sz="1400" spc="-1" strike="noStrike" baseline="-25000">
                  <a:solidFill>
                    <a:srgbClr val="000000"/>
                  </a:solidFill>
                  <a:latin typeface="Arial"/>
                </a:rPr>
                <a:t>b’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4179960" y="3031920"/>
              <a:ext cx="6346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 U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Arial"/>
                </a:rPr>
                <a:t>b’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3033720" y="2268360"/>
              <a:ext cx="15382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3668760" y="2268360"/>
              <a:ext cx="1440" cy="441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3487680" y="2709720"/>
              <a:ext cx="36036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3487680" y="2795400"/>
              <a:ext cx="36036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3668760" y="2795400"/>
              <a:ext cx="1440" cy="441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3578040" y="3236760"/>
              <a:ext cx="17964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4572000" y="2093760"/>
              <a:ext cx="1440" cy="3510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4664160" y="2093760"/>
              <a:ext cx="1440" cy="3510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4664160" y="2268360"/>
              <a:ext cx="2714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3011400" y="2246400"/>
              <a:ext cx="50760" cy="489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3645000" y="2246400"/>
              <a:ext cx="48960" cy="489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3878280" y="27147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3967560" y="2828880"/>
              <a:ext cx="22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’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4076640" y="1935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4203000" y="2047680"/>
              <a:ext cx="238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’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 flipV="1">
              <a:off x="4940280" y="1738440"/>
              <a:ext cx="0" cy="53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 flipV="1">
              <a:off x="3672000" y="1744200"/>
              <a:ext cx="0" cy="53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 flipH="1">
              <a:off x="3671640" y="1744560"/>
              <a:ext cx="29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4304520" y="1287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4394880" y="1401840"/>
              <a:ext cx="238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’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 flipH="1">
              <a:off x="3610080" y="1351080"/>
              <a:ext cx="151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5430600" y="171936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968560" y="992160"/>
              <a:ext cx="3506760" cy="1168560"/>
            </a:xfrm>
            <a:custGeom>
              <a:avLst/>
              <a:gdLst/>
              <a:ahLst/>
              <a:rect l="l" t="t" r="r" b="b"/>
              <a:pathLst>
                <a:path w="2245" h="768">
                  <a:moveTo>
                    <a:pt x="0" y="702"/>
                  </a:moveTo>
                  <a:cubicBezTo>
                    <a:pt x="5" y="518"/>
                    <a:pt x="11" y="335"/>
                    <a:pt x="89" y="224"/>
                  </a:cubicBezTo>
                  <a:cubicBezTo>
                    <a:pt x="167" y="113"/>
                    <a:pt x="304" y="70"/>
                    <a:pt x="467" y="35"/>
                  </a:cubicBezTo>
                  <a:cubicBezTo>
                    <a:pt x="630" y="0"/>
                    <a:pt x="860" y="9"/>
                    <a:pt x="1067" y="13"/>
                  </a:cubicBezTo>
                  <a:cubicBezTo>
                    <a:pt x="1274" y="17"/>
                    <a:pt x="1557" y="0"/>
                    <a:pt x="1711" y="57"/>
                  </a:cubicBezTo>
                  <a:cubicBezTo>
                    <a:pt x="1865" y="114"/>
                    <a:pt x="1900" y="239"/>
                    <a:pt x="1989" y="357"/>
                  </a:cubicBezTo>
                  <a:cubicBezTo>
                    <a:pt x="2078" y="475"/>
                    <a:pt x="2192" y="683"/>
                    <a:pt x="2245" y="768"/>
                  </a:cubicBezTo>
                </a:path>
              </a:pathLst>
            </a:custGeom>
            <a:noFill/>
            <a:ln w="38160">
              <a:solidFill>
                <a:srgbClr val="66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5624280" y="1254240"/>
              <a:ext cx="627120" cy="37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3333cc"/>
                  </a:solidFill>
                  <a:latin typeface="Times New Roman"/>
                </a:rPr>
                <a:t>Ku</a:t>
              </a:r>
              <a:r>
                <a:rPr b="1" lang="pl-PL" sz="1600" spc="-1" strike="noStrike" baseline="-25000">
                  <a:solidFill>
                    <a:srgbClr val="3333cc"/>
                  </a:solidFill>
                  <a:latin typeface="Times New Roman"/>
                </a:rPr>
                <a:t>O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1866960" y="166356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5599080" y="2270160"/>
              <a:ext cx="144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5505480" y="2636640"/>
              <a:ext cx="185760" cy="37008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5499000" y="3249720"/>
              <a:ext cx="18432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5568840" y="2230560"/>
              <a:ext cx="5256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5162400" y="1833480"/>
              <a:ext cx="2632320" cy="1832040"/>
            </a:xfrm>
            <a:prstGeom prst="ellipse">
              <a:avLst/>
            </a:prstGeom>
            <a:noFill/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7254720" y="1576440"/>
              <a:ext cx="637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G</a:t>
              </a:r>
              <a:r>
                <a:rPr b="1" lang="en-US" sz="2400" spc="-1" strike="noStrike" baseline="-25000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zęstotliwość górna wzmacniacza O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2838960" y="2503440"/>
            <a:ext cx="2725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l-PL" sz="4000" spc="-1" strike="noStrike" baseline="-25000">
                <a:solidFill>
                  <a:srgbClr val="000000"/>
                </a:solidFill>
                <a:latin typeface="Times New Roman"/>
              </a:rPr>
              <a:t>g OB</a:t>
            </a:r>
            <a:r>
              <a:rPr b="0" lang="pl-PL" sz="4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 n f</a:t>
            </a:r>
            <a:r>
              <a:rPr b="0" lang="pl-PL" sz="4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4000" spc="-1" strike="noStrike" baseline="-25000">
                <a:solidFill>
                  <a:srgbClr val="000000"/>
                </a:solidFill>
                <a:latin typeface="Times New Roman"/>
              </a:rPr>
              <a:t>O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3263400" y="4562640"/>
            <a:ext cx="20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MENTAR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ład wspólnego emitera - O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1886040" y="3668400"/>
            <a:ext cx="6854040" cy="2978640"/>
            <a:chOff x="1886040" y="3668400"/>
            <a:chExt cx="6854040" cy="2978640"/>
          </a:xfrm>
        </p:grpSpPr>
        <p:sp>
          <p:nvSpPr>
            <p:cNvPr id="48" name=""/>
            <p:cNvSpPr/>
            <p:nvPr/>
          </p:nvSpPr>
          <p:spPr>
            <a:xfrm>
              <a:off x="4948200" y="4802040"/>
              <a:ext cx="193680" cy="570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rot="16200000">
              <a:off x="4041720" y="4263480"/>
              <a:ext cx="190440" cy="5810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" name=""/>
            <p:cNvGrpSpPr/>
            <p:nvPr/>
          </p:nvGrpSpPr>
          <p:grpSpPr>
            <a:xfrm>
              <a:off x="7002360" y="4695840"/>
              <a:ext cx="456480" cy="771120"/>
              <a:chOff x="7002360" y="4695840"/>
              <a:chExt cx="456480" cy="771120"/>
            </a:xfrm>
          </p:grpSpPr>
          <p:sp>
            <p:nvSpPr>
              <p:cNvPr id="51" name=""/>
              <p:cNvSpPr/>
              <p:nvPr/>
            </p:nvSpPr>
            <p:spPr>
              <a:xfrm>
                <a:off x="7002360" y="4695840"/>
                <a:ext cx="444600" cy="492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014240" y="4973760"/>
                <a:ext cx="444600" cy="493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54360" y="4884840"/>
                <a:ext cx="0" cy="45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" name=""/>
            <p:cNvGrpSpPr/>
            <p:nvPr/>
          </p:nvGrpSpPr>
          <p:grpSpPr>
            <a:xfrm>
              <a:off x="5315040" y="4960800"/>
              <a:ext cx="353520" cy="87120"/>
              <a:chOff x="5315040" y="4960800"/>
              <a:chExt cx="353520" cy="87120"/>
            </a:xfrm>
          </p:grpSpPr>
          <p:sp>
            <p:nvSpPr>
              <p:cNvPr id="55" name=""/>
              <p:cNvSpPr/>
              <p:nvPr/>
            </p:nvSpPr>
            <p:spPr>
              <a:xfrm>
                <a:off x="5321880" y="4960800"/>
                <a:ext cx="346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5315040" y="5047920"/>
                <a:ext cx="346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" name=""/>
            <p:cNvGrpSpPr/>
            <p:nvPr/>
          </p:nvGrpSpPr>
          <p:grpSpPr>
            <a:xfrm>
              <a:off x="5981760" y="4406760"/>
              <a:ext cx="88560" cy="349200"/>
              <a:chOff x="5981760" y="4406760"/>
              <a:chExt cx="88560" cy="349200"/>
            </a:xfrm>
          </p:grpSpPr>
          <p:sp>
            <p:nvSpPr>
              <p:cNvPr id="58" name=""/>
              <p:cNvSpPr/>
              <p:nvPr/>
            </p:nvSpPr>
            <p:spPr>
              <a:xfrm flipV="1">
                <a:off x="5981760" y="4406760"/>
                <a:ext cx="0" cy="342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V="1">
                <a:off x="6070320" y="4413600"/>
                <a:ext cx="0" cy="342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3481560" y="4560840"/>
              <a:ext cx="36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29080" y="4579920"/>
              <a:ext cx="153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5049720" y="4579560"/>
              <a:ext cx="0" cy="22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5495760" y="4579920"/>
              <a:ext cx="0" cy="3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049720" y="5376960"/>
              <a:ext cx="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514840" y="5054760"/>
              <a:ext cx="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049720" y="5737320"/>
              <a:ext cx="313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75360" y="4599000"/>
              <a:ext cx="2170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256520" y="459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237440" y="5472000"/>
              <a:ext cx="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15000" y="43275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356680" y="43099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164440" y="55054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818480" y="4908600"/>
              <a:ext cx="193680" cy="571320"/>
            </a:xfrm>
            <a:prstGeom prst="rect">
              <a:avLst/>
            </a:prstGeom>
            <a:noFill/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7915320" y="4599000"/>
              <a:ext cx="0" cy="30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934400" y="5472000"/>
              <a:ext cx="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843360" y="3909960"/>
              <a:ext cx="519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b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212720" y="4897440"/>
              <a:ext cx="508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664240" y="4878360"/>
              <a:ext cx="770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954760" y="3890880"/>
              <a:ext cx="609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177040" y="4803840"/>
              <a:ext cx="551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L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 flipV="1">
              <a:off x="3519000" y="4712760"/>
              <a:ext cx="155880" cy="12337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049200" y="5124600"/>
              <a:ext cx="57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0000"/>
                  </a:solidFill>
                  <a:latin typeface="Times New Roman"/>
                </a:rPr>
                <a:t>U</a:t>
              </a:r>
              <a:r>
                <a:rPr b="1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b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4778280" y="4827240"/>
              <a:ext cx="0" cy="873000"/>
            </a:xfrm>
            <a:prstGeom prst="line">
              <a:avLst/>
            </a:prstGeom>
            <a:ln w="19080">
              <a:solidFill>
                <a:srgbClr val="66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696560" y="3909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ff"/>
                  </a:solidFill>
                  <a:latin typeface="Times New Roman"/>
                </a:rPr>
                <a:t>U</a:t>
              </a:r>
              <a:r>
                <a:rPr b="1" lang="pl-PL" sz="2400" spc="-1" strike="noStrike" baseline="-25000">
                  <a:solidFill>
                    <a:srgbClr val="0000ff"/>
                  </a:solidFill>
                  <a:latin typeface="Times New Roman"/>
                </a:rPr>
                <a:t>b’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470560" y="5697360"/>
              <a:ext cx="82440" cy="79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74080" y="5665680"/>
              <a:ext cx="82440" cy="8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896240" y="5676840"/>
              <a:ext cx="81000" cy="79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000760" y="4518000"/>
              <a:ext cx="82440" cy="8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216920" y="4568760"/>
              <a:ext cx="80640" cy="8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885080" y="4548240"/>
              <a:ext cx="82440" cy="8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6200000">
              <a:off x="6149880" y="3471480"/>
              <a:ext cx="189000" cy="5828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5495760" y="3726000"/>
              <a:ext cx="0" cy="85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495760" y="3743280"/>
              <a:ext cx="46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7256520" y="3742920"/>
              <a:ext cx="0" cy="85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6540480" y="3743280"/>
              <a:ext cx="73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445000" y="4549680"/>
              <a:ext cx="81000" cy="8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7" name=""/>
                <p:cNvSpPr txBox="1"/>
                <p:nvPr/>
              </p:nvSpPr>
              <p:spPr>
                <a:xfrm>
                  <a:off x="4332240" y="5724360"/>
                  <a:ext cx="123840" cy="230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8" name=""/>
                <p:cNvSpPr txBox="1"/>
                <p:nvPr/>
              </p:nvSpPr>
              <p:spPr>
                <a:xfrm>
                  <a:off x="5097600" y="6060960"/>
                  <a:ext cx="3352680" cy="58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⋅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b</m:t>
                          </m:r>
                          <m:r>
                            <m:t xml:space="preserve">'</m:t>
                          </m:r>
                          <m:r>
                            <m:t xml:space="preserve">e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β</m:t>
                      </m:r>
                      <m:r>
                        <m:t xml:space="preserve">⋅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9" name=""/>
            <p:cNvSpPr/>
            <p:nvPr/>
          </p:nvSpPr>
          <p:spPr>
            <a:xfrm>
              <a:off x="3500280" y="4560840"/>
              <a:ext cx="25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389400" y="3967200"/>
              <a:ext cx="36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1886040" y="4457880"/>
              <a:ext cx="1077840" cy="1329480"/>
              <a:chOff x="1886040" y="4457880"/>
              <a:chExt cx="1077840" cy="1329480"/>
            </a:xfrm>
          </p:grpSpPr>
          <p:sp>
            <p:nvSpPr>
              <p:cNvPr id="102" name=""/>
              <p:cNvSpPr/>
              <p:nvPr/>
            </p:nvSpPr>
            <p:spPr>
              <a:xfrm>
                <a:off x="2095200" y="4516920"/>
                <a:ext cx="868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095200" y="5785200"/>
                <a:ext cx="660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250360" y="4646160"/>
                <a:ext cx="570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V="1">
                <a:off x="2095200" y="4503240"/>
                <a:ext cx="0" cy="128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H="1" rot="16200000">
                <a:off x="2402280" y="4329360"/>
                <a:ext cx="127080" cy="3841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886040" y="4882680"/>
                <a:ext cx="415440" cy="378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V="1">
                <a:off x="2095200" y="4938840"/>
                <a:ext cx="0" cy="25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239200" y="5181480"/>
                <a:ext cx="554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0" name=""/>
          <p:cNvGrpSpPr/>
          <p:nvPr/>
        </p:nvGrpSpPr>
        <p:grpSpPr>
          <a:xfrm>
            <a:off x="493560" y="853920"/>
            <a:ext cx="4944600" cy="2800440"/>
            <a:chOff x="493560" y="853920"/>
            <a:chExt cx="4944600" cy="2800440"/>
          </a:xfrm>
        </p:grpSpPr>
        <p:sp>
          <p:nvSpPr>
            <p:cNvPr id="111" name=""/>
            <p:cNvSpPr/>
            <p:nvPr/>
          </p:nvSpPr>
          <p:spPr>
            <a:xfrm>
              <a:off x="2495520" y="1844640"/>
              <a:ext cx="583920" cy="370080"/>
            </a:xfrm>
            <a:prstGeom prst="rect">
              <a:avLst/>
            </a:prstGeom>
            <a:noFill/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565360" y="2952720"/>
              <a:ext cx="433440" cy="37296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666160" y="300024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21680" y="31161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296800" y="1103400"/>
              <a:ext cx="203400" cy="522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398680" y="906480"/>
              <a:ext cx="1440" cy="21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398680" y="1612800"/>
              <a:ext cx="1440" cy="2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570040" y="1214280"/>
              <a:ext cx="436680" cy="3700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666160" y="126036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821680" y="13762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006720" y="2860560"/>
              <a:ext cx="201600" cy="52236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108240" y="2664000"/>
              <a:ext cx="1440" cy="21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108240" y="3370320"/>
              <a:ext cx="1440" cy="2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292200" y="2944800"/>
              <a:ext cx="20808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350800" y="853920"/>
              <a:ext cx="84240" cy="68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3507840" y="3127320"/>
              <a:ext cx="3524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3507840" y="3254400"/>
              <a:ext cx="3524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3681000" y="2679840"/>
              <a:ext cx="6120" cy="45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681360" y="3271680"/>
              <a:ext cx="612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795480" y="2727360"/>
              <a:ext cx="434880" cy="37152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719160" y="2844720"/>
              <a:ext cx="20808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600280" y="1944720"/>
              <a:ext cx="608040" cy="5842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784240" y="2065320"/>
              <a:ext cx="7920" cy="3319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2809800" y="2012760"/>
              <a:ext cx="298440" cy="1299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2809800" y="2281320"/>
              <a:ext cx="183600" cy="120240"/>
              <a:chOff x="2809800" y="2281320"/>
              <a:chExt cx="183600" cy="120240"/>
            </a:xfrm>
          </p:grpSpPr>
          <p:sp>
            <p:nvSpPr>
              <p:cNvPr id="136" name=""/>
              <p:cNvSpPr/>
              <p:nvPr/>
            </p:nvSpPr>
            <p:spPr>
              <a:xfrm>
                <a:off x="2809800" y="2304360"/>
                <a:ext cx="183600" cy="9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845080" y="2281320"/>
                <a:ext cx="148320" cy="120240"/>
              </a:xfrm>
              <a:custGeom>
                <a:avLst/>
                <a:gdLst/>
                <a:ahLst/>
                <a:rect l="l" t="t" r="r" b="b"/>
                <a:pathLst>
                  <a:path w="80" h="67">
                    <a:moveTo>
                      <a:pt x="0" y="67"/>
                    </a:moveTo>
                    <a:lnTo>
                      <a:pt x="80" y="64"/>
                    </a:lnTo>
                    <a:lnTo>
                      <a:pt x="3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2993760" y="2397240"/>
              <a:ext cx="114480" cy="522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2599920" y="2239920"/>
              <a:ext cx="1918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3108240" y="1798200"/>
              <a:ext cx="144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398680" y="2239920"/>
              <a:ext cx="2095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3108240" y="2449440"/>
              <a:ext cx="1440" cy="20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006720" y="1087560"/>
              <a:ext cx="201600" cy="520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108240" y="882720"/>
              <a:ext cx="1440" cy="22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108240" y="1596960"/>
              <a:ext cx="1440" cy="25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273120" y="1195560"/>
              <a:ext cx="436680" cy="37296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356640" y="124308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510720" y="135900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296800" y="2843280"/>
              <a:ext cx="203400" cy="515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398680" y="1828800"/>
              <a:ext cx="1440" cy="10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98680" y="3346560"/>
              <a:ext cx="1440" cy="2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171520" y="3608280"/>
              <a:ext cx="27003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171520" y="888840"/>
              <a:ext cx="2662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19400" y="2679840"/>
              <a:ext cx="568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83080" y="2143080"/>
              <a:ext cx="369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573440" y="2211480"/>
              <a:ext cx="208080" cy="4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83080" y="1968480"/>
              <a:ext cx="369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573440" y="2043000"/>
              <a:ext cx="2080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668840" y="2211480"/>
              <a:ext cx="1440" cy="139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668840" y="888840"/>
              <a:ext cx="1440" cy="10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058920" y="853920"/>
              <a:ext cx="77760" cy="68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619520" y="853920"/>
              <a:ext cx="84240" cy="68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058920" y="2646360"/>
              <a:ext cx="77760" cy="69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350800" y="3568680"/>
              <a:ext cx="8424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058920" y="3568680"/>
              <a:ext cx="7776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46440" y="3568680"/>
              <a:ext cx="8244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619520" y="3568680"/>
              <a:ext cx="8424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013000" y="192708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166000" y="2043000"/>
              <a:ext cx="27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744800" y="1521000"/>
              <a:ext cx="357120" cy="3538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833360" y="1568520"/>
              <a:ext cx="115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727520" y="2281320"/>
              <a:ext cx="358560" cy="3538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850640" y="23144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352600" y="2174760"/>
              <a:ext cx="8244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868400" y="2209680"/>
              <a:ext cx="3697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493560" y="2131920"/>
              <a:ext cx="1025280" cy="1454040"/>
              <a:chOff x="493560" y="2131920"/>
              <a:chExt cx="1025280" cy="1454040"/>
            </a:xfrm>
          </p:grpSpPr>
          <p:sp>
            <p:nvSpPr>
              <p:cNvPr id="177" name=""/>
              <p:cNvSpPr/>
              <p:nvPr/>
            </p:nvSpPr>
            <p:spPr>
              <a:xfrm>
                <a:off x="692280" y="2196360"/>
                <a:ext cx="826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92280" y="3583080"/>
                <a:ext cx="628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36640" y="2337840"/>
                <a:ext cx="511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V="1">
                <a:off x="692280" y="2181960"/>
                <a:ext cx="0" cy="140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H="1" rot="16200000">
                <a:off x="975600" y="2018520"/>
                <a:ext cx="138960" cy="3654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93560" y="2596320"/>
                <a:ext cx="395280" cy="41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V="1">
                <a:off x="692280" y="2657880"/>
                <a:ext cx="0" cy="27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24760" y="2922120"/>
                <a:ext cx="4946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3509640" y="1658880"/>
              <a:ext cx="0" cy="298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74800" y="1650960"/>
              <a:ext cx="0" cy="298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105000" y="1817640"/>
              <a:ext cx="404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81280" y="1798560"/>
              <a:ext cx="528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4092480" y="1798200"/>
              <a:ext cx="0" cy="181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006800" y="2155680"/>
              <a:ext cx="201600" cy="520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047840" y="3579840"/>
              <a:ext cx="8424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062160" y="1763640"/>
              <a:ext cx="8424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992760" y="1301760"/>
              <a:ext cx="49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parametry układu O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70520" y="1600200"/>
            <a:ext cx="308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prądow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3894120" y="1387440"/>
                <a:ext cx="287352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≃</m:t>
                    </m:r>
                    <m:r>
                      <m:t xml:space="preserve">+</m:t>
                    </m:r>
                    <m:r>
                      <m:t xml:space="preserve">β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538560" y="267660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napięciow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4022640" y="2465280"/>
                <a:ext cx="4021200" cy="9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  <m:r>
                              <m:t xml:space="preserve">'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592920" y="3594240"/>
            <a:ext cx="31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zystancja wejściow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4167360" y="3468600"/>
                <a:ext cx="399096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E</m:t>
                        </m:r>
                      </m:sub>
                    </m:sSub>
                    <m:r>
                      <m:t xml:space="preserve">≃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e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β</m:t>
                    </m:r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r>
                          <m:t xml:space="preserve">β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630000" y="4616280"/>
            <a:ext cx="312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zystancja wyjściow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4191120" y="4640400"/>
                <a:ext cx="12668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Y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735480" y="5348160"/>
            <a:ext cx="480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órna pulsacja graniczna tranzysto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5765760" y="5207040"/>
                <a:ext cx="245916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611280" y="6114960"/>
            <a:ext cx="271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moc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3565440" y="6153120"/>
                <a:ext cx="158760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kład wspólnego kolektora - OC: wtórnik emiterow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264960" y="1011240"/>
            <a:ext cx="4614840" cy="2788920"/>
            <a:chOff x="264960" y="1011240"/>
            <a:chExt cx="4614840" cy="2788920"/>
          </a:xfrm>
        </p:grpSpPr>
        <p:grpSp>
          <p:nvGrpSpPr>
            <p:cNvPr id="209" name=""/>
            <p:cNvGrpSpPr/>
            <p:nvPr/>
          </p:nvGrpSpPr>
          <p:grpSpPr>
            <a:xfrm>
              <a:off x="1420560" y="1011240"/>
              <a:ext cx="3459240" cy="2788920"/>
              <a:chOff x="1420560" y="1011240"/>
              <a:chExt cx="3459240" cy="2788920"/>
            </a:xfrm>
          </p:grpSpPr>
          <p:sp>
            <p:nvSpPr>
              <p:cNvPr id="210" name=""/>
              <p:cNvSpPr/>
              <p:nvPr/>
            </p:nvSpPr>
            <p:spPr>
              <a:xfrm>
                <a:off x="3365280" y="2838240"/>
                <a:ext cx="0" cy="94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V="1">
                <a:off x="2503440" y="2833200"/>
                <a:ext cx="57636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949400" y="3109680"/>
                <a:ext cx="433440" cy="372960"/>
              </a:xfrm>
              <a:prstGeom prst="rect">
                <a:avLst/>
              </a:prstGeom>
              <a:solidFill>
                <a:srgbClr val="ffffff"/>
              </a:solidFill>
              <a:ln w="20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050560" y="3157200"/>
                <a:ext cx="1530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206080" y="3273120"/>
                <a:ext cx="1152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681200" y="1260360"/>
                <a:ext cx="203040" cy="5223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782720" y="1063440"/>
                <a:ext cx="1440" cy="21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782720" y="1769760"/>
                <a:ext cx="1440" cy="25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954080" y="1371600"/>
                <a:ext cx="436680" cy="369720"/>
              </a:xfrm>
              <a:prstGeom prst="rect">
                <a:avLst/>
              </a:prstGeom>
              <a:solidFill>
                <a:srgbClr val="ffffff"/>
              </a:solidFill>
              <a:ln w="20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050560" y="1417320"/>
                <a:ext cx="1530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206080" y="1533240"/>
                <a:ext cx="1152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390760" y="3017520"/>
                <a:ext cx="201600" cy="5223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492280" y="2820960"/>
                <a:ext cx="1440" cy="21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492280" y="3527280"/>
                <a:ext cx="1440" cy="25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657520" y="3127320"/>
                <a:ext cx="436320" cy="371520"/>
              </a:xfrm>
              <a:prstGeom prst="rect">
                <a:avLst/>
              </a:prstGeom>
              <a:solidFill>
                <a:srgbClr val="ffffff"/>
              </a:solidFill>
              <a:ln w="20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741400" y="3173400"/>
                <a:ext cx="1530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895120" y="328896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735200" y="1011240"/>
                <a:ext cx="83880" cy="68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349440" y="2474640"/>
                <a:ext cx="695520" cy="31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W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984320" y="2101680"/>
                <a:ext cx="608040" cy="584280"/>
              </a:xfrm>
              <a:prstGeom prst="ellipse">
                <a:avLst/>
              </a:prstGeom>
              <a:solidFill>
                <a:srgbClr val="ffffff"/>
              </a:solidFill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168280" y="2222280"/>
                <a:ext cx="7920" cy="331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V="1">
                <a:off x="2193840" y="2169720"/>
                <a:ext cx="298440" cy="1299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2193840" y="2438280"/>
                <a:ext cx="183600" cy="120240"/>
                <a:chOff x="2193840" y="2438280"/>
                <a:chExt cx="183600" cy="12024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2193840" y="2461320"/>
                  <a:ext cx="183600" cy="9180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229120" y="2438280"/>
                  <a:ext cx="148320" cy="120240"/>
                </a:xfrm>
                <a:custGeom>
                  <a:avLst/>
                  <a:gdLst/>
                  <a:ahLst/>
                  <a:rect l="l" t="t" r="r" b="b"/>
                  <a:pathLst>
                    <a:path w="80" h="67">
                      <a:moveTo>
                        <a:pt x="0" y="67"/>
                      </a:moveTo>
                      <a:lnTo>
                        <a:pt x="80" y="64"/>
                      </a:lnTo>
                      <a:lnTo>
                        <a:pt x="32" y="0"/>
                      </a:lnTo>
                    </a:path>
                  </a:pathLst>
                </a:custGeom>
                <a:noFill/>
                <a:ln w="205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5" name=""/>
              <p:cNvSpPr/>
              <p:nvPr/>
            </p:nvSpPr>
            <p:spPr>
              <a:xfrm>
                <a:off x="2377800" y="2554200"/>
                <a:ext cx="114480" cy="52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H="1">
                <a:off x="1983960" y="2396880"/>
                <a:ext cx="1918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V="1">
                <a:off x="2492280" y="1955160"/>
                <a:ext cx="1440" cy="20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782720" y="2396880"/>
                <a:ext cx="2095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V="1">
                <a:off x="2509560" y="2606400"/>
                <a:ext cx="1800" cy="20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487600" y="1011240"/>
                <a:ext cx="6120" cy="99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657520" y="1352520"/>
                <a:ext cx="436320" cy="372960"/>
              </a:xfrm>
              <a:prstGeom prst="rect">
                <a:avLst/>
              </a:prstGeom>
              <a:solidFill>
                <a:srgbClr val="ffffff"/>
              </a:solidFill>
              <a:ln w="20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741400" y="1400040"/>
                <a:ext cx="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895480" y="1515960"/>
                <a:ext cx="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681200" y="3000240"/>
                <a:ext cx="203040" cy="5158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782720" y="1985760"/>
                <a:ext cx="1440" cy="103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782720" y="3503520"/>
                <a:ext cx="1440" cy="25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555560" y="3765240"/>
                <a:ext cx="27003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555560" y="1046160"/>
                <a:ext cx="2662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867120" y="2300040"/>
                <a:ext cx="3697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957480" y="2368440"/>
                <a:ext cx="20808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867120" y="2125440"/>
                <a:ext cx="3697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957480" y="2199960"/>
                <a:ext cx="2080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052880" y="2368440"/>
                <a:ext cx="1440" cy="139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052880" y="1046160"/>
                <a:ext cx="1440" cy="1079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2442960" y="1011240"/>
                <a:ext cx="77760" cy="68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003560" y="1011240"/>
                <a:ext cx="84240" cy="68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442960" y="2803320"/>
                <a:ext cx="77760" cy="69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735200" y="3725640"/>
                <a:ext cx="83880" cy="74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442960" y="3725640"/>
                <a:ext cx="77760" cy="74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003560" y="3725640"/>
                <a:ext cx="84240" cy="74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295520" y="2038320"/>
                <a:ext cx="584280" cy="369720"/>
              </a:xfrm>
              <a:prstGeom prst="rect">
                <a:avLst/>
              </a:prstGeom>
              <a:noFill/>
              <a:ln w="20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397040" y="208404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550760" y="2199960"/>
                <a:ext cx="3056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C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28840" y="1677960"/>
                <a:ext cx="357480" cy="353880"/>
              </a:xfrm>
              <a:prstGeom prst="rect">
                <a:avLst/>
              </a:prstGeom>
              <a:solidFill>
                <a:srgbClr val="ffffff"/>
              </a:solidFill>
              <a:ln w="20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217040" y="1725480"/>
                <a:ext cx="1303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111560" y="2438280"/>
                <a:ext cx="358560" cy="353880"/>
              </a:xfrm>
              <a:prstGeom prst="rect">
                <a:avLst/>
              </a:prstGeom>
              <a:solidFill>
                <a:srgbClr val="ffffff"/>
              </a:solidFill>
              <a:ln w="20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237200" y="247140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8" name=""/>
              <p:cNvGrpSpPr/>
              <p:nvPr/>
            </p:nvGrpSpPr>
            <p:grpSpPr>
              <a:xfrm>
                <a:off x="3093840" y="2705040"/>
                <a:ext cx="57240" cy="263520"/>
                <a:chOff x="3093840" y="2705040"/>
                <a:chExt cx="57240" cy="263520"/>
              </a:xfrm>
            </p:grpSpPr>
            <p:sp>
              <p:nvSpPr>
                <p:cNvPr id="269" name=""/>
                <p:cNvSpPr/>
                <p:nvPr/>
              </p:nvSpPr>
              <p:spPr>
                <a:xfrm>
                  <a:off x="3093840" y="2705040"/>
                  <a:ext cx="0" cy="263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151080" y="2705040"/>
                  <a:ext cx="0" cy="263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163680" y="2842920"/>
                <a:ext cx="209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736640" y="2334960"/>
                <a:ext cx="84240" cy="74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420560" y="2385720"/>
                <a:ext cx="25740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281400" y="3011400"/>
                <a:ext cx="193680" cy="5698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317760" y="3706560"/>
                <a:ext cx="84240" cy="74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3678120" y="2880720"/>
                <a:ext cx="0" cy="71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679560" y="3133440"/>
                <a:ext cx="4399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264960" y="2308320"/>
              <a:ext cx="1025280" cy="1453320"/>
              <a:chOff x="264960" y="2308320"/>
              <a:chExt cx="1025280" cy="1453320"/>
            </a:xfrm>
          </p:grpSpPr>
          <p:sp>
            <p:nvSpPr>
              <p:cNvPr id="279" name=""/>
              <p:cNvSpPr/>
              <p:nvPr/>
            </p:nvSpPr>
            <p:spPr>
              <a:xfrm>
                <a:off x="463680" y="2372760"/>
                <a:ext cx="826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63680" y="3759120"/>
                <a:ext cx="628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08040" y="2514240"/>
                <a:ext cx="511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V="1">
                <a:off x="463680" y="2358000"/>
                <a:ext cx="0" cy="140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 rot="16200000">
                <a:off x="747000" y="2194920"/>
                <a:ext cx="138960" cy="3654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64960" y="2772720"/>
                <a:ext cx="395280" cy="414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V="1">
                <a:off x="463680" y="2833920"/>
                <a:ext cx="0" cy="27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96160" y="3098160"/>
                <a:ext cx="4946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7" name=""/>
          <p:cNvGrpSpPr/>
          <p:nvPr/>
        </p:nvGrpSpPr>
        <p:grpSpPr>
          <a:xfrm>
            <a:off x="1252440" y="3355920"/>
            <a:ext cx="7877160" cy="3502080"/>
            <a:chOff x="1252440" y="3355920"/>
            <a:chExt cx="7877160" cy="3502080"/>
          </a:xfrm>
        </p:grpSpPr>
        <p:sp>
          <p:nvSpPr>
            <p:cNvPr id="288" name=""/>
            <p:cNvSpPr/>
            <p:nvPr/>
          </p:nvSpPr>
          <p:spPr>
            <a:xfrm>
              <a:off x="4273560" y="5013360"/>
              <a:ext cx="193680" cy="569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6200000">
              <a:off x="3367080" y="4475160"/>
              <a:ext cx="190800" cy="5810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6327720" y="5184720"/>
              <a:ext cx="444600" cy="493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6340320" y="4906800"/>
              <a:ext cx="444600" cy="493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6580080" y="5035320"/>
              <a:ext cx="0" cy="45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646520" y="5172120"/>
              <a:ext cx="347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640400" y="5259240"/>
              <a:ext cx="347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5305320" y="4615920"/>
              <a:ext cx="0" cy="34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5394240" y="4622400"/>
              <a:ext cx="0" cy="34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806560" y="4772160"/>
              <a:ext cx="36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754440" y="4791240"/>
              <a:ext cx="153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4375080" y="4791240"/>
              <a:ext cx="0" cy="22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4821120" y="4790880"/>
              <a:ext cx="0" cy="37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375080" y="5587920"/>
              <a:ext cx="0" cy="34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840200" y="5265720"/>
              <a:ext cx="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911320" y="5948280"/>
              <a:ext cx="460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400720" y="4809960"/>
              <a:ext cx="2170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581880" y="4809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562800" y="5683320"/>
              <a:ext cx="0" cy="28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340360" y="4538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647120" y="450360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490160" y="57164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143840" y="5119560"/>
              <a:ext cx="193680" cy="5716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7240680" y="4809600"/>
              <a:ext cx="0" cy="30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259760" y="5683320"/>
              <a:ext cx="0" cy="28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168720" y="4121280"/>
              <a:ext cx="519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b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538080" y="5108400"/>
              <a:ext cx="508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989600" y="5089680"/>
              <a:ext cx="769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280120" y="4102200"/>
              <a:ext cx="609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454520" y="5121360"/>
              <a:ext cx="508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eb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4051440" y="4949640"/>
              <a:ext cx="0" cy="873000"/>
            </a:xfrm>
            <a:prstGeom prst="line">
              <a:avLst/>
            </a:prstGeom>
            <a:ln w="19080">
              <a:solidFill>
                <a:srgbClr val="66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020120" y="4140360"/>
              <a:ext cx="586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ff"/>
                  </a:solidFill>
                  <a:latin typeface="Times New Roman"/>
                </a:rPr>
                <a:t>u</a:t>
              </a:r>
              <a:r>
                <a:rPr b="1" lang="pl-PL" sz="2400" spc="-1" strike="noStrike" baseline="-25000">
                  <a:solidFill>
                    <a:srgbClr val="0000ff"/>
                  </a:solidFill>
                  <a:latin typeface="Times New Roman"/>
                </a:rPr>
                <a:t>b’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795920" y="5908680"/>
              <a:ext cx="82440" cy="79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499080" y="5896080"/>
              <a:ext cx="82800" cy="8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21600" y="5907240"/>
              <a:ext cx="81000" cy="79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325760" y="4729320"/>
              <a:ext cx="82800" cy="80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541920" y="4780080"/>
              <a:ext cx="81000" cy="8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210440" y="4759200"/>
              <a:ext cx="82440" cy="8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rot="16200000">
              <a:off x="5475240" y="3682440"/>
              <a:ext cx="189000" cy="5828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4821120" y="3936600"/>
              <a:ext cx="0" cy="85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821120" y="3954600"/>
              <a:ext cx="46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6581880" y="3954600"/>
              <a:ext cx="0" cy="85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5865840" y="3954600"/>
              <a:ext cx="73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770360" y="4761000"/>
              <a:ext cx="81000" cy="8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2" name=""/>
                <p:cNvSpPr txBox="1"/>
                <p:nvPr/>
              </p:nvSpPr>
              <p:spPr>
                <a:xfrm>
                  <a:off x="3657600" y="5935680"/>
                  <a:ext cx="123840" cy="230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3" name=""/>
                <p:cNvSpPr txBox="1"/>
                <p:nvPr/>
              </p:nvSpPr>
              <p:spPr>
                <a:xfrm>
                  <a:off x="3825720" y="6324480"/>
                  <a:ext cx="414180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e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(</m:t>
                      </m:r>
                      <m:r>
                        <m:t xml:space="preserve">β</m:t>
                      </m:r>
                      <m:r>
                        <m:t xml:space="preserve">+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  <m:r>
                        <m:t xml:space="preserve">⋅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≃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⋅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b</m:t>
                          </m:r>
                          <m:r>
                            <m:t xml:space="preserve">'</m:t>
                          </m:r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34" name=""/>
            <p:cNvSpPr/>
            <p:nvPr/>
          </p:nvSpPr>
          <p:spPr>
            <a:xfrm>
              <a:off x="2825640" y="4772160"/>
              <a:ext cx="25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714760" y="4178160"/>
              <a:ext cx="36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290920" y="3355920"/>
              <a:ext cx="508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6840000" y="4808520"/>
              <a:ext cx="335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967080" y="4240080"/>
              <a:ext cx="343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9" name=""/>
            <p:cNvGrpSpPr/>
            <p:nvPr/>
          </p:nvGrpSpPr>
          <p:grpSpPr>
            <a:xfrm>
              <a:off x="8089560" y="4854240"/>
              <a:ext cx="456120" cy="1128960"/>
              <a:chOff x="8089560" y="4854240"/>
              <a:chExt cx="456120" cy="1128960"/>
            </a:xfrm>
          </p:grpSpPr>
          <p:sp>
            <p:nvSpPr>
              <p:cNvPr id="340" name=""/>
              <p:cNvSpPr/>
              <p:nvPr/>
            </p:nvSpPr>
            <p:spPr>
              <a:xfrm flipH="1">
                <a:off x="8352000" y="5118120"/>
                <a:ext cx="193680" cy="569880"/>
              </a:xfrm>
              <a:prstGeom prst="rect">
                <a:avLst/>
              </a:prstGeom>
              <a:noFill/>
              <a:ln w="381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V="1">
                <a:off x="8461440" y="4854240"/>
                <a:ext cx="0" cy="265320"/>
              </a:xfrm>
              <a:prstGeom prst="line">
                <a:avLst/>
              </a:prstGeom>
              <a:ln w="381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H="1">
                <a:off x="8089560" y="4872240"/>
                <a:ext cx="352440" cy="0"/>
              </a:xfrm>
              <a:prstGeom prst="line">
                <a:avLst/>
              </a:prstGeom>
              <a:ln w="38160">
                <a:solidFill>
                  <a:srgbClr val="339933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8461440" y="5688000"/>
                <a:ext cx="0" cy="295200"/>
              </a:xfrm>
              <a:prstGeom prst="line">
                <a:avLst/>
              </a:prstGeom>
              <a:ln w="381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>
                <a:off x="8096040" y="5959440"/>
                <a:ext cx="352440" cy="0"/>
              </a:xfrm>
              <a:prstGeom prst="line">
                <a:avLst/>
              </a:prstGeom>
              <a:ln w="38160">
                <a:solidFill>
                  <a:srgbClr val="339933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5" name=""/>
            <p:cNvSpPr/>
            <p:nvPr/>
          </p:nvSpPr>
          <p:spPr>
            <a:xfrm>
              <a:off x="8578440" y="4503600"/>
              <a:ext cx="551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L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330800" y="5919840"/>
              <a:ext cx="82440" cy="79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1252440" y="4633920"/>
              <a:ext cx="1077840" cy="1329480"/>
              <a:chOff x="1252440" y="4633920"/>
              <a:chExt cx="1077840" cy="1329480"/>
            </a:xfrm>
          </p:grpSpPr>
          <p:sp>
            <p:nvSpPr>
              <p:cNvPr id="348" name=""/>
              <p:cNvSpPr/>
              <p:nvPr/>
            </p:nvSpPr>
            <p:spPr>
              <a:xfrm>
                <a:off x="1461600" y="4692960"/>
                <a:ext cx="868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461600" y="5961240"/>
                <a:ext cx="660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616760" y="4822200"/>
                <a:ext cx="570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V="1">
                <a:off x="1461600" y="4679280"/>
                <a:ext cx="0" cy="128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H="1" rot="16200000">
                <a:off x="1768680" y="4505400"/>
                <a:ext cx="127080" cy="3841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252440" y="5058720"/>
                <a:ext cx="415440" cy="378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V="1">
                <a:off x="1461600" y="5114880"/>
                <a:ext cx="0" cy="25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605600" y="5357520"/>
                <a:ext cx="554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parametry układu 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0520" y="1600200"/>
            <a:ext cx="308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prądow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3606840" y="1387440"/>
                <a:ext cx="344808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≃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β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≃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59" name=""/>
          <p:cNvSpPr/>
          <p:nvPr/>
        </p:nvSpPr>
        <p:spPr>
          <a:xfrm>
            <a:off x="538560" y="267660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napięciow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4086360" y="2465280"/>
                <a:ext cx="3892320" cy="9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=+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  <m:r>
                              <m:t xml:space="preserve">'</m:t>
                            </m:r>
                          </m:sub>
                        </m:sSub>
                      </m:den>
                    </m:f>
                    <m:r>
                      <m:t xml:space="preserve">≤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1" name=""/>
          <p:cNvSpPr/>
          <p:nvPr/>
        </p:nvSpPr>
        <p:spPr>
          <a:xfrm>
            <a:off x="592920" y="3594240"/>
            <a:ext cx="31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zystancja wejściow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3925800" y="3672000"/>
                <a:ext cx="447516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E</m:t>
                        </m:r>
                      </m:sub>
                    </m:sSub>
                    <m:r>
                      <m:t xml:space="preserve">≃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e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β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β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'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3" name=""/>
          <p:cNvSpPr/>
          <p:nvPr/>
        </p:nvSpPr>
        <p:spPr>
          <a:xfrm>
            <a:off x="630000" y="4616280"/>
            <a:ext cx="312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zystancja wyjściow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3807000" y="4552920"/>
                <a:ext cx="471456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Y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G</m:t>
                            </m:r>
                            <m:r>
                              <m:t xml:space="preserve">'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  <m:r>
                              <m:t xml:space="preserve">'</m:t>
                            </m:r>
                          </m:sub>
                        </m:sSub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t xml:space="preserve">≈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G</m:t>
                            </m:r>
                            <m:r>
                              <m:t xml:space="preserve">'</m:t>
                            </m:r>
                          </m:sub>
                        </m:sSub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G</m:t>
                            </m:r>
                            <m:r>
                              <m:t xml:space="preserve">'</m:t>
                            </m:r>
                          </m:sub>
                        </m:sSub>
                      </m:num>
                      <m:den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5" name=""/>
          <p:cNvSpPr/>
          <p:nvPr/>
        </p:nvSpPr>
        <p:spPr>
          <a:xfrm>
            <a:off x="660960" y="5462640"/>
            <a:ext cx="480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órna pulsacja graniczna tranzysto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5843520" y="5316480"/>
                <a:ext cx="2459160" cy="8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7" name=""/>
          <p:cNvSpPr/>
          <p:nvPr/>
        </p:nvSpPr>
        <p:spPr>
          <a:xfrm>
            <a:off x="681120" y="6132600"/>
            <a:ext cx="271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moc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3836880" y="6165720"/>
                <a:ext cx="104292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ład wspólnej bazy - O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439560" y="950760"/>
            <a:ext cx="7299000" cy="2351160"/>
            <a:chOff x="439560" y="950760"/>
            <a:chExt cx="7299000" cy="2351160"/>
          </a:xfrm>
        </p:grpSpPr>
        <p:sp>
          <p:nvSpPr>
            <p:cNvPr id="371" name=""/>
            <p:cNvSpPr/>
            <p:nvPr/>
          </p:nvSpPr>
          <p:spPr>
            <a:xfrm flipH="1" flipV="1">
              <a:off x="2325240" y="1083960"/>
              <a:ext cx="64620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 flipV="1">
              <a:off x="2009880" y="1087560"/>
              <a:ext cx="257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 rot="5400000">
              <a:off x="3095640" y="1000440"/>
              <a:ext cx="608040" cy="5842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 flipV="1">
              <a:off x="3238200" y="1405080"/>
              <a:ext cx="331560" cy="79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3493440" y="1088640"/>
              <a:ext cx="129960" cy="298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6" name=""/>
            <p:cNvGrpSpPr/>
            <p:nvPr/>
          </p:nvGrpSpPr>
          <p:grpSpPr>
            <a:xfrm>
              <a:off x="3235320" y="1203480"/>
              <a:ext cx="120240" cy="183600"/>
              <a:chOff x="3235320" y="1203480"/>
              <a:chExt cx="120240" cy="183600"/>
            </a:xfrm>
          </p:grpSpPr>
          <p:sp>
            <p:nvSpPr>
              <p:cNvPr id="377" name=""/>
              <p:cNvSpPr/>
              <p:nvPr/>
            </p:nvSpPr>
            <p:spPr>
              <a:xfrm flipH="1" flipV="1">
                <a:off x="3240720" y="1203480"/>
                <a:ext cx="91800" cy="1836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flipH="1" rot="5400000">
                <a:off x="3221280" y="1217520"/>
                <a:ext cx="148320" cy="120240"/>
              </a:xfrm>
              <a:custGeom>
                <a:avLst/>
                <a:gdLst/>
                <a:ahLst/>
                <a:rect l="l" t="t" r="r" b="b"/>
                <a:pathLst>
                  <a:path w="80" h="67">
                    <a:moveTo>
                      <a:pt x="0" y="67"/>
                    </a:moveTo>
                    <a:lnTo>
                      <a:pt x="80" y="64"/>
                    </a:lnTo>
                    <a:lnTo>
                      <a:pt x="3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9" name=""/>
            <p:cNvSpPr/>
            <p:nvPr/>
          </p:nvSpPr>
          <p:spPr>
            <a:xfrm flipH="1" flipV="1">
              <a:off x="3186000" y="1089000"/>
              <a:ext cx="52560" cy="1144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3394080" y="1405080"/>
              <a:ext cx="1440" cy="1918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3635280" y="1073160"/>
              <a:ext cx="1906560" cy="1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2978280" y="1087560"/>
              <a:ext cx="2095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 rot="5400000">
              <a:off x="4708440" y="1065240"/>
              <a:ext cx="77760" cy="68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 rot="5400000">
              <a:off x="2586960" y="1064520"/>
              <a:ext cx="77760" cy="69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4593960" y="2577960"/>
              <a:ext cx="369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4665600" y="2646360"/>
              <a:ext cx="208080" cy="4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4593960" y="2403360"/>
              <a:ext cx="369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4665600" y="2478240"/>
              <a:ext cx="2080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5133960" y="2298600"/>
              <a:ext cx="31752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4839120" y="2079720"/>
              <a:ext cx="130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4860720" y="274968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2790720" y="2511000"/>
              <a:ext cx="263520" cy="57240"/>
              <a:chOff x="2790720" y="2511000"/>
              <a:chExt cx="263520" cy="57240"/>
            </a:xfrm>
          </p:grpSpPr>
          <p:sp>
            <p:nvSpPr>
              <p:cNvPr id="393" name=""/>
              <p:cNvSpPr/>
              <p:nvPr/>
            </p:nvSpPr>
            <p:spPr>
              <a:xfrm flipH="1">
                <a:off x="2790720" y="2568240"/>
                <a:ext cx="263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flipH="1">
                <a:off x="2790720" y="2511000"/>
                <a:ext cx="263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5" name=""/>
            <p:cNvSpPr/>
            <p:nvPr/>
          </p:nvSpPr>
          <p:spPr>
            <a:xfrm>
              <a:off x="1773360" y="1979640"/>
              <a:ext cx="25704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2279160" y="974880"/>
              <a:ext cx="57240" cy="263520"/>
              <a:chOff x="2279160" y="974880"/>
              <a:chExt cx="57240" cy="263520"/>
            </a:xfrm>
          </p:grpSpPr>
          <p:sp>
            <p:nvSpPr>
              <p:cNvPr id="397" name=""/>
              <p:cNvSpPr/>
              <p:nvPr/>
            </p:nvSpPr>
            <p:spPr>
              <a:xfrm>
                <a:off x="2336400" y="974880"/>
                <a:ext cx="0" cy="263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2279160" y="974880"/>
                <a:ext cx="0" cy="263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9" name=""/>
            <p:cNvSpPr/>
            <p:nvPr/>
          </p:nvSpPr>
          <p:spPr>
            <a:xfrm flipV="1">
              <a:off x="2627280" y="1071720"/>
              <a:ext cx="0" cy="199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376440" y="1592280"/>
              <a:ext cx="0" cy="149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957400" y="2049480"/>
              <a:ext cx="180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4773600" y="1096560"/>
              <a:ext cx="0" cy="128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 rot="5400000">
              <a:off x="3348720" y="2017800"/>
              <a:ext cx="77760" cy="68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 rot="5400000">
              <a:off x="4746600" y="1992240"/>
              <a:ext cx="77760" cy="68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2544840" y="1376280"/>
              <a:ext cx="201600" cy="522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672080" y="1379520"/>
              <a:ext cx="193680" cy="569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 rot="5400000">
              <a:off x="3887640" y="1781640"/>
              <a:ext cx="203400" cy="522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>
              <a:off x="3263040" y="2266920"/>
              <a:ext cx="203400" cy="515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957400" y="2595600"/>
              <a:ext cx="0" cy="70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957400" y="20494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773600" y="264636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098680" y="1303200"/>
              <a:ext cx="500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036880" y="1328760"/>
              <a:ext cx="49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839040" y="214164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5" name=""/>
            <p:cNvGrpSpPr/>
            <p:nvPr/>
          </p:nvGrpSpPr>
          <p:grpSpPr>
            <a:xfrm>
              <a:off x="5554800" y="950760"/>
              <a:ext cx="56880" cy="263520"/>
              <a:chOff x="5554800" y="950760"/>
              <a:chExt cx="56880" cy="263520"/>
            </a:xfrm>
          </p:grpSpPr>
          <p:sp>
            <p:nvSpPr>
              <p:cNvPr id="416" name=""/>
              <p:cNvSpPr/>
              <p:nvPr/>
            </p:nvSpPr>
            <p:spPr>
              <a:xfrm>
                <a:off x="5611680" y="950760"/>
                <a:ext cx="0" cy="263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554800" y="950760"/>
                <a:ext cx="0" cy="263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8" name=""/>
            <p:cNvSpPr/>
            <p:nvPr/>
          </p:nvSpPr>
          <p:spPr>
            <a:xfrm>
              <a:off x="5629320" y="1074600"/>
              <a:ext cx="49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>
              <a:off x="6951600" y="1287360"/>
              <a:ext cx="0" cy="153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044120" y="1106640"/>
              <a:ext cx="694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439560" y="966960"/>
              <a:ext cx="1465560" cy="2106000"/>
              <a:chOff x="439560" y="966960"/>
              <a:chExt cx="1465560" cy="2106000"/>
            </a:xfrm>
          </p:grpSpPr>
          <p:sp>
            <p:nvSpPr>
              <p:cNvPr id="422" name=""/>
              <p:cNvSpPr/>
              <p:nvPr/>
            </p:nvSpPr>
            <p:spPr>
              <a:xfrm>
                <a:off x="723960" y="1060560"/>
                <a:ext cx="1181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723960" y="3068640"/>
                <a:ext cx="898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925200" y="1265400"/>
                <a:ext cx="511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V="1">
                <a:off x="723960" y="1039320"/>
                <a:ext cx="0" cy="203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H="1" rot="16200000">
                <a:off x="1127520" y="806400"/>
                <a:ext cx="201600" cy="5223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39560" y="1639800"/>
                <a:ext cx="565200" cy="600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V="1">
                <a:off x="723960" y="1728360"/>
                <a:ext cx="0" cy="40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907560" y="2112840"/>
                <a:ext cx="4946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0" name=""/>
            <p:cNvSpPr/>
            <p:nvPr/>
          </p:nvSpPr>
          <p:spPr>
            <a:xfrm flipV="1">
              <a:off x="6138720" y="1076400"/>
              <a:ext cx="0" cy="199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6059520" y="1654200"/>
              <a:ext cx="193680" cy="569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74160" y="1725480"/>
              <a:ext cx="49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563400" y="3005280"/>
            <a:ext cx="8330040" cy="3595680"/>
            <a:chOff x="563400" y="3005280"/>
            <a:chExt cx="8330040" cy="3595680"/>
          </a:xfrm>
        </p:grpSpPr>
        <p:grpSp>
          <p:nvGrpSpPr>
            <p:cNvPr id="434" name=""/>
            <p:cNvGrpSpPr/>
            <p:nvPr/>
          </p:nvGrpSpPr>
          <p:grpSpPr>
            <a:xfrm>
              <a:off x="5640480" y="4649760"/>
              <a:ext cx="456480" cy="771120"/>
              <a:chOff x="5640480" y="4649760"/>
              <a:chExt cx="456480" cy="771120"/>
            </a:xfrm>
          </p:grpSpPr>
          <p:sp>
            <p:nvSpPr>
              <p:cNvPr id="435" name=""/>
              <p:cNvSpPr/>
              <p:nvPr/>
            </p:nvSpPr>
            <p:spPr>
              <a:xfrm flipV="1">
                <a:off x="5640480" y="4927680"/>
                <a:ext cx="444600" cy="492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V="1">
                <a:off x="5652360" y="4649760"/>
                <a:ext cx="444600" cy="493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flipV="1">
                <a:off x="5892480" y="4777920"/>
                <a:ext cx="0" cy="45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3952800" y="4915080"/>
              <a:ext cx="353880" cy="86760"/>
              <a:chOff x="3952800" y="4915080"/>
              <a:chExt cx="353880" cy="86760"/>
            </a:xfrm>
          </p:grpSpPr>
          <p:sp>
            <p:nvSpPr>
              <p:cNvPr id="439" name=""/>
              <p:cNvSpPr/>
              <p:nvPr/>
            </p:nvSpPr>
            <p:spPr>
              <a:xfrm>
                <a:off x="3959640" y="4915080"/>
                <a:ext cx="347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952800" y="5001840"/>
                <a:ext cx="347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1" name=""/>
            <p:cNvSpPr/>
            <p:nvPr/>
          </p:nvSpPr>
          <p:spPr>
            <a:xfrm>
              <a:off x="1979640" y="4514760"/>
              <a:ext cx="36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324160" y="4533840"/>
              <a:ext cx="1833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4133880" y="4533840"/>
              <a:ext cx="0" cy="3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152960" y="5008680"/>
              <a:ext cx="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046240" y="5691240"/>
              <a:ext cx="585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894280" y="4552920"/>
              <a:ext cx="196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894280" y="45529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875200" y="5425920"/>
              <a:ext cx="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652760" y="42814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769440" y="39798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837080" y="57722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091280" y="4862520"/>
              <a:ext cx="193680" cy="571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7188120" y="4552920"/>
              <a:ext cx="0" cy="30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207200" y="5425920"/>
              <a:ext cx="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736360" y="4813200"/>
              <a:ext cx="508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eb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302000" y="4832280"/>
              <a:ext cx="770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287840" y="4863960"/>
              <a:ext cx="508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V="1">
              <a:off x="2208240" y="4667040"/>
              <a:ext cx="0" cy="873000"/>
            </a:xfrm>
            <a:prstGeom prst="line">
              <a:avLst/>
            </a:prstGeom>
            <a:ln w="19080">
              <a:solidFill>
                <a:srgbClr val="66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367720" y="38703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ff"/>
                  </a:solidFill>
                  <a:latin typeface="Times New Roman"/>
                </a:rPr>
                <a:t>U</a:t>
              </a:r>
              <a:r>
                <a:rPr b="1" lang="pl-PL" sz="2400" spc="-1" strike="noStrike" baseline="-25000">
                  <a:solidFill>
                    <a:srgbClr val="0000ff"/>
                  </a:solidFill>
                  <a:latin typeface="Times New Roman"/>
                </a:rPr>
                <a:t>eb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108320" y="5651640"/>
              <a:ext cx="82800" cy="79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811840" y="5638680"/>
              <a:ext cx="82440" cy="8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597720" y="5649840"/>
              <a:ext cx="81000" cy="79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854680" y="4522680"/>
              <a:ext cx="81000" cy="8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599160" y="4514760"/>
              <a:ext cx="82800" cy="8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rot="16200000">
              <a:off x="4787640" y="3882600"/>
              <a:ext cx="189000" cy="582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V="1">
              <a:off x="4133880" y="4162320"/>
              <a:ext cx="0" cy="3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133880" y="4154400"/>
              <a:ext cx="46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>
              <a:off x="5894280" y="4154040"/>
              <a:ext cx="0" cy="39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>
              <a:off x="5178240" y="4154400"/>
              <a:ext cx="69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083120" y="4503600"/>
              <a:ext cx="81000" cy="8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1" name=""/>
                <p:cNvSpPr txBox="1"/>
                <p:nvPr/>
              </p:nvSpPr>
              <p:spPr>
                <a:xfrm>
                  <a:off x="2970360" y="5678640"/>
                  <a:ext cx="123840" cy="230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72" name=""/>
                <p:cNvSpPr txBox="1"/>
                <p:nvPr/>
              </p:nvSpPr>
              <p:spPr>
                <a:xfrm>
                  <a:off x="3094200" y="6067440"/>
                  <a:ext cx="423216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e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α</m:t>
                      </m:r>
                      <m:r>
                        <m:t xml:space="preserve">⋅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e</m:t>
                          </m:r>
                        </m:sub>
                      </m:sSub>
                      <m:r>
                        <m:t xml:space="preserve">≃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⋅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eb</m:t>
                          </m:r>
                          <m:r>
                            <m:t xml:space="preserve">'</m:t>
                          </m:r>
                        </m:sub>
                      </m:sSub>
                      <m:r>
                        <m:t xml:space="preserve">≈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73" name=""/>
            <p:cNvSpPr/>
            <p:nvPr/>
          </p:nvSpPr>
          <p:spPr>
            <a:xfrm>
              <a:off x="1998720" y="4514760"/>
              <a:ext cx="25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887120" y="3921120"/>
              <a:ext cx="343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719240" y="4280040"/>
              <a:ext cx="43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>
              <a:off x="7397280" y="4551480"/>
              <a:ext cx="335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435440" y="4046400"/>
              <a:ext cx="343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8" name=""/>
            <p:cNvGrpSpPr/>
            <p:nvPr/>
          </p:nvGrpSpPr>
          <p:grpSpPr>
            <a:xfrm>
              <a:off x="8283960" y="4564080"/>
              <a:ext cx="455400" cy="1128240"/>
              <a:chOff x="8283960" y="4564080"/>
              <a:chExt cx="455400" cy="1128240"/>
            </a:xfrm>
          </p:grpSpPr>
          <p:sp>
            <p:nvSpPr>
              <p:cNvPr id="479" name=""/>
              <p:cNvSpPr/>
              <p:nvPr/>
            </p:nvSpPr>
            <p:spPr>
              <a:xfrm flipH="1">
                <a:off x="8545680" y="4827240"/>
                <a:ext cx="193680" cy="569520"/>
              </a:xfrm>
              <a:prstGeom prst="rect">
                <a:avLst/>
              </a:prstGeom>
              <a:noFill/>
              <a:ln w="381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V="1">
                <a:off x="8655480" y="4564080"/>
                <a:ext cx="0" cy="264960"/>
              </a:xfrm>
              <a:prstGeom prst="line">
                <a:avLst/>
              </a:prstGeom>
              <a:ln w="381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H="1">
                <a:off x="8283960" y="4581360"/>
                <a:ext cx="352440" cy="0"/>
              </a:xfrm>
              <a:prstGeom prst="line">
                <a:avLst/>
              </a:prstGeom>
              <a:ln w="38160">
                <a:solidFill>
                  <a:srgbClr val="339933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8655480" y="5397120"/>
                <a:ext cx="0" cy="295200"/>
              </a:xfrm>
              <a:prstGeom prst="line">
                <a:avLst/>
              </a:prstGeom>
              <a:ln w="381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flipH="1">
                <a:off x="8290440" y="5668560"/>
                <a:ext cx="352080" cy="0"/>
              </a:xfrm>
              <a:prstGeom prst="line">
                <a:avLst/>
              </a:prstGeom>
              <a:ln w="38160">
                <a:solidFill>
                  <a:srgbClr val="339933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8316360" y="4017960"/>
              <a:ext cx="57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339933"/>
                  </a:solidFill>
                  <a:latin typeface="Times New Roman"/>
                </a:rPr>
                <a:t>L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463840" y="4838760"/>
              <a:ext cx="193680" cy="571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V="1">
              <a:off x="2560680" y="4529160"/>
              <a:ext cx="0" cy="30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579760" y="5402160"/>
              <a:ext cx="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541600" y="5626080"/>
              <a:ext cx="81000" cy="79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530440" y="4478400"/>
              <a:ext cx="82440" cy="8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374280" y="4835520"/>
              <a:ext cx="56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e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162240" y="4851360"/>
              <a:ext cx="193680" cy="5716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3259080" y="4541760"/>
              <a:ext cx="0" cy="30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278160" y="5415120"/>
              <a:ext cx="0" cy="28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240000" y="5638680"/>
              <a:ext cx="81000" cy="79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228840" y="4491000"/>
              <a:ext cx="82800" cy="8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6" name=""/>
            <p:cNvGrpSpPr/>
            <p:nvPr/>
          </p:nvGrpSpPr>
          <p:grpSpPr>
            <a:xfrm>
              <a:off x="6432840" y="5113440"/>
              <a:ext cx="348840" cy="88560"/>
              <a:chOff x="6432840" y="5113440"/>
              <a:chExt cx="348840" cy="88560"/>
            </a:xfrm>
          </p:grpSpPr>
          <p:sp>
            <p:nvSpPr>
              <p:cNvPr id="497" name=""/>
              <p:cNvSpPr/>
              <p:nvPr/>
            </p:nvSpPr>
            <p:spPr>
              <a:xfrm flipH="1">
                <a:off x="6432840" y="5202000"/>
                <a:ext cx="342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H="1">
                <a:off x="6439680" y="5113440"/>
                <a:ext cx="342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6640560" y="5200560"/>
              <a:ext cx="0" cy="49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V="1">
              <a:off x="6640560" y="4552920"/>
              <a:ext cx="0" cy="55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145280" y="4489560"/>
              <a:ext cx="82440" cy="8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183440" y="5645160"/>
              <a:ext cx="82440" cy="8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 rot="5400000">
              <a:off x="4742640" y="3019320"/>
              <a:ext cx="7776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920960" y="3065400"/>
              <a:ext cx="421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flipH="1" rot="5400000">
              <a:off x="3336840" y="3033720"/>
              <a:ext cx="77760" cy="68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 rot="5400000">
              <a:off x="2905200" y="3046320"/>
              <a:ext cx="77760" cy="68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280320" y="313200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824200" y="3297240"/>
              <a:ext cx="245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 rot="5400000">
              <a:off x="2589120" y="3009960"/>
              <a:ext cx="77760" cy="68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0" name=""/>
            <p:cNvGrpSpPr/>
            <p:nvPr/>
          </p:nvGrpSpPr>
          <p:grpSpPr>
            <a:xfrm>
              <a:off x="563400" y="4440240"/>
              <a:ext cx="1078200" cy="1329480"/>
              <a:chOff x="563400" y="4440240"/>
              <a:chExt cx="1078200" cy="1329480"/>
            </a:xfrm>
          </p:grpSpPr>
          <p:sp>
            <p:nvSpPr>
              <p:cNvPr id="511" name=""/>
              <p:cNvSpPr/>
              <p:nvPr/>
            </p:nvSpPr>
            <p:spPr>
              <a:xfrm>
                <a:off x="772560" y="4499280"/>
                <a:ext cx="869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772560" y="5767560"/>
                <a:ext cx="660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927720" y="4628520"/>
                <a:ext cx="570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flipV="1">
                <a:off x="772560" y="4485600"/>
                <a:ext cx="0" cy="128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flipH="1" rot="16200000">
                <a:off x="1079640" y="4311720"/>
                <a:ext cx="127080" cy="3841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563400" y="4865040"/>
                <a:ext cx="415800" cy="378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flipV="1">
                <a:off x="772560" y="4921200"/>
                <a:ext cx="0" cy="25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916920" y="5163840"/>
                <a:ext cx="554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parametry układu O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70520" y="1600200"/>
            <a:ext cx="308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prądow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1" name=""/>
              <p:cNvSpPr txBox="1"/>
              <p:nvPr/>
            </p:nvSpPr>
            <p:spPr>
              <a:xfrm>
                <a:off x="4064040" y="1387440"/>
                <a:ext cx="253368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≃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≃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2" name=""/>
          <p:cNvSpPr/>
          <p:nvPr/>
        </p:nvSpPr>
        <p:spPr>
          <a:xfrm>
            <a:off x="538560" y="267660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napięciow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4159080" y="2465280"/>
                <a:ext cx="2757600" cy="9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=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'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24" name=""/>
          <p:cNvSpPr/>
          <p:nvPr/>
        </p:nvSpPr>
        <p:spPr>
          <a:xfrm>
            <a:off x="592920" y="3594240"/>
            <a:ext cx="31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zystancja wejściow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4145040" y="3468600"/>
                <a:ext cx="382248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E</m:t>
                        </m:r>
                      </m:sub>
                    </m:sSub>
                    <m:r>
                      <m:t xml:space="preserve">≃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e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≃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6" name=""/>
          <p:cNvSpPr/>
          <p:nvPr/>
        </p:nvSpPr>
        <p:spPr>
          <a:xfrm>
            <a:off x="630000" y="4616280"/>
            <a:ext cx="312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zystancja wyjściow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7" name=""/>
              <p:cNvSpPr txBox="1"/>
              <p:nvPr/>
            </p:nvSpPr>
            <p:spPr>
              <a:xfrm>
                <a:off x="4230720" y="4667400"/>
                <a:ext cx="12207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Y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28" name=""/>
          <p:cNvSpPr/>
          <p:nvPr/>
        </p:nvSpPr>
        <p:spPr>
          <a:xfrm>
            <a:off x="660960" y="5462640"/>
            <a:ext cx="480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órna pulsacja graniczna tranzysto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5562720" y="5492880"/>
                <a:ext cx="1042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30" name=""/>
          <p:cNvSpPr/>
          <p:nvPr/>
        </p:nvSpPr>
        <p:spPr>
          <a:xfrm>
            <a:off x="681120" y="6132600"/>
            <a:ext cx="271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moc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1" name=""/>
              <p:cNvSpPr txBox="1"/>
              <p:nvPr/>
            </p:nvSpPr>
            <p:spPr>
              <a:xfrm>
                <a:off x="3801960" y="6165720"/>
                <a:ext cx="111456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Ku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ównanie podstawowych konfiguracji pr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3" name=""/>
          <p:cNvGraphicFramePr/>
          <p:nvPr/>
        </p:nvGraphicFramePr>
        <p:xfrm>
          <a:off x="219240" y="1835280"/>
          <a:ext cx="8707320" cy="342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240" y="1835280"/>
                    <a:ext cx="8707320" cy="34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9T14:12:49Z</dcterms:created>
  <dc:creator>Agnieszka Kukawczynska</dc:creator>
  <dc:description/>
  <dc:language>en-US</dc:language>
  <cp:lastModifiedBy>MK</cp:lastModifiedBy>
  <dcterms:modified xsi:type="dcterms:W3CDTF">2004-03-15T13:48:44Z</dcterms:modified>
  <cp:revision>76</cp:revision>
  <dc:subject/>
  <dc:title>Właściwości częstotliwościowe wzmacniaczy tranzystorowych</dc:title>
</cp:coreProperties>
</file>