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E20-D4C1-45D8-BB2A-6CF9FFEB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F17-D0F2-4F43-8C5A-6E72741D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889-61E4-4499-9CD4-19651F6E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B47-57EB-4D90-B117-8F8F37FD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2ED-D4F4-44EC-BE0C-95D1211F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D47-91F6-454F-A339-7250D6D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394-9553-43CB-AFEC-1F2585F6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E7A-C057-447F-BC43-3ABA95EA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177-0B37-4ED7-BD38-2D6E4FC4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74C-EAB9-4271-ADD2-C8077373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D3D-4E61-43E9-A939-4D6155B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647-46DC-4BBB-8B43-B6F34FEE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DBA3-CDD2-425E-8AAD-03730011C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(źródł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( dr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(bram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85" name="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5920" y="62856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emitera ( O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36" name="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43240" y="550800"/>
            <a:ext cx="77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kolektora ( O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88" name="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56720" y="566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j bazy ( O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38" name="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5520" y="3830760"/>
            <a:ext cx="8256600" cy="2805120"/>
            <a:chOff x="155520" y="3830760"/>
            <a:chExt cx="8256600" cy="2805120"/>
          </a:xfrm>
        </p:grpSpPr>
        <p:grpSp>
          <p:nvGrpSpPr>
            <p:cNvPr id="491" name=""/>
            <p:cNvGrpSpPr/>
            <p:nvPr/>
          </p:nvGrpSpPr>
          <p:grpSpPr>
            <a:xfrm>
              <a:off x="155520" y="3830760"/>
              <a:ext cx="8256600" cy="2805120"/>
              <a:chOff x="155520" y="3830760"/>
              <a:chExt cx="8256600" cy="2805120"/>
            </a:xfrm>
          </p:grpSpPr>
          <mc:AlternateContent>
            <mc:Choice xmlns:a14="http://schemas.microsoft.com/office/drawing/2010/main" Requires="a14">
              <p:sp>
                <p:nvSpPr>
                  <p:cNvPr id="492" name=""/>
                  <p:cNvSpPr txBox="1"/>
                  <p:nvPr/>
                </p:nvSpPr>
                <p:spPr>
                  <a:xfrm>
                    <a:off x="4832280" y="6181920"/>
                    <a:ext cx="300348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3" name=""/>
              <p:cNvSpPr/>
              <p:nvPr/>
            </p:nvSpPr>
            <p:spPr>
              <a:xfrm>
                <a:off x="3206880" y="4964040"/>
                <a:ext cx="193680" cy="569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5665680" y="4857840"/>
                <a:ext cx="456480" cy="771120"/>
                <a:chOff x="5665680" y="4857840"/>
                <a:chExt cx="456480" cy="7711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5665680" y="4857840"/>
                  <a:ext cx="444600" cy="492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77560" y="5135760"/>
                  <a:ext cx="444600" cy="493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917680" y="5046840"/>
                  <a:ext cx="0" cy="45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978360" y="5122800"/>
                <a:ext cx="353520" cy="87120"/>
                <a:chOff x="3978360" y="5122800"/>
                <a:chExt cx="353520" cy="871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985200" y="5122800"/>
                  <a:ext cx="34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978360" y="5209920"/>
                  <a:ext cx="34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4645080" y="4569120"/>
                <a:ext cx="88560" cy="348840"/>
                <a:chOff x="4645080" y="4569120"/>
                <a:chExt cx="88560" cy="348840"/>
              </a:xfrm>
            </p:grpSpPr>
            <p:sp>
              <p:nvSpPr>
                <p:cNvPr id="502" name=""/>
                <p:cNvSpPr/>
                <p:nvPr/>
              </p:nvSpPr>
              <p:spPr>
                <a:xfrm flipV="1">
                  <a:off x="4645080" y="4569120"/>
                  <a:ext cx="0" cy="34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4733640" y="4575960"/>
                  <a:ext cx="0" cy="34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1751040" y="47228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597040" y="4741920"/>
                <a:ext cx="202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308400" y="47419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4159080" y="474192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08400" y="5538960"/>
                <a:ext cx="0" cy="39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78160" y="521640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58880" y="5899320"/>
                <a:ext cx="519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38680" y="4761000"/>
                <a:ext cx="21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19840" y="47610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00760" y="56340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46400" y="419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19640" y="44719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27760" y="56674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81800" y="5070600"/>
                <a:ext cx="193680" cy="571320"/>
              </a:xfrm>
              <a:prstGeom prst="rect">
                <a:avLst/>
              </a:prstGeom>
              <a:noFill/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578640" y="476100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97720" y="56340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12840" y="4071960"/>
                <a:ext cx="51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b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44480" y="5048280"/>
                <a:ext cx="508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27560" y="5040360"/>
                <a:ext cx="770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8080" y="4052880"/>
                <a:ext cx="60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35680" y="4965840"/>
                <a:ext cx="59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1789200" y="4874760"/>
                <a:ext cx="7920" cy="8254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94680" y="5064120"/>
                <a:ext cx="44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2936880" y="4890960"/>
                <a:ext cx="0" cy="873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92880" y="4221000"/>
                <a:ext cx="586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0000ff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33880" y="5859360"/>
                <a:ext cx="82440" cy="7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37400" y="582768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559560" y="5838840"/>
                <a:ext cx="8100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259080" y="468000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80240" y="473076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548400" y="471024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6200000">
                <a:off x="4813200" y="3633480"/>
                <a:ext cx="188640" cy="582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159080" y="3887280"/>
                <a:ext cx="0" cy="85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919840" y="3904920"/>
                <a:ext cx="0" cy="8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08320" y="471168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602080" y="5886360"/>
                    <a:ext cx="12348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40" name=""/>
              <p:cNvSpPr/>
              <p:nvPr/>
            </p:nvSpPr>
            <p:spPr>
              <a:xfrm>
                <a:off x="1770120" y="4722840"/>
                <a:ext cx="2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658520" y="41292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5040" y="4678200"/>
                <a:ext cx="86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5040" y="594684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0200" y="480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65040" y="4665600"/>
                <a:ext cx="0" cy="12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rot="16200000">
                <a:off x="672120" y="44910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5520" y="5045040"/>
                <a:ext cx="416160" cy="37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365040" y="51004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08320" y="53434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0" name=""/>
                  <p:cNvSpPr txBox="1"/>
                  <p:nvPr/>
                </p:nvSpPr>
                <p:spPr>
                  <a:xfrm>
                    <a:off x="6207120" y="4052880"/>
                    <a:ext cx="220500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51" name=""/>
              <p:cNvSpPr/>
              <p:nvPr/>
            </p:nvSpPr>
            <p:spPr>
              <a:xfrm flipV="1">
                <a:off x="5059440" y="5417640"/>
                <a:ext cx="53172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59080" y="5837400"/>
                <a:ext cx="8244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311200" y="4425480"/>
                <a:ext cx="190440" cy="581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7583400" y="4824000"/>
                <a:ext cx="0" cy="10890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57920" y="496728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8000"/>
                    </a:solidFill>
                    <a:latin typeface="Times New Roman"/>
                  </a:rPr>
                  <a:t>u</a:t>
                </a:r>
                <a:r>
                  <a:rPr b="0" lang="pl-PL" sz="2000" spc="-1" strike="noStrike" baseline="-25000">
                    <a:solidFill>
                      <a:srgbClr val="008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4159080" y="3905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203800" y="3905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384200" y="770040"/>
            <a:ext cx="5982840" cy="2617200"/>
            <a:chOff x="1384200" y="770040"/>
            <a:chExt cx="5982840" cy="2617200"/>
          </a:xfrm>
        </p:grpSpPr>
        <p:sp>
          <p:nvSpPr>
            <p:cNvPr id="559" name=""/>
            <p:cNvSpPr/>
            <p:nvPr/>
          </p:nvSpPr>
          <p:spPr>
            <a:xfrm>
              <a:off x="3821760" y="1662840"/>
              <a:ext cx="507960" cy="33372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2240" y="2661480"/>
              <a:ext cx="376200" cy="336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9720" y="2705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4360" y="2809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0040" y="994680"/>
              <a:ext cx="176040" cy="47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38240" y="816480"/>
              <a:ext cx="1080" cy="1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8240" y="1454040"/>
              <a:ext cx="10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86920" y="1094400"/>
              <a:ext cx="379440" cy="333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9720" y="1135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4360" y="124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66720" y="2577960"/>
              <a:ext cx="174600" cy="471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54560" y="2401200"/>
              <a:ext cx="144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54560" y="3037320"/>
              <a:ext cx="144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14760" y="26550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96480" y="770040"/>
              <a:ext cx="7236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701240" y="2818800"/>
              <a:ext cx="306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4701240" y="2932920"/>
              <a:ext cx="306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4852080" y="2415960"/>
              <a:ext cx="576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52080" y="2949120"/>
              <a:ext cx="576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05080" y="2459160"/>
              <a:ext cx="377640" cy="333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85560" y="25650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13200" y="1752840"/>
              <a:ext cx="528120" cy="5263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3040" y="1861920"/>
              <a:ext cx="756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094280" y="1815120"/>
              <a:ext cx="259920" cy="11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4094280" y="2055960"/>
              <a:ext cx="160560" cy="108720"/>
              <a:chOff x="4094280" y="2055960"/>
              <a:chExt cx="160560" cy="108720"/>
            </a:xfrm>
          </p:grpSpPr>
          <p:sp>
            <p:nvSpPr>
              <p:cNvPr id="584" name=""/>
              <p:cNvSpPr/>
              <p:nvPr/>
            </p:nvSpPr>
            <p:spPr>
              <a:xfrm>
                <a:off x="4094280" y="2076840"/>
                <a:ext cx="16056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25240" y="2055960"/>
                <a:ext cx="12960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4255560" y="2160720"/>
              <a:ext cx="9900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912840" y="2019240"/>
              <a:ext cx="167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54560" y="1620720"/>
              <a:ext cx="144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48600" y="2011320"/>
              <a:ext cx="11707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354560" y="2208240"/>
              <a:ext cx="14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66720" y="980280"/>
              <a:ext cx="174600" cy="4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54560" y="795600"/>
              <a:ext cx="144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54560" y="1439640"/>
              <a:ext cx="144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97480" y="1078200"/>
              <a:ext cx="379080" cy="3351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69120" y="1119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703760" y="1224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50040" y="2563560"/>
              <a:ext cx="176040" cy="463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38240" y="1648080"/>
              <a:ext cx="108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38240" y="3016440"/>
              <a:ext cx="10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8160" y="3252240"/>
              <a:ext cx="402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41680" y="802080"/>
              <a:ext cx="308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64280" y="2415960"/>
              <a:ext cx="493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01240" y="1932480"/>
              <a:ext cx="32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80440" y="1993320"/>
              <a:ext cx="181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01240" y="177480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80440" y="1840680"/>
              <a:ext cx="18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63960" y="1993320"/>
              <a:ext cx="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63960" y="802080"/>
              <a:ext cx="0" cy="9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11360" y="770040"/>
              <a:ext cx="680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11360" y="2385360"/>
              <a:ext cx="680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6480" y="3216960"/>
              <a:ext cx="7236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11360" y="321696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20760" y="3216960"/>
              <a:ext cx="727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1320" y="17366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94880" y="18406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29120" y="1370520"/>
              <a:ext cx="311400" cy="3196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06160" y="14137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15440" y="2055960"/>
              <a:ext cx="311040" cy="3196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23800" y="2086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97920" y="1959840"/>
              <a:ext cx="71280" cy="6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384200" y="1921320"/>
              <a:ext cx="890280" cy="1311120"/>
              <a:chOff x="1384200" y="1921320"/>
              <a:chExt cx="890280" cy="1311120"/>
            </a:xfrm>
          </p:grpSpPr>
          <p:sp>
            <p:nvSpPr>
              <p:cNvPr id="622" name=""/>
              <p:cNvSpPr/>
              <p:nvPr/>
            </p:nvSpPr>
            <p:spPr>
              <a:xfrm>
                <a:off x="1557360" y="197856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557360" y="322956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682280" y="21038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557360" y="1965960"/>
                <a:ext cx="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rot="16200000">
                <a:off x="1799640" y="1825200"/>
                <a:ext cx="12492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84200" y="2340360"/>
                <a:ext cx="343800" cy="37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1557360" y="2395800"/>
                <a:ext cx="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673280" y="263088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703040" y="14958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58840" y="1487520"/>
              <a:ext cx="0" cy="26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51680" y="1638720"/>
              <a:ext cx="35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65320" y="1620720"/>
              <a:ext cx="139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163920" y="1620360"/>
              <a:ext cx="0" cy="163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87960" y="1943640"/>
              <a:ext cx="174600" cy="46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25040" y="3226680"/>
              <a:ext cx="72720" cy="6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14240" y="1590480"/>
              <a:ext cx="727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77160" y="11728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00800" y="146700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2840" y="252324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331960" y="2468520"/>
              <a:ext cx="543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60800" y="1123200"/>
              <a:ext cx="41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53240" y="14396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302640" y="2171520"/>
              <a:ext cx="7560" cy="834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63120" y="259092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26600" y="189720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04600" y="3030840"/>
              <a:ext cx="5914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 flipH="1">
            <a:off x="6086160" y="463860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34040" y="3807000"/>
            <a:ext cx="5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53160" y="3462480"/>
                <a:ext cx="1897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699000" y="1387440"/>
                <a:ext cx="32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933720" y="2465280"/>
                <a:ext cx="4200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4046400" y="3454560"/>
                <a:ext cx="423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4168800" y="4640400"/>
                <a:ext cx="1312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648000" y="53103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765760" y="5207040"/>
                <a:ext cx="2459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OC: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46480" y="3635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608120" y="682560"/>
            <a:ext cx="5101560" cy="2777760"/>
            <a:chOff x="1608120" y="682560"/>
            <a:chExt cx="5101560" cy="2777760"/>
          </a:xfrm>
        </p:grpSpPr>
        <p:sp>
          <p:nvSpPr>
            <p:cNvPr id="669" name=""/>
            <p:cNvSpPr/>
            <p:nvPr/>
          </p:nvSpPr>
          <p:spPr>
            <a:xfrm>
              <a:off x="5385960" y="208476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997080" y="2081880"/>
              <a:ext cx="49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2796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01880" y="873360"/>
              <a:ext cx="173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88640" y="722160"/>
              <a:ext cx="10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88640" y="1264680"/>
              <a:ext cx="108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24760" y="958320"/>
              <a:ext cx="374760" cy="284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51720" y="9500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99520" y="2223000"/>
              <a:ext cx="17388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88080" y="2072160"/>
              <a:ext cx="14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9200" y="2307240"/>
              <a:ext cx="374760" cy="284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01920" y="2342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46520" y="682560"/>
              <a:ext cx="738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72280" y="180576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51760" y="1519920"/>
              <a:ext cx="522000" cy="4485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09080" y="1612080"/>
              <a:ext cx="7200" cy="254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731400" y="1572120"/>
              <a:ext cx="256320" cy="9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731400" y="1777320"/>
              <a:ext cx="156960" cy="92520"/>
              <a:chOff x="3731400" y="1777320"/>
              <a:chExt cx="156960" cy="92520"/>
            </a:xfrm>
          </p:grpSpPr>
          <p:sp>
            <p:nvSpPr>
              <p:cNvPr id="687" name=""/>
              <p:cNvSpPr/>
              <p:nvPr/>
            </p:nvSpPr>
            <p:spPr>
              <a:xfrm>
                <a:off x="3731400" y="1794960"/>
                <a:ext cx="156960" cy="70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761640" y="1777320"/>
                <a:ext cx="126720" cy="925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889080" y="1867320"/>
              <a:ext cx="986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3551760" y="1746000"/>
              <a:ext cx="16488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988080" y="1406880"/>
              <a:ext cx="1440" cy="15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61200" y="1743120"/>
              <a:ext cx="7963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002840" y="1906920"/>
              <a:ext cx="144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83760" y="682560"/>
              <a:ext cx="612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29200" y="944280"/>
              <a:ext cx="374760" cy="286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1880" y="2208960"/>
              <a:ext cx="17388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88640" y="1429920"/>
              <a:ext cx="1080" cy="79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52640" y="709560"/>
              <a:ext cx="3106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16520" y="1672200"/>
              <a:ext cx="317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94280" y="1724760"/>
              <a:ext cx="178200" cy="2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16520" y="1538280"/>
              <a:ext cx="317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94280" y="1595160"/>
              <a:ext cx="178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77080" y="1724760"/>
              <a:ext cx="0" cy="10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77080" y="709560"/>
              <a:ext cx="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44520" y="682560"/>
              <a:ext cx="6768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33520" y="682560"/>
              <a:ext cx="7344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44520" y="2058120"/>
              <a:ext cx="67680" cy="5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85160" y="1471320"/>
              <a:ext cx="500760" cy="282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71560" y="1506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04040" y="15951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41160" y="1193760"/>
              <a:ext cx="307440" cy="271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17120" y="12308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26400" y="1777320"/>
              <a:ext cx="308520" cy="271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36920" y="18028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4503960" y="1982520"/>
              <a:ext cx="49320" cy="201960"/>
              <a:chOff x="4503960" y="1982520"/>
              <a:chExt cx="49320" cy="201960"/>
            </a:xfrm>
          </p:grpSpPr>
          <p:sp>
            <p:nvSpPr>
              <p:cNvPr id="716" name=""/>
              <p:cNvSpPr/>
              <p:nvPr/>
            </p:nvSpPr>
            <p:spPr>
              <a:xfrm>
                <a:off x="4503960" y="1982520"/>
                <a:ext cx="0" cy="20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553280" y="1982520"/>
                <a:ext cx="0" cy="20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4564080" y="2089440"/>
              <a:ext cx="81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48320" y="1698840"/>
              <a:ext cx="7344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13600" y="2217600"/>
              <a:ext cx="166320" cy="43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654160" y="21175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2176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5000" y="1727640"/>
              <a:ext cx="71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79200" y="18342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755000" y="171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rot="16200000">
              <a:off x="2003400" y="1574640"/>
              <a:ext cx="108000" cy="313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08120" y="2025000"/>
              <a:ext cx="338760" cy="31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755000" y="208224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870200" y="228456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23880" y="12704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70520" y="1413000"/>
              <a:ext cx="0" cy="19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88080" y="2615040"/>
              <a:ext cx="14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32600" y="2430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88640" y="2596320"/>
              <a:ext cx="108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08200" y="279684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46520" y="2767320"/>
              <a:ext cx="7380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44520" y="2767320"/>
              <a:ext cx="6768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33520" y="2767320"/>
              <a:ext cx="7344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45280" y="2751480"/>
              <a:ext cx="7200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55000" y="279144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29160" y="3022200"/>
              <a:ext cx="53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13760" y="303624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63760" y="305460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4751280" y="305460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118040" y="5159520"/>
            <a:ext cx="185760" cy="52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3249360" y="4650840"/>
            <a:ext cx="174600" cy="55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094440" y="5316480"/>
            <a:ext cx="426960" cy="45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105600" y="5060880"/>
            <a:ext cx="428400" cy="45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337440" y="5180040"/>
            <a:ext cx="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76600" y="53053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70480" y="5386320"/>
            <a:ext cx="33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110200" y="4794120"/>
            <a:ext cx="0" cy="31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195880" y="479880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06840" y="493704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618000" y="4954680"/>
            <a:ext cx="14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214880" y="49546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645080" y="4954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14880" y="568800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62360" y="5391000"/>
            <a:ext cx="0" cy="66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98680" y="6019920"/>
            <a:ext cx="573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02360" y="497196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38880" y="497196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19800" y="57769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78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64160" y="46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1152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78520" y="5257800"/>
            <a:ext cx="187560" cy="525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6972480" y="49719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89760" y="57769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56040" y="433692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00120" y="52466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07080" y="5229360"/>
            <a:ext cx="74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207040" y="4468680"/>
            <a:ext cx="60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79840" y="52578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19520" y="5983200"/>
            <a:ext cx="795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59680" y="5972040"/>
            <a:ext cx="7920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53400" y="5981760"/>
            <a:ext cx="777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67360" y="4897440"/>
            <a:ext cx="806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4943520"/>
            <a:ext cx="777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943680" y="4925880"/>
            <a:ext cx="795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645080" y="41670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338880" y="418428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620960" y="418464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95760" y="4925880"/>
            <a:ext cx="7776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3524400" y="6008760"/>
                <a:ext cx="1188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497400" y="6367320"/>
                <a:ext cx="43639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1498680" y="493704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617920" y="438948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586560" y="497052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09680" y="44467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7789680" y="5013360"/>
            <a:ext cx="437760" cy="1039320"/>
            <a:chOff x="7789680" y="5013360"/>
            <a:chExt cx="437760" cy="1039320"/>
          </a:xfrm>
        </p:grpSpPr>
        <p:sp>
          <p:nvSpPr>
            <p:cNvPr id="792" name=""/>
            <p:cNvSpPr/>
            <p:nvPr/>
          </p:nvSpPr>
          <p:spPr>
            <a:xfrm flipH="1">
              <a:off x="8040960" y="5256000"/>
              <a:ext cx="186120" cy="52488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147160" y="5013360"/>
              <a:ext cx="0" cy="2440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789680" y="5029560"/>
              <a:ext cx="338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147160" y="5780880"/>
              <a:ext cx="0" cy="2718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795800" y="6031080"/>
              <a:ext cx="338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8259480" y="46893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72040" y="5994360"/>
            <a:ext cx="792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55520" y="4809960"/>
            <a:ext cx="1036440" cy="1225080"/>
            <a:chOff x="155520" y="4809960"/>
            <a:chExt cx="1036440" cy="1225080"/>
          </a:xfrm>
        </p:grpSpPr>
        <p:sp>
          <p:nvSpPr>
            <p:cNvPr id="800" name=""/>
            <p:cNvSpPr/>
            <p:nvPr/>
          </p:nvSpPr>
          <p:spPr>
            <a:xfrm>
              <a:off x="356400" y="4864320"/>
              <a:ext cx="83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6400" y="6032880"/>
              <a:ext cx="63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6880" y="498348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356400" y="4851720"/>
              <a:ext cx="0" cy="11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rot="16200000">
              <a:off x="655560" y="4683600"/>
              <a:ext cx="117000" cy="36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5520" y="5201280"/>
              <a:ext cx="399600" cy="3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56400" y="5253120"/>
              <a:ext cx="0" cy="23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5720" y="5476680"/>
              <a:ext cx="50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669840" y="4438800"/>
            <a:ext cx="49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889440" y="509220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59160" y="4451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5253840" y="3940920"/>
            <a:ext cx="149040" cy="509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602400" y="3905280"/>
                <a:ext cx="220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6850080" y="3225960"/>
                <a:ext cx="1897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606840" y="1427040"/>
                <a:ext cx="3298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86360" y="2536920"/>
                <a:ext cx="3579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3708360" y="3635280"/>
                <a:ext cx="49100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3751200" y="4454640"/>
                <a:ext cx="49039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3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5759280" y="5316480"/>
                <a:ext cx="26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5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9560" y="4987800"/>
            <a:ext cx="51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ólny schemat blokowy wzmacniac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5520" y="3870360"/>
            <a:ext cx="8737920" cy="2730600"/>
            <a:chOff x="155520" y="3870360"/>
            <a:chExt cx="8737920" cy="2730600"/>
          </a:xfrm>
        </p:grpSpPr>
        <p:grpSp>
          <p:nvGrpSpPr>
            <p:cNvPr id="829" name=""/>
            <p:cNvGrpSpPr/>
            <p:nvPr/>
          </p:nvGrpSpPr>
          <p:grpSpPr>
            <a:xfrm>
              <a:off x="5640480" y="4649760"/>
              <a:ext cx="456480" cy="771120"/>
              <a:chOff x="5640480" y="4649760"/>
              <a:chExt cx="456480" cy="771120"/>
            </a:xfrm>
          </p:grpSpPr>
          <p:sp>
            <p:nvSpPr>
              <p:cNvPr id="830" name=""/>
              <p:cNvSpPr/>
              <p:nvPr/>
            </p:nvSpPr>
            <p:spPr>
              <a:xfrm flipV="1">
                <a:off x="5640480" y="492768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652360" y="4649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5892480" y="477792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952800" y="4915080"/>
              <a:ext cx="353880" cy="86760"/>
              <a:chOff x="3952800" y="4915080"/>
              <a:chExt cx="353880" cy="86760"/>
            </a:xfrm>
          </p:grpSpPr>
          <p:sp>
            <p:nvSpPr>
              <p:cNvPr id="834" name=""/>
              <p:cNvSpPr/>
              <p:nvPr/>
            </p:nvSpPr>
            <p:spPr>
              <a:xfrm>
                <a:off x="3959640" y="491508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52800" y="500184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1979640" y="45147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24160" y="4533840"/>
              <a:ext cx="18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4133880" y="45338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52960" y="50086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46240" y="5691240"/>
              <a:ext cx="58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894280" y="455292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94280" y="4552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75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52040" y="4281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68720" y="3979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7080" y="577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91280" y="486252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88120" y="45529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07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36360" y="48132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02000" y="483228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287840" y="48639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208240" y="46670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67360" y="387036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08320" y="5651640"/>
              <a:ext cx="828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11840" y="5638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97720" y="5649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54680" y="4522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99160" y="451476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6200000">
              <a:off x="4787640" y="3882600"/>
              <a:ext cx="18900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4133880" y="41623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33880" y="41544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5894280" y="41540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178240" y="41544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83120" y="45036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2970360" y="567864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3094200" y="6067440"/>
                  <a:ext cx="42321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b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8" name=""/>
            <p:cNvSpPr/>
            <p:nvPr/>
          </p:nvSpPr>
          <p:spPr>
            <a:xfrm>
              <a:off x="1998720" y="45147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887120" y="39211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19240" y="42800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397280" y="45514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35440" y="40464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8283960" y="4564080"/>
              <a:ext cx="455400" cy="1128240"/>
              <a:chOff x="8283960" y="4564080"/>
              <a:chExt cx="455400" cy="1128240"/>
            </a:xfrm>
          </p:grpSpPr>
          <p:sp>
            <p:nvSpPr>
              <p:cNvPr id="874" name=""/>
              <p:cNvSpPr/>
              <p:nvPr/>
            </p:nvSpPr>
            <p:spPr>
              <a:xfrm flipH="1">
                <a:off x="8545680" y="4827240"/>
                <a:ext cx="193680" cy="56952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8655480" y="4564080"/>
                <a:ext cx="0" cy="26496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8283960" y="458136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655480" y="539712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8290440" y="5668560"/>
                <a:ext cx="3520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8316360" y="401796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63840" y="483876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560680" y="45291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79760" y="54021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41600" y="56260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30440" y="44784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4280" y="4835520"/>
              <a:ext cx="56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62240" y="48513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259080" y="45417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78160" y="54151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40000" y="56386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28840" y="449100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6432840" y="5113440"/>
              <a:ext cx="348840" cy="88560"/>
              <a:chOff x="6432840" y="5113440"/>
              <a:chExt cx="348840" cy="88560"/>
            </a:xfrm>
          </p:grpSpPr>
          <p:sp>
            <p:nvSpPr>
              <p:cNvPr id="892" name=""/>
              <p:cNvSpPr/>
              <p:nvPr/>
            </p:nvSpPr>
            <p:spPr>
              <a:xfrm flipH="1">
                <a:off x="6432840" y="52020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439680" y="511344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6640560" y="520056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640560" y="45529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45280" y="44895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83440" y="56451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155520" y="4440240"/>
              <a:ext cx="1077840" cy="1329480"/>
              <a:chOff x="155520" y="4440240"/>
              <a:chExt cx="1077840" cy="1329480"/>
            </a:xfrm>
          </p:grpSpPr>
          <p:sp>
            <p:nvSpPr>
              <p:cNvPr id="899" name=""/>
              <p:cNvSpPr/>
              <p:nvPr/>
            </p:nvSpPr>
            <p:spPr>
              <a:xfrm>
                <a:off x="364680" y="449928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4680" y="576756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9840" y="462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64680" y="448560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16200000">
                <a:off x="671760" y="431172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55520" y="486504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364680" y="492120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7960" y="516384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674640" y="717480"/>
            <a:ext cx="6967440" cy="2670120"/>
            <a:chOff x="674640" y="717480"/>
            <a:chExt cx="6967440" cy="2670120"/>
          </a:xfrm>
        </p:grpSpPr>
        <p:sp>
          <p:nvSpPr>
            <p:cNvPr id="908" name=""/>
            <p:cNvSpPr/>
            <p:nvPr/>
          </p:nvSpPr>
          <p:spPr>
            <a:xfrm flipH="1" flipV="1">
              <a:off x="2289240" y="1032840"/>
              <a:ext cx="9367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2004840" y="103716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rot="5400000">
              <a:off x="3358800" y="943560"/>
              <a:ext cx="498960" cy="5223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3463560" y="1296720"/>
              <a:ext cx="2970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692520" y="1036800"/>
              <a:ext cx="117360" cy="245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3462480" y="1131840"/>
              <a:ext cx="107280" cy="150480"/>
              <a:chOff x="3462480" y="1131840"/>
              <a:chExt cx="107280" cy="150480"/>
            </a:xfrm>
          </p:grpSpPr>
          <p:sp>
            <p:nvSpPr>
              <p:cNvPr id="914" name=""/>
              <p:cNvSpPr/>
              <p:nvPr/>
            </p:nvSpPr>
            <p:spPr>
              <a:xfrm flipH="1" flipV="1">
                <a:off x="3467160" y="1131840"/>
                <a:ext cx="82080" cy="150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rot="5400000">
                <a:off x="3455280" y="1139040"/>
                <a:ext cx="121320" cy="10728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 flipH="1" flipV="1">
              <a:off x="3417840" y="1037160"/>
              <a:ext cx="46080" cy="94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3603240" y="1297080"/>
              <a:ext cx="1800" cy="157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3818880" y="1017000"/>
              <a:ext cx="256068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29920" y="10371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rot="5400000">
              <a:off x="5668560" y="999000"/>
              <a:ext cx="6300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rot="5400000">
              <a:off x="2451960" y="1014840"/>
              <a:ext cx="630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32120" y="2261160"/>
              <a:ext cx="330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595840" y="2317320"/>
              <a:ext cx="1857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532120" y="2117160"/>
              <a:ext cx="330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595840" y="2179440"/>
              <a:ext cx="18576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016680" y="2031120"/>
              <a:ext cx="317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5753520" y="185220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5777280" y="24022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3063960" y="2206080"/>
              <a:ext cx="234720" cy="46080"/>
              <a:chOff x="3063960" y="2206080"/>
              <a:chExt cx="234720" cy="46080"/>
            </a:xfrm>
          </p:grpSpPr>
          <p:sp>
            <p:nvSpPr>
              <p:cNvPr id="930" name=""/>
              <p:cNvSpPr/>
              <p:nvPr/>
            </p:nvSpPr>
            <p:spPr>
              <a:xfrm flipH="1">
                <a:off x="3063960" y="2252160"/>
                <a:ext cx="23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3063960" y="2206080"/>
                <a:ext cx="23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2247480" y="944280"/>
              <a:ext cx="50760" cy="215640"/>
              <a:chOff x="2247480" y="944280"/>
              <a:chExt cx="50760" cy="215640"/>
            </a:xfrm>
          </p:grpSpPr>
          <p:sp>
            <p:nvSpPr>
              <p:cNvPr id="933" name=""/>
              <p:cNvSpPr/>
              <p:nvPr/>
            </p:nvSpPr>
            <p:spPr>
              <a:xfrm>
                <a:off x="2298240" y="9442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247480" y="9442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V="1">
              <a:off x="2486160" y="1023120"/>
              <a:ext cx="0" cy="163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87760" y="1451880"/>
              <a:ext cx="0" cy="122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13000" y="1827000"/>
              <a:ext cx="24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692680" y="1044000"/>
              <a:ext cx="0" cy="10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5400000">
              <a:off x="3567240" y="1797840"/>
              <a:ext cx="63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5400000">
              <a:off x="5653800" y="1797120"/>
              <a:ext cx="630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410560" y="1274400"/>
              <a:ext cx="181080" cy="428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5601600" y="1277280"/>
              <a:ext cx="17316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5400000">
              <a:off x="4053960" y="1587240"/>
              <a:ext cx="165960" cy="46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3486960" y="2005920"/>
              <a:ext cx="181080" cy="42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13000" y="227520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13000" y="18270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692680" y="2317320"/>
              <a:ext cx="0" cy="3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84640" y="121356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44720" y="123480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02480" y="1902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6391080" y="924480"/>
              <a:ext cx="52200" cy="215640"/>
              <a:chOff x="6391080" y="924480"/>
              <a:chExt cx="52200" cy="215640"/>
            </a:xfrm>
          </p:grpSpPr>
          <p:sp>
            <p:nvSpPr>
              <p:cNvPr id="952" name=""/>
              <p:cNvSpPr/>
              <p:nvPr/>
            </p:nvSpPr>
            <p:spPr>
              <a:xfrm>
                <a:off x="6443280" y="9244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391080" y="9244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6459480" y="1026000"/>
              <a:ext cx="4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7642080" y="1200600"/>
              <a:ext cx="0" cy="12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74200" y="105300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74640" y="937080"/>
              <a:ext cx="1311120" cy="1729080"/>
              <a:chOff x="674640" y="937080"/>
              <a:chExt cx="1311120" cy="1729080"/>
            </a:xfrm>
          </p:grpSpPr>
          <p:sp>
            <p:nvSpPr>
              <p:cNvPr id="958" name=""/>
              <p:cNvSpPr/>
              <p:nvPr/>
            </p:nvSpPr>
            <p:spPr>
              <a:xfrm>
                <a:off x="928800" y="1013760"/>
                <a:ext cx="10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928800" y="2662920"/>
                <a:ext cx="80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110600" y="11818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928800" y="996120"/>
                <a:ext cx="0" cy="167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rot="16200000">
                <a:off x="1298520" y="785880"/>
                <a:ext cx="165240" cy="46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4640" y="1489320"/>
                <a:ext cx="505440" cy="49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928800" y="1562040"/>
                <a:ext cx="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94040" y="1878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 flipV="1">
              <a:off x="6915240" y="1027440"/>
              <a:ext cx="0" cy="16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842880" y="1502640"/>
              <a:ext cx="17316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26560" y="156024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rot="5400000">
              <a:off x="5649480" y="2620080"/>
              <a:ext cx="630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84560" y="2661480"/>
              <a:ext cx="46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rot="5400000">
              <a:off x="3555360" y="2632680"/>
              <a:ext cx="648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rot="5400000">
              <a:off x="3168720" y="2643120"/>
              <a:ext cx="6336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502440" y="27165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094200" y="285192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rot="5400000">
              <a:off x="2453760" y="2613240"/>
              <a:ext cx="6300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24440" y="2906640"/>
              <a:ext cx="53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38560" y="290412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98320" y="295452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4749480" y="28785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4159080" y="2465280"/>
                <a:ext cx="2757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8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145040" y="3468600"/>
                <a:ext cx="3822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0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4230720" y="466740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2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5562720" y="549288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4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3801960" y="6165720"/>
                <a:ext cx="11145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y tranzys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222120" y="1830240"/>
          <a:ext cx="87537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830240"/>
                    <a:ext cx="87537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228600" y="1074600"/>
            <a:ext cx="85345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17200" y="102060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racować w do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007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008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7560" y="1600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OE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060560" y="5818320"/>
                <a:ext cx="10983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746520" y="5726160"/>
                <a:ext cx="12794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780000" y="614520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279360" y="2943360"/>
            <a:ext cx="2155320" cy="2033280"/>
            <a:chOff x="279360" y="2943360"/>
            <a:chExt cx="2155320" cy="2033280"/>
          </a:xfrm>
        </p:grpSpPr>
        <p:sp>
          <p:nvSpPr>
            <p:cNvPr id="1039" name=""/>
            <p:cNvSpPr/>
            <p:nvPr/>
          </p:nvSpPr>
          <p:spPr>
            <a:xfrm>
              <a:off x="1793520" y="3515760"/>
              <a:ext cx="14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793520" y="3515400"/>
              <a:ext cx="25200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93520" y="3762360"/>
              <a:ext cx="25200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86640" y="3762360"/>
              <a:ext cx="50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82680" y="32770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030040" y="2943360"/>
              <a:ext cx="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2044080" y="39888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57600" y="3826080"/>
              <a:ext cx="151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525600" y="3270240"/>
              <a:ext cx="760680" cy="504360"/>
              <a:chOff x="525600" y="3270240"/>
              <a:chExt cx="760680" cy="504360"/>
            </a:xfrm>
          </p:grpSpPr>
          <p:sp>
            <p:nvSpPr>
              <p:cNvPr id="1048" name=""/>
              <p:cNvSpPr/>
              <p:nvPr/>
            </p:nvSpPr>
            <p:spPr>
              <a:xfrm>
                <a:off x="1031760" y="3270240"/>
                <a:ext cx="1440" cy="49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1031760" y="3270240"/>
                <a:ext cx="25164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31760" y="3517200"/>
                <a:ext cx="25452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525600" y="3517200"/>
                <a:ext cx="5061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090080" y="3570840"/>
                <a:ext cx="18504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991160" y="324396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9360" y="312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68200" y="4516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35600" y="4419000"/>
              <a:ext cx="7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1343880" y="375516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06440" y="370728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016360" y="4385880"/>
              <a:ext cx="651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281600" y="3900600"/>
              <a:ext cx="129240" cy="36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063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064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070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7223040" y="1600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25920" y="1187280"/>
            <a:ext cx="1644480" cy="4788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759120" y="3675240"/>
            <a:ext cx="96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usk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O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155520" y="1822320"/>
            <a:ext cx="8331840" cy="4335840"/>
            <a:chOff x="155520" y="1822320"/>
            <a:chExt cx="8331840" cy="4335840"/>
          </a:xfrm>
        </p:grpSpPr>
        <p:sp>
          <p:nvSpPr>
            <p:cNvPr id="1108" name=""/>
            <p:cNvSpPr/>
            <p:nvPr/>
          </p:nvSpPr>
          <p:spPr>
            <a:xfrm flipV="1">
              <a:off x="141624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1416240" y="5459400"/>
              <a:ext cx="68770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155520" y="1822320"/>
                  <a:ext cx="115272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11" name="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1560600" y="3370320"/>
              <a:ext cx="3321720" cy="1828440"/>
              <a:chOff x="1560600" y="3370320"/>
              <a:chExt cx="3321720" cy="1828440"/>
            </a:xfrm>
          </p:grpSpPr>
          <p:sp>
            <p:nvSpPr>
              <p:cNvPr id="1117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156060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86440" y="575928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m.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7520" y="5724360"/>
              <a:ext cx="141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d.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66480" y="5724360"/>
              <a:ext cx="33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częstotliwości średn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85" name="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764640" y="1641600"/>
            <a:ext cx="6769800" cy="4202640"/>
            <a:chOff x="764640" y="1641600"/>
            <a:chExt cx="6769800" cy="4202640"/>
          </a:xfrm>
        </p:grpSpPr>
        <p:sp>
          <p:nvSpPr>
            <p:cNvPr id="1151" name="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182880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4640" y="37339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165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167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193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5416560" y="1411200"/>
            <a:ext cx="2292480" cy="1622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23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139760" y="4275000"/>
            <a:ext cx="1800" cy="270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1940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05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004760" y="400356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39760" y="355392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39760" y="3554280"/>
            <a:ext cx="2070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1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27520" y="398772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533240" y="3240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58720" y="312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12160" y="4049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38360" y="3932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2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12120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22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119400" y="3914640"/>
            <a:ext cx="18108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2039760" y="3465000"/>
            <a:ext cx="90720" cy="88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2039760" y="3554280"/>
            <a:ext cx="90720" cy="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082600" y="321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163600" y="333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34400" y="3124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577960" y="324000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8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06200" y="393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849400" y="40496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300120" y="3735360"/>
            <a:ext cx="179640" cy="719280"/>
            <a:chOff x="3300120" y="3735360"/>
            <a:chExt cx="179640" cy="719280"/>
          </a:xfrm>
        </p:grpSpPr>
        <p:sp>
          <p:nvSpPr>
            <p:cNvPr id="1270" name=""/>
            <p:cNvSpPr/>
            <p:nvPr/>
          </p:nvSpPr>
          <p:spPr>
            <a:xfrm>
              <a:off x="3390840" y="3735360"/>
              <a:ext cx="180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300120" y="373536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39084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3527280" y="402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209760" y="3554280"/>
            <a:ext cx="1260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40120" y="355428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60840" y="400536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60840" y="409428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40120" y="4094280"/>
            <a:ext cx="180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749760" y="4545000"/>
            <a:ext cx="1807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1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16360" y="3532320"/>
            <a:ext cx="522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70480" y="3554280"/>
            <a:ext cx="144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89400" y="400536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89400" y="409428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4094280"/>
            <a:ext cx="144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379760" y="4545000"/>
            <a:ext cx="1810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75000" y="3184560"/>
            <a:ext cx="1706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b’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1+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5729400" y="3554280"/>
            <a:ext cx="144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359400" y="33274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27048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8012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17868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640480" y="4546440"/>
            <a:ext cx="17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94400" y="3914640"/>
            <a:ext cx="271440" cy="27144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29400" y="4005360"/>
            <a:ext cx="1440" cy="269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 flipV="1">
            <a:off x="5640120" y="4184280"/>
            <a:ext cx="8892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5729400" y="4184280"/>
            <a:ext cx="9036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960440" y="402912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52960" y="41464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29400" y="3554280"/>
            <a:ext cx="541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6719760" y="3735360"/>
            <a:ext cx="179640" cy="719280"/>
            <a:chOff x="6719760" y="3735360"/>
            <a:chExt cx="179640" cy="719280"/>
          </a:xfrm>
        </p:grpSpPr>
        <p:sp>
          <p:nvSpPr>
            <p:cNvPr id="1304" name=""/>
            <p:cNvSpPr/>
            <p:nvPr/>
          </p:nvSpPr>
          <p:spPr>
            <a:xfrm>
              <a:off x="6810480" y="3735360"/>
              <a:ext cx="144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6719760" y="373536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1048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 flipV="1">
            <a:off x="51912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052960" y="2287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2340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4440" y="247032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4640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52640" y="272880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006560" y="21956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144440" y="1734840"/>
            <a:ext cx="180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4440" y="173520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3273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124640" y="21765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543680" y="141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61240" y="1295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647080" y="223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66080" y="2120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326600" y="2120760"/>
            <a:ext cx="230400" cy="371880"/>
            <a:chOff x="1326600" y="2120760"/>
            <a:chExt cx="230400" cy="371880"/>
          </a:xfrm>
        </p:grpSpPr>
        <p:sp>
          <p:nvSpPr>
            <p:cNvPr id="1323" name=""/>
            <p:cNvSpPr/>
            <p:nvPr/>
          </p:nvSpPr>
          <p:spPr>
            <a:xfrm>
              <a:off x="1470960" y="230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26600" y="2120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23162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259080" y="173520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669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47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210168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5742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4984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696360" y="1965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612840" y="18464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1968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47856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38640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649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38496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6664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7400" y="22399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5480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91200" y="1735200"/>
            <a:ext cx="20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21368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1215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0990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12152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364880" y="21207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7680240" y="1936800"/>
            <a:ext cx="184320" cy="735120"/>
            <a:chOff x="7680240" y="1936800"/>
            <a:chExt cx="184320" cy="735120"/>
          </a:xfrm>
        </p:grpSpPr>
        <p:sp>
          <p:nvSpPr>
            <p:cNvPr id="1349" name=""/>
            <p:cNvSpPr/>
            <p:nvPr/>
          </p:nvSpPr>
          <p:spPr>
            <a:xfrm>
              <a:off x="7772400" y="193680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768024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77240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7711920" y="1500120"/>
            <a:ext cx="50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6699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674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51520" y="2101680"/>
            <a:ext cx="277560" cy="2779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91200" y="21956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 flipV="1">
            <a:off x="509904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19120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051520" y="2286000"/>
            <a:ext cx="277560" cy="27792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 flipV="1">
            <a:off x="2063520" y="164304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063520" y="1735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105640" y="1387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188080" y="150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565360" y="12952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612880" y="14144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5225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83932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889000" y="223992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351240" y="1919160"/>
            <a:ext cx="183960" cy="735120"/>
            <a:chOff x="3351240" y="1919160"/>
            <a:chExt cx="183960" cy="735120"/>
          </a:xfrm>
        </p:grpSpPr>
        <p:sp>
          <p:nvSpPr>
            <p:cNvPr id="1369" name=""/>
            <p:cNvSpPr/>
            <p:nvPr/>
          </p:nvSpPr>
          <p:spPr>
            <a:xfrm>
              <a:off x="3443400" y="191916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3351240" y="191916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443400" y="19191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3577320" y="22129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34200" y="20098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627440" y="21286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259080" y="1735200"/>
            <a:ext cx="1563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203720" y="17352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019400" y="219564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019400" y="22860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203720" y="22860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111560" y="274644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82292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91508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15080" y="173520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236760" y="171288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17996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33465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209760" y="594360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143000" y="6126120"/>
            <a:ext cx="144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52640" y="638496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006560" y="5851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143000" y="5392800"/>
            <a:ext cx="144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143000" y="5392800"/>
            <a:ext cx="1101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25520" y="5300640"/>
            <a:ext cx="368280" cy="184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123920" y="58341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419120" y="4952880"/>
            <a:ext cx="298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5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973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805200" y="6384960"/>
            <a:ext cx="184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05200" y="5759280"/>
            <a:ext cx="185760" cy="36864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254400" y="6384960"/>
            <a:ext cx="1839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517760" y="5597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1693800" y="5576760"/>
            <a:ext cx="184320" cy="733680"/>
            <a:chOff x="1693800" y="5576760"/>
            <a:chExt cx="184320" cy="733680"/>
          </a:xfrm>
        </p:grpSpPr>
        <p:sp>
          <p:nvSpPr>
            <p:cNvPr id="1402" name=""/>
            <p:cNvSpPr/>
            <p:nvPr/>
          </p:nvSpPr>
          <p:spPr>
            <a:xfrm>
              <a:off x="17859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16938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59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5" name=""/>
          <p:cNvSpPr/>
          <p:nvPr/>
        </p:nvSpPr>
        <p:spPr>
          <a:xfrm>
            <a:off x="3208320" y="5759280"/>
            <a:ext cx="277920" cy="2764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46560" y="58514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 flipV="1">
            <a:off x="3254400" y="6035400"/>
            <a:ext cx="9216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346560" y="6035400"/>
            <a:ext cx="9180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208320" y="5942160"/>
            <a:ext cx="277920" cy="27756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28960" y="55944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13560" y="57135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44600" y="53928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062080" y="5851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062080" y="59436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244600" y="59436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52800" y="6402240"/>
            <a:ext cx="1839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346560" y="5392800"/>
            <a:ext cx="55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157480" y="506088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4356000" y="5576760"/>
            <a:ext cx="184320" cy="733680"/>
            <a:chOff x="4356000" y="5576760"/>
            <a:chExt cx="184320" cy="733680"/>
          </a:xfrm>
        </p:grpSpPr>
        <p:sp>
          <p:nvSpPr>
            <p:cNvPr id="1420" name=""/>
            <p:cNvSpPr/>
            <p:nvPr/>
          </p:nvSpPr>
          <p:spPr>
            <a:xfrm>
              <a:off x="44481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3560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481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5317920" y="5403960"/>
            <a:ext cx="17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03440" y="4834080"/>
            <a:ext cx="31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1+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659040" y="229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514040" y="1162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0532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954600" y="4689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1320120" y="4000680"/>
            <a:ext cx="230400" cy="371520"/>
            <a:chOff x="1320120" y="4000680"/>
            <a:chExt cx="230400" cy="371520"/>
          </a:xfrm>
        </p:grpSpPr>
        <p:sp>
          <p:nvSpPr>
            <p:cNvPr id="1431" name=""/>
            <p:cNvSpPr/>
            <p:nvPr/>
          </p:nvSpPr>
          <p:spPr>
            <a:xfrm>
              <a:off x="1464480" y="418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20120" y="40006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1356120" y="5783400"/>
            <a:ext cx="314640" cy="371520"/>
            <a:chOff x="1356120" y="5783400"/>
            <a:chExt cx="314640" cy="371520"/>
          </a:xfrm>
        </p:grpSpPr>
        <p:sp>
          <p:nvSpPr>
            <p:cNvPr id="1434" name=""/>
            <p:cNvSpPr/>
            <p:nvPr/>
          </p:nvSpPr>
          <p:spPr>
            <a:xfrm>
              <a:off x="1500840" y="597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56120" y="5783400"/>
              <a:ext cx="3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 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>
            <a:off x="3506400" y="3156120"/>
            <a:ext cx="5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971040" y="38433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690080" y="581184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1060560"/>
            <a:ext cx="2892600" cy="527040"/>
          </a:xfrm>
          <a:custGeom>
            <a:avLst/>
            <a:gdLst/>
            <a:ahLst/>
            <a:rect l="l" t="t" r="r" b="b"/>
            <a:pathLst>
              <a:path w="1822" h="332">
                <a:moveTo>
                  <a:pt x="0" y="310"/>
                </a:moveTo>
                <a:cubicBezTo>
                  <a:pt x="55" y="255"/>
                  <a:pt x="111" y="200"/>
                  <a:pt x="200" y="154"/>
                </a:cubicBezTo>
                <a:cubicBezTo>
                  <a:pt x="289" y="108"/>
                  <a:pt x="418" y="56"/>
                  <a:pt x="533" y="32"/>
                </a:cubicBezTo>
                <a:cubicBezTo>
                  <a:pt x="648" y="8"/>
                  <a:pt x="774" y="6"/>
                  <a:pt x="889" y="10"/>
                </a:cubicBezTo>
                <a:cubicBezTo>
                  <a:pt x="1004" y="14"/>
                  <a:pt x="1067" y="0"/>
                  <a:pt x="1222" y="54"/>
                </a:cubicBezTo>
                <a:cubicBezTo>
                  <a:pt x="1377" y="108"/>
                  <a:pt x="1722" y="286"/>
                  <a:pt x="1822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4480" y="1017720"/>
            <a:ext cx="169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420520" y="5950080"/>
            <a:ext cx="11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U/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954600" y="53308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990720" y="4267080"/>
          <a:ext cx="2361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267080"/>
                    <a:ext cx="2361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990720" y="5791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47" name=""/>
          <p:cNvGraphicFramePr/>
          <p:nvPr/>
        </p:nvGraphicFramePr>
        <p:xfrm>
          <a:off x="5025960" y="4454640"/>
          <a:ext cx="3557520" cy="24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4454640"/>
                    <a:ext cx="35575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135840" y="1108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59520" y="2556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135840" y="16416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97600" y="164160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27920" y="1239840"/>
            <a:ext cx="9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737400" y="2521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178480" y="198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45200" y="1630440"/>
            <a:ext cx="2271600" cy="93024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063560" y="16509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92920" y="164628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16040" y="371628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całkujący RC (pierwszego rzę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159240" y="911160"/>
            <a:ext cx="8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588960" y="1049400"/>
            <a:ext cx="5340240" cy="2674800"/>
            <a:chOff x="588960" y="1049400"/>
            <a:chExt cx="5340240" cy="2674800"/>
          </a:xfrm>
        </p:grpSpPr>
        <mc:AlternateContent>
          <mc:Choice xmlns:a14="http://schemas.microsoft.com/office/drawing/2010/main" Requires="a14">
            <p:sp>
              <p:nvSpPr>
                <p:cNvPr id="1463" name=""/>
                <p:cNvSpPr txBox="1"/>
                <p:nvPr/>
              </p:nvSpPr>
              <p:spPr>
                <a:xfrm>
                  <a:off x="588960" y="1049400"/>
                  <a:ext cx="5340240" cy="24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64" name=""/>
            <p:cNvSpPr/>
            <p:nvPr/>
          </p:nvSpPr>
          <p:spPr>
            <a:xfrm>
              <a:off x="4230720" y="2895480"/>
              <a:ext cx="198360" cy="828720"/>
            </a:xfrm>
            <a:prstGeom prst="downArrow">
              <a:avLst>
                <a:gd name="adj1" fmla="val 50000"/>
                <a:gd name="adj2" fmla="val 10444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150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152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155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156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158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161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165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165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 flipV="1">
            <a:off x="2886120" y="2622240"/>
            <a:ext cx="0" cy="20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890800" y="470520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4762440" y="3371400"/>
            <a:ext cx="1692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762440" y="337356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24240" y="45529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3430440" y="4849920"/>
                <a:ext cx="8049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0" name=""/>
          <p:cNvSpPr/>
          <p:nvPr/>
        </p:nvSpPr>
        <p:spPr>
          <a:xfrm>
            <a:off x="3213720" y="286056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B/dekad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97080" y="3094920"/>
            <a:ext cx="26892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2854440" y="3373560"/>
            <a:ext cx="1947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165400" y="312732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rot="17163000">
            <a:off x="4188600" y="3426840"/>
            <a:ext cx="1902960" cy="179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5" y="908"/>
                </a:moveTo>
                <a:arcTo wR="10800" hR="10800" stAng="-3979969" swAng="3247301"/>
                <a:lnTo>
                  <a:pt x="10800" y="10800"/>
                </a:lnTo>
                <a:close/>
              </a:path>
              <a:path fill="none" w="21600" h="21600">
                <a:moveTo>
                  <a:pt x="15135" y="908"/>
                </a:moveTo>
                <a:arcTo wR="10800" hR="10800" stAng="-3979969" swAng="3247301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2854440" y="348156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094120" y="34797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51160" y="3373560"/>
            <a:ext cx="611280" cy="68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3033720" y="4057560"/>
            <a:ext cx="11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151160" y="40575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6316200">
            <a:off x="2831760" y="2207160"/>
            <a:ext cx="1902960" cy="179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5" y="908"/>
                </a:moveTo>
                <a:arcTo wR="10800" hR="10800" stAng="-3979969" swAng="3247301"/>
                <a:lnTo>
                  <a:pt x="10800" y="10800"/>
                </a:lnTo>
                <a:close/>
              </a:path>
              <a:path fill="none" w="21600" h="21600">
                <a:moveTo>
                  <a:pt x="15135" y="908"/>
                </a:moveTo>
                <a:arcTo wR="10800" hR="10800" stAng="-3979969" swAng="3247301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2882880" y="40575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4630680" y="4892760"/>
                <a:ext cx="1755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8" name="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1568520" y="1477800"/>
            <a:ext cx="5478480" cy="2620800"/>
            <a:chOff x="1568520" y="1477800"/>
            <a:chExt cx="5478480" cy="2620800"/>
          </a:xfrm>
        </p:grpSpPr>
        <p:sp>
          <p:nvSpPr>
            <p:cNvPr id="1700" name=""/>
            <p:cNvSpPr/>
            <p:nvPr/>
          </p:nvSpPr>
          <p:spPr>
            <a:xfrm>
              <a:off x="5429160" y="2317680"/>
              <a:ext cx="0" cy="17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86320" y="1711080"/>
              <a:ext cx="199800" cy="487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86040" y="1527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11800" y="35794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638520" y="1477800"/>
              <a:ext cx="824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10200" y="2495520"/>
              <a:ext cx="596880" cy="545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4414680" y="2558520"/>
              <a:ext cx="293760" cy="122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3" name="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714" name="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4594320" y="2917800"/>
              <a:ext cx="11412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4210200" y="276984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4708440" y="1477800"/>
              <a:ext cx="7920" cy="10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684600" y="2768400"/>
              <a:ext cx="5335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4716360" y="296676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586320" y="333504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686040" y="238896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686040" y="380340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400560" y="1509480"/>
              <a:ext cx="299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054840" y="268092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143760" y="2744640"/>
              <a:ext cx="204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54840" y="2517480"/>
              <a:ext cx="36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235560" y="150948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659120" y="1477800"/>
              <a:ext cx="781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188040" y="1477800"/>
              <a:ext cx="824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659120" y="4011480"/>
              <a:ext cx="781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73880" y="2436480"/>
              <a:ext cx="573120" cy="34632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575400" y="2479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03680" y="2144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414480" y="283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5078520" y="2192040"/>
              <a:ext cx="56880" cy="246240"/>
              <a:chOff x="5078520" y="2192040"/>
              <a:chExt cx="56880" cy="246240"/>
            </a:xfrm>
          </p:grpSpPr>
          <p:sp>
            <p:nvSpPr>
              <p:cNvPr id="1743" name=""/>
              <p:cNvSpPr/>
              <p:nvPr/>
            </p:nvSpPr>
            <p:spPr>
              <a:xfrm>
                <a:off x="5078520" y="2192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135400" y="2192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5157720" y="232056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48160" y="2512800"/>
              <a:ext cx="19044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383080" y="40287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519880" y="30952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762200" y="274932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62200" y="404316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029320" y="288108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1762200" y="273492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rot="16200000">
              <a:off x="2190960" y="2572920"/>
              <a:ext cx="13032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68520" y="3122280"/>
              <a:ext cx="387360" cy="38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1762200" y="3177720"/>
              <a:ext cx="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88892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599000" y="1652400"/>
              <a:ext cx="190440" cy="530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72080" y="226512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08360" y="3350880"/>
              <a:ext cx="198720" cy="48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723040" y="229356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3017880" y="2890440"/>
              <a:ext cx="0" cy="9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090960" y="17730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168720" y="3311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 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1769" name="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1770" name="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1803" name="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1843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9" name="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1857" name="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5" name="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1866" name="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7" name="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1868" name="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0" name="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6" name="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7" name="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8" name="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3" name="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4" name="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6" name="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7" name="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8" name="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99" name="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1" name="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12" name="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1917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1940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1943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1980" name="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6" name="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7" name="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8" name="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9" name="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6" name="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067" name="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4-10-19T15:19:59Z</dcterms:modified>
  <cp:revision>116</cp:revision>
  <dc:subject/>
  <dc:title>Właściwości częstotliwościowe wzmacniaczy tranzystorowych</dc:title>
</cp:coreProperties>
</file>