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8C22-BBF3-447E-A7B8-2AF93AA8D39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jlepiej użyć diagramów by wyciągnąć wnio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D8E-E28E-47B7-98BD-C3C95065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A76-9FF0-4D59-A9C6-89F3278A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333-E148-41EC-AE2E-BFF41F7D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3E6-ACA4-4425-A947-63EE78EC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93D1-74E0-4F6A-A1E3-8044FC60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5C76-20AA-4F0D-8296-DDA40AAA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454F-32A9-41FB-A1CF-7C2EF12F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91F7-4EB9-4012-A4D5-1D67BB9A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F80A-BC35-4F6E-A784-96EC01E9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BDF1-D67C-4D10-AF02-168FCBF4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AB29-9292-42CD-A612-C0A4EEF5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902-E5B2-4B79-90D9-19B7E54E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64D4-0D18-4E28-AA13-8047F5BA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ABC1-C8DF-4D83-962C-3993E881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357C-053C-4775-B467-2DB690CE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2F6B-F217-48CB-ADF2-51EC3FA5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4C65-6D13-4234-80B4-0F93FB3E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5B8-A015-4D0B-9E9A-857DCCB9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54E-AE4F-43BE-BC25-CD0CA952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43D-8865-4321-B473-11EBFF82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E37-2F6E-47FE-B7F3-2929DE20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AA4-88B4-48CE-9671-F2643241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9EC-6139-44EC-9517-B8E8F0DD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3E4F-07EE-4DE5-87BC-35E9F3EB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4D50-FB60-46DE-BAC3-D03B5398D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6F98-0EFF-4E8F-AA2C-D2EBE763442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AI2/szybkosc-wiedza.gif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hyperlink" Target="http://www.staff.ncl.ac.uk/nikolas.lloyd/games/wason.htm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AI2/chess-plot.jpg" TargetMode="External"/><Relationship Id="rId2" Type="http://schemas.openxmlformats.org/officeDocument/2006/relationships/hyperlink" Target="file:///AI2/chess-plot.jpg" TargetMode="External"/><Relationship Id="rId3" Type="http://schemas.openxmlformats.org/officeDocument/2006/relationships/hyperlink" Target="file:///AI2/chess-plot.jpg" TargetMode="External"/><Relationship Id="rId4" Type="http://schemas.openxmlformats.org/officeDocument/2006/relationships/hyperlink" Target="file:///AI2/chess-plot.jpg" TargetMode="External"/><Relationship Id="rId5" Type="http://schemas.openxmlformats.org/officeDocument/2006/relationships/hyperlink" Target="file:///AI2/chess-plot.jpg" TargetMode="External"/><Relationship Id="rId6" Type="http://schemas.openxmlformats.org/officeDocument/2006/relationships/hyperlink" Target="file:///AI2/chess-plot.jpg" TargetMode="External"/><Relationship Id="rId7" Type="http://schemas.openxmlformats.org/officeDocument/2006/relationships/hyperlink" Target="file:///AI2/ai-power.jpg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AI2/szybk-pam.jpg" TargetMode="External"/><Relationship Id="rId2" Type="http://schemas.openxmlformats.org/officeDocument/2006/relationships/hyperlink" Target="file:///AI2/power1000.jpg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21640" cy="1440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Sztuczna Inteligencja</a:t>
            </a:r>
            <a:br>
              <a:rPr sz="4400"/>
            </a:b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Szukanie, gry i ludzkie myśl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4343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łodzisław 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Katedra Informatyki Stosowanej UM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Google: 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Go: większe wyzwan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139240" cy="55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iczba ruchów w Go to średnio 260 (szachy tylko 35)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iczba partii: 10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260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szachy 10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12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iczba różnych pozycji na planszy: 10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17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szachy 10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46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echniki szukania są mało przydatne: obecne programy są kiepskie na standardowej planszy 19x19, ale na poziomie mistrzowskim na planszach 9x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ierwszy program w 1968 roku, najlepszy obecnie Go4++ napisał M. Reiss, program jest znacznie lepszy od swojego twór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onieczne do dobrego grania w Go jes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rozpoznawanie struktur (typ lokalnych konfiguracji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czenie maszynow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trategie i planowanie,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etody reprezentacje wiedzy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agroda 1 mln $ dla programu, który pokona mistrza z Taiwan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59920"/>
            <a:ext cx="77724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Szukanie a ludzkie myślenie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1532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Jak ludzie rozwiązują problemy wymagające myślenia? Intuicj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zachy: człowiek stosuje „zmodyfikowane progresywne pogłębianie”, ograniczone poszukiwanie w głąb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cena w oparciu o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heurysty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 doświadczen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ntuicja = o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gromna pamięć, rozpoznawan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wzorc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– inne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ograniczenia sprzętow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niż A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Liczba pamiętanych „prototypowych” wzorców ~ 50.0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istrz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achowy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o 5-se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ekspozycj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kłada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średnio 23 figury z 25 na pokazanych pozycjach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nowicjusz 3 lub 4 figu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Figury ułożone przypadkowo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taka sama liczba błę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ybki test poziomu gry w sza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Badania psychologicz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ezentacja 5 sekund, ruchy oczu mistrza i nowicjus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5524560" cy="1752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43000" y="5029200"/>
            <a:ext cx="6248520" cy="1581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37339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ezentacja dłuższa, od nowicjusza do mistr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ajwiększe różnice są w czasach reakcji i liczbie prawidłowo zapamiętanych fig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6896160" cy="3848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Szukanie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a ludzkie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myślenie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echanizm „porcjowania” przy pamiętaniu złożonych struktu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mała pamięć robocza wymaga ciągłego porcjow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ziała to trochę jak kompilacja przyrostow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achy: uczenie + pamięć, rozpoznawanie wzorców, ocena sytuacji oparta na pamięc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waga skupiona jest (rozwijana jest gałąź grafu) na obszarach słabszych, ocena wzrokowa wzorców strukt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kspert lepiej rozpoznaje i lepiej pamięta, ale tylko istotne struktury, znane z doświadczenia, a nie struktury przypadk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orcjowanie jest wykorzystywane w mnemotech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nteligencja jest ściśle związana z sytuacją, domeną wiedzy. 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Złudzenia zmysł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mysły często nas zwodzą, np. na tych obrazk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3289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3568680" cy="345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Złudzenia kognityw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czytaj zdan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FINISHED FILES ARE THE 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SULT OF YEARS OF SCIENTIF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IC STUDY COMBIN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THE EXPERIENCE OF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eraz policz ile jest liter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F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 tym zdaniu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olicz je TYLKO RAZ, nie cofaj się i nie powtarzaj licze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Paradoksy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 ludzkie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go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 myśleni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yślenie przebiega schematycznie, możliwe są złudzenia poznawcze.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ykład wnioskowania łatwy, trudniejszy i b. trudny (niemożliw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Każdy człowiek jest ssa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okrates jest człowie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429000"/>
            <a:ext cx="67816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niosek: Sokrates jest ssa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chemat: A =&gt; B, C=&gt;A, więc C=&gt;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5516640"/>
            <a:ext cx="64771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niosek: żaden Rurytanin nie jest żeglarz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chemat: ~</a:t>
            </a:r>
            <a:r>
              <a:rPr b="0" lang="pl-PL" sz="24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A =&gt; B, C=&gt;A, więc  ~</a:t>
            </a:r>
            <a:r>
              <a:rPr b="0" lang="pl-PL" sz="24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C =&gt;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4508640"/>
            <a:ext cx="63248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Żaden rolnik nie jest żeglarz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szyscy Rurytanie to rolni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Niemożliwy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Wszyscy członkowie gabinetu to złodzie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Żaden muzyk nie jest członkiem gabine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niosek: ... muzycy ??? złodziej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Test karciany (Wason 196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83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Na jednej stronie kart są cyfry, na drugiej lite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Które karty należy obrócić, by sprawdzić prawdziwość reguły: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jeśli jest samogłoska to cyfra jest parzys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16000" y="3213000"/>
            <a:ext cx="6480360" cy="1434600"/>
            <a:chOff x="1116000" y="3213000"/>
            <a:chExt cx="6480360" cy="1434600"/>
          </a:xfrm>
        </p:grpSpPr>
        <p:sp>
          <p:nvSpPr>
            <p:cNvPr id="139" name=""/>
            <p:cNvSpPr/>
            <p:nvPr/>
          </p:nvSpPr>
          <p:spPr>
            <a:xfrm>
              <a:off x="1116000" y="321300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44720" y="321300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5080" y="321300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>
              <a:hlinkClick r:id="rId1" action="ppaction://hlinksldjump"/>
            </p:cNvPr>
            <p:cNvSpPr/>
            <p:nvPr/>
          </p:nvSpPr>
          <p:spPr>
            <a:xfrm>
              <a:off x="6588000" y="3213000"/>
              <a:ext cx="100836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4360" y="4941720"/>
            <a:ext cx="784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le minimalnie kart trzeba przewróci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staff.ncl.ac.uk/nikolas.lloyd/games/wason.html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Wariant Was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125000"/>
            <a:ext cx="82836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W barze piją różni ludzie a nadchodzi policj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Przy stolikach mam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Pijących gin, nieznany wie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Pijących sok pomarańczowy, nieznany wie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Dorosły, nie wiadomo co p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Młodociany, nie wiadomo co pij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116000" y="3789360"/>
            <a:ext cx="6480360" cy="1434600"/>
            <a:chOff x="1116000" y="3789360"/>
            <a:chExt cx="6480360" cy="1434600"/>
          </a:xfrm>
        </p:grpSpPr>
        <p:sp>
          <p:nvSpPr>
            <p:cNvPr id="147" name=""/>
            <p:cNvSpPr/>
            <p:nvPr/>
          </p:nvSpPr>
          <p:spPr>
            <a:xfrm>
              <a:off x="1116000" y="378936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4720" y="378936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45080" y="378936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&gt;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88000" y="3789360"/>
              <a:ext cx="100836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&lt;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84360" y="558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go trzeba sprawdzić by się upewnić, że tylko dorośli piją alkohol? Znacznie łatwiej jest zgadnąć w tej sytu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Co będ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Gry planszowe.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ukanie i ludzkie myślenie.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aradoksy kognityw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Reprezentacja wiedzy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Martwić się czy ni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3924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Załóżmy, że w Polsce 1 na 1000 osób ma wirusa HIV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Nowy test polegający na badaniu śliny, o dokładności 99.5%, wprowadzono do obowiązkowych badań okresowy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Test wypadł pozytywni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Jakie jest prawdopodobieństwo, że osoba ma HIV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Paradoks Monty Ha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nty Hall Paradox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, czyli przykład złudzenia kognityw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tosowany np. w teleturnieju „idź na całość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Reguły zabaw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amy 3 kubk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i złota monetę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ychodzisz z pokoju, ja pod jednym z kubków ukrywam monetę. Wracasz i wybierasz jeden z kubków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Ja, wiedząc, pod którym jest moneta, odkrywam jeden z </a:t>
            </a:r>
            <a:r>
              <a:rPr b="0" lang="pl-PL" sz="2000" spc="-1" strike="noStrike">
                <a:solidFill>
                  <a:srgbClr val="ffff00"/>
                </a:solidFill>
                <a:latin typeface="Arial"/>
                <a:ea typeface="Arial"/>
              </a:rPr>
              <a:t>pustych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kubków.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asz teraz szansę zmienić swoją decyzję i pozostać przy już wybranym kubku lub wybrać pozostał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4876920"/>
            <a:ext cx="82296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Czy najlepszą strategią jes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awsze trzymanie się pierwotnego wybor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awsze zmia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czy przypadkowy wybó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Wnio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153640" cy="33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yślenie jest rzeczą trudną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rościej jest używać schemat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Tylko w kontekście naturalnych sytuacji myśle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rzychodzi nam ła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19640" y="3789360"/>
            <a:ext cx="2286000" cy="1965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Warc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52, Samuel, pierwszy program uczący się gry w warcaby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2, Chinook (J. Schaeffer, UoA) wygrywa US. Open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ogram używa szukania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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Symbo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istrzostwa człowiek-maszyna, Londyn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r. Marion Tinsley, wygrał z Chinookiem 4-2, 33 remi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żyto 8-proc. stacji Silicon Graphics 4D/480, 256 MB RAM, baza danych wszystkich końcówek z 1-7 figurami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awie połowa wszystkich partii z 8 figurami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4, remis 1-1 i 18 remisów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5, wygrana Chinooka 1-0 i 31 remis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żyto komputera SGI z 512 MB 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Trik-trak, Oth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210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rik-trak (backgammon), popularny w Japonii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awiera element niepewności (rzut kostką)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80, program BKG wygrał raz z mistrzem świata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2, program Tesauro, techniki jak dla warcabów + uczenie się (sieć neuronowa) lepszych ocen, ranking wśród 3 najlepszych graczy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5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Logistello zwycięż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mistrz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świata Takeshi Murakami do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6 do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!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ogram grał parę tygodni sam z sobą poprawiając swoje funkcje oceny heurystycz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istrzowskie rezultaty w wielu grach osiągnięto dopiero w latach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oc obliczeniowa to warunek konieczny, ale nie wystarczający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Szachy – ogól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7850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tatyczna ocena sytuacji na planszy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liczb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figu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wartość figur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położen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figur, możliwości ruch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unkcja oceny: sum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obierz wsp.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ależność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liczb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a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 ruchów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 -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sił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istrz świata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2800 punkt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rzewidywania na: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5 pełnych ruchów (10 poziomów)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500 punkt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Od 5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0 poziomów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amy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200 p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oziom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Dla 10 ruchów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k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2500 punkt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k. 35 ruchów/poziom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heurystyk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redukują to do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/poz;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1000 ocen/sek, 150 sek/ruch, b=35, ok. 3-4 ruchy - nowicjus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ależność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jakość-szybkość obliczeń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443640" y="2133720"/>
            <a:ext cx="2409840" cy="212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Szachy – obcinanie alfa-b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Strategia obcinania </a:t>
            </a:r>
            <a:r>
              <a:rPr b="0" lang="pl-PL" sz="2100" spc="-1" strike="noStrike">
                <a:solidFill>
                  <a:srgbClr val="ffffff"/>
                </a:solidFill>
                <a:latin typeface="Symbol"/>
                <a:ea typeface="Symbol"/>
              </a:rPr>
              <a:t></a:t>
            </a: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ignoruj mało obiecujące gałęzi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Symbol"/>
                <a:ea typeface="Symbol"/>
              </a:rPr>
              <a:t></a:t>
            </a: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kres dolny do oceny Max, </a:t>
            </a:r>
            <a:br>
              <a:rPr sz="2100"/>
            </a:br>
            <a:r>
              <a:rPr b="0" lang="pl-PL" sz="21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 – kres górny do oceny Mi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547640" y="3068640"/>
            <a:ext cx="5715000" cy="2908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Szachy - histor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5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0280" indent="-3502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58, p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ierwszy program szachowy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Alex Bernste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spcBef>
                <a:spcPts val="499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zkocki międzynarodowy mistrz szachowy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funduje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nagrod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dla programu, który ogra go chociaż raz na cztery part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1985 roku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grał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szystk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cztery part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spcBef>
                <a:spcPts val="499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85, HiTech wśród najlepszych 800 graczy,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ceniał ok. 10 mln pozycji, w 1988 roku wygrał z arcymistrz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just">
              <a:spcBef>
                <a:spcPts val="499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ntel+IBM: szachy to dobra reklama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994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Chess Genius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na PC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entium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kil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 razy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wyciężył Gary Kasparov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; c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as grania ograniczo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do 25 minut na zawodnika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6 – Deep Blue przegrał z Kasparowem 2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7 – Deep Blue wygrał 3.5:2.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2002 – program Deep Fritz na PC remisuje z Vladimirem Kramnik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just">
              <a:spcBef>
                <a:spcPts val="499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z 2 miesiące Kramink trenował z programem Deep Fri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Deep Thought i Deep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eep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T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hought,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od 1985 roku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4 studentów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 USA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(T. Hsu, T. Anantharaman, M. Campbell, A. Nowatzyk)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rogram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Deep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lue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(nowsz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Deep Thought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hardwar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do gry w szachy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3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roceso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IBM RS6000/SP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256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S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Ocenia 200-1000 milionów pozycj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ek!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uża b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ibliote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otwarć i końców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Deep Thought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– szukanie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alfa-bet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o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0 ruchów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 skomplikowanych sytuacja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ep Blue - ok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4 ruch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3000 punkt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pobił Kasparov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Reakcja prasy – potworna szybkość i pamięć zwyciężył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ózg: 10.000 razy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iększa pamięć/szybkość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więc to uwagi bez sens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Moc już nadchodz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i będzie z nami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Ostatni mecz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322880" cy="28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Kasporov vs. X3D Deep Fritz jun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Nowy Jork, listopad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ecz zakończył się remisem; główną atrakcją była gra w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irtualnej rzeczywistości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omputer, na którym zainstalowany był program Fritz był około 100 raz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427560" cy="2504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4005360"/>
            <a:ext cx="8064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olniejszy niż Deep Blue i do tego zajęty generowaniem obrazu w 3 wymiarach, nic więc dziwnego, że mecz zakończył się remis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C stoi w kącie ... następny taki mecz odbędzie się z programem działającym w telefonie 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0:23:55Z</dcterms:created>
  <dc:creator>W. Duch</dc:creator>
  <dc:description/>
  <dc:language>en-US</dc:language>
  <cp:lastModifiedBy>W. Duch</cp:lastModifiedBy>
  <dcterms:modified xsi:type="dcterms:W3CDTF">2007-05-16T13:09:44Z</dcterms:modified>
  <cp:revision>89</cp:revision>
  <dc:subject/>
  <dc:title>Szukanie, gry i ludzkie myślenie</dc:title>
</cp:coreProperties>
</file>