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076-A7E4-4B46-BFCF-EA2A8057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FA5-F88F-40E0-A70E-A00C5567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9DC-941C-4B91-90F4-A3CA07C6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A3F-37E1-42E3-9333-2856BC7C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E48-8D97-4BC3-94B6-E4908229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F59-7729-4EFA-8EC1-51D66B48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8A6-E0EC-4ACA-BF43-88543A23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9E0-D8DE-426D-84D1-893C135B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EA2-03A2-4DA0-AA70-DB23B57F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191-62BC-4DCF-BDDC-D3ED81C4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7D0-859B-4F68-872C-851519D4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8B8-BF56-4764-9038-6D4CACCC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F389-5A74-4C2D-983C-A460806A2A4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1720" y="1219320"/>
            <a:ext cx="76201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000" spc="-1" strike="noStrike">
                <a:solidFill>
                  <a:srgbClr val="3333cc"/>
                </a:solidFill>
                <a:latin typeface="Arial"/>
              </a:rPr>
              <a:t>Konstrukcja klasyfikatorów minimalnoodległościowych </a:t>
            </a:r>
            <a:br>
              <a:rPr sz="4000"/>
            </a:br>
            <a:r>
              <a:rPr b="0" i="1" lang="pl-PL" sz="4000" spc="-1" strike="noStrike">
                <a:solidFill>
                  <a:srgbClr val="3333cc"/>
                </a:solidFill>
                <a:latin typeface="Arial"/>
              </a:rPr>
              <a:t>o strukturze sieciowe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ymon Grabowsk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tedra Informatyki Stosowanej P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raków, październik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2857680" cy="80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472428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romotor: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rof. dr hab. inż. Dominik Sankow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Wersja kompromisowa algorytmu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iast „pełnego” rozcięcia przestrzeni, przeprowadzamy hiperpłaszczyzny tylko c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ty punkt z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 na każdej współrzędnej (wymaga to policzenia odległośc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–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 dodatkowych punktów dla każdej współrzędnej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368-A251-4100-8205-F36AA0EAE2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9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8672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 wymiary, 1000 próbek w zbiorze odniesi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Wyniki tes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3276720"/>
            <a:ext cx="2286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Implementacja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++ (g++ 2.95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Testy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eleron 533 MHz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84 MB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inux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5791320" cy="262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8406000" cy="216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095-2D6C-4EE0-90F5-97F22FBF8A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0200" y="59436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5 wymiarów, 1000 próbek w zbiorze odniesi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Wyniki testów,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47920" y="3048120"/>
            <a:ext cx="6232320" cy="2835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7772400" cy="21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003-5B68-4928-8CFF-7E676D93B3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219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Własności proponowanego algorytmu (podsumowanie)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9051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ardzo wysokie (wykładnicze w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 koszta wstępnej obróbki —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praktyczne ograniczenie zastosowań do wymiarów 3–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graniczenie do szukania tylko jednego najbliższego sąsia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graniczenie do metryki miejsk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le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ubliniowość w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najgorszym przypadk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lastyczność (parametr kompromisu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st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03E-2998-4B22-A1CE-EA41AEC6A6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1-N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najprostsza i najszybsza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ersja reguły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-N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N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sze przyspieszenie klasyfikacji typu 1-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siągam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 pomocy redukcji zbioru odniesi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0481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jbardziej znane algorytmy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dukcji zbioru odniesie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Harta (196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Gowda’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shna’y (1979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Gatesa (197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Changa (197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Tomeka (197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638680" y="3276720"/>
            <a:ext cx="2338560" cy="218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800600" y="55627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zykładowa reduk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6C8-5CE2-43DC-A9F7-E946C2C4F31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3880" y="457200"/>
            <a:ext cx="74678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Cechy algorytmu redukcji Skalaka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(1994)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babilistyczny (w klasie algorytmów typ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random mutation hill climbi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dukcja do zadanej liczby próbe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 gwarantuje zgodności zbioru zredukowa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344400"/>
            <a:ext cx="830556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Procedura Skalak1(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lang="pl-PL" sz="3200" spc="-1" strike="noStrike" baseline="-25000">
                <a:solidFill>
                  <a:srgbClr val="a50021"/>
                </a:solidFill>
                <a:latin typeface="Arial"/>
              </a:rPr>
              <a:t>1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ylosuj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próbek ze zbioru odniesienia S do zbioru 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redukowanego R i estymuj jakość otrzymanego zbior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ykonaj w pętli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mutacji; mutacja polega na wylosowani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jednej próbki z R i jednej z S\R; jeśli zamiana tych próbek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mniejsza estymowany błąd klasyfikacji, to ją zaakceptuj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B7A-46D1-4F24-8D7C-0F3438EAEC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0" y="914400"/>
            <a:ext cx="38862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838080"/>
            <a:ext cx="868680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rocedura Skalak2(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a50021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ykonaj Skalak1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ykonaj w pętli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tacji polegających teraz na zmiani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sowej współrzędnej (tj. cechy) losowej próbki z 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o 0.5 lub –0.5; jeśli mutacja zmniejsza estymowany błą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klasyfikacji, to ją zaakceptuj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038480"/>
            <a:ext cx="8001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zystkie opisane algorytmy generują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jedyncz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lobalny) zbiór zredukow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ternatywne podejście w niniejszej pracy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zbiór zredukowany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ybierany konteksto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okalnie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la danej prób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689-8E5E-44A4-AC1F-4F7A273BB84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7621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Łączenie klasyfikatoró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combining classifier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— przedmiot intensywnych badań od początku lat 90. XX 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905120"/>
            <a:ext cx="815328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Trzy zasadniczo odmienne podejś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łosowanie (np. większościowe) zespołu klasyfikatorów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Hansen i Salamon, 1990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; wada: czas klasyfikacj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proporcjonalny do liczby klasyfikatorów składowych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okalny wybór klasyfikato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oods i in., 1997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ada: trudność określenia (szybkiego) kryterium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yboru klasyfikator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lasyfikator kaskad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paydi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ynak, 19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próbki „łatwe” oceniane są przez szybki klasyfikator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próbki „trudniejsze” przechodzą do następnych etapów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(z wolniejszymi, lecz dokładniejszymi klasyfikatorami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80C-13BF-4B8C-A370-1DBF2C14D74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457200"/>
            <a:ext cx="7620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ponujemy dwa schematy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lokalnego wyboru </a:t>
            </a:r>
            <a:br>
              <a:rPr sz="2400"/>
            </a:b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zbioru zredukowa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dla reguły 1-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)  schemat z partycjonowani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strzeni płaszczyznam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)  schemat z klasteryzacją zbioru odniesi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09680" y="2895480"/>
            <a:ext cx="5143680" cy="2408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0" y="533412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Podział zbioru na: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(a) regiony przy pomocy płaszczyzn;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(b) klastry, np. metodą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k 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średn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2C7-4F04-4487-853E-2E3B16716EC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762120"/>
            <a:ext cx="5257800" cy="5331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28600"/>
            <a:ext cx="861048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Procedura uczenia w schemacie </a:t>
            </a:r>
            <a:br>
              <a:rPr sz="3200"/>
            </a:b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klasteryzacja+Skalak(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L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odziel zbiór odniesienia na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skupisk (klastrów)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przy pomocy metody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średnich (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k-mean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wygeneruj „globalnie”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zbiorów zredukowanych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(procedura Skalak1 lub Skalak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dla każdego klastra estymuj jakość klasyfikacji regułą 1-NN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przy użyciu poszczególnych zb. zredukowanych.  Skojarz z każdym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klastrem najlepszy dla niego klasyfikator (tj. zbiór zredukowany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114800"/>
            <a:ext cx="79246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Procedura klasyfikacji próbki 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olicz odległości od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do środków ciężkości wszystkich klastrów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i wybierz klaster najbliższy zgodnie z tym kryteriu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rzypisz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do klasy zwracanej przez klasyfikator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skojarzony z najbliższym klastre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30492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F24-834B-4CDA-9EB5-22EA04B9A4B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457200"/>
            <a:ext cx="8001000" cy="58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Klasyfikac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ustalanie etykiet klas rozpoznawanych obiek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el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ybkie klasyfikato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redukcja informacji wejściowej, efektywne struktury danyc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syfikatory dokład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że pewien korzystny kompromis między szybkością a jakością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Zakres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syfikacj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adzorow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śli dany jest zbiór uczący (baza wiedz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syfikacj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ieparametrycz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k apriorycznego modelu probabilistycz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ymetryczna funkcja str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każda pomyłka jednakowo kosztow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304920"/>
            <a:ext cx="76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E3A-430A-4305-8233-4156C792C9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78200" y="2173320"/>
            <a:ext cx="3551400" cy="576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533520"/>
            <a:ext cx="40388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Klasyfikator 1-N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– brak redukcji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 – Hart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 – Gowda-Krishna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 – Skalak1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 – Skalak2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 – klasteryzacja + Skalak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40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496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elkość zbioru zreduko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3060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łąd klasyf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85800"/>
            <a:ext cx="3809880" cy="27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Wyniki test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Arial"/>
              </a:rPr>
              <a:t>Zbiór danych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rdzenie ferrytow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ontrola jakości w zakładach Polfer w W-w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biory uczące po 1400 próbek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etryka miejs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5562720"/>
            <a:ext cx="990720" cy="277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5486400"/>
            <a:ext cx="1067040" cy="3049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967-C2D7-4AFB-8F77-0A66AE93DE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19320" y="1219320"/>
            <a:ext cx="67053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cepcja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ymetrycznego sąsiedzt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skość sąsiadó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ład geometryczny sąsiadów w przestrzen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„wokół” próbki testowej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49528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ktyczne definicje symetrycznego sąsiedztwa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udhur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1996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ha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in.,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8098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ł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N ignoruje aspekt położeni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siadów w przestrze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F13A-CA94-439C-BB8D-193637783B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guła 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 scentrowanych sąsiadó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 Nearest Centroid Neighbor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) —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chez i in., 1997; koncepcja NCN: Chaudhuri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k-NCN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5791320" cy="3741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guła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NCN,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EB2-9B24-4E2D-8630-133031203B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2666880"/>
            <a:ext cx="23623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9144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60948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ponujemy stochastyczną regułę </a:t>
            </a:r>
            <a:br>
              <a:rPr sz="2400"/>
            </a:br>
            <a:r>
              <a:rPr b="0" i="1" lang="pl-PL" sz="28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 Near Surrounding Neighbor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NSN)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tóra optymalizuje oba kryteria używane przez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2133720"/>
            <a:ext cx="8077320" cy="37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gory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-NSN(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najdź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centrowanych sąsiadów (NCN)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1.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próbk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ętli próbuj zastępować losowego sąsiada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losową próbką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ze zbioru odniesienia, o ile jest ona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położona bliżej próbk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iż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jeśli środek ciężkośc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nowego układu sąsiadów leży bliżej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iż przed zamian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C20-A9C1-495F-B88B-23E8B148D7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4572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Wyniki tes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106640"/>
            <a:ext cx="769608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Arial"/>
              </a:rPr>
              <a:t>zbiory dan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dzenie ferrytow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kontrola jakości w zakładach Polfer w W-w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903 próbki, 30 cech, 8 kl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0 losowych partycji na zb. uczący (1400 próbek)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testowy (4503 próbk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ęć zbiorów dany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University of California, Irvine (UCI)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Bupa, Glass, Iris, Pima, Win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-krotna walidacja skroś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zystkie dane postandaryzowa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tryka miejs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15C-F492-4CF3-8FB3-0E02DEBF0E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Zbiór Iris w rzucie dwuwymiarowym (cechy 3 i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1828800"/>
          <a:ext cx="7619760" cy="287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2392200"/>
            <a:ext cx="914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3AE-6AC3-40BD-A773-1D1CDF854E8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45720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łędy [%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zbiorach U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5943600" cy="244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676520" y="1143000"/>
            <a:ext cx="6777000" cy="2463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23880" y="4572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Wyniki testów, c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8288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Błędy [%]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zbiorz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er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2743200"/>
            <a:ext cx="198108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3886200"/>
            <a:ext cx="2590920" cy="4557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25A-945A-43BA-9CE8-9B8FEA86A4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52480" y="3581280"/>
            <a:ext cx="64008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35053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a50021"/>
                </a:solidFill>
                <a:latin typeface="Arial"/>
                <a:ea typeface="Times New Roman"/>
              </a:rPr>
              <a:t>Klasyfikator </a:t>
            </a:r>
            <a:r>
              <a:rPr b="0" i="1" lang="de-DE" sz="3200" spc="-1" strike="noStrike">
                <a:solidFill>
                  <a:srgbClr val="a50021"/>
                </a:solidFill>
                <a:latin typeface="Arial"/>
                <a:ea typeface="Times New Roman"/>
              </a:rPr>
              <a:t>voting k</a:t>
            </a:r>
            <a:r>
              <a:rPr b="0" lang="de-DE" sz="3200" spc="-1" strike="noStrike">
                <a:solidFill>
                  <a:srgbClr val="a50021"/>
                </a:solidFill>
                <a:latin typeface="Arial"/>
                <a:ea typeface="Times New Roman"/>
              </a:rPr>
              <a:t>-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962520"/>
            <a:ext cx="8763120" cy="32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ginalna reguł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N korzysta z jednej wartośc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ybierane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wykle przy pomocy metody minus jednego elemen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d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ymowana optymalna war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arametr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ie musi gwarantow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ajlepszej ja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 w zadan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mała przestrzeń możliwych mode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nowany klasyfikator zwiększa przestrzeń rozpatrywanych model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ygładza granice decyzy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80880"/>
            <a:ext cx="57150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, iż słyszeliście jakąś rzecz nie powinno być jeszcze prawidłem waszego wierzenia; tak dalece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ż nie powinniście w nic uwierzyć nie wprawiwszy się wprzód w taki stan, jak gdybyście nigdy tego nie usłysze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 Pascal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057400"/>
            <a:ext cx="8382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rgumentowano w szeroko cytowanej pracy (Breiman, 1996)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ż klasyfikatorów minimalnoodległościowych (NN) nie można pomyślnie wykorzystać w schematach sieciowych z uwagi na ich stabiln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prawdy.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0EE-B541-4139-AB85-83C4F2477B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8381880" cy="304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3880" y="40384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łosowanie 3 klasyfikatorów typu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716256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nalogiczne schematy z głosowaniem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proponowaliśmy dla reguł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S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eciwieństwie do większości klasyfikatorów równoległych, </a:t>
            </a: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strat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prędkości klasyfik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tosunku do „pojedynczego” klasyfikatora jest </a:t>
            </a: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umiarkowa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w przypadku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voting 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N </a:t>
            </a: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zaniedbywal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3808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Klasyfikator </a:t>
            </a:r>
            <a:r>
              <a:rPr b="0" i="1" lang="pl-PL" sz="2800" spc="-1" strike="noStrike">
                <a:solidFill>
                  <a:srgbClr val="a50021"/>
                </a:solidFill>
                <a:latin typeface="Arial"/>
              </a:rPr>
              <a:t>voting k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-NN, c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A19-0D31-4EC9-BAD8-6CA207FD70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990720"/>
            <a:ext cx="822960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roponowana rodzina klasyfikatorów kaskad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Cel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bry kompromis między jakości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czasem klasyfik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Idea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wie fazy klasyfikacji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pierwsze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azie klasyfikator szybszy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arty na głosowaniu (równoległy); jako kryterium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kazujące „łatwą” próbkę przyjęto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jednogłośn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ę zespołu komponentów z pierwszej fazy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drugie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azie wolny, lecz dokładny klasyfikator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np.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SN lub ich wersj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voti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A66-F027-4A06-A48C-7C22A1763F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80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Klasyfikatory minimalnoodległościowe: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guła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NN, jej warianty i klasyfikatory pokrew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76520"/>
            <a:ext cx="632484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Zalety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N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ptotyczna optymalność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zwyczaj dobra jakość w prakty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tota, podatność na modyfikac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ady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N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lna klasyfikacj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żliwość na zbędne cech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ła przestrzeń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ozpatrywanych mode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1523880"/>
            <a:ext cx="3047760" cy="132624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 typy klasyfikator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ci neuronow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zewa decyzy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k-NN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581280" cy="257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52880" y="5715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Klasyfikacja próbki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q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regułą 3-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BBB-03F7-44B9-8DAA-E3CF196A00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1384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640" y="685800"/>
            <a:ext cx="80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umy rang klasyfikatorów na pięciu zbiorach U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niejsze wartości są korzystniejs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5562360" cy="493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4495680"/>
            <a:ext cx="5867640" cy="1524240"/>
          </a:xfrm>
          <a:prstGeom prst="parallelogram">
            <a:avLst>
              <a:gd name="adj" fmla="val 96239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A45-7543-418D-9DFE-3DE105BEAB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324480" y="53352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182880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924680" y="182880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96252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962520"/>
            <a:ext cx="30456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15200" y="396252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28600"/>
            <a:ext cx="8839080" cy="58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odsumowanie i wnio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niskich wymiarach możliwe jest szukanie najbliższego sąsiad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czasie subliniowym w liczności zbioru w najgorszym przypadku; prezentowany algorytm dopuszcza użycie współczynnika kompromisu między szybkością szukania a kosztem wstępnej obrób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kalny wybór zredukowanego zbioru odniesienia oferuj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ższą jakość klasyfikacji niż klasyfikatory opart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pojedynczym zbiorze zredukowanym (podejście klasyczn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metryczne sąsiedztwo” to nowy sposób poprawy jak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rodzinie klasyfikatorów minimalnoodległościowych.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prezentowana reguł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SN optymalizuje oba kryter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żywane w klasyfikatorze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C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żliwa jest wersja reguły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N z wieloma wartościam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wyższa jakość klasyfikacji za cenę minimalnego spowolnien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cepcje z p. 3 i 4 pozwalają na projektowanie klasyfikatorów kaskadowych o korzystnych relacjach szybkości do jakości klasyfik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09B-3DD8-4F5C-B13F-5205BDD14C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920" y="746280"/>
            <a:ext cx="8839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lany na przyszłość (m. in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ksperymenty z doborem parametrów dla schematu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 lokalnym wyborem zbioru odniesienia (metoda klasteryzacji,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liczba klastrów, wielkość każdego zbioru zredukowanego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ozważenie zmiany strategii uczenia w algorytmie Skalak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miar jakości poszczególnych klasyfikatorów składow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 klasyfikatorach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N,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SN (postrzeganych jak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klasyfikatory równoległe), a także korelacji między nimi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szerzenie zaproponowanej rodziny klasyfikatorów kaskadow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(np. wprowadzenie algorytmów trójetapowych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0AE-CF90-4132-9FD9-04F44CD5ED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533520"/>
            <a:ext cx="8001000" cy="53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Lit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ministic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ct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est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bor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ch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Manhattan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I Konferencja „Komputerowe System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poznawania”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Y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iłków k/Karpacza, maj 2001, str. 375–379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s with the k-NCN decision rul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X Konferencj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Sieci i Systemy Informatyczne”, Łódź, październik 2001, str. 307–317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over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ple k-NN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sifier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IEEE Conference TCSET’2002, Lviv-Slavsk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kra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ty 2002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223–225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lny wybór zredukowanego zbioru odniesieni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ium nt. „Przetwarzanie i analiza sygnałów w systemach wizji i sterowania”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łok k/Bełchatowa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erwiec 2002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.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142–147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, 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M. Baranowsk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cja algorytmu szybkiego deterministycznego szukania najbliższego sąsiada w metryce miejskie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erencj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Sieci i Systemy Informatyczne”, Łódź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aździernik 2002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499–5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714-AF3E-49FD-AFE3-B014C8E9FF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09480" y="533520"/>
            <a:ext cx="80010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Literatura, c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mily of cascade NN-like classifier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International IEEE Conference on Experience of Designing and Application of CAD Systems in Microelectronics (CADSM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viv–Slavsk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kra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ty 2003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503–506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,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 A. Jóźwik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t reduction for nearest neighbor classifiers under different speed requirement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International IEEE Conference on Experience of Designing and Application of CAD Systems in Microelectronics (CADSM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viv–Slavsk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kra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ty 2003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465–46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,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 B. Sokołowsk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over multiple k-NN and k-NCN classifiers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etection of respiration patholog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onferencja „Komputerowe Systemy Rozpoznawania” (KOSYR 2003), Miłków k/Karpacza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j 2003, str. 363–36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owards decision rule based on closer symmetric neighborhoo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iocybernetics and Biomedical Engineering,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Vol. 23, No. 3, lipiec 2003, str. 39–4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,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 A. Jóźwik, C.-H. Che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earest neighbor decision rule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for pixel classification in remote sens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rozdział monografii „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iers of Remote Sensing Info Processing”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Patt, World Scientific Publishing Co. Pte. Ltd., Singapu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lipiec 200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B21-4FBB-4782-9F2B-9F85A098F57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8080" y="1295280"/>
            <a:ext cx="7543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zęść prac wykonywanych było w ramach grantu NATO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tyczącego analizy zdjęć lotniczych (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remote sensing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ierownik: prof. C.-H. Chen z N.Dartmouth Coll., MA, USA,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spółwykonawcy: dr A. Jóźwik, Sz. Grabows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airhaven, czerwiec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Fairhaven%20-%20prof%20Chen,%20dr%20Jozwik%20and%20SzG-cropped" descr=""/>
          <p:cNvPicPr/>
          <p:nvPr/>
        </p:nvPicPr>
        <p:blipFill>
          <a:blip r:embed="rId2"/>
          <a:stretch/>
        </p:blipFill>
        <p:spPr>
          <a:xfrm>
            <a:off x="2209680" y="3124080"/>
            <a:ext cx="4462560" cy="257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DA5-6CE1-471B-A77E-E6822FA0DC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136600" y="682560"/>
          <a:ext cx="4869000" cy="549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6600" y="682560"/>
                    <a:ext cx="486900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79F-5D23-4903-9C31-AAA522F4E8D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762120"/>
            <a:ext cx="8077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Zgodność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consistency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) zbioru zredukowanego </a:t>
            </a:r>
            <a:br>
              <a:rPr sz="2400"/>
            </a:b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z oryginalnym zbiorem odniesienia (def.)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prawna klasyfikacja wszystkich próbe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oryginalnego zbio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50532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ększość algorytmów redukcji gwarantuje zgodność zbioru zredukowanego ze zbiorem oryginalny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y zgodność jest „dobrym” kryteri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509-7BEB-4567-A9D8-12D964082D6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Kilka faktów dotyczących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N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06668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na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at bada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formułowanie problemu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sky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t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dal daleko do satysfakcjonujących algorytmó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wiele algorytmów z subliniowy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asem szuk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w najgorszym przypadk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kleństwo wymiarowości” („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curse of dimensionalit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32004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Przybliżone szukanie najbliższego sąsiada</a:t>
            </a:r>
            <a:br>
              <a:rPr sz="2800"/>
            </a:br>
            <a:r>
              <a:rPr b="0" lang="pl-PL" sz="22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Approximate Nearest Neighbor Search (A-NNS)</a:t>
            </a:r>
            <a:r>
              <a:rPr b="0" lang="pl-PL" sz="2200" spc="-1" strike="noStrike">
                <a:solidFill>
                  <a:srgbClr val="a50021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724280"/>
            <a:ext cx="487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„prawdziwy” najbliższy sąsiad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5181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1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ersja oryginalna problemu (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exact NN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iecujące wyniki: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dyk i Motwani, 1998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ushilevitz i in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114800"/>
            <a:ext cx="601992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e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NN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la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q,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jeżel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724280" y="4114800"/>
                <a:ext cx="2590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5BF-EC44-4FEA-8956-EC7C6798579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610480" cy="2004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1143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Wyniki testów,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5812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Zbiór IRIS: 4 wymiary, 150 prób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2CA-FAD2-4EB1-A335-58A889DE254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200400"/>
            <a:ext cx="6248520" cy="3124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57200"/>
            <a:ext cx="6324480" cy="63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Główne kierunki modyfikacji reguły </a:t>
            </a:r>
            <a:r>
              <a:rPr b="1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-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dyfikacja metody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głosowan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np. ważon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N (Dudani, 197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dyfikacja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etykie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bioru uczącego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np. rozmyt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N z uczeniem (Jóźwik, 198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rzucanie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niepewnych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predykcj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Tomek, 1976; Jóźwik i in., 199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szybkie szukani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najbliższych sąsiadów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problem postawiony w: Minsky i Papert, 196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redukcj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bioru ucząc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Hart, 1968, i ok. 30 dalszych pra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chematy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równoległ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Skalak, 1997; Alpaydin, 1997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cepcja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symetrycznego sąsiedztw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udhur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96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chez i in., 1997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D40-928A-4B52-8D1F-60206E2E7E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overfitting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783560" cy="1854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144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Zjawisko przeuczenia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overfitting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4114800"/>
            <a:ext cx="83818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tórą płaszczyznę rozdzielającą klas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bioru uczącego należy wybrać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jedyncza odstająca od pozostałych (ang.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outly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 próbk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 znaczący wpływ na wyuczone granice decyzy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łaszczyzna (b) prawdopodobnie lepiej odpowiad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kładowi prawdopodobieństw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35812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żliwe hipotezy dla tego samego zbi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286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awdziwa inteligencja polega na tym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y wiedzieć kiedy przestać myśl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C2D-8B71-4E6B-B060-7F2BBAB5A20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abelka-Slok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5562720" cy="51861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556272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dzenie ferrytowe: liczności zbiorów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zredukowanych i błędy klasyf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685800"/>
            <a:ext cx="312408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Spostrzeże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epsza jakość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 braku redukcj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łabe wynik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arta i G-K (kryterium zgodności wątpliw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dyfikacja Skalaka przydatna przy agresywnej redukcj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y wybór zb. zred. poprawia jakość – zwłaszcza przy bardzo ostrych wymaganiach szybkościowy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chemata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lokalnych” mniejszy błąd przy silniejszej redukcji (!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FC9-B84D-42AD-8485-D61D875B9E8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685800"/>
            <a:ext cx="7543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Schematy dekompozycji zadania wielodecyzyj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óźwik-Vernazza, 198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reira-Mayoraz,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5257800" cy="2652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523880" y="48006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Zadanie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-decyzyjne, decyzja w wyniku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głosowania sieci dychotomize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638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chemat Moreiry-Mayoraza (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orrecting Classifier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— w głosowaniu uczestniczą tylko (przypuszczalnie) adekwatne klasyfikatory składow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2C1-D803-4943-8A0F-02C3A1F885D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590920" y="457200"/>
            <a:ext cx="6019560" cy="2448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2590920" y="2971800"/>
            <a:ext cx="6019560" cy="24717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28600" y="9144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łędy (%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o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C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SN (100, 50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2500 iteracj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 zbiorach U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33526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Odch. stand. (%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metod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N,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SN (100, 500 i 2500 iteracji)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zbiorach U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2DF-B418-4A60-81CC-2B550ABF1D3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248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14400" y="914400"/>
          <a:ext cx="7315200" cy="3621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914400"/>
                    <a:ext cx="73152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295280" y="487692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ne ferrytowe.  Średnia liczba najbliższych sąsiadów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 obrębie promienia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tego sąsiada NCN,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=3..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267080"/>
            <a:ext cx="2057400" cy="398880"/>
          </a:xfrm>
          <a:prstGeom prst="rect">
            <a:avLst/>
          </a:prstGeom>
          <a:solidFill>
            <a:srgbClr val="f6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siedz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762120"/>
            <a:ext cx="2057400" cy="398880"/>
          </a:xfrm>
          <a:prstGeom prst="rect">
            <a:avLst/>
          </a:prstGeom>
          <a:solidFill>
            <a:srgbClr val="f6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siedz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CF6-C1AB-4CFE-A388-99272BF0A34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14400" y="685800"/>
            <a:ext cx="739152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Wniosk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SN oferują wyższą jakość klasyfikacj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ż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N;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SN średnio lepsz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kompozycja zadania wielodecyzyjnego atrakcyjną techniką poprawy jakośc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schemat M-M przeważnie lepsz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to uwzględniać nie tylko bliskość sąsiadów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e i „kształt” ich układ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koncepcja symetrycznego sąsiedztw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DAC-6D1A-4374-B73E-428E29452D7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09480" y="762120"/>
            <a:ext cx="7925040" cy="55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Algorytm </a:t>
            </a:r>
            <a:r>
              <a:rPr b="0" i="1" lang="pl-PL" sz="2800" spc="-1" strike="noStrike">
                <a:solidFill>
                  <a:srgbClr val="a50021"/>
                </a:solidFill>
                <a:latin typeface="Arial"/>
              </a:rPr>
              <a:t>voting k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-N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Arial"/>
              </a:rPr>
              <a:t>Faza ucze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ziel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krotnie zbiór uczący na losowe połowy;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 każdym przypadku jedna połowa zbioru będzie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biorem konstrukcyjnym, zaś druga walidacyjny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najdź optymalne wartości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=1..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dla każdego zbioru konstrukcyjneg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 estymacją błędu na odpowiednim zbiorze walidacyjny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Arial"/>
              </a:rPr>
              <a:t>Faza klasyfikac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klasyfikuj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krotnie próbkę testową przy użyciu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reguły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N,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=1..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i otrzymaj finalną decyzję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 wyniku prostego głosowan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ED9-00CD-4BD7-B65C-1EB102D0149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0880" y="990720"/>
            <a:ext cx="45720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Konkretne algoryt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Skalak) +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C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C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S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C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S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4191120" cy="2405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62520" y="4800600"/>
            <a:ext cx="4876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óbka testowa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 b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opraw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zypisana do klasy „krz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ków”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zez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szystk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lasyfikatory s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owe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i="1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NN, o ile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i="1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≥ 3,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..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14479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Zaleta użycia metody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voting k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-NN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w pierwszej fazie klasyfikatora kaskad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EC9-9E0E-45F9-98A6-0B3C8E69D0C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514600" y="1447920"/>
            <a:ext cx="4495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Konkretne algorytm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kalak) +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C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S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C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S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3F4-CA39-481F-A042-89F7889DE57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228600"/>
            <a:ext cx="883908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lany na przyszłość (m. in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erymentować z doborem parametrów dla schematu z lokalnym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wyborem zbioru odniesienia (metoda klasteryzacji, liczba klastrów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wielkość każdego zbioru zredukowaneg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ważyć zmianę strategii uczenia w algorytmie Skalaka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Oryginalny algorytm genetyczny, z racji stosowania tylko jednego operator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genetycznego (mutacja), może mieć trudności z wyjściem z lokalnego minim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erzyć jakość poszczególnych klasyfikatorów składowych w klasyfikator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N,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SN (postrzeganych jako klasyfikatory równoległe)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a także korelację między nim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implementować „brakujące” połączenia opisywanych schemat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z algorytmami dekompozycyjnymi dla zadań wielodecyzyjnych.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Rozważyć użycie selekcji cech dla podzadań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analizować skuteczność techniki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voting 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N przy różnych liczebności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zespołu komponentów i różnych metodach podziału zbioru ucząc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na część konstrukcyjną i walidacyjną.  Wziąć pod uwagę możliwy schema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z ważonym głosowaniem, np. w duchu idei Grossmana i Williamsa (1999)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dla schematu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bagging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0C2-33C6-4A7A-BD24-F3009A493F4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04920"/>
            <a:ext cx="80010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a50021"/>
                </a:solidFill>
                <a:latin typeface="Arial"/>
              </a:rPr>
              <a:t>Tezy rozprawy doktorsk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W niskich wymiarach (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5) możliwe jest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znajdowanie najbliższego sąsiada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w deterministycznym subliniowym czasie w metryce miejskiej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Lokalny wybór zredukowanego zbioru odniesienia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rowadzi do osiągnięcia wyższej jakości klasyfikacji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niż oferowana przez pojedynczy zbiór zredukowany,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zwłaszcza przy bardzo wysokich wymaganiach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szybkościowych nałożonych na klasyfikację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liwe jest stworzenie równoleg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j sieci klasyfikatoró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ypu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iadó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, os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gaj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ej wy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z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jak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predykcji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klasyfikator bazowy przy umiarkowanym spowolnieniu klasyfikacji, um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liwiaj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ej ponadto, w p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zeniu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z koncepc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j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tzw. symetrycznego 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iedztwa,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owanie klasyfikatorów kaskadowych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o korzystnych relacjach szybk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i do jak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i klasyfikacji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7D5-EB43-4715-8ED9-DADD4311B5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914400"/>
            <a:ext cx="830592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Zbiory UCI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biory nal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 repozytorium Uniwersytetu Kalifornijskiego w Irv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achine Learning Repository, University of California, Irvine) (Merz i Murphy, 199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owszechnie wykorzystywane w literaturze przedmio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p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wykrywania schorz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oby w populacji 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kiej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w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nych z nad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waniem alkoholu.  P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ierwszych cech to wyniki testów krwi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tomiast ostatnia cecha to liczba jednostek alkoholu przyjmowany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dnio w c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u doby przez badanego 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zyz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Glas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próbek 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ó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ych rodzajów sz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(okienne, samochodowe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dentyfikowanych na podstawie zawart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ok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nych pierwiastków chemiczny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. in. krzemu, sodu i wapnia).  Zbiór zgromadzony przez kryminologó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 Home Office Forensic Science Service w Reading w Wielkiej Brytani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ri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próbek trzech podgatunków kos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a, klasyfikowanych na podstawie czterech geometrycznych cech (d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g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 szerok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a oraz d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g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 szerok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ka r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ny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biór zost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popularyzowany przez Fishera (1936)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8EE-09CA-40E0-BD99-ECFEC47A6F6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914400"/>
            <a:ext cx="83059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Zbiory UCI, c.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im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odnos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s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 zadania rozpoznania symptomów cukrzyc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 oparciu o kryteria przy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 przez Świato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rganizac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drowia (WHO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ne zost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zgromadzone na podstawie bad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opulacji Indian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 plemienia Pima (okolice Phoenix w Arizonie, US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n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rozpoznania jednego z trzech gatunków win 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ski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 podstawie cech wyekstrahowanych w wyniku analizy chemicznej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B1B-4FAF-4997-AF19-8CAB8CAC488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914400"/>
            <a:ext cx="830592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Inne zbi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errite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kontroli jak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rdzeni ferrytowyc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tóre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produkowane w za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ach Polfer w Warszawie.  Obraz danego rdzenia analizowany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iksel po pikslu, a zatem obiektami two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mi zbió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ojedyncze piksle obrazu powierzchni rdzenia.  Wyr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one klasy stwierdza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zy dany piksel nal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do dobrej (nieuszkodzonej) 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rdzenia, do 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zy t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 jednego z sz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u rodzajów defektów.  Cechy opisu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 k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y pik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yekstrahowane 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 jego 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edztwa (histogram jasn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i momenty r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ych stopn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chy zost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dobrane w taki sposób, aby ich wart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w niewielkim tylko stopni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mieni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s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zy obrotach danego rdzenia ferrytowego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o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ny opis zbioru zawiera praca (Nieniewski i in., 199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D6F-566D-4DE5-B317-E3EA95655A26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57200" y="914400"/>
            <a:ext cx="830592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Inne zbiory, c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motes —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biór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detekcji obiektów (pól upraw) na zd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ach lotniczych wykonanych w rejonie Feltwell w Wielkiej Brytanii.  Rozr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a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la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t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le uprawne marchwi, ziemniaka, buraka cukrowego, pszenicy oraz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cierń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chy opisu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 obiekty pozyskiwane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z dwóch sensorów: optycznego i radarowego.  Zbiór ten opisany zost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bardziej szczeg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wo w pracach (Roli, 1996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(Grabowski i in., 2003).  Dane niniejsze wykorzystywane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w grancie NA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r PST.CLG.977258 (2001–2002)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m zastosow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eparametrycznych metod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ozpoznawania obrazów w aplikacjach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mote sensing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tórego kierownikiem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of. C.-H. Chen z N. Dartmouth Coll., MA, US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wsp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ykonawcami dr Adam J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k i autor niniejszej rozprawy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73B-0055-43E9-B85D-4B6BAC7F7F1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533520" y="1523880"/>
            <a:ext cx="7924320" cy="3981600"/>
            <a:chOff x="533520" y="1523880"/>
            <a:chExt cx="7924320" cy="3981600"/>
          </a:xfrm>
        </p:grpSpPr>
        <p:grpSp>
          <p:nvGrpSpPr>
            <p:cNvPr id="305" name=""/>
            <p:cNvGrpSpPr/>
            <p:nvPr/>
          </p:nvGrpSpPr>
          <p:grpSpPr>
            <a:xfrm>
              <a:off x="541080" y="1526400"/>
              <a:ext cx="7907400" cy="3975480"/>
              <a:chOff x="541080" y="1526400"/>
              <a:chExt cx="7907400" cy="397548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541080" y="1526400"/>
                <a:ext cx="2340720" cy="496800"/>
                <a:chOff x="541080" y="1526400"/>
                <a:chExt cx="2340720" cy="4968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5960" y="1526400"/>
                  <a:ext cx="21909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biór danyc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1080" y="1526400"/>
                  <a:ext cx="2340720" cy="4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2882160" y="1526400"/>
                <a:ext cx="1854720" cy="496800"/>
                <a:chOff x="2882160" y="1526400"/>
                <a:chExt cx="1854720" cy="4968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957400" y="1526400"/>
                  <a:ext cx="170424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czba kl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882160" y="1526400"/>
                  <a:ext cx="1854720" cy="4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737600" y="1526400"/>
                <a:ext cx="1855440" cy="496800"/>
                <a:chOff x="4737600" y="1526400"/>
                <a:chExt cx="1855440" cy="4968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812840" y="1526400"/>
                  <a:ext cx="170424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czba cec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737600" y="1526400"/>
                  <a:ext cx="1855440" cy="4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593760" y="1526400"/>
                <a:ext cx="1854720" cy="496800"/>
                <a:chOff x="6593760" y="1526400"/>
                <a:chExt cx="1854720" cy="4968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8280" y="1526400"/>
                  <a:ext cx="170424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czba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óbe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593760" y="1526400"/>
                  <a:ext cx="1854720" cy="4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41080" y="2023200"/>
                <a:ext cx="2340720" cy="386280"/>
                <a:chOff x="541080" y="2023200"/>
                <a:chExt cx="2340720" cy="3862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5960" y="202320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p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1080" y="202320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882160" y="2023200"/>
                <a:ext cx="1854720" cy="386280"/>
                <a:chOff x="2882160" y="2023200"/>
                <a:chExt cx="1854720" cy="386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957400" y="20232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882160" y="20232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737600" y="2023200"/>
                <a:ext cx="1855440" cy="386280"/>
                <a:chOff x="4737600" y="2023200"/>
                <a:chExt cx="1855440" cy="3862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812840" y="20232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737600" y="202320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6593760" y="2023200"/>
                <a:ext cx="1854720" cy="386280"/>
                <a:chOff x="6593760" y="2023200"/>
                <a:chExt cx="1854720" cy="3862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668280" y="20232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593760" y="20232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41080" y="2409480"/>
                <a:ext cx="2340720" cy="386280"/>
                <a:chOff x="541080" y="2409480"/>
                <a:chExt cx="2340720" cy="3862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15960" y="240948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las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41080" y="240948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2882160" y="2409480"/>
                <a:ext cx="1854720" cy="386280"/>
                <a:chOff x="2882160" y="2409480"/>
                <a:chExt cx="1854720" cy="3862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957400" y="24094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82160" y="240948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737600" y="2409480"/>
                <a:ext cx="1855440" cy="386280"/>
                <a:chOff x="4737600" y="2409480"/>
                <a:chExt cx="1855440" cy="3862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812840" y="24094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737600" y="240948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6593760" y="2409480"/>
                <a:ext cx="1854720" cy="386280"/>
                <a:chOff x="6593760" y="2409480"/>
                <a:chExt cx="1854720" cy="386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668280" y="24094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3760" y="240948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41080" y="2796120"/>
                <a:ext cx="2340720" cy="386640"/>
                <a:chOff x="541080" y="2796120"/>
                <a:chExt cx="2340720" cy="3866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15960" y="2796120"/>
                  <a:ext cx="2190960" cy="38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ri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41080" y="2796120"/>
                  <a:ext cx="2340720" cy="38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2882160" y="2796120"/>
                <a:ext cx="1854720" cy="386640"/>
                <a:chOff x="2882160" y="2796120"/>
                <a:chExt cx="1854720" cy="3866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957400" y="2796120"/>
                  <a:ext cx="1704240" cy="38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882160" y="2796120"/>
                  <a:ext cx="1854720" cy="38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4737600" y="2796120"/>
                <a:ext cx="1855440" cy="386640"/>
                <a:chOff x="4737600" y="2796120"/>
                <a:chExt cx="1855440" cy="3866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812840" y="2796120"/>
                  <a:ext cx="1704240" cy="38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737600" y="2796120"/>
                  <a:ext cx="1855440" cy="38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593760" y="2796120"/>
                <a:ext cx="1854720" cy="386640"/>
                <a:chOff x="6593760" y="2796120"/>
                <a:chExt cx="1854720" cy="3866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8280" y="2796120"/>
                  <a:ext cx="1704240" cy="38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93760" y="2796120"/>
                  <a:ext cx="1854720" cy="38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41080" y="3182760"/>
                <a:ext cx="2340720" cy="386280"/>
                <a:chOff x="541080" y="3182760"/>
                <a:chExt cx="2340720" cy="3862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15960" y="318276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im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41080" y="318276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882160" y="3182760"/>
                <a:ext cx="1854720" cy="386280"/>
                <a:chOff x="2882160" y="3182760"/>
                <a:chExt cx="1854720" cy="38628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957400" y="31827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882160" y="318276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4737600" y="3182760"/>
                <a:ext cx="1855440" cy="386280"/>
                <a:chOff x="4737600" y="3182760"/>
                <a:chExt cx="1855440" cy="3862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4812840" y="31827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737600" y="318276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593760" y="3182760"/>
                <a:ext cx="1854720" cy="386280"/>
                <a:chOff x="6593760" y="3182760"/>
                <a:chExt cx="1854720" cy="38628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6668280" y="31827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6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3760" y="318276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1080" y="3569400"/>
                <a:ext cx="2340720" cy="386280"/>
                <a:chOff x="541080" y="3569400"/>
                <a:chExt cx="2340720" cy="3862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15960" y="356940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1080" y="356940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882160" y="3569400"/>
                <a:ext cx="1854720" cy="386280"/>
                <a:chOff x="2882160" y="3569400"/>
                <a:chExt cx="1854720" cy="3862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957400" y="35694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882160" y="35694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737600" y="3569400"/>
                <a:ext cx="1855440" cy="386280"/>
                <a:chOff x="4737600" y="3569400"/>
                <a:chExt cx="1855440" cy="3862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812840" y="35694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737600" y="356940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593760" y="3569400"/>
                <a:ext cx="1854720" cy="386280"/>
                <a:chOff x="6593760" y="3569400"/>
                <a:chExt cx="1854720" cy="3862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668280" y="35694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593760" y="35694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541080" y="3956040"/>
                <a:ext cx="2340720" cy="386280"/>
                <a:chOff x="541080" y="3956040"/>
                <a:chExt cx="2340720" cy="3862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615960" y="395604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rri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41080" y="395604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882160" y="3956040"/>
                <a:ext cx="1854720" cy="386280"/>
                <a:chOff x="2882160" y="3956040"/>
                <a:chExt cx="1854720" cy="3862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957400" y="395604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82160" y="395604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4737600" y="3956040"/>
                <a:ext cx="1855440" cy="386280"/>
                <a:chOff x="4737600" y="3956040"/>
                <a:chExt cx="1855440" cy="3862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812840" y="395604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737600" y="395604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593760" y="3956040"/>
                <a:ext cx="1854720" cy="386280"/>
                <a:chOff x="6593760" y="3956040"/>
                <a:chExt cx="1854720" cy="3862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8280" y="395604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90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593760" y="395604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541080" y="4342680"/>
                <a:ext cx="2340720" cy="386280"/>
                <a:chOff x="541080" y="4342680"/>
                <a:chExt cx="2340720" cy="386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15960" y="434268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rritesOl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41080" y="434268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882160" y="4342680"/>
                <a:ext cx="1854720" cy="386280"/>
                <a:chOff x="2882160" y="4342680"/>
                <a:chExt cx="1854720" cy="3862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2957400" y="43426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882160" y="434268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4737600" y="4342680"/>
                <a:ext cx="1855440" cy="386280"/>
                <a:chOff x="4737600" y="4342680"/>
                <a:chExt cx="1855440" cy="386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812840" y="43426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737600" y="434268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6593760" y="4342680"/>
                <a:ext cx="1854720" cy="386280"/>
                <a:chOff x="6593760" y="4342680"/>
                <a:chExt cx="1854720" cy="3862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668280" y="43426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8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593760" y="434268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41080" y="4728960"/>
                <a:ext cx="2340720" cy="386280"/>
                <a:chOff x="541080" y="4728960"/>
                <a:chExt cx="2340720" cy="3862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15960" y="472896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B8.PA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41080" y="472896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2882160" y="4728960"/>
                <a:ext cx="1854720" cy="386280"/>
                <a:chOff x="2882160" y="4728960"/>
                <a:chExt cx="1854720" cy="3862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2957400" y="47289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882160" y="472896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4737600" y="4728960"/>
                <a:ext cx="1855440" cy="386280"/>
                <a:chOff x="4737600" y="4728960"/>
                <a:chExt cx="1855440" cy="3862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4812840" y="47289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737600" y="472896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593760" y="4728960"/>
                <a:ext cx="1854720" cy="386280"/>
                <a:chOff x="6593760" y="4728960"/>
                <a:chExt cx="1854720" cy="3862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668280" y="47289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29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593760" y="472896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541080" y="5115600"/>
                <a:ext cx="2340720" cy="386280"/>
                <a:chOff x="541080" y="5115600"/>
                <a:chExt cx="2340720" cy="3862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15960" y="511560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mo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41080" y="511560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882160" y="5115600"/>
                <a:ext cx="1854720" cy="386280"/>
                <a:chOff x="2882160" y="5115600"/>
                <a:chExt cx="1854720" cy="3862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2957400" y="51156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882160" y="51156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4737600" y="5115600"/>
                <a:ext cx="1855440" cy="386280"/>
                <a:chOff x="4737600" y="5115600"/>
                <a:chExt cx="1855440" cy="38628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4812840" y="51156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737600" y="511560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593760" y="5115600"/>
                <a:ext cx="1854720" cy="386280"/>
                <a:chOff x="6593760" y="5115600"/>
                <a:chExt cx="1854720" cy="38628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8280" y="51156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12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593760" y="51156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6" name=""/>
            <p:cNvSpPr/>
            <p:nvPr/>
          </p:nvSpPr>
          <p:spPr>
            <a:xfrm>
              <a:off x="533520" y="1523880"/>
              <a:ext cx="7924320" cy="3981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762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harakterystyka użytych zbiorów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FB3-00D8-460B-AC52-48257E806D0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1676520" y="1447920"/>
            <a:ext cx="5715000" cy="4757760"/>
            <a:chOff x="1676520" y="1447920"/>
            <a:chExt cx="5715000" cy="4757760"/>
          </a:xfrm>
        </p:grpSpPr>
        <p:sp>
          <p:nvSpPr>
            <p:cNvPr id="430" name=""/>
            <p:cNvSpPr/>
            <p:nvPr/>
          </p:nvSpPr>
          <p:spPr>
            <a:xfrm>
              <a:off x="1676520" y="18410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9600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7652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19600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4544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6492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4544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6492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1436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4200" y="18410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1436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3420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3280" y="18410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0276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8328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0276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52560" y="18410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7204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5256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7204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96000" y="3020760"/>
              <a:ext cx="19483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76520" y="302076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64920" y="3020760"/>
              <a:ext cx="90900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34200" y="3020760"/>
              <a:ext cx="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4793400" y="3020760"/>
              <a:ext cx="90900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923720" y="3020760"/>
              <a:ext cx="19483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64920" y="3807000"/>
              <a:ext cx="2207880" cy="30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łosowanie większościow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34200" y="4200480"/>
              <a:ext cx="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14360" y="47246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34200" y="47246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14360" y="52488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34200" y="52488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0432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7540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4432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1324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8252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4440" y="5812560"/>
              <a:ext cx="1558440" cy="39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cyzja końcow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14400" y="5335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Realizacja funkcji XOR przy pomocy sieci klasyfikatorów 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z prostym głosowan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1C9-E738-4D0C-BA2F-F3B8B87DA1B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1752480" y="2286000"/>
            <a:ext cx="4876920" cy="838080"/>
            <a:chOff x="1752480" y="2286000"/>
            <a:chExt cx="4876920" cy="838080"/>
          </a:xfrm>
        </p:grpSpPr>
        <p:sp>
          <p:nvSpPr>
            <p:cNvPr id="471" name=""/>
            <p:cNvSpPr/>
            <p:nvPr/>
          </p:nvSpPr>
          <p:spPr>
            <a:xfrm>
              <a:off x="1752480" y="2286000"/>
              <a:ext cx="4876920" cy="8380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86000" y="2362320"/>
              <a:ext cx="358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4000" spc="-1" strike="noStrike">
                  <a:solidFill>
                    <a:srgbClr val="3333cc"/>
                  </a:solidFill>
                  <a:latin typeface="Arial Black"/>
                </a:rPr>
                <a:t>TEZA 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304920" y="228600"/>
            <a:ext cx="8839080" cy="58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odsumowanie i wnio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niskich wymiarach możliwe jest szukanie najbliższego sąsiad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czasie subliniowym w liczności zbioru w najgorszym przypadku; prezentowany algorytm dopuszcza użycie współczynnika kompromisu między szybkością szukania a kosztem wstępnej obrób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kalny wybór zredukowanego zbioru odniesienia oferuj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ższą jakość klasyfikacji niż klasyfikatory opart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pojedynczym zbiorze zredukowanym (podejście klasyczn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metryczne sąsiedztwo” to nowy sposób poprawy jak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rodzinie klasyfikatorów minimalnoodległościowych.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prezentowana reguł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SN optymalizuje oba kryter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żywane w klasyfikatorze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C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żliwa jest wersja reguły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N z wieloma wartościam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wyższa jakość klasyfikacji za cenę minimalnego spowolnien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cepcje z p. 3 i 4 pozwalają na projektowanie klasyfikatorów kaskadowych o korzystnych relacjach szybkości do jakości klasyfik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752480" y="1066680"/>
            <a:ext cx="4876920" cy="838440"/>
            <a:chOff x="1752480" y="1066680"/>
            <a:chExt cx="4876920" cy="838440"/>
          </a:xfrm>
        </p:grpSpPr>
        <p:sp>
          <p:nvSpPr>
            <p:cNvPr id="475" name=""/>
            <p:cNvSpPr/>
            <p:nvPr/>
          </p:nvSpPr>
          <p:spPr>
            <a:xfrm>
              <a:off x="2286000" y="1143000"/>
              <a:ext cx="358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4000" spc="-1" strike="noStrike">
                  <a:solidFill>
                    <a:srgbClr val="3333cc"/>
                  </a:solidFill>
                  <a:latin typeface="Arial Black"/>
                </a:rPr>
                <a:t>TEZA 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52480" y="1066680"/>
              <a:ext cx="4876920" cy="83844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752480" y="3657600"/>
            <a:ext cx="4876920" cy="2056680"/>
            <a:chOff x="1752480" y="3657600"/>
            <a:chExt cx="4876920" cy="2056680"/>
          </a:xfrm>
        </p:grpSpPr>
        <p:sp>
          <p:nvSpPr>
            <p:cNvPr id="479" name=""/>
            <p:cNvSpPr/>
            <p:nvPr/>
          </p:nvSpPr>
          <p:spPr>
            <a:xfrm>
              <a:off x="2286000" y="3844800"/>
              <a:ext cx="358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4000" spc="-1" strike="noStrike">
                  <a:solidFill>
                    <a:srgbClr val="3333cc"/>
                  </a:solidFill>
                  <a:latin typeface="Arial Black"/>
                </a:rPr>
                <a:t>TEZA 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52480" y="3657600"/>
              <a:ext cx="4876920" cy="20566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88D-ADAB-4AC6-8C9D-E829D84EBAC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1752480" y="609480"/>
            <a:ext cx="5352840" cy="1828800"/>
            <a:chOff x="1752480" y="609480"/>
            <a:chExt cx="5352840" cy="1828800"/>
          </a:xfrm>
        </p:grpSpPr>
        <p:grpSp>
          <p:nvGrpSpPr>
            <p:cNvPr id="482" name=""/>
            <p:cNvGrpSpPr/>
            <p:nvPr/>
          </p:nvGrpSpPr>
          <p:grpSpPr>
            <a:xfrm>
              <a:off x="1757160" y="612360"/>
              <a:ext cx="5343480" cy="1821600"/>
              <a:chOff x="1757160" y="612360"/>
              <a:chExt cx="5343480" cy="182160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1757160" y="612360"/>
                <a:ext cx="1781280" cy="607320"/>
                <a:chOff x="1757160" y="612360"/>
                <a:chExt cx="1781280" cy="6073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801440" y="61236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757160" y="612360"/>
                  <a:ext cx="178128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538440" y="612360"/>
                <a:ext cx="1780920" cy="607320"/>
                <a:chOff x="3538440" y="612360"/>
                <a:chExt cx="1780920" cy="60732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582720" y="61236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dpowie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D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poprawna 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538440" y="612360"/>
                  <a:ext cx="178092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319360" y="612360"/>
                <a:ext cx="1781280" cy="607320"/>
                <a:chOff x="5319360" y="612360"/>
                <a:chExt cx="1781280" cy="60732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364000" y="61236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dpowie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D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ł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ę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na (0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319360" y="612360"/>
                  <a:ext cx="178128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1757160" y="1219680"/>
                <a:ext cx="1781280" cy="607320"/>
                <a:chOff x="1757160" y="1219680"/>
                <a:chExt cx="1781280" cy="6073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1801440" y="121968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dpowie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D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poprawna 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757160" y="1219680"/>
                  <a:ext cx="178128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3538440" y="1219680"/>
                <a:ext cx="1780920" cy="607320"/>
                <a:chOff x="3538440" y="1219680"/>
                <a:chExt cx="1780920" cy="6073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582720" y="121968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538440" y="1219680"/>
                  <a:ext cx="178092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319360" y="1219680"/>
                <a:ext cx="1781280" cy="607320"/>
                <a:chOff x="5319360" y="1219680"/>
                <a:chExt cx="1781280" cy="6073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364000" y="121968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319360" y="1219680"/>
                  <a:ext cx="178128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757160" y="1827000"/>
                <a:ext cx="1781280" cy="606960"/>
                <a:chOff x="1757160" y="1827000"/>
                <a:chExt cx="1781280" cy="6069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801440" y="1827000"/>
                  <a:ext cx="1692360" cy="60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dpowie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D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ł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ę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na (0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757160" y="1827000"/>
                  <a:ext cx="1781280" cy="60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3538440" y="1827000"/>
                <a:ext cx="1780920" cy="606960"/>
                <a:chOff x="3538440" y="1827000"/>
                <a:chExt cx="1780920" cy="6069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582720" y="1827000"/>
                  <a:ext cx="1692360" cy="60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538440" y="1827000"/>
                  <a:ext cx="1780920" cy="60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5319360" y="1827000"/>
                <a:ext cx="1781280" cy="606960"/>
                <a:chOff x="5319360" y="1827000"/>
                <a:chExt cx="1781280" cy="60696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5364000" y="1827000"/>
                  <a:ext cx="1692360" cy="60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319360" y="1827000"/>
                  <a:ext cx="1781280" cy="60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0" name=""/>
            <p:cNvSpPr/>
            <p:nvPr/>
          </p:nvSpPr>
          <p:spPr>
            <a:xfrm>
              <a:off x="1752480" y="609480"/>
              <a:ext cx="5352840" cy="1828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1523880" y="25909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rawdopodobieństwa;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419720" y="3276720"/>
                <a:ext cx="2057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1219320" y="3581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półczynnik Yule’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2120" y="4537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półczynnik korel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657600" y="4267080"/>
                <a:ext cx="4495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396252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521000" y="5373720"/>
                <a:ext cx="2514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029200" y="5334120"/>
                <a:ext cx="14400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762120" y="6019920"/>
            <a:ext cx="74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g: C.A.Shipp &amp; L.I.Kuncheva, „Relationships between combination methods and measures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f diversity in combining classifiers”, Information Fusion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ol. 3, No. 2, str. 135–148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6FE-1C77-44A1-ABD2-4CD39846920D}" type="slidenum">
              <a:t>57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676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Szukanie najbliższego sąsiada </a:t>
            </a:r>
            <a:br>
              <a:rPr sz="3200"/>
            </a:b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(NNS – 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Nearest Neighbor Search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)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sky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t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ejście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biór P = {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} (dany „off-line”)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estrzeni X z funkcją odległośc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f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óbka testow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prezentowana „on-line”).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danie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dokonać takiej wstępnej obróbki zbioru P, aby możliwe było szybkie znajdowanie najbliższego sąsiad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 P.  Przegląd zupełny (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brute for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 wymaga czasu O(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wymiar przestrzeni X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03848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Fakty:</a:t>
            </a:r>
            <a:br>
              <a:rPr sz="2800"/>
            </a:br>
            <a:br>
              <a:rPr sz="6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wiele alg. z subliniowym w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czasem szuk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w najgorszym przypadku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w wysokich wymiarach nadal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brak dobrych algorytmów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403848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Potrzeby:</a:t>
            </a:r>
            <a:br>
              <a:rPr sz="2800"/>
            </a:br>
            <a:br>
              <a:rPr sz="6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graniczenie z gór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czasu szukani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(możliwe w niskich wymiarach)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prostota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9DB-B775-4709-A04E-D35F84E5A7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08080" y="4876920"/>
            <a:ext cx="274320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4479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bkin i Lipton (1976), Yao i Yao (1985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garwal i Mato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k (1992), Mato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k (199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larkson (1988): wstępna obrób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ukanie 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eiser (1993): wstępna obrób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ukanie 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Algorytm proponowany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stępna obrób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ukanie 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współczynnik kompromi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Algorytmy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NNS 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z czasem szukania </a:t>
            </a:r>
            <a:br>
              <a:rPr sz="2800"/>
            </a:b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subliniowym w </a:t>
            </a:r>
            <a:r>
              <a:rPr b="0" i="1" lang="pl-PL" sz="2800" spc="-1" strike="noStrike">
                <a:solidFill>
                  <a:srgbClr val="a50021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57800" y="2286000"/>
                <a:ext cx="14749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d>
                              <m:dPr>
                                <m:begChr m:val="⌈"/>
                                <m:endChr m:val="⌉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257800" y="2819520"/>
                <a:ext cx="1946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029200" y="4114800"/>
                <a:ext cx="1371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029200" y="3581280"/>
                <a:ext cx="987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172200" y="4800600"/>
                <a:ext cx="1227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962520" y="5410080"/>
                <a:ext cx="3473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/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A66-19FC-43A4-BD65-68FBCDBB13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metryka miejska (Manhatta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895480" y="990720"/>
                <a:ext cx="33148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762120" y="22860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Kluczowa własność metryki miejskiej:</a:t>
            </a:r>
            <a:br>
              <a:rPr sz="28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 dowolnych punktów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62120" y="3276720"/>
                <a:ext cx="5973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162920" y="3276720"/>
                <a:ext cx="1179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743200" cy="2151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F73-0C3D-4C0B-855E-C337515E6A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5029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Jedna z próbek NN(v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)..NN(v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) jest najbliższym sasiadem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q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. Wierzchołek v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 jest (przypadkowo) miejscem położenia pewnej próbki (która jest oczywiście NN tego wierzchoł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1143000"/>
          <a:ext cx="10217160" cy="39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143000"/>
                    <a:ext cx="10217160" cy="39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533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Przykład dwuwy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2C7-775B-46E8-B818-4F698288E2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8:05:40Z</dcterms:created>
  <dc:creator>Szymon Grabowski</dc:creator>
  <dc:description/>
  <dc:language>en-US</dc:language>
  <cp:lastModifiedBy>Szymon Grabowski</cp:lastModifiedBy>
  <dcterms:modified xsi:type="dcterms:W3CDTF">2003-10-11T21:27:05Z</dcterms:modified>
  <cp:revision>167</cp:revision>
  <dc:subject/>
  <dc:title>Prezentacja programu PowerPoint</dc:title>
</cp:coreProperties>
</file>