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20.png" ContentType="image/png"/>
  <Override PartName="/ppt/media/image21.wmf" ContentType="image/x-wmf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8A11-2232-4366-B4E0-3E97D741190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distinction betwe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extracti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e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proponowanie wariantu </a:t>
            </a:r>
            <a:r>
              <a:rPr b="0" lang="pl-PL" sz="1200" spc="-1" strike="noStrike">
                <a:solidFill>
                  <a:srgbClr val="99cc00"/>
                </a:solidFill>
                <a:latin typeface="Arial"/>
              </a:rPr>
              <a:t>obliczeń ewolucyjnyc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do projektowania procedur ekstrakcji c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ytm ewolucyjny utrzymuje i modyfikuje zbiór (populację) roboczych rozwiązań (osobników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e rozwiązanie reprezentuje (koduje) konkretną procedurę ekstrakcji c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mulowana ewolucja tworzy nowe „pokolenia” rozwiązań o coraz lepszej jakoś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ość rozwiązania mierzona jego skutecznością (dopasowaniem, ang. 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fitnes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), tu: trafność klasyfikowania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chy charakterystyczne/trudnośc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sokie zaszumienie obraz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rak cech typu krawędź, płaszczyzna – obraz składa się praktycznie z odizolowanych pun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Zadanie: identyfikacja pojazd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 danych: Baz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TAR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ilkanaście typów pojazdów wojskowych Czołgi, transportery opancerzone, wozy bojowe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óżne azymuty, ok. 200-300 obrazów/pojaz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dzielczość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op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ąt elewacj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Active sen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korzystuje ruch obserwatora (samolot) oraz zjawisko Dopplera do polepszenia (kątowej) zdolności rozdzielczej (zwłaszcza w płaszczyźnie poziom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poznawanie oparte na cechach (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ture-based recognition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): brak bazy modeli rozpoznawanych obie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chy charakterystyczne/trudnośc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sokie zaszumienie obraz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rak cech typu krawędź, płaszczyzna – obraz składa się praktycznie z odizolowanych pun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Zadanie: identyfikacja pojazd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 danych: Baz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TAR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ilkanaście typów pojazdów wojskowych Czołgi, transportery opancerzone, wozy bojowe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óżne azymuty, ok. 200-300 obrazów/pojaz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dzielczość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op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ąt elewacj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Active sen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korzystuje ruch obserwatora (samolot) oraz zjawisko Dopplera do polepszenia (kątowej) zdolności rozdzielczej (zwłaszcza w płaszczyźnie poziom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poznawanie oparte na cechach (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ture-based recognition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): brak bazy modeli rozpoznawanych obie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cznie IR, ale u nas tego nie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ycyjnie: podejscia wektorowe + algorytmy numeryczne, raczej off-lin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ywacje; zle ustrukuralizowana informacja, specyfika przegladarek Interne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ot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zymy do przedstawiania struktury w wyszukanych dokument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y sie nie tylko jakosc grupowania ale tez opisy grup/skup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: STC, pracujacy na fraz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go Lepszy, choc to subiektyw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-sensitive learning, but with unknown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= 11 na 2004 + 14 na br. I kolej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e form życia, ewolucji i koewolucji, optymalizacji, percepcji środowis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wolucyjna synteza programów analizy i rozpoznawania obraz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jczęściej pewna wielkość agregatow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p. średnia jasność obszaru, ilościowa charakterystyka tekstury, stopień okrągłości obi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lasyfikator staje się częścią systemu rozpoznając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distinction betwe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extracti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e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7D11-80C1-46D3-A153-15B5F64EB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E9D3-E665-484C-8CC2-469FDDEB2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9B84-7CF7-4D69-ACBF-B90E5F1C5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276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184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276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B6E8-2B83-48E4-9102-15359FEAB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5811F-9657-4675-969B-1438D11B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CF7B5-A479-4A21-A60A-4C2C6AED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47E49-497D-4961-A72A-52354B8B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8C761-6990-4F3F-B997-96E2FB0B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32BCE-F6D0-4F66-B269-44A53062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9760" y="188640"/>
            <a:ext cx="848988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C3072-74EE-4188-8256-06BE9590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7658A-BD96-4001-997E-D227AEB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D4D5-68FC-435B-83E8-C3FDC4738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05902-790C-494C-823D-9D9DD727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8A12D-E78B-453C-9FE1-1FCB871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E35F-1537-4F1C-BB29-F989EB07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A8FB2-DB54-4489-A884-BCB1BA8B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276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184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276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00B69-E9C3-4568-A8E8-67ADBA5A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8F199-461E-4F48-8E50-47A90F4D4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7777-A3EC-4FC1-9DD4-6726584B2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209B-E132-40F1-BFFF-92731F82A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9760" y="188640"/>
            <a:ext cx="848988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0B85-42A3-496F-80CA-BA4441C76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F1A7-5645-4870-B0E9-4C3F44A00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B73C-2EFC-402D-AB45-97F06B898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7872-39C6-4C81-83F7-E54D29CAE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341360"/>
            <a:ext cx="842472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6453360"/>
            <a:ext cx="8496000" cy="0"/>
          </a:xfrm>
          <a:prstGeom prst="line">
            <a:avLst/>
          </a:prstGeom>
          <a:ln w="3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23640" y="6524280"/>
            <a:ext cx="7848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88000" y="6524280"/>
            <a:ext cx="576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C731-E926-43E4-BD11-6CF57E2E4584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524280"/>
            <a:ext cx="19051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266920" y="6524280"/>
            <a:ext cx="461016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524280"/>
            <a:ext cx="19051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AA24-5CB3-4A18-8433-7E01562C53F7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Algorytmy przekształcania reprezentacji danych dla systemów uczących si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85720" y="40604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akład Inteligentnych Systemów Wspomagania Decyzj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Instytut Informatyk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litechnika Poznańs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46200" y="3068640"/>
            <a:ext cx="849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64360" y="468936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66640" y="2760840"/>
            <a:ext cx="652644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nt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3 T11C 050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struktywna indukcja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9705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utomatyzacja konstrukcji cech poprzez włączenie jej w proces uczenia się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Jednoczesna konstrukc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dzy klasyfikacyjnej, 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ocedur ekstrakcji cec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iększość zastosowań dotyczy uczenia maszynoweg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597720" y="2438280"/>
            <a:ext cx="2438280" cy="2895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597720" y="1219320"/>
            <a:ext cx="2438280" cy="1447920"/>
            <a:chOff x="6597720" y="1219320"/>
            <a:chExt cx="2438280" cy="1447920"/>
          </a:xfrm>
        </p:grpSpPr>
        <p:sp>
          <p:nvSpPr>
            <p:cNvPr id="133" name=""/>
            <p:cNvSpPr/>
            <p:nvPr/>
          </p:nvSpPr>
          <p:spPr>
            <a:xfrm>
              <a:off x="6597720" y="12193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zykład/Obra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>
              <a:stCxn id="133" idx="2"/>
              <a:endCxn id="135" idx="0"/>
            </p:cNvCxnSpPr>
            <p:nvPr/>
          </p:nvCxnSpPr>
          <p:spPr>
            <a:xfrm flipV="1" rot="10800000">
              <a:off x="7816320" y="2209320"/>
              <a:ext cx="1080" cy="45792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6597720" y="5181120"/>
            <a:ext cx="2438280" cy="1371960"/>
            <a:chOff x="6597720" y="5181120"/>
            <a:chExt cx="2438280" cy="1371960"/>
          </a:xfrm>
        </p:grpSpPr>
        <p:sp>
          <p:nvSpPr>
            <p:cNvPr id="137" name=""/>
            <p:cNvSpPr/>
            <p:nvPr/>
          </p:nvSpPr>
          <p:spPr>
            <a:xfrm>
              <a:off x="6597720" y="55627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cyzja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ozpozna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"/>
            <p:cNvCxnSpPr>
              <a:stCxn id="139" idx="2"/>
              <a:endCxn id="137" idx="0"/>
            </p:cNvCxnSpPr>
            <p:nvPr/>
          </p:nvCxnSpPr>
          <p:spPr>
            <a:xfrm flipV="1" rot="10800000">
              <a:off x="7816320" y="5181120"/>
              <a:ext cx="1080" cy="38196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"/>
          <p:cNvGrpSpPr/>
          <p:nvPr/>
        </p:nvGrpSpPr>
        <p:grpSpPr>
          <a:xfrm>
            <a:off x="6826320" y="2666880"/>
            <a:ext cx="1981080" cy="990720"/>
            <a:chOff x="6826320" y="2666880"/>
            <a:chExt cx="1981080" cy="990720"/>
          </a:xfrm>
        </p:grpSpPr>
        <p:sp>
          <p:nvSpPr>
            <p:cNvPr id="135" name=""/>
            <p:cNvSpPr/>
            <p:nvPr/>
          </p:nvSpPr>
          <p:spPr>
            <a:xfrm>
              <a:off x="6826320" y="2666880"/>
              <a:ext cx="198108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ocedury ekstrakcji c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35" idx="2"/>
              <a:endCxn id="142" idx="0"/>
            </p:cNvCxnSpPr>
            <p:nvPr/>
          </p:nvCxnSpPr>
          <p:spPr>
            <a:xfrm flipV="1" rot="10800000">
              <a:off x="7816320" y="3352320"/>
              <a:ext cx="1080" cy="30564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6902280" y="3657600"/>
            <a:ext cx="1828800" cy="914400"/>
            <a:chOff x="6902280" y="3657600"/>
            <a:chExt cx="1828800" cy="914400"/>
          </a:xfrm>
        </p:grpSpPr>
        <p:sp>
          <p:nvSpPr>
            <p:cNvPr id="142" name=""/>
            <p:cNvSpPr/>
            <p:nvPr/>
          </p:nvSpPr>
          <p:spPr>
            <a:xfrm>
              <a:off x="6902280" y="3657600"/>
              <a:ext cx="1828800" cy="60948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Wektor c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>
              <a:stCxn id="142" idx="2"/>
              <a:endCxn id="139" idx="0"/>
            </p:cNvCxnSpPr>
            <p:nvPr/>
          </p:nvCxnSpPr>
          <p:spPr>
            <a:xfrm flipV="1" rot="10800000">
              <a:off x="7815960" y="4266720"/>
              <a:ext cx="1080" cy="30564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9" name=""/>
          <p:cNvSpPr/>
          <p:nvPr/>
        </p:nvSpPr>
        <p:spPr>
          <a:xfrm>
            <a:off x="6826320" y="4572000"/>
            <a:ext cx="1981080" cy="609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lasy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38560" y="3733920"/>
            <a:ext cx="198144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5" idx="0"/>
            <a:endCxn id="135" idx="1"/>
          </p:cNvCxnSpPr>
          <p:nvPr/>
        </p:nvCxnSpPr>
        <p:spPr>
          <a:xfrm flipH="1" flipV="1" rot="5400000">
            <a:off x="6065640" y="2972880"/>
            <a:ext cx="724680" cy="79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1"/>
          </p:cNvCxnSpPr>
          <p:nvPr/>
        </p:nvCxnSpPr>
        <p:spPr>
          <a:xfrm flipH="1" rot="16200000">
            <a:off x="6046560" y="4096800"/>
            <a:ext cx="762840" cy="79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C383-54E4-4F15-A892-A51304BF29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Ewolucyjne programowanie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752480"/>
            <a:ext cx="3581280" cy="4114800"/>
          </a:xfrm>
          <a:prstGeom prst="rect">
            <a:avLst/>
          </a:prstGeom>
          <a:solidFill>
            <a:srgbClr val="a3b2c1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nkcja oceniają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2362320" cy="411480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gorytm ewolu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2" idx="2"/>
            <a:endCxn id="153" idx="0"/>
          </p:cNvCxnSpPr>
          <p:nvPr/>
        </p:nvCxnSpPr>
        <p:spPr>
          <a:xfrm flipH="1" rot="16200000">
            <a:off x="5451480" y="3774600"/>
            <a:ext cx="1632600" cy="876960"/>
          </a:xfrm>
          <a:prstGeom prst="bentConnector3">
            <a:avLst>
              <a:gd name="adj1" fmla="val 13211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048120" y="563868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809880"/>
            <a:ext cx="1676520" cy="762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chy obrazów uczący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7" idx="1"/>
            <a:endCxn id="158" idx="3"/>
          </p:cNvCxnSpPr>
          <p:nvPr/>
        </p:nvCxnSpPr>
        <p:spPr>
          <a:xfrm flipV="1" rot="10800000">
            <a:off x="6628680" y="2339640"/>
            <a:ext cx="457920" cy="51840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7086600" y="1905120"/>
            <a:ext cx="1295280" cy="869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biór ucząc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86000"/>
            <a:ext cx="1600200" cy="1111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bliczen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ch dla przykł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cząc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5029200"/>
            <a:ext cx="3352680" cy="685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 użyteczności procedury ekstrakcji 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253836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99556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281952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58128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17268" y="3545"/>
                </a:moveTo>
                <a:arcTo wR="-9720" hR="-9720" stAng="-2896907" swAng="-18703093"/>
                <a:lnTo>
                  <a:pt x="0" y="10800"/>
                </a:lnTo>
                <a:arcTo wR="10800" hR="10800" stAng="10800000" swAng="18703093"/>
                <a:lnTo>
                  <a:pt x="1816" y="20877"/>
                </a:lnTo>
                <a:lnTo>
                  <a:pt x="1554" y="16302"/>
                </a:lnTo>
                <a:lnTo>
                  <a:pt x="6128" y="1604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ęt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cz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2743200"/>
            <a:ext cx="457200" cy="457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18148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220968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kstrakcji 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429000"/>
            <a:ext cx="2209680" cy="2209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cja osobników – proced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209680"/>
            <a:ext cx="2209680" cy="533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gorytm ewolu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819520"/>
            <a:ext cx="990720" cy="533160"/>
          </a:xfrm>
          <a:prstGeom prst="downArrow">
            <a:avLst>
              <a:gd name="adj1" fmla="val 50000"/>
              <a:gd name="adj2" fmla="val 3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562640"/>
            <a:ext cx="1066680" cy="390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4714920"/>
            <a:ext cx="106668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4410000"/>
            <a:ext cx="1371600" cy="3920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cedur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5095800"/>
            <a:ext cx="106704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4943520"/>
            <a:ext cx="106704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5172120"/>
            <a:ext cx="106668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43340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448632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2818800"/>
            <a:ext cx="990720" cy="533160"/>
          </a:xfrm>
          <a:prstGeom prst="downArrow">
            <a:avLst>
              <a:gd name="adj1" fmla="val 50000"/>
              <a:gd name="adj2" fmla="val 3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3"/>
            <a:endCxn id="152" idx="1"/>
          </p:cNvCxnSpPr>
          <p:nvPr/>
        </p:nvCxnSpPr>
        <p:spPr>
          <a:xfrm flipV="1">
            <a:off x="2819520" y="2840760"/>
            <a:ext cx="2210400" cy="16837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3" idx="1"/>
            <a:endCxn id="176" idx="3"/>
          </p:cNvCxnSpPr>
          <p:nvPr/>
        </p:nvCxnSpPr>
        <p:spPr>
          <a:xfrm rot="10800000">
            <a:off x="2818800" y="4676040"/>
            <a:ext cx="2210400" cy="69624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222E-AD7F-4AA1-B5FB-ACE6821B2D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Koewolucyjne programowanie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1969920"/>
            <a:ext cx="3581280" cy="4114800"/>
          </a:xfrm>
          <a:prstGeom prst="rect">
            <a:avLst/>
          </a:prstGeom>
          <a:solidFill>
            <a:srgbClr val="a3b2c1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nkcja oceniają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589040"/>
            <a:ext cx="2362320" cy="46483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Algorytm koewolu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4" idx="2"/>
            <a:endCxn id="185" idx="0"/>
          </p:cNvCxnSpPr>
          <p:nvPr/>
        </p:nvCxnSpPr>
        <p:spPr>
          <a:xfrm flipH="1" rot="16200000">
            <a:off x="5451480" y="3992040"/>
            <a:ext cx="1632600" cy="876960"/>
          </a:xfrm>
          <a:prstGeom prst="bentConnector3">
            <a:avLst>
              <a:gd name="adj1" fmla="val 17600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6781680" y="4027320"/>
            <a:ext cx="1676520" cy="762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chy obrazów uczący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8" idx="1"/>
            <a:endCxn id="189" idx="3"/>
          </p:cNvCxnSpPr>
          <p:nvPr/>
        </p:nvCxnSpPr>
        <p:spPr>
          <a:xfrm flipV="1" rot="10800000">
            <a:off x="6628680" y="2557080"/>
            <a:ext cx="457920" cy="51840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7086600" y="2122560"/>
            <a:ext cx="1295280" cy="869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biór ucząc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503440"/>
            <a:ext cx="1600200" cy="1111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bliczen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ch dla przykł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cząc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5246640"/>
            <a:ext cx="3352680" cy="685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 użyteczności procedury ekstrakcji c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75580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21300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288432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03696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189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2046240"/>
            <a:ext cx="2133360" cy="9907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ja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578400"/>
            <a:ext cx="2133360" cy="99360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j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5167440"/>
            <a:ext cx="2133360" cy="99360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j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571840"/>
            <a:ext cx="182880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Reprezenta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692680"/>
            <a:ext cx="182880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re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enta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3"/>
            <a:endCxn id="200" idx="1"/>
          </p:cNvCxnSpPr>
          <p:nvPr/>
        </p:nvCxnSpPr>
        <p:spPr>
          <a:xfrm flipV="1">
            <a:off x="2819520" y="3379320"/>
            <a:ext cx="381600" cy="2510640"/>
          </a:xfrm>
          <a:prstGeom prst="bentConnector3">
            <a:avLst>
              <a:gd name="adj1" fmla="val 49952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202" idx="3"/>
            <a:endCxn id="203" idx="3"/>
          </p:cNvCxnSpPr>
          <p:nvPr/>
        </p:nvCxnSpPr>
        <p:spPr>
          <a:xfrm flipV="1">
            <a:off x="2819520" y="3150720"/>
            <a:ext cx="381600" cy="915120"/>
          </a:xfrm>
          <a:prstGeom prst="bentConnector3">
            <a:avLst>
              <a:gd name="adj1" fmla="val 31161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205" idx="1"/>
          </p:cNvCxnSpPr>
          <p:nvPr/>
        </p:nvCxnSpPr>
        <p:spPr>
          <a:xfrm>
            <a:off x="2819520" y="2766960"/>
            <a:ext cx="381600" cy="155880"/>
          </a:xfrm>
          <a:prstGeom prst="bentConnector3">
            <a:avLst>
              <a:gd name="adj1" fmla="val 49952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1108080" y="4656240"/>
            <a:ext cx="1541520" cy="392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5360" y="3112920"/>
            <a:ext cx="1541520" cy="39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03640"/>
            <a:ext cx="182880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Repre</a:t>
            </a:r>
            <a:r>
              <a:rPr b="0" lang="pl-PL" sz="2000" spc="-1" strike="noStrike">
                <a:solidFill>
                  <a:srgbClr val="003366"/>
                </a:solidFill>
                <a:latin typeface="Arial Narrow"/>
              </a:rPr>
              <a:t>zentant</a:t>
            </a: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27320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31892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951360"/>
            <a:ext cx="1371600" cy="39204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Osobni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8750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402732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3009600" y="2998800"/>
            <a:ext cx="6858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242712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kstrakcji 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585612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185" idx="1"/>
            <a:endCxn id="210" idx="3"/>
          </p:cNvCxnSpPr>
          <p:nvPr/>
        </p:nvCxnSpPr>
        <p:spPr>
          <a:xfrm rot="10800000">
            <a:off x="2818800" y="4217400"/>
            <a:ext cx="2210400" cy="1372320"/>
          </a:xfrm>
          <a:prstGeom prst="bentConnector3">
            <a:avLst>
              <a:gd name="adj1" fmla="val 49991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DC11-A16A-4012-AAF8-5483BD5AB0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tosowanie: rozpoznawanie obiektów w paśmie widzialny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7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COIL-20 – Columbia Image Libr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brazy 20 obiektów codziennego użyt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óżne widoki tego samego obiektu (72 obrazy/obiek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41840" y="2440080"/>
            <a:ext cx="4170240" cy="31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BED7-4CEB-4870-B0D5-B1DF9E7BA5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tosowanie: Rozpoznawanie obiektów w obrazach radarow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g.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Synthetic Aperture Radar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SAR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 ima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080" y="2176560"/>
            <a:ext cx="222552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2911320" y="375120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2280" y="375120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75400" y="376236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3480" y="59500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6400" y="375120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59500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3520" y="59500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M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75400" y="59500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TR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52280" y="4351320"/>
            <a:ext cx="2225880" cy="14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2378160" y="2176560"/>
            <a:ext cx="222552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384280" y="4351320"/>
            <a:ext cx="2225880" cy="14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4572000" y="4351320"/>
            <a:ext cx="2289240" cy="1487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6823080" y="2176560"/>
            <a:ext cx="222552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4600440" y="2176560"/>
            <a:ext cx="222588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6838920" y="4351320"/>
            <a:ext cx="2228760" cy="147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9559-4118-4BD5-A13C-E742D121A9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tosowanie: Rozpoznawanie obiektów w obrazach radarow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iska rozdzielczość, znaczne zaszumienie, brak cech typu krawęd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0160" y="2211480"/>
            <a:ext cx="219204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0" t="0" r="718" b="0"/>
          <a:stretch/>
        </p:blipFill>
        <p:spPr>
          <a:xfrm>
            <a:off x="2419200" y="2211480"/>
            <a:ext cx="221472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869160" y="2211480"/>
            <a:ext cx="219852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190440" y="4495680"/>
            <a:ext cx="2193840" cy="22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2911320" y="40402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2280" y="40402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75400" y="405144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3480" y="63244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651200" y="2211480"/>
            <a:ext cx="2192400" cy="220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5216400" y="40402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2419200" y="4495680"/>
            <a:ext cx="2210040" cy="22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2971800" y="63244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651200" y="4495680"/>
            <a:ext cx="2206800" cy="220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6869160" y="4495680"/>
            <a:ext cx="2184480" cy="2184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5213520" y="63244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M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75400" y="63244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TR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F4BB-032A-40CA-9CFA-16FC688174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Wyniki osiągnięte w ramach realizacji zadania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utomatyczna synteza kompletnego systemu rozpoznawania obrazó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ysoka trafność rozpoznawa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wybranych konfiguracjach wariant koewolucyjny osiąga większe wartości trafności klasyfikowa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stosowania w zróżnicowanych zadaniach praktyczn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dane zastosowania do zadań uczenia maszynowe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niki podsumowane m.in. w rozprawie habilitacyjnej i publikacjach, w tym IEEE Transactions SM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34FE-D6F6-4FDF-9A27-0D8D1FB380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danie 2: Metody badania dynamiki procesów ewolucyjnych i koewolucyjny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sparcie dla zadania 1: Rozwój metod ewolucyjnych i koewolucyjnych do dekompozycji problemu przekształcania reprezentacji danych ucząc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dentyfikacja związków pomiędzy fragmentami opisu rozwiązań i samych rozwiązań (genami i fenami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aliza procesu ewolucyjnego i związków pomiędzy osobnikami-rozwiązania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krywanie stagnacji i momentów przełomow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wiązanie wartości funkcji oceny (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fitnes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informacją o strukturze przestrzeni rozwiąza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6AA5-31AF-4AE0-B820-26A01C2A88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08000" y="1555920"/>
            <a:ext cx="1873080" cy="17715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487600" y="1698480"/>
            <a:ext cx="1868400" cy="2000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86200" y="1555920"/>
            <a:ext cx="4249800" cy="2301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79280" y="3643200"/>
            <a:ext cx="2373480" cy="2881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2620800" y="3643200"/>
            <a:ext cx="2373480" cy="2881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179280" y="2419200"/>
            <a:ext cx="8785440" cy="28004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Identyfikacja związków pomiędzy fragmentami opisu rozwiązań i samych rozwiązań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(genami i fenam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42F0-5D4F-45A3-98BA-871B64531D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8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6320" y="166680"/>
            <a:ext cx="8915400" cy="65120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71800" y="487692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358128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297180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182880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2560" y="1216440"/>
            <a:ext cx="3708360" cy="9169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iza procesu ewolucyjnego i związków pomiędzy osobnikami-rozwiązania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0AA8-6EA9-4FB8-9A36-28D7313A6747}" type="slidenum">
              <a:t>19</a:t>
            </a:fld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esp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ó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hab.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rzy Stefanowsk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, kierown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hab.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zysztof Krawi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ek Jelo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ciej Komosiń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rmina Masłows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bert Susma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g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wid Wei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kres realizacj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aj 2004 – Październik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akłady: 210 t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20000" y="1484280"/>
            <a:ext cx="1063440" cy="14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2F2C-0826-4174-AAFB-F3997FC66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wiązanie wartości funkcji oceny z informacją o strukturze przestrzeni rozwiąza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Wizualizacja przebiegu ewoluc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anim" descr=""/>
          <p:cNvPicPr/>
          <p:nvPr/>
        </p:nvPicPr>
        <p:blipFill>
          <a:blip r:embed=""/>
          <a:stretch/>
        </p:blipFill>
        <p:spPr>
          <a:xfrm>
            <a:off x="1835280" y="2205000"/>
            <a:ext cx="5505480" cy="41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EBAB-46A0-4312-92DC-E63343DE77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2200" y="1484280"/>
            <a:ext cx="84898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uże wolumeny danych elektronicznych w Internecie: strony internetowe, archiwa elektroniczne, e-mails, wiadomości prasow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Wyszukiwanie konkretnej informacji oraz eksploracja struktury zbioru inform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ykorzystanie algorytmów grupowa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identyfikacja grup podobnych dokumen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tychczasowe algorytmy (stosowane w I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rudności w automatycznym tworzeniu opisów tematycznych znajdowanych grup dokument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nne spojrze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Grupowanie opiso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ie tylko grupowanie lecz także tworzenie zróżnicowanych i czytelnych opisów grup dokumentów podobnych tematycz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danie 3: Nowe algorytmy grupowania dokumentów tekstowych i stron Internetow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93E1-A2AB-48BE-B6CC-2418E1842F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9280" y="1773360"/>
            <a:ext cx="5616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prowadzenie algorytmu Ling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Grupowanie opisowe przede wszystkim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yników wyszukiwarek internetowych.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zebieg algorytm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szukuj najpierw fraz będących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dobrymi kandydatami na opis grup dokumentów</a:t>
            </a: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specyficzna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ekstrakcja fraz i słów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strukcja zróżnicowanych pojęć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ogólnych w modelu wektorowym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dekompozycja SV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szukiwanie podobieństwa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ybranych pojęć i kandydatów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na opis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zydział dokumentów do grup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4067280" cy="3473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773240" y="5589720"/>
            <a:ext cx="424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ngo—Concept-Driven Algorithm for Cluster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arch Results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EEE Intelligent Systems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dejście „description comes first”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Algorytm Ling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AE1F-09B6-4E6A-A77A-F8BC52D16D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mplementacja algorytmu dostępna w systemie Carrot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81040" y="2009880"/>
            <a:ext cx="7981920" cy="45147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rzykład użycia algorytmu Lingo – grupowanie wyników zapytania podanego przez użytkownika`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519D-19F4-424C-BA35-D2897D6FC8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Ocena eksperymentalna algorytmu Lingo na  zbiorach testowych zawierających wiele kategorii dobrze zdefiniowanych dokumentów WWW i ich opisów (tworzonych manulanie) pochodzących z repozytorium Open Directory Projec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równanie z innymi algorytmami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Lingo prowadzi do czytelniejszych i bardziej zróżnicowanych opisów grup dokumentów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lepiej identyfikuje powiązane tematy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w mniejszym stopniu dokonuje rozłożenia dokumentów z oryginalnej pojedynczej kategorii do różnych grup tematycznych w strukturze odkrytych skupień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adania na uwzględnieniem specyfiki języka polskiego w grupowaniu dokumentów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opracowano koncepcje własnego „lematyzatora”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0120" y="189000"/>
            <a:ext cx="848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Inne badania w ramach zadania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66D3-6E01-46B0-A778-8686FB064A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Badania w to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009800" y="1847880"/>
            <a:ext cx="2787480" cy="4311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4648320" y="2529000"/>
            <a:ext cx="4163760" cy="488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648320" y="4448160"/>
            <a:ext cx="4163760" cy="1571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4: Metody przekształcania reprezentacji danych uczących w rozpoznawaniu obrazów i widzeniu komputerow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EE45-744E-4C5C-B566-6A5800A79B4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4: Metody przekształcania reprezentacji danych uczących w rozpoznawaniu obrazów i widzeniu komputerow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24000" y="1628640"/>
          <a:ext cx="485748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8640"/>
                    <a:ext cx="48574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348000" y="2066760"/>
            <a:ext cx="575316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59E4-50E7-4AA8-B2C8-FBA52CA0D3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5: Badania nad integracją metod automatycznej selekcji atrybutów z </a:t>
            </a:r>
            <a:r>
              <a:rPr b="0" lang="pl-PL" sz="2000" spc="-1" strike="noStrike">
                <a:solidFill>
                  <a:srgbClr val="ff0000"/>
                </a:solidFill>
                <a:latin typeface="Verdana"/>
              </a:rPr>
              <a:t>klasyfikatorami złożonym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640" y="1959120"/>
            <a:ext cx="818208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ace na zwiększeniem trafności systemów integrujących zbiór „bazowych” klasyfikatorów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zebadano użycie różnych strategii wyboru podzbiorów atrybutów w złożonych systemów klasyfikujących (głównie „bagging” i </a:t>
            </a:r>
            <a:r>
              <a:rPr b="0" i="1" lang="pl-PL" sz="1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l-PL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Dokonano integracji wybranych strategii wyboru podzbiorów atrybutów z mechanizmem tworzenia podzbiorów przykładów uczących dla konstrukcji klasyfikatorów składowych w metodzie „bagging”.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Eksperymenty obliczeniowe na wielu problema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ieżące badania nad zmianami sposoby wypracowywania decyzji końcowej systemu złożonego </a:t>
            </a: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selekcja podzbioru klasyfikatorów bazowych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A215-AED8-4DAB-B071-BF0947220D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6: Zaproponowanie nowych algorytmów konstrukcji klasyfikatorów dla rozpoznawania wybranej klasy (w toku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Badania nad trudnymi problemami uczenia, w których występuje silne </a:t>
            </a:r>
            <a:r>
              <a:rPr b="0" lang="pl-PL" sz="1800" spc="-1" strike="noStrike">
                <a:solidFill>
                  <a:srgbClr val="ff0000"/>
                </a:solidFill>
                <a:latin typeface="Verdana"/>
              </a:rPr>
              <a:t>niezrównoważenie klas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ecyzyjnych co do licznośc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owa metody tworzenia klasyfikatora regułowego, w którym zbiór reguł dla klasy mniejszościowej jest odpowiednio modyfikowany poprzez utworzenie dodatkowych reguł tak, aby zwiększyć skuteczność rozpoznawania przypadków tej kla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alsze badania nad uwzględnianiem „trudnych przypadków” w strefie brzegowej między klasami.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2414-A211-46B5-A464-7EA7D388DD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Specyf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Verdana"/>
              </a:rPr>
              <a:t>Systemy uczące się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(z przykładów) oraz odkrywanie wiedzy z dan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adania realizowane w obszarz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sp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óln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czenia maszynowego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zpoznawania obrazów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alizy dokumentów tekstowy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Verdana"/>
              </a:rPr>
              <a:t>Zastosowania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lgorytmów maszynowego uczenia się 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zpoznawaniu obrazów i analizie sygnałów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alizie dokumentów tekstowych oraz eksploracji zasobów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68CA-2BF6-4CCF-A82A-2554AC79AE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77164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0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4360" y="1773360"/>
          <a:ext cx="7704000" cy="3267000"/>
        </p:xfrm>
        <a:graphic>
          <a:graphicData uri="http://schemas.openxmlformats.org/drawingml/2006/table">
            <a:tbl>
              <a:tblPr/>
              <a:tblGrid>
                <a:gridCol w="1541160"/>
                <a:gridCol w="1992600"/>
                <a:gridCol w="1995480"/>
                <a:gridCol w="2174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a 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ndard classifi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ength multipli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place ru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domi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8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4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e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4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rma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6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6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patit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7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i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9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6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olo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2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7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0" y="58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5445000"/>
            <a:ext cx="81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prowadzone podejście znacząco przewyższa standardowe z uwagi na miarę wrażliwości bez pogorszenia globalnej trafnoś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Eksperymenty porównawcz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miara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/ Wrażliwość dla klasy mniejszościowej o specjalnym znaczeniu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52AB-F067-4770-A171-1E2C15AFA8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dsumowan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dczas dotychczasowej realizacji grantu opublikowano 25 prac, w ty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9 artykułów (Lista Filadelfijsk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5 rozdziałów w monografiach i pracach zbiorowy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9 w materialach konferencyjny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nad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publikowano i obroniono 1 monografię habilitacyjn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lanuje się ukończenie doktora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8C77-3BFC-43AA-A6FF-7813E56058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publikowane pozycje książkow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1840" y="1628640"/>
            <a:ext cx="8489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drew Adamatzky &amp; Maciej Komosinski  (Eds.), </a:t>
            </a:r>
            <a:r>
              <a:rPr b="0" i="1" lang="pl-PL" sz="1800" spc="-1" strike="noStrike">
                <a:solidFill>
                  <a:srgbClr val="000000"/>
                </a:solidFill>
                <a:latin typeface="Verdana"/>
              </a:rPr>
              <a:t>Artificial Life Models in Software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, Springer-Verlag, New York, 2005, 344 p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Bir Bhanu, Yingqiang Lin, Krzysztof Krawiec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olutionary Synthesis of Pattern Recognition Systems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, Springer-Verlag, New York 2005, 294 p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921360" y="3429000"/>
            <a:ext cx="1898640" cy="29480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76560" y="3803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143240" y="3429000"/>
            <a:ext cx="230040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79E4-DB0E-4B1C-970D-3B4EB9A81E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Motywacje: ograniczenia istniejących podejś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graniczone możliwości przekształcania reprezentacji danych, zwłaszcza dla złożonych danych i definicji pojęć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dea: w miejsce z góry ustalonego zbioru atrybutów -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konstrukcja nowych atrybutów (cech)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granicz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e możliwości standardowych algorytmów w przypadku trudnych i wieloklasowych problemów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dea: konstruowanie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złożonych systemów klasyfikujących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rudności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rozpoznawania wybranej klasy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(mniejszościowej) o szczególnym znaczeniu dla niezrównoważonych liczebnie danyc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ieadekwatność dotychczasowych algorytmów IR w klasyfikacji dokumentów tekstowych i Internetowyc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E490-1425-45E1-A5BC-654F96E912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Cele proj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adanie metod automatycznej konstrukcji cech z wykorzystaniem algorytmów ewolucyjnych i koewolucyjny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adania nad integracją metod automatycznej selekcji i konstrukcji cech z klasyfikatorami złożonymi oraz nad metodami określających udział klasyfikatorów składowych w decyzji końcowej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proponowanie nowych algorytmów indukcji klasyfikatorów dla rozpoznawania wybranej klasy decyzyjnej w danych zawierających niezrównoważone liczebnie klasy decyzyj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prowadzenie nowych algorytmów grupowania dokumentów tekstowych dla potrzeb wyszukiwanie informacji w Interneci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31DD-4343-46D0-8ABC-DCF9C3A170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Harmono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824120"/>
          <a:ext cx="8856720" cy="4405320"/>
        </p:xfrm>
        <a:graphic>
          <a:graphicData uri="http://schemas.openxmlformats.org/drawingml/2006/table">
            <a:tbl>
              <a:tblPr/>
              <a:tblGrid>
                <a:gridCol w="505080"/>
                <a:gridCol w="7056360"/>
                <a:gridCol w="12952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ozwój metod ewolucyjnych i koewolucyjnych do dekompozycji problemu przekształcania reprezentacji danych ucząc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ozwój metod i technik służących do badania dynamiki procesów ewolucyjnych i koewolucyjnyc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aproponowanie nowych algorytmów grupowania i klasyfikacji dokumentów tekstowych i stron Internetow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racowanie metod przekształcania reprezentacji danych uczących w rozpoznawaniu obrazów i widzeniu komputerowy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dania nad integracją metod automatycznej selekcji i konstrukcji cech z klasyfikatorami złożonymi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aproponowanie nowych algorytmów indukcji klasyfikatorów dla rozpoznawania wybranej klasy decyzyjnej o szczególnym znaczeni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ryfikacja praktyczna zaproponowanych algorytmów w analizie przykładowych baz danych, rozpoznawaniu obrazów i grupowaniu dokumentów tekstowych/stron Internetow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paźdźiernik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F7D9-5280-442B-BAAD-E01945E13B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Prace wykonane w pierwszym roku realizacji gran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danie 1: Metody automatycznego przekształcania reprezentacji danych ucząc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el: opracowanie podejścia uczenia maszynoweg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osowalnego do danych obrazowych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ożliwie uniwersalneg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pewniającego wysoką zdolność predykcyjną w zastosowaniach do rzeczywistych problemów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umożliwiającego interpretację pozyskanej wiedz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A349-1AF1-477B-8521-FA4A7748D0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kspercka konstrukcja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2200" y="1628280"/>
            <a:ext cx="5402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Verdana"/>
              </a:rPr>
              <a:t>Cecha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(ang. </a:t>
            </a:r>
            <a:r>
              <a:rPr b="0" i="1" lang="pl-PL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): wielkość wyliczona w sposób pośredni z przykładu/obrazu (z atrybutó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Verdana"/>
              </a:rPr>
              <a:t>Ekspercka konstrukcja cech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= projektowanie przez eksperta procedur obliczających cechy dla przykładów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ady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asochłonna i kosztowna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ało systematyczna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datna na subiektywne preferencje i błędy  projektanta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wadzi do mało uniwersalnych rozwiązań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3573360"/>
            <a:ext cx="1905120" cy="990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Narrow"/>
              </a:rPr>
              <a:t>Syste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 Narrow"/>
              </a:rPr>
              <a:t>decyzyjny (rozpoznają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7720" y="2438280"/>
            <a:ext cx="2438280" cy="2895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597720" y="1219320"/>
            <a:ext cx="2438280" cy="1447920"/>
            <a:chOff x="6597720" y="1219320"/>
            <a:chExt cx="2438280" cy="1447920"/>
          </a:xfrm>
        </p:grpSpPr>
        <p:sp>
          <p:nvSpPr>
            <p:cNvPr id="116" name=""/>
            <p:cNvSpPr/>
            <p:nvPr/>
          </p:nvSpPr>
          <p:spPr>
            <a:xfrm>
              <a:off x="6597720" y="12193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zykład/Obra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>
              <a:stCxn id="116" idx="2"/>
              <a:endCxn id="118" idx="0"/>
            </p:cNvCxnSpPr>
            <p:nvPr/>
          </p:nvCxnSpPr>
          <p:spPr>
            <a:xfrm flipV="1" rot="10800000">
              <a:off x="7816320" y="2209320"/>
              <a:ext cx="1080" cy="45792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6597720" y="5181120"/>
            <a:ext cx="2438280" cy="1371960"/>
            <a:chOff x="6597720" y="5181120"/>
            <a:chExt cx="2438280" cy="1371960"/>
          </a:xfrm>
        </p:grpSpPr>
        <p:sp>
          <p:nvSpPr>
            <p:cNvPr id="120" name=""/>
            <p:cNvSpPr/>
            <p:nvPr/>
          </p:nvSpPr>
          <p:spPr>
            <a:xfrm>
              <a:off x="6597720" y="55627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cyzja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ozpozna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22" idx="2"/>
              <a:endCxn id="120" idx="0"/>
            </p:cNvCxnSpPr>
            <p:nvPr/>
          </p:nvCxnSpPr>
          <p:spPr>
            <a:xfrm flipV="1" rot="10800000">
              <a:off x="7816320" y="5181120"/>
              <a:ext cx="1080" cy="38196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"/>
          <p:cNvGrpSpPr/>
          <p:nvPr/>
        </p:nvGrpSpPr>
        <p:grpSpPr>
          <a:xfrm>
            <a:off x="6826320" y="2666880"/>
            <a:ext cx="1981080" cy="990720"/>
            <a:chOff x="6826320" y="2666880"/>
            <a:chExt cx="1981080" cy="990720"/>
          </a:xfrm>
        </p:grpSpPr>
        <p:sp>
          <p:nvSpPr>
            <p:cNvPr id="118" name=""/>
            <p:cNvSpPr/>
            <p:nvPr/>
          </p:nvSpPr>
          <p:spPr>
            <a:xfrm>
              <a:off x="6826320" y="2666880"/>
              <a:ext cx="198108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ocedury ekstrakcji c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18" idx="2"/>
              <a:endCxn id="125" idx="0"/>
            </p:cNvCxnSpPr>
            <p:nvPr/>
          </p:nvCxnSpPr>
          <p:spPr>
            <a:xfrm flipV="1" rot="10800000">
              <a:off x="7816320" y="3352320"/>
              <a:ext cx="1080" cy="30564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6826320" y="3657600"/>
            <a:ext cx="1981080" cy="60948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ektor c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22" idx="0"/>
          </p:cNvCxnSpPr>
          <p:nvPr/>
        </p:nvCxnSpPr>
        <p:spPr>
          <a:xfrm flipV="1" rot="10800000">
            <a:off x="7815960" y="4266720"/>
            <a:ext cx="1080" cy="3056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6826320" y="4572000"/>
            <a:ext cx="1981080" cy="609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lasy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21200" y="5280120"/>
            <a:ext cx="198108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7" idx="0"/>
            <a:endCxn id="122" idx="1"/>
          </p:cNvCxnSpPr>
          <p:nvPr/>
        </p:nvCxnSpPr>
        <p:spPr>
          <a:xfrm flipH="1" flipV="1" rot="5400000">
            <a:off x="6167160" y="4620960"/>
            <a:ext cx="40392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727B-F272-4567-B0D0-6F558AA235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12:31:18Z</dcterms:created>
  <dc:creator>jurek</dc:creator>
  <dc:description/>
  <dc:language>en-US</dc:language>
  <cp:lastModifiedBy>Krzysztof Krawiec</cp:lastModifiedBy>
  <dcterms:modified xsi:type="dcterms:W3CDTF">2005-11-18T11:34:28Z</dcterms:modified>
  <cp:revision>456</cp:revision>
  <dc:subject/>
  <dc:title>Zastosowanie metod inteligentnej eksploracji danych do wspomagania rozpoznawania zapalenia wyrostka robaczkowego u dzieci -</dc:title>
</cp:coreProperties>
</file>