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A44-1E36-463C-BE3F-2A6E155F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926-674C-4B20-843E-727EC1F5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DAC-1449-42CA-BEBA-BC26B5B1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E6A-1837-4B57-9FFF-455860B7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FE9-4695-427A-90FB-4942C085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81D-E184-4321-A2B6-30727AF3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B43-E764-4B62-8C0A-B172A2DF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81C-3922-43CA-869C-D82AF57B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350-62DD-4C1C-8DD4-1657BDAA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AC8-ADC6-46CE-9570-5EB3B0F6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C54-DDF9-4AE8-8557-171601FC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BF1-2CDB-45F3-8CB9-19BD4CFA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0922-5106-47E4-A383-71C8DC75D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75200" y="55497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, zm, 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6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9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9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5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8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70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59480" y="3840120"/>
            <a:ext cx="866016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9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1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451080" y="268200"/>
            <a:ext cx="8073360" cy="5752440"/>
            <a:chOff x="451080" y="268200"/>
            <a:chExt cx="8073360" cy="5752440"/>
          </a:xfrm>
        </p:grpSpPr>
        <p:sp>
          <p:nvSpPr>
            <p:cNvPr id="303" name=""/>
            <p:cNvSpPr/>
            <p:nvPr/>
          </p:nvSpPr>
          <p:spPr>
            <a:xfrm>
              <a:off x="451080" y="268200"/>
              <a:ext cx="807336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nając parametry 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6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8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7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7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8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7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7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8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59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0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2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4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69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4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0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2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5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7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5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1357920" y="2514600"/>
            <a:ext cx="65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ówczas poprawne jest przekształcenie pokazane na rysunk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477120" y="304812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553080" y="4340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 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2187720" y="2755800"/>
                <a:ext cx="3504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438280" y="4267080"/>
                <a:ext cx="3048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67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1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4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86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699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4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08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5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s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5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36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1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56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57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59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5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07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1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4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1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3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66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0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3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58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75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0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1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0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54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4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1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29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3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34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7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8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6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1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7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4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7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0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08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09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3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5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5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8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 jako rezys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Colpittsa a),       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633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5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0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6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0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0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7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758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759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763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6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8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772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773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6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4-05-30T08:30:36Z</dcterms:modified>
  <cp:revision>78</cp:revision>
  <dc:subject/>
  <dc:title>Generatory LC</dc:title>
</cp:coreProperties>
</file>