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DE2-218A-4EA2-BA80-4E257128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8E9-1813-4EF9-91BF-E36FC7C0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44D-7C90-4ED4-8469-D38F3580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36F-F775-4E2C-9BDE-26E6D789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445-5279-4AFF-ACB8-9433189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B8B-4418-4B35-B308-00F8DC5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792-F3FE-4E7E-ADC1-ADBDBE24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289-6860-4023-8CFF-27DC9A96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1BA-D194-43A5-87CD-8E1DF49A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5BE-A12D-460B-BEDA-9BB6295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CD4-D671-4D0D-B0A8-DE023C2D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779-EB9B-4996-BF5C-C8BE9E15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0D0-477B-4B76-A2FC-89225A651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24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45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600" y="5832360"/>
            <a:ext cx="57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60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61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78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blokowe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18860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98760" y="27432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7640" y="21686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24620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488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46680" y="2421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44880" y="29034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36960" y="31971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5000" y="29192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68480" y="32227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5400" y="18446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68920" y="27018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780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03880" y="24210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5040" y="208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16840" y="23796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15040" y="2862360"/>
            <a:ext cx="16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7120" y="315612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08560" y="28782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05440" y="318132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5000" y="21686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74960" y="24573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5040" y="2151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24336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3520" y="41083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7040" y="49658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6280" y="43909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46846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43520" y="43498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4960" y="46432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3520" y="51260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5600" y="54198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32080" y="51418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48040" y="5445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4680" y="43974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62080" y="4680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46450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0360" y="24354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0320" y="41212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03840" y="49784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2720" y="4403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29080" y="46972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9960" y="43624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1760" y="46562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51386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2040" y="5432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51544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40360" y="545796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45280" y="46911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97720" y="46735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86760" y="20811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9360" y="23814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" y="2198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4800" y="44751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43600" y="947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30120" y="965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56960" y="1512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6560" y="1459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62800" y="3681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01280" y="371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710240" y="211572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878600" y="20570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8880" y="42339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313400" y="424512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162400" y="21812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97320" y="27813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97320" y="44388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97320" y="51256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87440" y="25855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27120" y="47926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22600" y="42800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1040" y="20858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4880" y="13176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4360" y="155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2400" y="24512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1120" y="24447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6120" y="47023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3680" y="47214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03600" y="33908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943600" y="32781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49040" y="55990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931000" y="56102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792520" y="1114560"/>
                <a:ext cx="2889000" cy="21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8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0760" y="1143000"/>
                <a:ext cx="4278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F = różnica zwrot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3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3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4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5560" y="114624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58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59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59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0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1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2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3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3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3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6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6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7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7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68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68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0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1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2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3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3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4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5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6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6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7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7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78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78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0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1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1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2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72120" y="4691160"/>
            <a:ext cx="13143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6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6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489720" y="485892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7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88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89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0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45600" y="281160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16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97040" y="370368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90320" y="2587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57360" y="4692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5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46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50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61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65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77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985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990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992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14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19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29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34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40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44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61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64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72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081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2651040" y="1969920"/>
                <a:ext cx="3299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2651040" y="3778200"/>
                <a:ext cx="1521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281520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03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10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14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42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46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7" name=""/>
            <p:cNvSpPr/>
            <p:nvPr/>
          </p:nvSpPr>
          <p:spPr>
            <a:xfrm>
              <a:off x="3730320" y="329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068560" y="4254480"/>
                <a:ext cx="4992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64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65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66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79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28480" y="280044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422280" y="2054160"/>
                <a:ext cx="105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9240" y="182880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76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194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198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02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07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10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14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19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1160" y="175248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76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36440" y="19810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 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7960" y="1905120"/>
            <a:ext cx="7351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Zmniejsza wzmocnienie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Zwiększa się pasmo przenosz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02040" y="1130400"/>
                <a:ext cx="2514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3-11-24T06:27:21Z</dcterms:modified>
  <cp:revision>111</cp:revision>
  <dc:subject/>
  <dc:title>Sprzężenie zwrotne</dc:title>
</cp:coreProperties>
</file>