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EFB-11BE-44FD-A970-7E62C019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57E-E459-473B-BE75-F221CC0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387-9966-43B0-AF37-67F02CB8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369-78C5-4C31-A082-D9CA4527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F07-1503-47D8-BB54-CE4E2F9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2FA-D732-4D83-A967-E1900071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F93-BB0C-41FF-8C64-01A11B12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87D-2F29-4200-A188-0362AF6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F16-AA5E-4850-85C4-5652425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7B1-414A-4923-807E-ADC892A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099-0BBD-4C5B-A625-3B9367D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207-CCDB-4A4C-A584-EA28469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9BED-C1F1-49AB-AFCE-BD2044923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6040" y="210816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37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58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1480" y="5826240"/>
            <a:ext cx="59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73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91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7800" y="1252440"/>
            <a:ext cx="76294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79800" y="1130400"/>
                <a:ext cx="416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0" y="1380960"/>
            <a:ext cx="7878240" cy="4754520"/>
            <a:chOff x="360" y="1380960"/>
            <a:chExt cx="7878240" cy="4754520"/>
          </a:xfrm>
        </p:grpSpPr>
        <p:sp>
          <p:nvSpPr>
            <p:cNvPr id="227" name=""/>
            <p:cNvSpPr/>
            <p:nvPr/>
          </p:nvSpPr>
          <p:spPr>
            <a:xfrm>
              <a:off x="2505240" y="2319120"/>
              <a:ext cx="142848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8760" y="31762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7640" y="26017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9720" y="28951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4488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6680" y="28540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333648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960" y="3630240"/>
              <a:ext cx="46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5000" y="33523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68480" y="3655800"/>
              <a:ext cx="55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5400" y="227772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68920" y="31348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8780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3880" y="285408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15040" y="25189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16840" y="28126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15040" y="329544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07120" y="358920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8560" y="331128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5440" y="36144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60172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4960" y="2890440"/>
              <a:ext cx="0" cy="77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45040" y="2584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2720" y="2866680"/>
              <a:ext cx="0" cy="75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45414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7040" y="5398920"/>
              <a:ext cx="1428840" cy="723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16280" y="482400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000" y="51177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3520" y="478296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44960" y="50763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3520" y="5559120"/>
              <a:ext cx="23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5600" y="58528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2080" y="5574960"/>
              <a:ext cx="27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040" y="587808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4680" y="4830480"/>
              <a:ext cx="0" cy="74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62080" y="5113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6160" y="507816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0360" y="2868480"/>
              <a:ext cx="0" cy="43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0320" y="4554360"/>
              <a:ext cx="1428840" cy="723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3840" y="541152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2720" y="48369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9080" y="513036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9960" y="47955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51760" y="508932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49960" y="55717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2040" y="58654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4120" y="5587560"/>
              <a:ext cx="38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0360" y="58910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45280" y="5124240"/>
              <a:ext cx="0" cy="4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97720" y="5106600"/>
              <a:ext cx="0" cy="4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86760" y="2514240"/>
              <a:ext cx="0" cy="7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69360" y="2814480"/>
              <a:ext cx="0" cy="7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" y="263160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pięci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800" y="49082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ąd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3600" y="138096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30120" y="13982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6960" y="1945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36560" y="18921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800" y="4114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01280" y="4151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10240" y="254880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78600" y="249012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268880" y="46670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313400" y="467820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162400" y="261432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197320" y="321444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97320" y="487188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97320" y="555876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87440" y="3018600"/>
              <a:ext cx="0" cy="28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27120" y="5225760"/>
              <a:ext cx="0" cy="280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2600" y="47131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1040" y="2518920"/>
              <a:ext cx="37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4880" y="175068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apię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4360" y="19839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rą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2400" y="288432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91120" y="287784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86120" y="5135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3680" y="51544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703600" y="38239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943600" y="37112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49040" y="603216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931000" y="60433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803680" y="1103400"/>
                <a:ext cx="286524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0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5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5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6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0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1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1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2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3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4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5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5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5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8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8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9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9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0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0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2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3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4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5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5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6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7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8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8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9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9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0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0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2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3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3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4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38360" y="5311800"/>
                <a:ext cx="38098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455200" y="17463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8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8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9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0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1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2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35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4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65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69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80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84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96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04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09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11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2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9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33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38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48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53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59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63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80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83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91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00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681280" y="1736640"/>
                <a:ext cx="4205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3430440" y="3814920"/>
                <a:ext cx="1855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22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24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29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33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42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5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6" name=""/>
            <p:cNvSpPr/>
            <p:nvPr/>
          </p:nvSpPr>
          <p:spPr>
            <a:xfrm>
              <a:off x="3729240" y="3273840"/>
              <a:ext cx="44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83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85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4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98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213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217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21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26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29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33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38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0160" y="17524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92480" y="5311800"/>
                <a:ext cx="4302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5440" y="198108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32040" y="5398920"/>
                <a:ext cx="5030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37960" y="1905120"/>
            <a:ext cx="73512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36960" y="1119240"/>
                <a:ext cx="2444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1120" y="5622840"/>
            <a:ext cx="174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7000" y="234468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4-03-16T11:32:38Z</dcterms:modified>
  <cp:revision>121</cp:revision>
  <dc:subject/>
  <dc:title>Sprzężenie zwrotne</dc:title>
</cp:coreProperties>
</file>