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FE0-4066-4F87-B888-8DB9C859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D2A-1B1D-4798-8553-6096BBEA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1DD-0695-41E2-9CEB-A0AC4776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5C3-5D81-41F2-9EB2-76C6E0BA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E2F-6A8F-4AAE-866B-0F2CCBC9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069-A8A6-4B13-A31E-802E692D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C33-2DA9-4071-9D03-3F8D5707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7AF-4EF7-4435-8370-F3C58692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FCA-DC90-4EEE-AC09-A3F8C8C1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30C-F585-4429-8885-7F1F7D9F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037-4CF8-4DDB-91DB-0C6AACC1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700-BEF1-4D87-A7D4-B538ED45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7DF2-39A2-49C3-8331-BD43195E1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004/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- parametry modelu lin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01640" y="1789200"/>
                <a:ext cx="775800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5mV,  m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owo 1,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 flipV="1">
            <a:off x="2998800" y="3930120"/>
            <a:ext cx="1782720" cy="1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57560" y="4525920"/>
            <a:ext cx="193680" cy="582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25720" y="55832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344680" y="56368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344680" y="509076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362320" y="4260960"/>
            <a:ext cx="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44680" y="61484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34520" y="4640400"/>
            <a:ext cx="98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83440" y="5632560"/>
            <a:ext cx="1131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50400" y="429588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891720" y="649440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92240" y="429588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91920" y="38149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09640" y="43668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5360" y="4697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106720" y="878040"/>
                <a:ext cx="46800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849920" y="3427560"/>
            <a:ext cx="3477960" cy="3327840"/>
            <a:chOff x="4849920" y="3427560"/>
            <a:chExt cx="3477960" cy="3327840"/>
          </a:xfrm>
        </p:grpSpPr>
        <p:sp>
          <p:nvSpPr>
            <p:cNvPr id="311" name=""/>
            <p:cNvSpPr/>
            <p:nvPr/>
          </p:nvSpPr>
          <p:spPr>
            <a:xfrm flipV="1">
              <a:off x="5413320" y="4105800"/>
              <a:ext cx="0" cy="20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3320" y="6195960"/>
              <a:ext cx="221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08640" y="4193280"/>
              <a:ext cx="1747800" cy="1998000"/>
            </a:xfrm>
            <a:custGeom>
              <a:avLst/>
              <a:gdLst/>
              <a:ahLst/>
              <a:rect l="l" t="t" r="r" b="b"/>
              <a:pathLst>
                <a:path w="906" h="1014">
                  <a:moveTo>
                    <a:pt x="0" y="1014"/>
                  </a:moveTo>
                  <a:cubicBezTo>
                    <a:pt x="143" y="1013"/>
                    <a:pt x="288" y="1012"/>
                    <a:pt x="384" y="1010"/>
                  </a:cubicBezTo>
                  <a:cubicBezTo>
                    <a:pt x="480" y="1009"/>
                    <a:pt x="525" y="1011"/>
                    <a:pt x="579" y="1003"/>
                  </a:cubicBezTo>
                  <a:cubicBezTo>
                    <a:pt x="633" y="995"/>
                    <a:pt x="673" y="991"/>
                    <a:pt x="708" y="962"/>
                  </a:cubicBezTo>
                  <a:cubicBezTo>
                    <a:pt x="743" y="933"/>
                    <a:pt x="767" y="879"/>
                    <a:pt x="788" y="830"/>
                  </a:cubicBezTo>
                  <a:cubicBezTo>
                    <a:pt x="809" y="781"/>
                    <a:pt x="821" y="716"/>
                    <a:pt x="832" y="666"/>
                  </a:cubicBezTo>
                  <a:cubicBezTo>
                    <a:pt x="843" y="616"/>
                    <a:pt x="843" y="599"/>
                    <a:pt x="852" y="530"/>
                  </a:cubicBezTo>
                  <a:cubicBezTo>
                    <a:pt x="861" y="461"/>
                    <a:pt x="875" y="338"/>
                    <a:pt x="884" y="250"/>
                  </a:cubicBezTo>
                  <a:cubicBezTo>
                    <a:pt x="893" y="162"/>
                    <a:pt x="902" y="52"/>
                    <a:pt x="9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916320" y="4338360"/>
              <a:ext cx="284040" cy="1905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78600" y="5363280"/>
              <a:ext cx="92160" cy="91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423040" y="5400000"/>
              <a:ext cx="1589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21440" y="5473800"/>
              <a:ext cx="0" cy="758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74440" y="498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49920" y="5131440"/>
              <a:ext cx="7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63280" y="634968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59720" y="5785560"/>
              <a:ext cx="66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99000" y="406404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23240" y="6341040"/>
              <a:ext cx="10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7070400" y="6214680"/>
              <a:ext cx="1429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642000" y="6252120"/>
              <a:ext cx="246240" cy="20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00960" y="3427560"/>
              <a:ext cx="169200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573" y="2968"/>
                  </a:moveTo>
                  <a:lnTo>
                    <a:pt x="25349" y="2968"/>
                  </a:lnTo>
                  <a:lnTo>
                    <a:pt x="25349" y="30627"/>
                  </a:lnTo>
                  <a:lnTo>
                    <a:pt x="7595" y="3001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nachylenie g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2665440" y="4627440"/>
            <a:ext cx="24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36…40)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660680" y="2120760"/>
            <a:ext cx="5995800" cy="222120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niowy wielkosygnałowy model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41440" y="121608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97240" y="26337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60800" y="20923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3580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929200" y="337356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92920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33680" y="260028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668760" y="442260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700440" y="5484960"/>
                <a:ext cx="1768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40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84240" y="534672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2162160" y="5838840"/>
            <a:ext cx="85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9760" y="47750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17880" y="987480"/>
            <a:ext cx="1071720" cy="87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79800" y="423864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10080" y="55656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54680" y="34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7800" y="10922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75080" y="374184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803680" y="5659560"/>
            <a:ext cx="788760" cy="839520"/>
            <a:chOff x="2803680" y="5659560"/>
            <a:chExt cx="788760" cy="839520"/>
          </a:xfrm>
        </p:grpSpPr>
        <p:sp>
          <p:nvSpPr>
            <p:cNvPr id="416" name=""/>
            <p:cNvSpPr/>
            <p:nvPr/>
          </p:nvSpPr>
          <p:spPr>
            <a:xfrm>
              <a:off x="30906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03680" y="5757840"/>
              <a:ext cx="78876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6200000">
              <a:off x="2790000" y="5942160"/>
              <a:ext cx="586800" cy="24516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216240" y="341424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60680" y="3809880"/>
            <a:ext cx="469800" cy="40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95080" y="163440"/>
            <a:ext cx="67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jęci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gnał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 liniowym układzie elektronicz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53240" y="1951200"/>
            <a:ext cx="156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00880" y="11001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69800" y="33717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008600" y="3624120"/>
            <a:ext cx="939600" cy="1368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41800" y="5937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3352680" y="6037200"/>
            <a:ext cx="766800" cy="98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94880" y="2158920"/>
            <a:ext cx="223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arametry opisują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unkt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478720" y="4327560"/>
            <a:ext cx="19368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47240" y="5384880"/>
            <a:ext cx="63468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8566200" y="54385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8566200" y="489240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8583480" y="4061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566200" y="59500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97360" y="435456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19440" y="5483160"/>
            <a:ext cx="1026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D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7172280" y="40845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7126200" y="62974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00800" y="4084560"/>
            <a:ext cx="81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7031160" y="416844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86560" y="437976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8845560" y="4230720"/>
            <a:ext cx="0" cy="70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02560" y="36399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hybryd - pi” tranzystora bipolarnego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usunięte źródła stało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89080" y="1595520"/>
            <a:ext cx="2820240" cy="2932920"/>
            <a:chOff x="289080" y="1595520"/>
            <a:chExt cx="2820240" cy="2932920"/>
          </a:xfrm>
        </p:grpSpPr>
        <p:sp>
          <p:nvSpPr>
            <p:cNvPr id="467" name=""/>
            <p:cNvSpPr/>
            <p:nvPr/>
          </p:nvSpPr>
          <p:spPr>
            <a:xfrm>
              <a:off x="1924200" y="159552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080" y="1820880"/>
              <a:ext cx="2820240" cy="2707560"/>
              <a:chOff x="289080" y="1820880"/>
              <a:chExt cx="2820240" cy="2707560"/>
            </a:xfrm>
          </p:grpSpPr>
          <p:sp>
            <p:nvSpPr>
              <p:cNvPr id="469" name=""/>
              <p:cNvSpPr/>
              <p:nvPr/>
            </p:nvSpPr>
            <p:spPr>
              <a:xfrm>
                <a:off x="1527120" y="2360520"/>
                <a:ext cx="266760" cy="266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27120" y="2512800"/>
                <a:ext cx="266760" cy="266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58880" y="2349360"/>
                <a:ext cx="18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22520" y="2970000"/>
                <a:ext cx="9586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630440" y="29257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519280" y="20001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58880" y="205560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58880" y="431316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658880" y="205560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500200" y="424980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0120" y="2936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996840" y="2244600"/>
                    <a:ext cx="41292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1" name=""/>
              <p:cNvSpPr/>
              <p:nvPr/>
            </p:nvSpPr>
            <p:spPr>
              <a:xfrm>
                <a:off x="1670040" y="29700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9080" y="31226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709000" y="1820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78040" y="40687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70040" y="2689200"/>
                <a:ext cx="0" cy="647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1986120" y="205560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19080" y="297000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49240" y="3046320"/>
                <a:ext cx="33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575000" y="3348000"/>
                <a:ext cx="176040" cy="530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1644840" y="4087440"/>
                <a:ext cx="0" cy="23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1662120" y="3876120"/>
                <a:ext cx="0" cy="28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146240" y="3344760"/>
                <a:ext cx="494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e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 flipH="1" flipV="1">
              <a:off x="729720" y="321480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400" y="359712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49800" y="1773360"/>
            <a:ext cx="5511240" cy="3308400"/>
            <a:chOff x="3349800" y="1773360"/>
            <a:chExt cx="5511240" cy="3308400"/>
          </a:xfrm>
        </p:grpSpPr>
        <p:sp>
          <p:nvSpPr>
            <p:cNvPr id="496" name=""/>
            <p:cNvSpPr/>
            <p:nvPr/>
          </p:nvSpPr>
          <p:spPr>
            <a:xfrm>
              <a:off x="6048000" y="1773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1164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6200000">
              <a:off x="428364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6983280" y="3195720"/>
              <a:ext cx="417600" cy="717480"/>
              <a:chOff x="6983280" y="3195720"/>
              <a:chExt cx="417600" cy="717480"/>
            </a:xfrm>
          </p:grpSpPr>
          <p:sp>
            <p:nvSpPr>
              <p:cNvPr id="500" name=""/>
              <p:cNvSpPr/>
              <p:nvPr/>
            </p:nvSpPr>
            <p:spPr>
              <a:xfrm>
                <a:off x="698328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99444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1368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5445000" y="3441600"/>
              <a:ext cx="324000" cy="81000"/>
              <a:chOff x="5445000" y="3441600"/>
              <a:chExt cx="324000" cy="81000"/>
            </a:xfrm>
          </p:grpSpPr>
          <p:sp>
            <p:nvSpPr>
              <p:cNvPr id="504" name=""/>
              <p:cNvSpPr/>
              <p:nvPr/>
            </p:nvSpPr>
            <p:spPr>
              <a:xfrm>
                <a:off x="545148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4500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6053040" y="2927520"/>
              <a:ext cx="81000" cy="323280"/>
              <a:chOff x="6053040" y="2927520"/>
              <a:chExt cx="81000" cy="323280"/>
            </a:xfrm>
          </p:grpSpPr>
          <p:sp>
            <p:nvSpPr>
              <p:cNvPr id="507" name=""/>
              <p:cNvSpPr/>
              <p:nvPr/>
            </p:nvSpPr>
            <p:spPr>
              <a:xfrm flipV="1">
                <a:off x="605304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13404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77496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3860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20380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61024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0380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2752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0380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3872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1512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978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4980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77640" y="2813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4240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2812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81524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3288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0688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312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6432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3108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5464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3809520" y="321156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82200" y="359424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956120" y="3317760"/>
              <a:ext cx="0" cy="811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83760" y="246528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8792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4060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9796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952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7876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8824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6200000">
              <a:off x="620496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561024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1024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21512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56244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6416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454968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4653000" y="4537080"/>
                  <a:ext cx="3749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ź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8" name=""/>
            <p:cNvSpPr/>
            <p:nvPr/>
          </p:nvSpPr>
          <p:spPr>
            <a:xfrm>
              <a:off x="379260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9108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5416560" y="3789360"/>
              <a:ext cx="160812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8002440" y="3105000"/>
              <a:ext cx="53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20440" y="25290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84040" y="90792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93680" y="3227400"/>
                <a:ext cx="1641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284040" y="2043000"/>
                <a:ext cx="43689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284040" y="5543640"/>
                <a:ext cx="34038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63" name="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564" name="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565" name="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spółczynnika wzmocnienia prąd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87600" y="1170000"/>
            <a:ext cx="0" cy="3240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09120" y="41832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24320" y="11793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3800" y="2066760"/>
            <a:ext cx="50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258840" y="516420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938760" y="538632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6150960" y="5445000"/>
            <a:ext cx="2614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e wzmocni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14280" y="4175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60680" y="1649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[d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42102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skala logarytmiczna 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617400" y="1717560"/>
            <a:ext cx="7128360" cy="3948840"/>
            <a:chOff x="617400" y="1717560"/>
            <a:chExt cx="7128360" cy="3948840"/>
          </a:xfrm>
        </p:grpSpPr>
        <p:sp>
          <p:nvSpPr>
            <p:cNvPr id="601" name=""/>
            <p:cNvSpPr/>
            <p:nvPr/>
          </p:nvSpPr>
          <p:spPr>
            <a:xfrm flipV="1">
              <a:off x="723960" y="199188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7400" y="4921200"/>
              <a:ext cx="28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05040" y="171756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47400" y="511020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17640" y="2727360"/>
              <a:ext cx="2311200" cy="852480"/>
            </a:xfrm>
            <a:custGeom>
              <a:avLst/>
              <a:gdLst/>
              <a:ahLst/>
              <a:rect l="l" t="t" r="r" b="b"/>
              <a:pathLst>
                <a:path w="1456" h="537">
                  <a:moveTo>
                    <a:pt x="0" y="537"/>
                  </a:moveTo>
                  <a:cubicBezTo>
                    <a:pt x="83" y="454"/>
                    <a:pt x="166" y="371"/>
                    <a:pt x="244" y="304"/>
                  </a:cubicBezTo>
                  <a:cubicBezTo>
                    <a:pt x="322" y="237"/>
                    <a:pt x="387" y="185"/>
                    <a:pt x="467" y="137"/>
                  </a:cubicBezTo>
                  <a:cubicBezTo>
                    <a:pt x="547" y="89"/>
                    <a:pt x="631" y="30"/>
                    <a:pt x="722" y="15"/>
                  </a:cubicBezTo>
                  <a:cubicBezTo>
                    <a:pt x="813" y="0"/>
                    <a:pt x="918" y="10"/>
                    <a:pt x="1011" y="49"/>
                  </a:cubicBezTo>
                  <a:cubicBezTo>
                    <a:pt x="1104" y="88"/>
                    <a:pt x="1204" y="202"/>
                    <a:pt x="1278" y="248"/>
                  </a:cubicBezTo>
                  <a:cubicBezTo>
                    <a:pt x="1352" y="294"/>
                    <a:pt x="1404" y="310"/>
                    <a:pt x="1456" y="32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773600" y="203796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67400" y="4967280"/>
              <a:ext cx="28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54680" y="176364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99920" y="515628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10120" y="2857680"/>
              <a:ext cx="2452680" cy="863280"/>
            </a:xfrm>
            <a:custGeom>
              <a:avLst/>
              <a:gdLst/>
              <a:ahLst/>
              <a:rect l="l" t="t" r="r" b="b"/>
              <a:pathLst>
                <a:path w="1545" h="544">
                  <a:moveTo>
                    <a:pt x="0" y="544"/>
                  </a:moveTo>
                  <a:cubicBezTo>
                    <a:pt x="50" y="464"/>
                    <a:pt x="100" y="385"/>
                    <a:pt x="167" y="344"/>
                  </a:cubicBezTo>
                  <a:cubicBezTo>
                    <a:pt x="234" y="303"/>
                    <a:pt x="319" y="309"/>
                    <a:pt x="400" y="300"/>
                  </a:cubicBezTo>
                  <a:cubicBezTo>
                    <a:pt x="481" y="291"/>
                    <a:pt x="543" y="302"/>
                    <a:pt x="656" y="289"/>
                  </a:cubicBezTo>
                  <a:cubicBezTo>
                    <a:pt x="769" y="276"/>
                    <a:pt x="961" y="239"/>
                    <a:pt x="1078" y="222"/>
                  </a:cubicBezTo>
                  <a:cubicBezTo>
                    <a:pt x="1195" y="205"/>
                    <a:pt x="1278" y="226"/>
                    <a:pt x="1356" y="189"/>
                  </a:cubicBezTo>
                  <a:cubicBezTo>
                    <a:pt x="1434" y="152"/>
                    <a:pt x="1489" y="76"/>
                    <a:pt x="1545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90720" y="50734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o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2176560" y="2795760"/>
              <a:ext cx="0" cy="2041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621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624" name="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627" name="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641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645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649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84160" y="36417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utokompens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35200" y="3921120"/>
            <a:ext cx="48276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6062760" y="2862360"/>
                <a:ext cx="25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0" name=""/>
          <p:cNvGrpSpPr/>
          <p:nvPr/>
        </p:nvGrpSpPr>
        <p:grpSpPr>
          <a:xfrm>
            <a:off x="1679400" y="1954080"/>
            <a:ext cx="4669920" cy="2211480"/>
            <a:chOff x="1679400" y="1954080"/>
            <a:chExt cx="4669920" cy="2211480"/>
          </a:xfrm>
        </p:grpSpPr>
        <p:sp>
          <p:nvSpPr>
            <p:cNvPr id="721" name=""/>
            <p:cNvSpPr/>
            <p:nvPr/>
          </p:nvSpPr>
          <p:spPr>
            <a:xfrm>
              <a:off x="4761000" y="274464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4511520" y="2852640"/>
              <a:ext cx="485640" cy="826920"/>
              <a:chOff x="4511520" y="2852640"/>
              <a:chExt cx="485640" cy="826920"/>
            </a:xfrm>
          </p:grpSpPr>
          <p:sp>
            <p:nvSpPr>
              <p:cNvPr id="723" name=""/>
              <p:cNvSpPr/>
              <p:nvPr/>
            </p:nvSpPr>
            <p:spPr>
              <a:xfrm>
                <a:off x="4511520" y="2852640"/>
                <a:ext cx="472680" cy="52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524480" y="3150360"/>
                <a:ext cx="472680" cy="52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779360" y="3055320"/>
                <a:ext cx="0" cy="48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2720880" y="3100320"/>
              <a:ext cx="377280" cy="93240"/>
              <a:chOff x="2720880" y="3100320"/>
              <a:chExt cx="377280" cy="93240"/>
            </a:xfrm>
          </p:grpSpPr>
          <p:sp>
            <p:nvSpPr>
              <p:cNvPr id="727" name=""/>
              <p:cNvSpPr/>
              <p:nvPr/>
            </p:nvSpPr>
            <p:spPr>
              <a:xfrm>
                <a:off x="2728080" y="310032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720880" y="319356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429000" y="2507040"/>
              <a:ext cx="93240" cy="372600"/>
              <a:chOff x="3429000" y="2507040"/>
              <a:chExt cx="93240" cy="372600"/>
            </a:xfrm>
          </p:grpSpPr>
          <p:sp>
            <p:nvSpPr>
              <p:cNvPr id="730" name=""/>
              <p:cNvSpPr/>
              <p:nvPr/>
            </p:nvSpPr>
            <p:spPr>
              <a:xfrm flipV="1">
                <a:off x="3429000" y="25070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3522240" y="25142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2378160" y="26924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2913120" y="2692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33640" y="320040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40080" y="393372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29080" y="2711520"/>
              <a:ext cx="23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81520" y="271152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61120" y="2382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49000" y="240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743800" y="36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92400" y="3013200"/>
              <a:ext cx="81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9660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583000" y="2793960"/>
              <a:ext cx="0" cy="93672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73000" y="2970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87560" y="388944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694400" y="3855960"/>
              <a:ext cx="8712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38680" y="268128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60560" y="2660760"/>
              <a:ext cx="856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9" name=""/>
                <p:cNvSpPr txBox="1"/>
                <p:nvPr/>
              </p:nvSpPr>
              <p:spPr>
                <a:xfrm>
                  <a:off x="1679400" y="3917880"/>
                  <a:ext cx="131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50" name=""/>
            <p:cNvSpPr/>
            <p:nvPr/>
          </p:nvSpPr>
          <p:spPr>
            <a:xfrm flipH="1">
              <a:off x="5178240" y="3187800"/>
              <a:ext cx="680760" cy="12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5293800" y="270972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59240" y="20988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46400" y="914400"/>
            <a:ext cx="41130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matematyczne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iowy      -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liniowy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3600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541680"/>
            <a:ext cx="55612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kształcenie modeli nieliniowych w lin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otoczeniu ich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60960" y="4578480"/>
            <a:ext cx="5485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np.. Pr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760" y="5508720"/>
            <a:ext cx="677808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5" name=""/>
          <p:cNvGrpSpPr/>
          <p:nvPr/>
        </p:nvGrpSpPr>
        <p:grpSpPr>
          <a:xfrm>
            <a:off x="255600" y="1454040"/>
            <a:ext cx="4482720" cy="3106440"/>
            <a:chOff x="255600" y="1454040"/>
            <a:chExt cx="4482720" cy="3106440"/>
          </a:xfrm>
        </p:grpSpPr>
        <p:sp>
          <p:nvSpPr>
            <p:cNvPr id="756" name=""/>
            <p:cNvSpPr/>
            <p:nvPr/>
          </p:nvSpPr>
          <p:spPr>
            <a:xfrm rot="10800000">
              <a:off x="1684440" y="1622880"/>
              <a:ext cx="261720" cy="75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1639800" y="3856320"/>
              <a:ext cx="374040" cy="387360"/>
              <a:chOff x="1639800" y="3856320"/>
              <a:chExt cx="374040" cy="387360"/>
            </a:xfrm>
          </p:grpSpPr>
          <p:sp>
            <p:nvSpPr>
              <p:cNvPr id="758" name=""/>
              <p:cNvSpPr/>
              <p:nvPr/>
            </p:nvSpPr>
            <p:spPr>
              <a:xfrm>
                <a:off x="1833480" y="38563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39800" y="4207680"/>
                <a:ext cx="37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3337200" y="2839680"/>
              <a:ext cx="1070640" cy="911520"/>
              <a:chOff x="3337200" y="2839680"/>
              <a:chExt cx="1070640" cy="911520"/>
            </a:xfrm>
          </p:grpSpPr>
          <p:grpSp>
            <p:nvGrpSpPr>
              <p:cNvPr id="761" name=""/>
              <p:cNvGrpSpPr/>
              <p:nvPr/>
            </p:nvGrpSpPr>
            <p:grpSpPr>
              <a:xfrm>
                <a:off x="3658320" y="3232800"/>
                <a:ext cx="749520" cy="130680"/>
                <a:chOff x="3658320" y="3232800"/>
                <a:chExt cx="749520" cy="13068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3658320" y="3232800"/>
                  <a:ext cx="749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907800" y="3363480"/>
                  <a:ext cx="24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" name=""/>
              <p:cNvSpPr/>
              <p:nvPr/>
            </p:nvSpPr>
            <p:spPr>
              <a:xfrm>
                <a:off x="4033440" y="336384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337200" y="2839680"/>
                <a:ext cx="34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4137120" y="2601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87560" y="1715400"/>
              <a:ext cx="56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390400" y="2784240"/>
              <a:ext cx="0" cy="9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557800" y="2915280"/>
              <a:ext cx="95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14360" y="1979640"/>
              <a:ext cx="5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649440" y="2907000"/>
              <a:ext cx="1171440" cy="906840"/>
              <a:chOff x="649440" y="2907000"/>
              <a:chExt cx="1171440" cy="906840"/>
            </a:xfrm>
          </p:grpSpPr>
          <p:sp>
            <p:nvSpPr>
              <p:cNvPr id="772" name=""/>
              <p:cNvSpPr/>
              <p:nvPr/>
            </p:nvSpPr>
            <p:spPr>
              <a:xfrm>
                <a:off x="1446480" y="3088080"/>
                <a:ext cx="0" cy="64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446480" y="3553920"/>
                <a:ext cx="374400" cy="25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1446480" y="2907000"/>
                <a:ext cx="374400" cy="38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649440" y="34228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1803960" y="2390760"/>
              <a:ext cx="0" cy="5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1826280" y="1454040"/>
              <a:ext cx="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26280" y="1454040"/>
              <a:ext cx="22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042800" y="1454040"/>
              <a:ext cx="0" cy="17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3851640" y="3769920"/>
              <a:ext cx="372600" cy="387360"/>
              <a:chOff x="3851640" y="3769920"/>
              <a:chExt cx="372600" cy="387360"/>
            </a:xfrm>
          </p:grpSpPr>
          <p:sp>
            <p:nvSpPr>
              <p:cNvPr id="781" name=""/>
              <p:cNvSpPr/>
              <p:nvPr/>
            </p:nvSpPr>
            <p:spPr>
              <a:xfrm>
                <a:off x="4044600" y="37699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851640" y="4121280"/>
                <a:ext cx="37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5600" y="3134880"/>
              <a:ext cx="85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09240" y="1727640"/>
              <a:ext cx="1647360" cy="283284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5479920" y="2387520"/>
            <a:ext cx="2857680" cy="1138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518080" y="2417760"/>
                <a:ext cx="2724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1684080" y="1623600"/>
            <a:ext cx="261720" cy="75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1639800" y="3855960"/>
            <a:ext cx="374400" cy="387000"/>
            <a:chOff x="1639800" y="3855960"/>
            <a:chExt cx="374400" cy="387000"/>
          </a:xfrm>
        </p:grpSpPr>
        <p:sp>
          <p:nvSpPr>
            <p:cNvPr id="791" name=""/>
            <p:cNvSpPr/>
            <p:nvPr/>
          </p:nvSpPr>
          <p:spPr>
            <a:xfrm>
              <a:off x="1833840" y="385596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39800" y="420696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3336840" y="2840040"/>
            <a:ext cx="1070640" cy="910800"/>
            <a:chOff x="3336840" y="2840040"/>
            <a:chExt cx="1070640" cy="910800"/>
          </a:xfrm>
        </p:grpSpPr>
        <p:grpSp>
          <p:nvGrpSpPr>
            <p:cNvPr id="794" name=""/>
            <p:cNvGrpSpPr/>
            <p:nvPr/>
          </p:nvGrpSpPr>
          <p:grpSpPr>
            <a:xfrm>
              <a:off x="3657960" y="3232800"/>
              <a:ext cx="749520" cy="130320"/>
              <a:chOff x="3657960" y="3232800"/>
              <a:chExt cx="749520" cy="130320"/>
            </a:xfrm>
          </p:grpSpPr>
          <p:sp>
            <p:nvSpPr>
              <p:cNvPr id="795" name=""/>
              <p:cNvSpPr/>
              <p:nvPr/>
            </p:nvSpPr>
            <p:spPr>
              <a:xfrm>
                <a:off x="3657960" y="3232800"/>
                <a:ext cx="749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907440" y="3363120"/>
                <a:ext cx="2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4033440" y="336384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36840" y="2840040"/>
              <a:ext cx="34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4137120" y="26020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87560" y="171612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390760" y="2784240"/>
            <a:ext cx="0" cy="94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57440" y="29145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14720" y="197964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649080" y="2908080"/>
            <a:ext cx="1172880" cy="906120"/>
            <a:chOff x="649080" y="2908080"/>
            <a:chExt cx="1172880" cy="906120"/>
          </a:xfrm>
        </p:grpSpPr>
        <p:sp>
          <p:nvSpPr>
            <p:cNvPr id="805" name=""/>
            <p:cNvSpPr/>
            <p:nvPr/>
          </p:nvSpPr>
          <p:spPr>
            <a:xfrm>
              <a:off x="1447200" y="3089520"/>
              <a:ext cx="0" cy="64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47200" y="3554640"/>
              <a:ext cx="374760" cy="25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1447200" y="2908080"/>
              <a:ext cx="374760" cy="38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649080" y="342396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V="1">
            <a:off x="1803240" y="239076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1827360" y="1454040"/>
            <a:ext cx="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27360" y="1454040"/>
            <a:ext cx="22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4043520" y="1454040"/>
            <a:ext cx="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851280" y="3770280"/>
            <a:ext cx="372600" cy="387000"/>
            <a:chOff x="3851280" y="3770280"/>
            <a:chExt cx="372600" cy="387000"/>
          </a:xfrm>
        </p:grpSpPr>
        <p:sp>
          <p:nvSpPr>
            <p:cNvPr id="814" name=""/>
            <p:cNvSpPr/>
            <p:nvPr/>
          </p:nvSpPr>
          <p:spPr>
            <a:xfrm>
              <a:off x="4044240" y="377028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851280" y="4121280"/>
              <a:ext cx="37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287280" y="294948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09960" y="1727280"/>
            <a:ext cx="1647720" cy="2833560"/>
          </a:xfrm>
          <a:custGeom>
            <a:avLst/>
            <a:gdLst/>
            <a:ahLst/>
            <a:rect l="l" t="t" r="r" b="b"/>
            <a:pathLst>
              <a:path w="907" h="1376">
                <a:moveTo>
                  <a:pt x="907" y="384"/>
                </a:moveTo>
                <a:cubicBezTo>
                  <a:pt x="871" y="231"/>
                  <a:pt x="835" y="78"/>
                  <a:pt x="730" y="39"/>
                </a:cubicBezTo>
                <a:cubicBezTo>
                  <a:pt x="625" y="0"/>
                  <a:pt x="393" y="37"/>
                  <a:pt x="274" y="150"/>
                </a:cubicBezTo>
                <a:cubicBezTo>
                  <a:pt x="155" y="263"/>
                  <a:pt x="36" y="536"/>
                  <a:pt x="18" y="717"/>
                </a:cubicBezTo>
                <a:cubicBezTo>
                  <a:pt x="0" y="898"/>
                  <a:pt x="54" y="1135"/>
                  <a:pt x="163" y="1239"/>
                </a:cubicBezTo>
                <a:cubicBezTo>
                  <a:pt x="272" y="1343"/>
                  <a:pt x="552" y="1376"/>
                  <a:pt x="674" y="1339"/>
                </a:cubicBezTo>
                <a:cubicBezTo>
                  <a:pt x="796" y="1302"/>
                  <a:pt x="846" y="1159"/>
                  <a:pt x="896" y="101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07080" y="379728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+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1063440" y="4341600"/>
            <a:ext cx="680760" cy="80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00080" y="49179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06640" y="199080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1976400" y="241416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1881360" y="3352680"/>
            <a:ext cx="2981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889280" y="3736800"/>
            <a:ext cx="29462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710160" y="892080"/>
            <a:ext cx="2635200" cy="680040"/>
          </a:xfrm>
          <a:noFill/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tatyczna prosta pracy: nachylenie  -1/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808520" y="26067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54200" y="21463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327720" y="4282920"/>
                <a:ext cx="164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8" name="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59120" y="3457440"/>
            <a:ext cx="3359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 flipV="1">
            <a:off x="4532400" y="2485440"/>
            <a:ext cx="128520" cy="854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584400" y="2071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odpowiedź prąd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92520" y="54784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powiedź napięci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35680" y="1924200"/>
            <a:ext cx="247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budzenie prądem b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623680" y="263376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97040" y="2636280"/>
            <a:ext cx="0" cy="31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738360" y="3952800"/>
                <a:ext cx="28000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784080" y="968400"/>
                <a:ext cx="155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7292880" y="10429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279360" y="2211480"/>
                <a:ext cx="4784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I rSub { size 8{ ital </m:t>
                        </m:r>
                        <m:r>
                          <m:t xml:space="preserve">CQ</m:t>
                        </m:r>
                        <m:r>
                          <m:rPr>
                            <m:lit/>
                            <m:nor/>
                          </m:rPr>
                          <m:t xml:space="preserve">} } +ΔI rSub { size 8{C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75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42160" y="3181320"/>
            <a:ext cx="1120320" cy="1530360"/>
            <a:chOff x="7742160" y="3181320"/>
            <a:chExt cx="1120320" cy="1530360"/>
          </a:xfrm>
        </p:grpSpPr>
        <p:grpSp>
          <p:nvGrpSpPr>
            <p:cNvPr id="877" name=""/>
            <p:cNvGrpSpPr/>
            <p:nvPr/>
          </p:nvGrpSpPr>
          <p:grpSpPr>
            <a:xfrm>
              <a:off x="7777080" y="3728880"/>
              <a:ext cx="790200" cy="134640"/>
              <a:chOff x="7777080" y="3728880"/>
              <a:chExt cx="790200" cy="134640"/>
            </a:xfrm>
          </p:grpSpPr>
          <p:sp>
            <p:nvSpPr>
              <p:cNvPr id="878" name=""/>
              <p:cNvSpPr/>
              <p:nvPr/>
            </p:nvSpPr>
            <p:spPr>
              <a:xfrm>
                <a:off x="7777080" y="3728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040240" y="3863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8172360" y="3863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742160" y="3417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261280" y="3181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887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8182080" y="1891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186080" y="3625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11760" y="2970360"/>
            <a:ext cx="100080" cy="447480"/>
            <a:chOff x="6611760" y="2970360"/>
            <a:chExt cx="100080" cy="447480"/>
          </a:xfrm>
        </p:grpSpPr>
        <p:sp>
          <p:nvSpPr>
            <p:cNvPr id="898" name=""/>
            <p:cNvSpPr/>
            <p:nvPr/>
          </p:nvSpPr>
          <p:spPr>
            <a:xfrm>
              <a:off x="6611760" y="297648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11840" y="297036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 flipH="1">
            <a:off x="5783040" y="3171960"/>
            <a:ext cx="8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35600" y="3189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904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910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913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68000" y="413064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492880" y="1558800"/>
            <a:ext cx="3092400" cy="1595520"/>
          </a:xfrm>
          <a:custGeom>
            <a:avLst/>
            <a:gdLst/>
            <a:ahLst/>
            <a:rect l="l" t="t" r="r" b="b"/>
            <a:pathLst>
              <a:path w="1948" h="1005">
                <a:moveTo>
                  <a:pt x="1948" y="1005"/>
                </a:moveTo>
                <a:lnTo>
                  <a:pt x="1948" y="0"/>
                </a:lnTo>
                <a:lnTo>
                  <a:pt x="0" y="0"/>
                </a:lnTo>
                <a:lnTo>
                  <a:pt x="0" y="873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965160" y="2257560"/>
                <a:ext cx="3413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1047960" y="5191200"/>
            <a:ext cx="722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la składowej zmiennej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ą połączone równole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928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8182080" y="1892160"/>
            <a:ext cx="0" cy="267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783040" y="3171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940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946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949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21120" y="3652920"/>
            <a:ext cx="16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= 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3408480" y="5770440"/>
                <a:ext cx="22082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1800360" y="186480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693800" y="42559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1817640" y="2280960"/>
            <a:ext cx="193680" cy="19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2028960" y="1881000"/>
            <a:ext cx="284004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994040" y="2379240"/>
            <a:ext cx="28573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976400" y="2777760"/>
            <a:ext cx="29289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1941480" y="3125880"/>
            <a:ext cx="29098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1870200" y="3476520"/>
            <a:ext cx="29811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1852560" y="3823920"/>
            <a:ext cx="29466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03560" y="37702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046960" y="167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817640" y="2379600"/>
            <a:ext cx="2840040" cy="1860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603520" y="414828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49240" y="286236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817640" y="329400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93920" y="327672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91400" y="28224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11560" y="1243080"/>
            <a:ext cx="1954080" cy="745560"/>
          </a:xfrm>
          <a:noFill/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/(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||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902120" y="28749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09760" y="4390920"/>
            <a:ext cx="0" cy="2259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668760" y="327816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856120" y="1916280"/>
            <a:ext cx="0" cy="23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873760" y="2463840"/>
            <a:ext cx="1676520" cy="166212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19200" y="16956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rot="16200000">
            <a:off x="2388240" y="4917240"/>
            <a:ext cx="157968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87480" y="465624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45600" y="468468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058600" y="307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42240" y="6175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6297480" y="2530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716200" y="586908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509160" y="220968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429920" y="56340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031080" y="4324320"/>
                <a:ext cx="2207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5" name=""/>
          <p:cNvSpPr/>
          <p:nvPr/>
        </p:nvSpPr>
        <p:spPr>
          <a:xfrm>
            <a:off x="2401920" y="2081160"/>
            <a:ext cx="1373040" cy="207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139920" y="3228840"/>
            <a:ext cx="74880" cy="6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757680" y="4141800"/>
            <a:ext cx="0" cy="9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891040" y="2862360"/>
            <a:ext cx="1676520" cy="75096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25440" y="12430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zna prosta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6064200" y="5410080"/>
                <a:ext cx="1728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004" name="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1005" name="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09160" y="1935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30040" y="558972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5786280" y="4535640"/>
                <a:ext cx="22831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3" name="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1046" name="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1047" name="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083" name="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1084" name="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7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0120" y="907920"/>
            <a:ext cx="0" cy="425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8600" y="5184720"/>
            <a:ext cx="628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110120" y="1584000"/>
            <a:ext cx="28260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6400" y="1076400"/>
            <a:ext cx="2116080" cy="410832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81400" y="942840"/>
            <a:ext cx="3033720" cy="3712680"/>
            <a:chOff x="4181400" y="942840"/>
            <a:chExt cx="3033720" cy="3712680"/>
          </a:xfrm>
        </p:grpSpPr>
        <p:sp>
          <p:nvSpPr>
            <p:cNvPr id="56" name=""/>
            <p:cNvSpPr/>
            <p:nvPr/>
          </p:nvSpPr>
          <p:spPr>
            <a:xfrm flipV="1">
              <a:off x="4410000" y="1535040"/>
              <a:ext cx="2803320" cy="52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0160" y="2256840"/>
              <a:ext cx="2874960" cy="3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286160" y="2874960"/>
              <a:ext cx="292896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51240" y="3526920"/>
              <a:ext cx="2946240" cy="15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16320" y="4092120"/>
              <a:ext cx="298116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181400" y="4620600"/>
              <a:ext cx="301608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427280" y="942840"/>
              <a:ext cx="2735280" cy="62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375720" y="85896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242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78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199760" y="579600"/>
            <a:ext cx="3183840" cy="4023360"/>
            <a:chOff x="4199760" y="579600"/>
            <a:chExt cx="3183840" cy="4023360"/>
          </a:xfrm>
        </p:grpSpPr>
        <p:sp>
          <p:nvSpPr>
            <p:cNvPr id="67" name=""/>
            <p:cNvSpPr/>
            <p:nvPr/>
          </p:nvSpPr>
          <p:spPr>
            <a:xfrm flipV="1">
              <a:off x="4401000" y="1185120"/>
              <a:ext cx="2910600" cy="72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361400" y="1927080"/>
              <a:ext cx="2997720" cy="528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286160" y="2560320"/>
              <a:ext cx="3059280" cy="46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246560" y="3249000"/>
              <a:ext cx="3083040" cy="35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260600" y="3814560"/>
              <a:ext cx="3123000" cy="298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99760" y="4373640"/>
              <a:ext cx="3164040" cy="229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388040" y="579600"/>
              <a:ext cx="2831760" cy="818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181240" y="1071720"/>
            <a:ext cx="1940040" cy="408924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58880" y="2398680"/>
            <a:ext cx="1074960" cy="6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920" y="304632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z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421320" y="3703680"/>
            <a:ext cx="247680" cy="109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1124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1127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1130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1172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90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258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1336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1400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1473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1546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8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1619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1692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1765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6" name="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51" name="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1" name="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1" name="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2" name="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3" name="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4" name="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1887" name="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1895" name="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1898" name="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0" name="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9" name="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>
            <a:off x="811800" y="49860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emy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033640" y="232560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0145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rot="10800000">
            <a:off x="1888920" y="2947680"/>
            <a:ext cx="25380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4" name=""/>
          <p:cNvGrpSpPr/>
          <p:nvPr/>
        </p:nvGrpSpPr>
        <p:grpSpPr>
          <a:xfrm>
            <a:off x="6578640" y="4414680"/>
            <a:ext cx="728280" cy="136440"/>
            <a:chOff x="6578640" y="4414680"/>
            <a:chExt cx="728280" cy="136440"/>
          </a:xfrm>
        </p:grpSpPr>
        <p:sp>
          <p:nvSpPr>
            <p:cNvPr id="1935" name=""/>
            <p:cNvSpPr/>
            <p:nvPr/>
          </p:nvSpPr>
          <p:spPr>
            <a:xfrm>
              <a:off x="657864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2092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1604880" y="4414680"/>
            <a:ext cx="728280" cy="136440"/>
            <a:chOff x="1604880" y="4414680"/>
            <a:chExt cx="728280" cy="136440"/>
          </a:xfrm>
        </p:grpSpPr>
        <p:sp>
          <p:nvSpPr>
            <p:cNvPr id="1938" name=""/>
            <p:cNvSpPr/>
            <p:nvPr/>
          </p:nvSpPr>
          <p:spPr>
            <a:xfrm>
              <a:off x="160488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4716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>
            <a:off x="196992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94368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969920" y="5530680"/>
            <a:ext cx="497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9987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257720" y="348300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257720" y="5151600"/>
            <a:ext cx="0" cy="37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272120" y="553068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071960" y="589428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1407960" y="40165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443720" y="41940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265880" y="4021200"/>
            <a:ext cx="3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85800" y="41054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343640" y="30369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177560" y="29480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rot="10800000">
            <a:off x="4135320" y="4390920"/>
            <a:ext cx="254160" cy="78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537080" y="4462560"/>
            <a:ext cx="53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rot="10800000">
            <a:off x="3808440" y="2769840"/>
            <a:ext cx="203040" cy="2271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3781440" y="3036960"/>
            <a:ext cx="27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932200" y="2325600"/>
            <a:ext cx="1009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060960" y="2251080"/>
            <a:ext cx="112680" cy="125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599000" y="2314440"/>
            <a:ext cx="1461960" cy="11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894120" y="3483000"/>
            <a:ext cx="722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911760" y="3036960"/>
            <a:ext cx="0" cy="446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56080" y="2770200"/>
            <a:ext cx="28116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56080" y="2948040"/>
            <a:ext cx="28116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594320" y="2757600"/>
            <a:ext cx="144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214880" y="3416400"/>
            <a:ext cx="7596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586400" y="2305080"/>
            <a:ext cx="0" cy="461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206960" y="3838680"/>
            <a:ext cx="114120" cy="126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803680" y="2271600"/>
            <a:ext cx="112680" cy="1256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5156280" y="3483000"/>
                <a:ext cx="1528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1" name=""/>
          <p:cNvSpPr/>
          <p:nvPr/>
        </p:nvSpPr>
        <p:spPr>
          <a:xfrm>
            <a:off x="493704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771640" y="2859120"/>
            <a:ext cx="72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4530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742360" y="1612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456080" y="3660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916440" y="2325600"/>
            <a:ext cx="0" cy="453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4936680" y="2305080"/>
            <a:ext cx="320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138480" y="232560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57520" y="27129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33360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594320" y="3036960"/>
            <a:ext cx="0" cy="455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214880" y="5460840"/>
            <a:ext cx="7596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5097600" y="250308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3573360" y="268092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254480" y="3957480"/>
            <a:ext cx="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9753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rot="10800000">
            <a:off x="6850080" y="2947680"/>
            <a:ext cx="25416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9595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186600" y="2325600"/>
            <a:ext cx="7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 flipV="1">
            <a:off x="4776840" y="3215880"/>
            <a:ext cx="40176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245120" y="34830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742920" y="342576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611440" y="3878280"/>
            <a:ext cx="932040" cy="10285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093840" y="4551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>
            <a:off x="5308560" y="3927600"/>
            <a:ext cx="992160" cy="10303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500080" y="4551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2714760" y="2427120"/>
                <a:ext cx="3465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1" name="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577800" y="4708440"/>
                <a:ext cx="73566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587520" y="4276800"/>
                <a:ext cx="75420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955800" y="789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8" name=""/>
              <p:cNvSpPr txBox="1"/>
              <p:nvPr/>
            </p:nvSpPr>
            <p:spPr>
              <a:xfrm>
                <a:off x="708120" y="1622520"/>
                <a:ext cx="7618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9" name="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477720" y="4314960"/>
                <a:ext cx="81900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1" name="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2" name="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68920" y="4179960"/>
                <a:ext cx="2395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63680" y="4556160"/>
                <a:ext cx="250812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4" name=""/>
          <p:cNvGrpSpPr/>
          <p:nvPr/>
        </p:nvGrpSpPr>
        <p:grpSpPr>
          <a:xfrm>
            <a:off x="260280" y="1030320"/>
            <a:ext cx="3891960" cy="3596760"/>
            <a:chOff x="260280" y="1030320"/>
            <a:chExt cx="3891960" cy="3596760"/>
          </a:xfrm>
        </p:grpSpPr>
        <p:grpSp>
          <p:nvGrpSpPr>
            <p:cNvPr id="85" name=""/>
            <p:cNvGrpSpPr/>
            <p:nvPr/>
          </p:nvGrpSpPr>
          <p:grpSpPr>
            <a:xfrm>
              <a:off x="260280" y="1030320"/>
              <a:ext cx="3891960" cy="3596760"/>
              <a:chOff x="260280" y="1030320"/>
              <a:chExt cx="3891960" cy="3596760"/>
            </a:xfrm>
          </p:grpSpPr>
          <p:sp>
            <p:nvSpPr>
              <p:cNvPr id="86" name=""/>
              <p:cNvSpPr/>
              <p:nvPr/>
            </p:nvSpPr>
            <p:spPr>
              <a:xfrm>
                <a:off x="1650960" y="20512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50960" y="22366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798920" y="20376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650960" y="31654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650960" y="33508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flipV="1">
                <a:off x="1798920" y="31338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0800000">
                <a:off x="2483640" y="3258000"/>
                <a:ext cx="21744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454480" y="3536640"/>
                <a:ext cx="2905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2449440" y="2161440"/>
                <a:ext cx="290160" cy="261000"/>
                <a:chOff x="2449440" y="2161440"/>
                <a:chExt cx="290160" cy="261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495880" y="2186640"/>
                  <a:ext cx="217080" cy="235800"/>
                </a:xfrm>
                <a:prstGeom prst="triangle">
                  <a:avLst>
                    <a:gd name="adj" fmla="val 5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2449440" y="2161440"/>
                  <a:ext cx="290160" cy="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747000" y="2793960"/>
                <a:ext cx="1882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12160" y="2422800"/>
                <a:ext cx="0" cy="835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69320" y="2743920"/>
                <a:ext cx="7992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766880" y="273996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54560" y="162972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54560" y="392364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81360" y="16120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21960" y="2586600"/>
                <a:ext cx="0" cy="556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798920" y="167976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98920" y="400104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93800" y="1679760"/>
                <a:ext cx="0" cy="464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93800" y="3536640"/>
                <a:ext cx="0" cy="464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98920" y="167976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98920" y="362952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81360" y="3923640"/>
                <a:ext cx="120960" cy="1310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9480" y="27532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"/>
                  <p:cNvSpPr txBox="1"/>
                  <p:nvPr/>
                </p:nvSpPr>
                <p:spPr>
                  <a:xfrm>
                    <a:off x="857520" y="1865520"/>
                    <a:ext cx="84852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4" name=""/>
                  <p:cNvSpPr txBox="1"/>
                  <p:nvPr/>
                </p:nvSpPr>
                <p:spPr>
                  <a:xfrm>
                    <a:off x="902160" y="3443760"/>
                    <a:ext cx="72504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5" name=""/>
              <p:cNvSpPr/>
              <p:nvPr/>
            </p:nvSpPr>
            <p:spPr>
              <a:xfrm flipV="1">
                <a:off x="2612160" y="2422440"/>
                <a:ext cx="0" cy="278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612160" y="2793960"/>
                <a:ext cx="0" cy="37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740320" y="232992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0320" y="270108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0280" y="2979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83520" y="177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68840" y="3350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97000" y="16797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11320" y="4001040"/>
                <a:ext cx="42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28880" y="27939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26000" y="1030320"/>
                <a:ext cx="51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97000" y="4186440"/>
                <a:ext cx="599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64000" y="2701080"/>
                <a:ext cx="378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 flipV="1">
              <a:off x="3204720" y="2943360"/>
              <a:ext cx="320760" cy="917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171960" y="1784520"/>
              <a:ext cx="320400" cy="91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00640" y="3011400"/>
              <a:ext cx="48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30800" y="2236680"/>
              <a:ext cx="48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3" name=""/>
              <p:cNvSpPr txBox="1"/>
              <p:nvPr/>
            </p:nvSpPr>
            <p:spPr>
              <a:xfrm>
                <a:off x="1504800" y="4616280"/>
                <a:ext cx="6561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4" name="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621880" y="839880"/>
            <a:ext cx="446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1387440" y="2424240"/>
                <a:ext cx="6796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8" name="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139680" y="4427640"/>
                <a:ext cx="823284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832040" y="2914560"/>
                <a:ext cx="49561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2930400" y="4683240"/>
                <a:ext cx="2757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7" name="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1924200" y="1390680"/>
                <a:ext cx="476712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5" name="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6" name="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2" name="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12720" y="614520"/>
            <a:ext cx="779472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69720" y="4173480"/>
            <a:ext cx="828072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źródłem obliczanym z tw. Thev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3352680" y="5105520"/>
            <a:ext cx="1600200" cy="1218960"/>
          </a:xfrm>
          <a:prstGeom prst="wedgeRoundRectCallout">
            <a:avLst>
              <a:gd name="adj1" fmla="val -120930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2059" name="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4" name="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2065" name="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7" name="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4" name=""/>
          <p:cNvSpPr/>
          <p:nvPr/>
        </p:nvSpPr>
        <p:spPr>
          <a:xfrm>
            <a:off x="146160" y="304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6" name=""/>
          <p:cNvSpPr/>
          <p:nvPr/>
        </p:nvSpPr>
        <p:spPr>
          <a:xfrm>
            <a:off x="3425400" y="1811160"/>
            <a:ext cx="4992120" cy="87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zadko stosowany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bardzo duż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2101" name="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2103" name="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0" name="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2111" name="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3" name="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6" name=""/>
          <p:cNvSpPr/>
          <p:nvPr/>
        </p:nvSpPr>
        <p:spPr>
          <a:xfrm>
            <a:off x="305280" y="228600"/>
            <a:ext cx="84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emite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1679400" y="5029200"/>
                <a:ext cx="51469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eciowe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1" name="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2" name=""/>
          <p:cNvGraphicFramePr/>
          <p:nvPr/>
        </p:nvGraphicFramePr>
        <p:xfrm>
          <a:off x="833400" y="103356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356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ształcenie w układ dwubatery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971640" y="3944880"/>
                <a:ext cx="2316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5162400" y="510048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7" name=""/>
              <p:cNvSpPr txBox="1"/>
              <p:nvPr/>
            </p:nvSpPr>
            <p:spPr>
              <a:xfrm>
                <a:off x="971640" y="506412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8" name=""/>
              <p:cNvSpPr txBox="1"/>
              <p:nvPr/>
            </p:nvSpPr>
            <p:spPr>
              <a:xfrm>
                <a:off x="5035680" y="387828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971640" y="582444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3429000" y="12193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10960" y="225756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61600" y="1295280"/>
            <a:ext cx="813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wiadomo, że tranzystor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0 ) dla tranzystora n-p-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-p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136" name="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163" name="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ze 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2164" name="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1" name="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2172" name="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4" name="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955800" y="1878120"/>
              <a:ext cx="68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1" name="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2" name="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3" name="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204" name="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830240" y="4441680"/>
              <a:ext cx="89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gólny układ zastępczy rezystorowych obwodów polaryz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dotyczy także tranzystorów polowy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7" name=""/>
          <p:cNvGrpSpPr/>
          <p:nvPr/>
        </p:nvGrpSpPr>
        <p:grpSpPr>
          <a:xfrm>
            <a:off x="539280" y="1436760"/>
            <a:ext cx="7885800" cy="4802040"/>
            <a:chOff x="539280" y="1436760"/>
            <a:chExt cx="7885800" cy="4802040"/>
          </a:xfrm>
        </p:grpSpPr>
        <p:sp>
          <p:nvSpPr>
            <p:cNvPr id="2208" name=""/>
            <p:cNvSpPr/>
            <p:nvPr/>
          </p:nvSpPr>
          <p:spPr>
            <a:xfrm>
              <a:off x="2612880" y="1646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928800" y="2700360"/>
              <a:ext cx="6588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50880" y="3328920"/>
              <a:ext cx="37008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77440" y="3333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839880" y="17384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927000" y="1566720"/>
              <a:ext cx="180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927000" y="218448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39280" y="18144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927080" y="3247920"/>
              <a:ext cx="17172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013120" y="3076560"/>
              <a:ext cx="14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013120" y="3693960"/>
              <a:ext cx="144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165040" y="3360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85960" y="2671920"/>
              <a:ext cx="712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2565360" y="3481560"/>
              <a:ext cx="30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2565360" y="3592440"/>
              <a:ext cx="30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>
              <a:off x="2712600" y="3090960"/>
              <a:ext cx="468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712960" y="3608280"/>
              <a:ext cx="46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874600" y="31719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016080" y="3273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581120" y="2448000"/>
              <a:ext cx="517680" cy="5112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38440" y="2554200"/>
              <a:ext cx="612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1758960" y="2507760"/>
              <a:ext cx="254160" cy="112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1758960" y="2741760"/>
              <a:ext cx="157320" cy="106200"/>
              <a:chOff x="1758960" y="2741760"/>
              <a:chExt cx="157320" cy="106200"/>
            </a:xfrm>
          </p:grpSpPr>
          <p:sp>
            <p:nvSpPr>
              <p:cNvPr id="2231" name=""/>
              <p:cNvSpPr/>
              <p:nvPr/>
            </p:nvSpPr>
            <p:spPr>
              <a:xfrm>
                <a:off x="1758960" y="2762280"/>
                <a:ext cx="15732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789200" y="2741760"/>
                <a:ext cx="12708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3" name=""/>
            <p:cNvSpPr/>
            <p:nvPr/>
          </p:nvSpPr>
          <p:spPr>
            <a:xfrm>
              <a:off x="1916280" y="2843280"/>
              <a:ext cx="96840" cy="46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1581120" y="270684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2013120" y="2320920"/>
              <a:ext cx="14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2013120" y="288900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927080" y="1698480"/>
              <a:ext cx="171720" cy="455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013120" y="152100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013120" y="21448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154240" y="1793880"/>
              <a:ext cx="37152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228400" y="1835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39880" y="3259080"/>
              <a:ext cx="17280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927000" y="2371680"/>
              <a:ext cx="1800" cy="9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927000" y="3699000"/>
              <a:ext cx="180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879480" y="3914280"/>
              <a:ext cx="2451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022480" y="3090960"/>
              <a:ext cx="69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184560" y="262080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260880" y="2681280"/>
              <a:ext cx="177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84560" y="246852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260880" y="253368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341520" y="2681280"/>
              <a:ext cx="180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341520" y="1525680"/>
              <a:ext cx="180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971720" y="1495440"/>
              <a:ext cx="666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300480" y="149544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971720" y="306072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971720" y="3867120"/>
              <a:ext cx="6660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682720" y="3867120"/>
              <a:ext cx="6984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300480" y="3867120"/>
              <a:ext cx="7128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634200" y="24336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767400" y="253368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406680" y="20779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482640" y="21193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392640" y="2741760"/>
              <a:ext cx="304560" cy="309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501360" y="2771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227560" y="28987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308200" y="29401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703920" y="2540160"/>
              <a:ext cx="513000" cy="515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861240" y="2651040"/>
              <a:ext cx="144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6877080" y="2604600"/>
              <a:ext cx="252360" cy="111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0" name=""/>
            <p:cNvGrpSpPr/>
            <p:nvPr/>
          </p:nvGrpSpPr>
          <p:grpSpPr>
            <a:xfrm>
              <a:off x="6877080" y="2838600"/>
              <a:ext cx="156960" cy="106200"/>
              <a:chOff x="6877080" y="2838600"/>
              <a:chExt cx="156960" cy="106200"/>
            </a:xfrm>
          </p:grpSpPr>
          <p:sp>
            <p:nvSpPr>
              <p:cNvPr id="2271" name=""/>
              <p:cNvSpPr/>
              <p:nvPr/>
            </p:nvSpPr>
            <p:spPr>
              <a:xfrm>
                <a:off x="6877080" y="2859120"/>
                <a:ext cx="15696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906960" y="2838600"/>
                <a:ext cx="12672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3" name=""/>
            <p:cNvSpPr/>
            <p:nvPr/>
          </p:nvSpPr>
          <p:spPr>
            <a:xfrm>
              <a:off x="7034040" y="2933640"/>
              <a:ext cx="9540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H="1">
              <a:off x="6703560" y="280368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7129440" y="2412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7129440" y="2984400"/>
              <a:ext cx="648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043760" y="3328920"/>
              <a:ext cx="17316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129440" y="315288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129440" y="37702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408800" y="343044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115040" y="1617840"/>
              <a:ext cx="1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115040" y="223524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635160" y="1863720"/>
              <a:ext cx="291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135920" y="1612800"/>
              <a:ext cx="68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651800" y="2732040"/>
              <a:ext cx="32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734240" y="2792520"/>
              <a:ext cx="171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651800" y="2579760"/>
              <a:ext cx="32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734240" y="2639880"/>
              <a:ext cx="171360" cy="6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808760" y="2792520"/>
              <a:ext cx="180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808760" y="1612800"/>
              <a:ext cx="1800" cy="9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041680" y="2523960"/>
              <a:ext cx="383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875720" y="218916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951320" y="223056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59880" y="285264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970400" y="2884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62400" y="3978360"/>
              <a:ext cx="264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162400" y="2778120"/>
              <a:ext cx="15573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005440" y="3441600"/>
              <a:ext cx="3189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086440" y="350676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05440" y="3294000"/>
              <a:ext cx="318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086440" y="335448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162400" y="3502080"/>
              <a:ext cx="18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162400" y="2778120"/>
              <a:ext cx="180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604040" y="3319560"/>
              <a:ext cx="268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213520" y="3562200"/>
              <a:ext cx="303120" cy="314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322240" y="3598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7" name=""/>
            <p:cNvGrpSpPr/>
            <p:nvPr/>
          </p:nvGrpSpPr>
          <p:grpSpPr>
            <a:xfrm>
              <a:off x="4908600" y="3157560"/>
              <a:ext cx="106200" cy="536400"/>
              <a:chOff x="4908600" y="3157560"/>
              <a:chExt cx="106200" cy="536400"/>
            </a:xfrm>
          </p:grpSpPr>
          <p:sp>
            <p:nvSpPr>
              <p:cNvPr id="2308" name=""/>
              <p:cNvSpPr/>
              <p:nvPr/>
            </p:nvSpPr>
            <p:spPr>
              <a:xfrm>
                <a:off x="4959000" y="3157560"/>
                <a:ext cx="144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908600" y="31575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0" name=""/>
            <p:cNvSpPr/>
            <p:nvPr/>
          </p:nvSpPr>
          <p:spPr>
            <a:xfrm>
              <a:off x="7089840" y="394812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607000" y="229068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5400000">
              <a:off x="1140840" y="24836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915480" y="1521000"/>
              <a:ext cx="24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5400000">
              <a:off x="2588400" y="129456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306080" y="22384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018200" y="1789200"/>
              <a:ext cx="198720" cy="455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8" name=""/>
                <p:cNvSpPr txBox="1"/>
                <p:nvPr/>
              </p:nvSpPr>
              <p:spPr>
                <a:xfrm>
                  <a:off x="1859040" y="4282920"/>
                  <a:ext cx="2379600" cy="19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9" name=""/>
                <p:cNvSpPr txBox="1"/>
                <p:nvPr/>
              </p:nvSpPr>
              <p:spPr>
                <a:xfrm>
                  <a:off x="5124600" y="4871880"/>
                  <a:ext cx="24555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20" name=""/>
            <p:cNvSpPr/>
            <p:nvPr/>
          </p:nvSpPr>
          <p:spPr>
            <a:xfrm>
              <a:off x="4194000" y="2536920"/>
              <a:ext cx="865440" cy="183960"/>
            </a:xfrm>
            <a:prstGeom prst="rightArrow">
              <a:avLst>
                <a:gd name="adj1" fmla="val 50000"/>
                <a:gd name="adj2" fmla="val 117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486400" y="2698920"/>
              <a:ext cx="450720" cy="171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2" name=""/>
                <p:cNvSpPr txBox="1"/>
                <p:nvPr/>
              </p:nvSpPr>
              <p:spPr>
                <a:xfrm>
                  <a:off x="5068800" y="5541840"/>
                  <a:ext cx="257652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1677960" y="35798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50676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506760" y="3251160"/>
            <a:ext cx="29196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216240" y="314964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79872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flipV="1">
            <a:off x="3506760" y="2738520"/>
            <a:ext cx="29196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rot="10800000">
            <a:off x="3687840" y="1452240"/>
            <a:ext cx="20304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4770360" y="2948040"/>
            <a:ext cx="582480" cy="102600"/>
            <a:chOff x="4770360" y="2948040"/>
            <a:chExt cx="582480" cy="102600"/>
          </a:xfrm>
        </p:grpSpPr>
        <p:sp>
          <p:nvSpPr>
            <p:cNvPr id="2332" name=""/>
            <p:cNvSpPr/>
            <p:nvPr/>
          </p:nvSpPr>
          <p:spPr>
            <a:xfrm>
              <a:off x="4770360" y="294804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64400" y="3050640"/>
              <a:ext cx="1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"/>
          <p:cNvSpPr/>
          <p:nvPr/>
        </p:nvSpPr>
        <p:spPr>
          <a:xfrm>
            <a:off x="3824280" y="5629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821040" y="4497480"/>
            <a:ext cx="0" cy="11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flipH="1">
            <a:off x="37778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747960" y="1127160"/>
            <a:ext cx="130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494080" y="314964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7828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986360" y="47926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1" name=""/>
          <p:cNvGrpSpPr/>
          <p:nvPr/>
        </p:nvGrpSpPr>
        <p:grpSpPr>
          <a:xfrm>
            <a:off x="2347920" y="4856040"/>
            <a:ext cx="291600" cy="306360"/>
            <a:chOff x="2347920" y="4856040"/>
            <a:chExt cx="291600" cy="306360"/>
          </a:xfrm>
        </p:grpSpPr>
        <p:sp>
          <p:nvSpPr>
            <p:cNvPr id="2342" name=""/>
            <p:cNvSpPr/>
            <p:nvPr/>
          </p:nvSpPr>
          <p:spPr>
            <a:xfrm>
              <a:off x="249948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47920" y="5133960"/>
              <a:ext cx="29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4" name=""/>
          <p:cNvSpPr/>
          <p:nvPr/>
        </p:nvSpPr>
        <p:spPr>
          <a:xfrm>
            <a:off x="5249880" y="2581200"/>
            <a:ext cx="2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40720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2868480" y="31510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7828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flipV="1">
            <a:off x="41353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H="1" flipV="1">
            <a:off x="3173040" y="3385800"/>
            <a:ext cx="384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113360" y="2963880"/>
            <a:ext cx="98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95200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8645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782880" y="231300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rot="10800000">
            <a:off x="2392200" y="343656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49408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249408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0436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008600" y="1495440"/>
            <a:ext cx="72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925720" y="415116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771560" y="3173400"/>
            <a:ext cx="608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4726080" y="5305320"/>
            <a:ext cx="582120" cy="102960"/>
            <a:chOff x="4726080" y="5305320"/>
            <a:chExt cx="582120" cy="102960"/>
          </a:xfrm>
        </p:grpSpPr>
        <p:sp>
          <p:nvSpPr>
            <p:cNvPr id="2362" name=""/>
            <p:cNvSpPr/>
            <p:nvPr/>
          </p:nvSpPr>
          <p:spPr>
            <a:xfrm>
              <a:off x="4726080" y="5305320"/>
              <a:ext cx="58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919760" y="5408280"/>
              <a:ext cx="19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4" name=""/>
          <p:cNvSpPr/>
          <p:nvPr/>
        </p:nvSpPr>
        <p:spPr>
          <a:xfrm>
            <a:off x="50356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0356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495520" y="4838760"/>
            <a:ext cx="254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2435400" y="4782960"/>
            <a:ext cx="9360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5398920" y="5057640"/>
            <a:ext cx="66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807000" y="3629160"/>
            <a:ext cx="82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0" name=""/>
          <p:cNvGrpSpPr/>
          <p:nvPr/>
        </p:nvGrpSpPr>
        <p:grpSpPr>
          <a:xfrm>
            <a:off x="4473720" y="3828960"/>
            <a:ext cx="316800" cy="76320"/>
            <a:chOff x="4473720" y="3828960"/>
            <a:chExt cx="316800" cy="76320"/>
          </a:xfrm>
        </p:grpSpPr>
        <p:sp>
          <p:nvSpPr>
            <p:cNvPr id="2371" name=""/>
            <p:cNvSpPr/>
            <p:nvPr/>
          </p:nvSpPr>
          <p:spPr>
            <a:xfrm>
              <a:off x="4473720" y="382896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483440" y="390528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3" name=""/>
          <p:cNvSpPr/>
          <p:nvPr/>
        </p:nvSpPr>
        <p:spPr>
          <a:xfrm>
            <a:off x="4637160" y="36291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637160" y="3905280"/>
            <a:ext cx="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575240" y="4773600"/>
            <a:ext cx="9504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746520" y="35830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096080" y="367668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3846600" y="2857680"/>
            <a:ext cx="1058760" cy="1942920"/>
          </a:xfrm>
          <a:custGeom>
            <a:avLst/>
            <a:gdLst/>
            <a:ahLst/>
            <a:rect l="l" t="t" r="r" b="b"/>
            <a:pathLst>
              <a:path w="620" h="1224">
                <a:moveTo>
                  <a:pt x="55" y="0"/>
                </a:moveTo>
                <a:cubicBezTo>
                  <a:pt x="34" y="13"/>
                  <a:pt x="13" y="26"/>
                  <a:pt x="13" y="42"/>
                </a:cubicBezTo>
                <a:cubicBezTo>
                  <a:pt x="13" y="58"/>
                  <a:pt x="56" y="77"/>
                  <a:pt x="55" y="96"/>
                </a:cubicBezTo>
                <a:cubicBezTo>
                  <a:pt x="54" y="115"/>
                  <a:pt x="5" y="137"/>
                  <a:pt x="7" y="156"/>
                </a:cubicBezTo>
                <a:cubicBezTo>
                  <a:pt x="9" y="175"/>
                  <a:pt x="65" y="194"/>
                  <a:pt x="67" y="210"/>
                </a:cubicBezTo>
                <a:cubicBezTo>
                  <a:pt x="69" y="226"/>
                  <a:pt x="17" y="233"/>
                  <a:pt x="19" y="252"/>
                </a:cubicBezTo>
                <a:cubicBezTo>
                  <a:pt x="21" y="271"/>
                  <a:pt x="81" y="305"/>
                  <a:pt x="79" y="324"/>
                </a:cubicBezTo>
                <a:cubicBezTo>
                  <a:pt x="77" y="343"/>
                  <a:pt x="0" y="350"/>
                  <a:pt x="7" y="366"/>
                </a:cubicBezTo>
                <a:cubicBezTo>
                  <a:pt x="14" y="382"/>
                  <a:pt x="83" y="417"/>
                  <a:pt x="121" y="420"/>
                </a:cubicBezTo>
                <a:cubicBezTo>
                  <a:pt x="159" y="423"/>
                  <a:pt x="215" y="382"/>
                  <a:pt x="235" y="384"/>
                </a:cubicBezTo>
                <a:cubicBezTo>
                  <a:pt x="255" y="386"/>
                  <a:pt x="231" y="429"/>
                  <a:pt x="241" y="432"/>
                </a:cubicBezTo>
                <a:cubicBezTo>
                  <a:pt x="251" y="435"/>
                  <a:pt x="279" y="398"/>
                  <a:pt x="295" y="402"/>
                </a:cubicBezTo>
                <a:cubicBezTo>
                  <a:pt x="311" y="406"/>
                  <a:pt x="310" y="452"/>
                  <a:pt x="337" y="456"/>
                </a:cubicBezTo>
                <a:cubicBezTo>
                  <a:pt x="364" y="460"/>
                  <a:pt x="436" y="425"/>
                  <a:pt x="457" y="426"/>
                </a:cubicBezTo>
                <a:cubicBezTo>
                  <a:pt x="478" y="427"/>
                  <a:pt x="445" y="451"/>
                  <a:pt x="463" y="462"/>
                </a:cubicBezTo>
                <a:cubicBezTo>
                  <a:pt x="481" y="473"/>
                  <a:pt x="539" y="464"/>
                  <a:pt x="565" y="492"/>
                </a:cubicBezTo>
                <a:cubicBezTo>
                  <a:pt x="591" y="520"/>
                  <a:pt x="620" y="593"/>
                  <a:pt x="619" y="630"/>
                </a:cubicBezTo>
                <a:cubicBezTo>
                  <a:pt x="618" y="667"/>
                  <a:pt x="564" y="687"/>
                  <a:pt x="559" y="714"/>
                </a:cubicBezTo>
                <a:cubicBezTo>
                  <a:pt x="554" y="741"/>
                  <a:pt x="595" y="771"/>
                  <a:pt x="589" y="792"/>
                </a:cubicBezTo>
                <a:cubicBezTo>
                  <a:pt x="583" y="813"/>
                  <a:pt x="529" y="821"/>
                  <a:pt x="523" y="840"/>
                </a:cubicBezTo>
                <a:cubicBezTo>
                  <a:pt x="517" y="859"/>
                  <a:pt x="556" y="888"/>
                  <a:pt x="553" y="906"/>
                </a:cubicBezTo>
                <a:cubicBezTo>
                  <a:pt x="550" y="924"/>
                  <a:pt x="507" y="895"/>
                  <a:pt x="505" y="948"/>
                </a:cubicBezTo>
                <a:cubicBezTo>
                  <a:pt x="503" y="1001"/>
                  <a:pt x="534" y="1178"/>
                  <a:pt x="541" y="122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rot="10800000">
            <a:off x="3695760" y="390960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921120" y="40784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6210360" y="3125880"/>
                <a:ext cx="236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3" name=""/>
          <p:cNvGrpSpPr/>
          <p:nvPr/>
        </p:nvGrpSpPr>
        <p:grpSpPr>
          <a:xfrm>
            <a:off x="1677960" y="1112760"/>
            <a:ext cx="6797880" cy="4516560"/>
            <a:chOff x="1677960" y="1112760"/>
            <a:chExt cx="6797880" cy="4516560"/>
          </a:xfrm>
        </p:grpSpPr>
        <p:sp>
          <p:nvSpPr>
            <p:cNvPr id="2384" name=""/>
            <p:cNvSpPr/>
            <p:nvPr/>
          </p:nvSpPr>
          <p:spPr>
            <a:xfrm>
              <a:off x="1677960" y="3579840"/>
              <a:ext cx="72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350676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506760" y="3251160"/>
              <a:ext cx="29196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216240" y="31496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79872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3506760" y="2738520"/>
              <a:ext cx="29196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rot="10800000">
              <a:off x="3687840" y="1452240"/>
              <a:ext cx="20304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1" name=""/>
            <p:cNvGrpSpPr/>
            <p:nvPr/>
          </p:nvGrpSpPr>
          <p:grpSpPr>
            <a:xfrm>
              <a:off x="4770360" y="2948040"/>
              <a:ext cx="582480" cy="102600"/>
              <a:chOff x="4770360" y="2948040"/>
              <a:chExt cx="582480" cy="102600"/>
            </a:xfrm>
          </p:grpSpPr>
          <p:sp>
            <p:nvSpPr>
              <p:cNvPr id="2392" name=""/>
              <p:cNvSpPr/>
              <p:nvPr/>
            </p:nvSpPr>
            <p:spPr>
              <a:xfrm>
                <a:off x="4770360" y="2948040"/>
                <a:ext cx="58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964400" y="3050640"/>
                <a:ext cx="19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3824280" y="5629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82104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37778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747960" y="1127160"/>
              <a:ext cx="130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494080" y="3149640"/>
              <a:ext cx="82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7828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986360" y="47926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1" name=""/>
            <p:cNvGrpSpPr/>
            <p:nvPr/>
          </p:nvGrpSpPr>
          <p:grpSpPr>
            <a:xfrm>
              <a:off x="2347920" y="4856040"/>
              <a:ext cx="291600" cy="306360"/>
              <a:chOff x="2347920" y="4856040"/>
              <a:chExt cx="291600" cy="306360"/>
            </a:xfrm>
          </p:grpSpPr>
          <p:sp>
            <p:nvSpPr>
              <p:cNvPr id="2402" name=""/>
              <p:cNvSpPr/>
              <p:nvPr/>
            </p:nvSpPr>
            <p:spPr>
              <a:xfrm>
                <a:off x="249948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2347920" y="5133960"/>
                <a:ext cx="29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4" name=""/>
            <p:cNvSpPr/>
            <p:nvPr/>
          </p:nvSpPr>
          <p:spPr>
            <a:xfrm>
              <a:off x="5249880" y="2581200"/>
              <a:ext cx="26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40720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868480" y="3151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7828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41353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 flipV="1">
              <a:off x="3173040" y="3385800"/>
              <a:ext cx="384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113360" y="2963880"/>
              <a:ext cx="98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95200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8645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782880" y="2313000"/>
              <a:ext cx="93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rot="10800000">
              <a:off x="2392200" y="3436560"/>
              <a:ext cx="2016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49408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V="1">
              <a:off x="249408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0436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008600" y="1495440"/>
              <a:ext cx="72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9" name=""/>
            <p:cNvGrpSpPr/>
            <p:nvPr/>
          </p:nvGrpSpPr>
          <p:grpSpPr>
            <a:xfrm>
              <a:off x="3575160" y="3855960"/>
              <a:ext cx="491760" cy="685800"/>
              <a:chOff x="3575160" y="3855960"/>
              <a:chExt cx="491760" cy="685800"/>
            </a:xfrm>
          </p:grpSpPr>
          <p:sp>
            <p:nvSpPr>
              <p:cNvPr id="2420" name=""/>
              <p:cNvSpPr/>
              <p:nvPr/>
            </p:nvSpPr>
            <p:spPr>
              <a:xfrm>
                <a:off x="3575160" y="38559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3575160" y="40845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82104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3" name=""/>
            <p:cNvSpPr/>
            <p:nvPr/>
          </p:nvSpPr>
          <p:spPr>
            <a:xfrm>
              <a:off x="2925720" y="41511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254640" y="3270240"/>
              <a:ext cx="2221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Q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r>
                <a:rPr b="0" lang="pl-P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771560" y="3173400"/>
              <a:ext cx="608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6" name=""/>
            <p:cNvGrpSpPr/>
            <p:nvPr/>
          </p:nvGrpSpPr>
          <p:grpSpPr>
            <a:xfrm>
              <a:off x="4726080" y="5305320"/>
              <a:ext cx="582120" cy="102960"/>
              <a:chOff x="4726080" y="5305320"/>
              <a:chExt cx="582120" cy="102960"/>
            </a:xfrm>
          </p:grpSpPr>
          <p:sp>
            <p:nvSpPr>
              <p:cNvPr id="2427" name=""/>
              <p:cNvSpPr/>
              <p:nvPr/>
            </p:nvSpPr>
            <p:spPr>
              <a:xfrm>
                <a:off x="4726080" y="5305320"/>
                <a:ext cx="58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919760" y="5408280"/>
                <a:ext cx="193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9" name=""/>
            <p:cNvSpPr/>
            <p:nvPr/>
          </p:nvSpPr>
          <p:spPr>
            <a:xfrm>
              <a:off x="50356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0356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5520" y="4838760"/>
              <a:ext cx="25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435400" y="4782960"/>
              <a:ext cx="9360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398920" y="5057640"/>
              <a:ext cx="66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807000" y="3629160"/>
              <a:ext cx="82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5" name=""/>
            <p:cNvGrpSpPr/>
            <p:nvPr/>
          </p:nvGrpSpPr>
          <p:grpSpPr>
            <a:xfrm>
              <a:off x="4473720" y="3828960"/>
              <a:ext cx="316800" cy="76320"/>
              <a:chOff x="4473720" y="3828960"/>
              <a:chExt cx="316800" cy="76320"/>
            </a:xfrm>
          </p:grpSpPr>
          <p:sp>
            <p:nvSpPr>
              <p:cNvPr id="2436" name=""/>
              <p:cNvSpPr/>
              <p:nvPr/>
            </p:nvSpPr>
            <p:spPr>
              <a:xfrm>
                <a:off x="4473720" y="382896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4483440" y="390528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4637160" y="362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637160" y="39052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575240" y="4773600"/>
              <a:ext cx="9504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746520" y="35830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096080" y="36766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846600" y="2857680"/>
              <a:ext cx="105876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6" name=""/>
          <p:cNvGrpSpPr/>
          <p:nvPr/>
        </p:nvGrpSpPr>
        <p:grpSpPr>
          <a:xfrm>
            <a:off x="1677960" y="1089000"/>
            <a:ext cx="6624720" cy="4540320"/>
            <a:chOff x="1677960" y="1089000"/>
            <a:chExt cx="6624720" cy="4540320"/>
          </a:xfrm>
        </p:grpSpPr>
        <p:sp>
          <p:nvSpPr>
            <p:cNvPr id="2447" name="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0" name=""/>
            <p:cNvGrpSpPr/>
            <p:nvPr/>
          </p:nvGrpSpPr>
          <p:grpSpPr>
            <a:xfrm>
              <a:off x="7101000" y="2948040"/>
              <a:ext cx="540720" cy="102600"/>
              <a:chOff x="7101000" y="2948040"/>
              <a:chExt cx="540720" cy="102600"/>
            </a:xfrm>
          </p:grpSpPr>
          <p:sp>
            <p:nvSpPr>
              <p:cNvPr id="2451" name=""/>
              <p:cNvSpPr/>
              <p:nvPr/>
            </p:nvSpPr>
            <p:spPr>
              <a:xfrm>
                <a:off x="7101000" y="2948040"/>
                <a:ext cx="54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28100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3" name=""/>
            <p:cNvSpPr/>
            <p:nvPr/>
          </p:nvSpPr>
          <p:spPr>
            <a:xfrm>
              <a:off x="3673440" y="562932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649680" y="1127160"/>
              <a:ext cx="37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300800" y="47926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2461" name="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3" name=""/>
            <p:cNvSpPr/>
            <p:nvPr/>
          </p:nvSpPr>
          <p:spPr>
            <a:xfrm>
              <a:off x="7547040" y="2581200"/>
              <a:ext cx="24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69464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3548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2" name="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2473" name="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6" name="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8" name=""/>
            <p:cNvGrpSpPr/>
            <p:nvPr/>
          </p:nvGrpSpPr>
          <p:grpSpPr>
            <a:xfrm>
              <a:off x="7059600" y="5305320"/>
              <a:ext cx="541080" cy="102960"/>
              <a:chOff x="7059600" y="5305320"/>
              <a:chExt cx="541080" cy="102960"/>
            </a:xfrm>
          </p:grpSpPr>
          <p:sp>
            <p:nvSpPr>
              <p:cNvPr id="2479" name=""/>
              <p:cNvSpPr/>
              <p:nvPr/>
            </p:nvSpPr>
            <p:spPr>
              <a:xfrm>
                <a:off x="705960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23960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1" name=""/>
            <p:cNvSpPr/>
            <p:nvPr/>
          </p:nvSpPr>
          <p:spPr>
            <a:xfrm>
              <a:off x="73468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3468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38280" y="4838760"/>
              <a:ext cx="498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684920" y="505764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896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657600" y="36291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357880" y="286380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H="1">
              <a:off x="5086440" y="324324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H="1">
              <a:off x="5357520" y="31417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H="1" flipV="1">
              <a:off x="5086440" y="273060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>
              <a:off x="5533920" y="3143160"/>
              <a:ext cx="4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100480" y="230508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V="1">
              <a:off x="4773600" y="283176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5553720" y="2560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H="1">
              <a:off x="4628520" y="2305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5048280" y="10890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5067360" y="3429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V="1">
              <a:off x="5095800" y="1133280"/>
              <a:ext cx="0" cy="16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952960" y="3143160"/>
              <a:ext cx="0" cy="16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175280" y="3662280"/>
              <a:ext cx="906480" cy="5101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rot="10800000">
              <a:off x="5846760" y="3490560"/>
              <a:ext cx="18720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4" name=""/>
                <p:cNvSpPr txBox="1"/>
                <p:nvPr/>
              </p:nvSpPr>
              <p:spPr>
                <a:xfrm>
                  <a:off x="5459400" y="1698480"/>
                  <a:ext cx="13795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15" name=""/>
            <p:cNvSpPr/>
            <p:nvPr/>
          </p:nvSpPr>
          <p:spPr>
            <a:xfrm>
              <a:off x="6135840" y="3559320"/>
              <a:ext cx="67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19" name="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2520" name="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9" name="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2640" name="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3" name="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5" name="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2646" name="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0" name="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2" name="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2783" name="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7" name="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2818" name="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5" name="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4" name="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2865" name="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7" name="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6" name="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2877" name="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2880" name="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2" name="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5" name="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2886" name="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2889" name="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1" name="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2" name="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2893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5" name="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6" name="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2897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9" name="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0" name="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2901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3" name="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7" name="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2908" name="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2934" name="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2974" name="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1" name="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3002" name="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6" name="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2" name="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3043" name="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3052" name="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4" name="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7" name="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3058" name="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0" name="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3061" name="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3" name="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3081" name="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9" name="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3090" name="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2" name="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5" name="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3096" name="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8" name="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3099" name="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5" name=""/>
          <p:cNvGrpSpPr/>
          <p:nvPr/>
        </p:nvGrpSpPr>
        <p:grpSpPr>
          <a:xfrm>
            <a:off x="2386080" y="1224000"/>
            <a:ext cx="3821040" cy="2901960"/>
            <a:chOff x="2386080" y="1224000"/>
            <a:chExt cx="3821040" cy="2901960"/>
          </a:xfrm>
        </p:grpSpPr>
        <p:sp>
          <p:nvSpPr>
            <p:cNvPr id="3126" name=""/>
            <p:cNvSpPr/>
            <p:nvPr/>
          </p:nvSpPr>
          <p:spPr>
            <a:xfrm>
              <a:off x="2832120" y="1887480"/>
              <a:ext cx="1792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21040" y="17017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21040" y="235440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386080" y="198756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552040" y="20304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780080" y="2916360"/>
              <a:ext cx="536400" cy="5364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944960" y="303372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V="1">
              <a:off x="4960800" y="298620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4" name=""/>
            <p:cNvGrpSpPr/>
            <p:nvPr/>
          </p:nvGrpSpPr>
          <p:grpSpPr>
            <a:xfrm>
              <a:off x="4960800" y="3224160"/>
              <a:ext cx="163800" cy="111240"/>
              <a:chOff x="4960800" y="3224160"/>
              <a:chExt cx="163800" cy="111240"/>
            </a:xfrm>
          </p:grpSpPr>
          <p:sp>
            <p:nvSpPr>
              <p:cNvPr id="3135" name=""/>
              <p:cNvSpPr/>
              <p:nvPr/>
            </p:nvSpPr>
            <p:spPr>
              <a:xfrm>
                <a:off x="4960800" y="3251160"/>
                <a:ext cx="1638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992840" y="3224160"/>
                <a:ext cx="1317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7" name=""/>
            <p:cNvSpPr/>
            <p:nvPr/>
          </p:nvSpPr>
          <p:spPr>
            <a:xfrm>
              <a:off x="5124600" y="3330720"/>
              <a:ext cx="10152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4775040" y="318780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226120" y="3378240"/>
              <a:ext cx="144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5226120" y="2204640"/>
              <a:ext cx="144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594320" y="318780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884320" y="2544840"/>
              <a:ext cx="74880" cy="6336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836800" y="2916360"/>
              <a:ext cx="541440" cy="541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203640" y="30337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H="1" flipV="1">
              <a:off x="2920680" y="2986200"/>
              <a:ext cx="2667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6" name=""/>
            <p:cNvGrpSpPr/>
            <p:nvPr/>
          </p:nvGrpSpPr>
          <p:grpSpPr>
            <a:xfrm>
              <a:off x="3022200" y="3224160"/>
              <a:ext cx="165240" cy="111240"/>
              <a:chOff x="3022200" y="3224160"/>
              <a:chExt cx="165240" cy="111240"/>
            </a:xfrm>
          </p:grpSpPr>
          <p:sp>
            <p:nvSpPr>
              <p:cNvPr id="3147" name=""/>
              <p:cNvSpPr/>
              <p:nvPr/>
            </p:nvSpPr>
            <p:spPr>
              <a:xfrm flipH="1">
                <a:off x="3022200" y="32511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022560" y="32241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 flipH="1">
              <a:off x="2921040" y="3335400"/>
              <a:ext cx="1015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203640" y="31924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21040" y="33829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V="1">
              <a:off x="2916360" y="2789280"/>
              <a:ext cx="468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3367080" y="31924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936880" y="3994200"/>
              <a:ext cx="2289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5" name=""/>
            <p:cNvGrpSpPr/>
            <p:nvPr/>
          </p:nvGrpSpPr>
          <p:grpSpPr>
            <a:xfrm>
              <a:off x="3559320" y="3133800"/>
              <a:ext cx="1046160" cy="117360"/>
              <a:chOff x="3559320" y="3133800"/>
              <a:chExt cx="1046160" cy="117360"/>
            </a:xfrm>
          </p:grpSpPr>
          <p:sp>
            <p:nvSpPr>
              <p:cNvPr id="3156" name=""/>
              <p:cNvSpPr/>
              <p:nvPr/>
            </p:nvSpPr>
            <p:spPr>
              <a:xfrm>
                <a:off x="3559320" y="3192480"/>
                <a:ext cx="1046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559320" y="31338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492800" y="3138480"/>
                <a:ext cx="11268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9" name=""/>
            <p:cNvSpPr/>
            <p:nvPr/>
          </p:nvSpPr>
          <p:spPr>
            <a:xfrm flipV="1">
              <a:off x="4078440" y="2549160"/>
              <a:ext cx="144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16360" y="2565360"/>
              <a:ext cx="116208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1" name=""/>
            <p:cNvGrpSpPr/>
            <p:nvPr/>
          </p:nvGrpSpPr>
          <p:grpSpPr>
            <a:xfrm>
              <a:off x="2857680" y="2560680"/>
              <a:ext cx="112680" cy="264960"/>
              <a:chOff x="2857680" y="2560680"/>
              <a:chExt cx="112680" cy="264960"/>
            </a:xfrm>
          </p:grpSpPr>
          <p:sp>
            <p:nvSpPr>
              <p:cNvPr id="3162" name=""/>
              <p:cNvSpPr/>
              <p:nvPr/>
            </p:nvSpPr>
            <p:spPr>
              <a:xfrm flipV="1">
                <a:off x="2916360" y="256068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2857680" y="271476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4" name=""/>
            <p:cNvGrpSpPr/>
            <p:nvPr/>
          </p:nvGrpSpPr>
          <p:grpSpPr>
            <a:xfrm>
              <a:off x="2857680" y="1425600"/>
              <a:ext cx="112680" cy="264960"/>
              <a:chOff x="2857680" y="1425600"/>
              <a:chExt cx="112680" cy="264960"/>
            </a:xfrm>
          </p:grpSpPr>
          <p:sp>
            <p:nvSpPr>
              <p:cNvPr id="3165" name=""/>
              <p:cNvSpPr/>
              <p:nvPr/>
            </p:nvSpPr>
            <p:spPr>
              <a:xfrm flipV="1">
                <a:off x="2916360" y="142560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2857680" y="157968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7" name=""/>
            <p:cNvGrpSpPr/>
            <p:nvPr/>
          </p:nvGrpSpPr>
          <p:grpSpPr>
            <a:xfrm>
              <a:off x="5167440" y="1674360"/>
              <a:ext cx="110880" cy="530640"/>
              <a:chOff x="5167440" y="1674360"/>
              <a:chExt cx="110880" cy="530640"/>
            </a:xfrm>
          </p:grpSpPr>
          <p:sp>
            <p:nvSpPr>
              <p:cNvPr id="3168" name=""/>
              <p:cNvSpPr/>
              <p:nvPr/>
            </p:nvSpPr>
            <p:spPr>
              <a:xfrm flipV="1">
                <a:off x="5226120" y="16743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167440" y="20937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0" name=""/>
            <p:cNvGrpSpPr/>
            <p:nvPr/>
          </p:nvGrpSpPr>
          <p:grpSpPr>
            <a:xfrm>
              <a:off x="4025880" y="3330720"/>
              <a:ext cx="111240" cy="566640"/>
              <a:chOff x="4025880" y="3330720"/>
              <a:chExt cx="111240" cy="566640"/>
            </a:xfrm>
          </p:grpSpPr>
          <p:sp>
            <p:nvSpPr>
              <p:cNvPr id="3171" name=""/>
              <p:cNvSpPr/>
              <p:nvPr/>
            </p:nvSpPr>
            <p:spPr>
              <a:xfrm>
                <a:off x="4078440" y="333072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025880" y="333072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3" name=""/>
            <p:cNvGrpSpPr/>
            <p:nvPr/>
          </p:nvGrpSpPr>
          <p:grpSpPr>
            <a:xfrm>
              <a:off x="5783400" y="2189160"/>
              <a:ext cx="110880" cy="1576440"/>
              <a:chOff x="5783400" y="2189160"/>
              <a:chExt cx="110880" cy="1576440"/>
            </a:xfrm>
          </p:grpSpPr>
          <p:sp>
            <p:nvSpPr>
              <p:cNvPr id="3174" name=""/>
              <p:cNvSpPr/>
              <p:nvPr/>
            </p:nvSpPr>
            <p:spPr>
              <a:xfrm>
                <a:off x="5835600" y="2189160"/>
                <a:ext cx="6480" cy="1576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783400" y="21891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6" name=""/>
            <p:cNvSpPr/>
            <p:nvPr/>
          </p:nvSpPr>
          <p:spPr>
            <a:xfrm>
              <a:off x="2879640" y="14097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046400" y="3154320"/>
              <a:ext cx="748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454120" y="3017880"/>
              <a:ext cx="33984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56284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67588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342040" y="301788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45040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56380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310360" y="20192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412960" y="2066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678200" y="2236680"/>
              <a:ext cx="3034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785840" y="2279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852800" y="23860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540160" y="1504800"/>
              <a:ext cx="301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647440" y="15526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714400" y="1658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313160" y="27669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436640" y="2809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507920" y="2916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484440" y="2782800"/>
              <a:ext cx="355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80920" y="28256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652560" y="2932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56000" y="2619360"/>
              <a:ext cx="301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640960" y="26622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711520" y="27669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148280" y="3430440"/>
              <a:ext cx="4507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245480" y="3473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402800" y="357984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038400" y="122400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114000" y="1265400"/>
              <a:ext cx="29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394080" y="1371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921280" y="2800440"/>
              <a:ext cx="28584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024960" y="2847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211640" y="3994200"/>
              <a:ext cx="1440" cy="11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078440" y="4094280"/>
              <a:ext cx="26640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3" name=""/>
          <p:cNvSpPr/>
          <p:nvPr/>
        </p:nvSpPr>
        <p:spPr>
          <a:xfrm>
            <a:off x="6748920" y="4697280"/>
            <a:ext cx="21038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4" name="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3215" name="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5" name="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3226" name="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8" name="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6" name="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3237" name="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9" name="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7" name="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3248" name="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0" name="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8" name="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3259" name="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1" name="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9" name="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3270" name="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2" name="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0" name="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3281" name="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3" name="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1" name="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3292" name="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4" name="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3" name="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3304" name="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6" name="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3307" name="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9" name="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3310" name="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2" name="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3313" name="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5" name="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8" name="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3319" name="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1" name="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9" name="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3330" name="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2" name="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0" name="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3341" name="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3" name="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1" name="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3352" name="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4" name="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3355" name="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7" name="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3358" name="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0" name="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3361" name="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3" name="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3364" name="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3" name="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7" name="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9" name=""/>
          <p:cNvGrpSpPr/>
          <p:nvPr/>
        </p:nvGrpSpPr>
        <p:grpSpPr>
          <a:xfrm>
            <a:off x="295200" y="1668600"/>
            <a:ext cx="8424720" cy="4105080"/>
            <a:chOff x="295200" y="1668600"/>
            <a:chExt cx="8424720" cy="4105080"/>
          </a:xfrm>
        </p:grpSpPr>
        <p:sp>
          <p:nvSpPr>
            <p:cNvPr id="3470" name=""/>
            <p:cNvSpPr/>
            <p:nvPr/>
          </p:nvSpPr>
          <p:spPr>
            <a:xfrm>
              <a:off x="295200" y="212400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1" name=""/>
                <p:cNvSpPr txBox="1"/>
                <p:nvPr/>
              </p:nvSpPr>
              <p:spPr>
                <a:xfrm>
                  <a:off x="3155760" y="5286240"/>
                  <a:ext cx="300348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2" name=""/>
            <p:cNvSpPr/>
            <p:nvPr/>
          </p:nvSpPr>
          <p:spPr>
            <a:xfrm>
              <a:off x="1015920" y="2332080"/>
              <a:ext cx="1774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104840" y="21463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1104840" y="2798640"/>
              <a:ext cx="144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91920" y="2475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1068120" y="2989080"/>
              <a:ext cx="74520" cy="637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1020600" y="3360600"/>
              <a:ext cx="539640" cy="541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1385640" y="34783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 flipV="1">
              <a:off x="1104840" y="3430440"/>
              <a:ext cx="2649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0" name=""/>
            <p:cNvGrpSpPr/>
            <p:nvPr/>
          </p:nvGrpSpPr>
          <p:grpSpPr>
            <a:xfrm>
              <a:off x="1204200" y="3668760"/>
              <a:ext cx="165240" cy="111240"/>
              <a:chOff x="1204200" y="3668760"/>
              <a:chExt cx="165240" cy="111240"/>
            </a:xfrm>
          </p:grpSpPr>
          <p:sp>
            <p:nvSpPr>
              <p:cNvPr id="3481" name=""/>
              <p:cNvSpPr/>
              <p:nvPr/>
            </p:nvSpPr>
            <p:spPr>
              <a:xfrm flipH="1">
                <a:off x="1204200" y="36957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1204560" y="36687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3" name=""/>
            <p:cNvSpPr/>
            <p:nvPr/>
          </p:nvSpPr>
          <p:spPr>
            <a:xfrm flipH="1">
              <a:off x="1104480" y="3780000"/>
              <a:ext cx="997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1385640" y="36370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1104840" y="38275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1099800" y="3233880"/>
              <a:ext cx="504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H="1">
              <a:off x="1549080" y="36370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120680" y="4438800"/>
              <a:ext cx="654984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9" name=""/>
            <p:cNvGrpSpPr/>
            <p:nvPr/>
          </p:nvGrpSpPr>
          <p:grpSpPr>
            <a:xfrm>
              <a:off x="1741320" y="3578040"/>
              <a:ext cx="1044360" cy="117360"/>
              <a:chOff x="1741320" y="3578040"/>
              <a:chExt cx="1044360" cy="117360"/>
            </a:xfrm>
          </p:grpSpPr>
          <p:sp>
            <p:nvSpPr>
              <p:cNvPr id="3490" name=""/>
              <p:cNvSpPr/>
              <p:nvPr/>
            </p:nvSpPr>
            <p:spPr>
              <a:xfrm>
                <a:off x="1741320" y="3636720"/>
                <a:ext cx="1044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1741320" y="3578040"/>
                <a:ext cx="11052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2673000" y="3582720"/>
                <a:ext cx="11232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3" name=""/>
            <p:cNvSpPr/>
            <p:nvPr/>
          </p:nvSpPr>
          <p:spPr>
            <a:xfrm flipV="1">
              <a:off x="2258640" y="2993760"/>
              <a:ext cx="180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1099800" y="3009960"/>
              <a:ext cx="115884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5" name=""/>
            <p:cNvGrpSpPr/>
            <p:nvPr/>
          </p:nvGrpSpPr>
          <p:grpSpPr>
            <a:xfrm>
              <a:off x="1041120" y="3005280"/>
              <a:ext cx="111240" cy="264960"/>
              <a:chOff x="1041120" y="3005280"/>
              <a:chExt cx="111240" cy="264960"/>
            </a:xfrm>
          </p:grpSpPr>
          <p:sp>
            <p:nvSpPr>
              <p:cNvPr id="3496" name=""/>
              <p:cNvSpPr/>
              <p:nvPr/>
            </p:nvSpPr>
            <p:spPr>
              <a:xfrm flipV="1">
                <a:off x="1098720" y="300528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041120" y="31593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8" name=""/>
            <p:cNvGrpSpPr/>
            <p:nvPr/>
          </p:nvGrpSpPr>
          <p:grpSpPr>
            <a:xfrm>
              <a:off x="1041120" y="1870200"/>
              <a:ext cx="111240" cy="264960"/>
              <a:chOff x="1041120" y="1870200"/>
              <a:chExt cx="111240" cy="264960"/>
            </a:xfrm>
          </p:grpSpPr>
          <p:sp>
            <p:nvSpPr>
              <p:cNvPr id="3499" name=""/>
              <p:cNvSpPr/>
              <p:nvPr/>
            </p:nvSpPr>
            <p:spPr>
              <a:xfrm flipV="1">
                <a:off x="1098720" y="187020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041120" y="202428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1" name=""/>
            <p:cNvGrpSpPr/>
            <p:nvPr/>
          </p:nvGrpSpPr>
          <p:grpSpPr>
            <a:xfrm>
              <a:off x="2206440" y="3774960"/>
              <a:ext cx="111240" cy="566640"/>
              <a:chOff x="2206440" y="3774960"/>
              <a:chExt cx="111240" cy="566640"/>
            </a:xfrm>
          </p:grpSpPr>
          <p:sp>
            <p:nvSpPr>
              <p:cNvPr id="3502" name=""/>
              <p:cNvSpPr/>
              <p:nvPr/>
            </p:nvSpPr>
            <p:spPr>
              <a:xfrm>
                <a:off x="2259000" y="377496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206440" y="37749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4" name=""/>
            <p:cNvSpPr/>
            <p:nvPr/>
          </p:nvSpPr>
          <p:spPr>
            <a:xfrm>
              <a:off x="1063440" y="18543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226960" y="35989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637920" y="3462480"/>
              <a:ext cx="33984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00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2332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55200" y="1960560"/>
              <a:ext cx="176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493720" y="32115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666800" y="3227400"/>
              <a:ext cx="355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1719000" y="327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793520" y="33764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39440" y="3063960"/>
              <a:ext cx="3016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80840" y="310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855360" y="3211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328480" y="387504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380680" y="391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220400" y="1668600"/>
              <a:ext cx="4510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252080" y="170964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960280" y="3360600"/>
              <a:ext cx="53532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3125520" y="3478320"/>
              <a:ext cx="1800" cy="29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V="1">
              <a:off x="3141360" y="343044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4" name=""/>
            <p:cNvGrpSpPr/>
            <p:nvPr/>
          </p:nvGrpSpPr>
          <p:grpSpPr>
            <a:xfrm>
              <a:off x="3141360" y="3668760"/>
              <a:ext cx="162000" cy="111240"/>
              <a:chOff x="3141360" y="3668760"/>
              <a:chExt cx="162000" cy="111240"/>
            </a:xfrm>
          </p:grpSpPr>
          <p:sp>
            <p:nvSpPr>
              <p:cNvPr id="3525" name=""/>
              <p:cNvSpPr/>
              <p:nvPr/>
            </p:nvSpPr>
            <p:spPr>
              <a:xfrm>
                <a:off x="3141360" y="3695760"/>
                <a:ext cx="1620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3173040" y="3668760"/>
                <a:ext cx="1299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7" name=""/>
            <p:cNvSpPr/>
            <p:nvPr/>
          </p:nvSpPr>
          <p:spPr>
            <a:xfrm>
              <a:off x="3303360" y="3774960"/>
              <a:ext cx="10152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 flipH="1">
              <a:off x="2955600" y="3632040"/>
              <a:ext cx="16992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404880" y="3822840"/>
              <a:ext cx="180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V="1">
              <a:off x="3404880" y="2649240"/>
              <a:ext cx="180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1" name=""/>
            <p:cNvGrpSpPr/>
            <p:nvPr/>
          </p:nvGrpSpPr>
          <p:grpSpPr>
            <a:xfrm>
              <a:off x="3346200" y="2118960"/>
              <a:ext cx="110880" cy="530640"/>
              <a:chOff x="3346200" y="2118960"/>
              <a:chExt cx="110880" cy="530640"/>
            </a:xfrm>
          </p:grpSpPr>
          <p:sp>
            <p:nvSpPr>
              <p:cNvPr id="3532" name=""/>
              <p:cNvSpPr/>
              <p:nvPr/>
            </p:nvSpPr>
            <p:spPr>
              <a:xfrm flipV="1">
                <a:off x="3404880" y="21189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3346200" y="25383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4" name=""/>
            <p:cNvSpPr/>
            <p:nvPr/>
          </p:nvSpPr>
          <p:spPr>
            <a:xfrm>
              <a:off x="3520800" y="3462480"/>
              <a:ext cx="33516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58344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370620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489120" y="24638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547800" y="2511360"/>
              <a:ext cx="8002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źr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573280" y="3254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647800" y="33606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541600" y="40244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100400" y="324468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79088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956120" y="3481200"/>
              <a:ext cx="144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 flipV="1">
              <a:off x="4971960" y="343368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6" name=""/>
            <p:cNvGrpSpPr/>
            <p:nvPr/>
          </p:nvGrpSpPr>
          <p:grpSpPr>
            <a:xfrm>
              <a:off x="4971960" y="3672000"/>
              <a:ext cx="163440" cy="110880"/>
              <a:chOff x="4971960" y="3672000"/>
              <a:chExt cx="163440" cy="110880"/>
            </a:xfrm>
          </p:grpSpPr>
          <p:sp>
            <p:nvSpPr>
              <p:cNvPr id="3547" name=""/>
              <p:cNvSpPr/>
              <p:nvPr/>
            </p:nvSpPr>
            <p:spPr>
              <a:xfrm>
                <a:off x="497196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00364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9" name=""/>
            <p:cNvSpPr/>
            <p:nvPr/>
          </p:nvSpPr>
          <p:spPr>
            <a:xfrm>
              <a:off x="5135400" y="3778200"/>
              <a:ext cx="1000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H="1">
              <a:off x="478620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23548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V="1">
              <a:off x="523548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60512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4" name=""/>
            <p:cNvGrpSpPr/>
            <p:nvPr/>
          </p:nvGrpSpPr>
          <p:grpSpPr>
            <a:xfrm>
              <a:off x="5178240" y="2122200"/>
              <a:ext cx="109440" cy="530640"/>
              <a:chOff x="5178240" y="2122200"/>
              <a:chExt cx="109440" cy="530640"/>
            </a:xfrm>
          </p:grpSpPr>
          <p:sp>
            <p:nvSpPr>
              <p:cNvPr id="3555" name=""/>
              <p:cNvSpPr/>
              <p:nvPr/>
            </p:nvSpPr>
            <p:spPr>
              <a:xfrm flipV="1">
                <a:off x="523584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17824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7" name=""/>
            <p:cNvSpPr/>
            <p:nvPr/>
          </p:nvSpPr>
          <p:spPr>
            <a:xfrm>
              <a:off x="5351400" y="346536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41404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53644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31936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378400" y="2514600"/>
              <a:ext cx="572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440352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47804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5930640" y="324792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73092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895800" y="348120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V="1">
              <a:off x="6911640" y="343368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8" name=""/>
            <p:cNvGrpSpPr/>
            <p:nvPr/>
          </p:nvGrpSpPr>
          <p:grpSpPr>
            <a:xfrm>
              <a:off x="6911640" y="3672000"/>
              <a:ext cx="163440" cy="110880"/>
              <a:chOff x="6911640" y="3672000"/>
              <a:chExt cx="163440" cy="110880"/>
            </a:xfrm>
          </p:grpSpPr>
          <p:sp>
            <p:nvSpPr>
              <p:cNvPr id="3569" name=""/>
              <p:cNvSpPr/>
              <p:nvPr/>
            </p:nvSpPr>
            <p:spPr>
              <a:xfrm>
                <a:off x="691164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694332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1" name=""/>
            <p:cNvSpPr/>
            <p:nvPr/>
          </p:nvSpPr>
          <p:spPr>
            <a:xfrm>
              <a:off x="7075080" y="3778200"/>
              <a:ext cx="1018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H="1">
              <a:off x="672588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17696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 flipV="1">
              <a:off x="717696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54516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6" name=""/>
            <p:cNvGrpSpPr/>
            <p:nvPr/>
          </p:nvGrpSpPr>
          <p:grpSpPr>
            <a:xfrm>
              <a:off x="7118280" y="2122200"/>
              <a:ext cx="109440" cy="530640"/>
              <a:chOff x="7118280" y="2122200"/>
              <a:chExt cx="109440" cy="530640"/>
            </a:xfrm>
          </p:grpSpPr>
          <p:sp>
            <p:nvSpPr>
              <p:cNvPr id="3577" name=""/>
              <p:cNvSpPr/>
              <p:nvPr/>
            </p:nvSpPr>
            <p:spPr>
              <a:xfrm flipV="1">
                <a:off x="717588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11828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9" name=""/>
            <p:cNvGrpSpPr/>
            <p:nvPr/>
          </p:nvGrpSpPr>
          <p:grpSpPr>
            <a:xfrm>
              <a:off x="7732440" y="2637000"/>
              <a:ext cx="110880" cy="1576080"/>
              <a:chOff x="7732440" y="2637000"/>
              <a:chExt cx="110880" cy="1576080"/>
            </a:xfrm>
          </p:grpSpPr>
          <p:sp>
            <p:nvSpPr>
              <p:cNvPr id="3580" name=""/>
              <p:cNvSpPr/>
              <p:nvPr/>
            </p:nvSpPr>
            <p:spPr>
              <a:xfrm>
                <a:off x="7784640" y="2637000"/>
                <a:ext cx="6480" cy="157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732440" y="26370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>
              <a:off x="7291080" y="3465360"/>
              <a:ext cx="3351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35372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47648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25940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318080" y="2514600"/>
              <a:ext cx="677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34356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41808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870680" y="3247920"/>
              <a:ext cx="2858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7929000" y="3295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H="1">
              <a:off x="2766600" y="3637080"/>
              <a:ext cx="3817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368520" y="441180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213160" y="44053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135560" y="4398840"/>
              <a:ext cx="730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781760" y="4438800"/>
              <a:ext cx="938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6" name=""/>
            <p:cNvGrpSpPr/>
            <p:nvPr/>
          </p:nvGrpSpPr>
          <p:grpSpPr>
            <a:xfrm>
              <a:off x="3282840" y="4402080"/>
              <a:ext cx="266760" cy="191880"/>
              <a:chOff x="3282840" y="4402080"/>
              <a:chExt cx="266760" cy="191880"/>
            </a:xfrm>
          </p:grpSpPr>
          <p:sp>
            <p:nvSpPr>
              <p:cNvPr id="3597" name=""/>
              <p:cNvSpPr/>
              <p:nvPr/>
            </p:nvSpPr>
            <p:spPr>
              <a:xfrm>
                <a:off x="3282840" y="4562280"/>
                <a:ext cx="26676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 flipV="1">
                <a:off x="3411360" y="4402080"/>
                <a:ext cx="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1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9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610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2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8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619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2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4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625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7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628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0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631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3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3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654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6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0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661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3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5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676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8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3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684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6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7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698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0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5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706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8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709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1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5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726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8" name="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173" name="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177" name="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89320" y="29844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08120" y="4343400"/>
                <a:ext cx="359568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521240" y="5421240"/>
                <a:ext cx="137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5" name="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3736" name="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0" name="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3751" name="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3" name="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5" name="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3756" name="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9" name="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3780" name="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2" name="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0" name="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3791" name="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3" name="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7" name="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3808" name="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0" name="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3811" name="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8" name="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3839" name="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1" name="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7" name="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3848" name="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0" name="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3851" name="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3" name="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3854" name="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6" name="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7" name="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557640" y="5146560"/>
            <a:ext cx="31863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koj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5042160" y="5181480"/>
            <a:ext cx="32439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ompensacja wpływu 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wyższe temperatury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kilkadziesiąt i więcej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3" name="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3874" name="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8" name="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3889" name="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3" name="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3894" name="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6" name="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7" name="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3918" name="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0" name="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8" name="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3929" name="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1" name="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5" name="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3946" name="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8" name="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3949" name="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1" name="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7" name="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3958" name="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0" name="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3961" name="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3" name="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3964" name="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6" name="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title"/>
          </p:nvPr>
        </p:nvSpPr>
        <p:spPr>
          <a:xfrm>
            <a:off x="79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symulacja PSpic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3" name="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3994" name="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5" name="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6" name="Clipboard01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3997" name=""/>
          <p:cNvSpPr/>
          <p:nvPr/>
        </p:nvSpPr>
        <p:spPr>
          <a:xfrm>
            <a:off x="3225960" y="5289480"/>
            <a:ext cx="1231920" cy="662040"/>
          </a:xfrm>
          <a:prstGeom prst="wedgeRoundRectCallout">
            <a:avLst>
              <a:gd name="adj1" fmla="val 185310"/>
              <a:gd name="adj2" fmla="val -91245"/>
              <a:gd name="adj3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8" name="Clipboard04" descr="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wpływ składowej stałej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ądu kolektora na wzmoc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 -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1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 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7" name="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4018" name="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0" name="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6" name="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4057" name="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9" name="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2" name="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4073" name="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5" name="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4076" name="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8" name="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3" name="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4084" name="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6" name="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4087" name="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9" name="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6" name="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4097" name="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9" name="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0" name="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4161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4" name="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4165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7" name="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9" name="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4180" name="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3" name="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4184" name="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6" name="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9" name="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4190" name="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2" name="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4193" name="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5" name="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9" name="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4210" name="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2" name="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2" name="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4223" name="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5" name="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0" name="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4241" name="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3" name="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8" name="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4259" name="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1" name="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5" name="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4276" name="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8" name="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0" name="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4291" name="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3" name="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4" name="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7" name="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8" name="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9" name="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4300" name="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7" name="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2" name="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4313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5" name="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4316" name="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7" name="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0" name="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4331" name="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4334" name="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4337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9" name="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0" name="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4341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3" name="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4" name="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4355" name="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7" name="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4358" name="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0" name="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0" name="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4371" name="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7" name="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8" name="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4389" name="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4" name="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4395" name="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7" name="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0" name="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4401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6" name="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4407" name="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9" name="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4410" name="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2" name="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4413" name="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5" name="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3" name="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4424" name="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2" name="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851160" y="2378160"/>
              <a:ext cx="2230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akładana, maksym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miana prądu dren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7" name="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4478" name="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0" name="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5" name="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4506" name="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8" name="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4" name="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15" name="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39680" y="1600200"/>
                <a:ext cx="6303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141720" y="254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392120" y="5548320"/>
                <a:ext cx="5597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temperatura złącza tranzystora bipolarnego jest wys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liska maksymalnej temperaturze złącza przyjmowanej zw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jako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7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, to może być konieczne uwzględnienie w modelu tranzystora  zerowego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3443400" y="3043080"/>
            <a:ext cx="239760" cy="208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413160" y="3287880"/>
            <a:ext cx="318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17760" y="2637000"/>
            <a:ext cx="1182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257004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70400" y="2627280"/>
            <a:ext cx="1714320" cy="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7760" y="3693960"/>
            <a:ext cx="3666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65440" y="3287880"/>
            <a:ext cx="0" cy="406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03720" y="3043080"/>
            <a:ext cx="330120" cy="285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03720" y="3206880"/>
            <a:ext cx="330120" cy="284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67160" y="3032280"/>
            <a:ext cx="1800" cy="488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0380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2617920"/>
            <a:ext cx="0" cy="42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362736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6920" y="2587680"/>
            <a:ext cx="133560" cy="115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694400" y="3065400"/>
                <a:ext cx="128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4768920" y="206676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2760" y="2962440"/>
            <a:ext cx="84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5436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0680" y="198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73520" y="37767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1920" y="263700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8560" y="261792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0760" y="2637000"/>
            <a:ext cx="469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79560" y="296244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87560" y="190512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67160" y="328788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4560" y="3629160"/>
            <a:ext cx="133200" cy="1141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2584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7868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32236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00160" y="5470560"/>
                <a:ext cx="4537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przy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57360" y="988920"/>
            <a:ext cx="1902960" cy="1087560"/>
            <a:chOff x="657360" y="988920"/>
            <a:chExt cx="1902960" cy="1087560"/>
          </a:xfrm>
        </p:grpSpPr>
        <p:sp>
          <p:nvSpPr>
            <p:cNvPr id="253" name=""/>
            <p:cNvSpPr/>
            <p:nvPr/>
          </p:nvSpPr>
          <p:spPr>
            <a:xfrm>
              <a:off x="1663920" y="988920"/>
              <a:ext cx="72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57360" y="993960"/>
              <a:ext cx="1902960" cy="1082520"/>
              <a:chOff x="657360" y="993960"/>
              <a:chExt cx="1902960" cy="1082520"/>
            </a:xfrm>
          </p:grpSpPr>
          <p:sp>
            <p:nvSpPr>
              <p:cNvPr id="255" name=""/>
              <p:cNvSpPr/>
              <p:nvPr/>
            </p:nvSpPr>
            <p:spPr>
              <a:xfrm rot="10800000">
                <a:off x="2326680" y="1420920"/>
                <a:ext cx="193320" cy="1936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2301840" y="1649520"/>
                <a:ext cx="258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95440" y="1040040"/>
                <a:ext cx="958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95440" y="2030400"/>
                <a:ext cx="924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25680" y="1649520"/>
                <a:ext cx="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73040" y="9939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7360" y="134460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30360" y="1040040"/>
                <a:ext cx="0" cy="38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92000" y="1040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387440" y="1968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419120" y="119196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22720" y="1004760"/>
                <a:ext cx="32004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77880" y="2117880"/>
                <a:ext cx="757224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5899320" y="3006720"/>
            <a:ext cx="2387520" cy="11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083120" y="3833640"/>
            <a:ext cx="1866960" cy="90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00360" y="55706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019320" y="428616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9320" y="61358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30720" y="5246640"/>
            <a:ext cx="111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0520" y="5457960"/>
            <a:ext cx="1032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625400" y="42829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566720" y="6481800"/>
            <a:ext cx="242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66880" y="428292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66560" y="38019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484280" y="43542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0000" y="46846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05040" y="5227560"/>
            <a:ext cx="635040" cy="56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32280" y="54388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95640" y="430524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97360" y="5056200"/>
            <a:ext cx="1936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94200" y="45403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9120" y="2811600"/>
            <a:ext cx="1376280" cy="16207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45040" y="4268880"/>
            <a:ext cx="2163600" cy="10382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41560" y="3079800"/>
            <a:ext cx="3844800" cy="10033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21120" y="4594320"/>
            <a:ext cx="0" cy="3715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106440" y="4132440"/>
            <a:ext cx="469800" cy="5061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32400" y="595476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odel linowy - wielkosygnałow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MK</cp:lastModifiedBy>
  <cp:lastPrinted>2004-04-25T13:15:06Z</cp:lastPrinted>
  <dcterms:modified xsi:type="dcterms:W3CDTF">2004-10-13T13:08:45Z</dcterms:modified>
  <cp:revision>217</cp:revision>
  <dc:subject/>
  <dc:title>UKŁADY ZASILANIA TRANZYSTORÓW</dc:title>
</cp:coreProperties>
</file>