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461-DE77-4127-8F25-5C954DD0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513-33EC-4404-9498-E33DE1B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651-4D3A-413F-ABCD-B48D96D5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E41-205F-42EC-8D56-04FA000C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4DD-F93E-48E6-8B59-F201906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390-07B5-4333-92EB-842EBE6E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5F3-80B9-4101-989F-ED779F2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4E1-24B3-4C00-A01B-0351845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E80-C3AB-47D9-A791-CC3ECE4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BD7-8E15-4040-BE7E-5CC3B52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611-DCF3-4D02-B505-00A28F5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447-459B-4ECA-9AB9-A5D9ACF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55FA-600E-4429-BCD9-6EC55E50B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543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550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575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584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599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0574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220968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93280" y="53341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15000" y="2286000"/>
            <a:ext cx="1066680" cy="160020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92920" y="5334120"/>
            <a:ext cx="25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=(1-Ku)C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724280" y="2286000"/>
            <a:ext cx="1067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6920" y="164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657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659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685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688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2280" y="40118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762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796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815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841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861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894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912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923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926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88960" y="1049400"/>
                <a:ext cx="53402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j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zie: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7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40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99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01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04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05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0992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07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10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14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14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281400" y="3722760"/>
                <a:ext cx="236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©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168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191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194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5197320" y="4351320"/>
                <a:ext cx="1521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1" name=""/>
          <p:cNvSpPr/>
          <p:nvPr/>
        </p:nvSpPr>
        <p:spPr>
          <a:xfrm flipV="1">
            <a:off x="2084400" y="40590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88840" y="4794120"/>
            <a:ext cx="1800" cy="27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90800" y="442584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97040" y="505296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4519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888840" y="4059360"/>
            <a:ext cx="180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88840" y="405936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717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7480" y="4500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54960" y="37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63520" y="3619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359080" y="456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68360" y="4444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63160" y="456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71360" y="4444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60640" y="403704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03480" y="405936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1132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9224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09880" y="442584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807920" y="3967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807920" y="4059360"/>
            <a:ext cx="91800" cy="9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07200" y="3711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9720" y="3828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68000" y="3619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58000" y="373860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669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426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34840" y="4564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79600" y="4537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03480" y="4059360"/>
            <a:ext cx="628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48240" y="4059360"/>
            <a:ext cx="144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463920" y="4519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3920" y="461016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648240" y="461016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56080" y="507060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81160" y="403704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60640" y="4525920"/>
            <a:ext cx="435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98760" y="934920"/>
            <a:ext cx="0" cy="4702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85320" y="505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138480" y="5329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8920" y="3614760"/>
            <a:ext cx="3030480" cy="193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3790800" y="5618160"/>
                <a:ext cx="4395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50960" y="5595840"/>
                <a:ext cx="2581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5" name=""/>
          <p:cNvGrpSpPr/>
          <p:nvPr/>
        </p:nvGrpSpPr>
        <p:grpSpPr>
          <a:xfrm>
            <a:off x="817560" y="992160"/>
            <a:ext cx="7075080" cy="2673360"/>
            <a:chOff x="817560" y="992160"/>
            <a:chExt cx="7075080" cy="2673360"/>
          </a:xfrm>
        </p:grpSpPr>
        <p:sp>
          <p:nvSpPr>
            <p:cNvPr id="1276" name=""/>
            <p:cNvSpPr/>
            <p:nvPr/>
          </p:nvSpPr>
          <p:spPr>
            <a:xfrm flipV="1">
              <a:off x="4935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98800" y="279720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3048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54000" y="2971800"/>
              <a:ext cx="144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652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3640" y="32209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7560" y="2709720"/>
              <a:ext cx="269640" cy="26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95400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54000" y="2268360"/>
              <a:ext cx="2079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280" y="21794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72640" y="2690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13640" y="196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24000" y="184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00120" y="275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11200" y="2638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23280" y="2751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133280" y="263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0672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3372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4300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38320" y="32209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4156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936600" y="1654200"/>
              <a:ext cx="995400" cy="177840"/>
              <a:chOff x="3936600" y="1654200"/>
              <a:chExt cx="995400" cy="17784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3936600" y="1742760"/>
                <a:ext cx="99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4390920" y="1561320"/>
                <a:ext cx="177840" cy="363600"/>
              </a:xfrm>
              <a:prstGeom prst="rect">
                <a:avLst/>
              </a:pr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6383160" y="2489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92800" y="23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0244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1172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1028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09680" y="2685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9040" y="276048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7832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35600" y="2268360"/>
              <a:ext cx="1989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24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34240" y="32209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4488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3424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18280" y="2620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08280" y="2735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7454880" y="2427120"/>
              <a:ext cx="181080" cy="704880"/>
              <a:chOff x="7454880" y="2427120"/>
              <a:chExt cx="181080" cy="704880"/>
            </a:xfrm>
          </p:grpSpPr>
          <p:sp>
            <p:nvSpPr>
              <p:cNvPr id="1317" name=""/>
              <p:cNvSpPr/>
              <p:nvPr/>
            </p:nvSpPr>
            <p:spPr>
              <a:xfrm>
                <a:off x="7545600" y="2427120"/>
                <a:ext cx="1080" cy="70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454880" y="2427120"/>
                <a:ext cx="9072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45600" y="2427120"/>
                <a:ext cx="903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7104960" y="222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4960" y="210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1148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7360" y="261936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4844520" y="2709720"/>
              <a:ext cx="181440" cy="262080"/>
              <a:chOff x="4844520" y="2709720"/>
              <a:chExt cx="181440" cy="26208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4935240" y="2709720"/>
                <a:ext cx="1440" cy="26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6" name=""/>
              <p:cNvGrpSpPr/>
              <p:nvPr/>
            </p:nvGrpSpPr>
            <p:grpSpPr>
              <a:xfrm>
                <a:off x="4844520" y="2710080"/>
                <a:ext cx="181440" cy="87840"/>
                <a:chOff x="4844520" y="2710080"/>
                <a:chExt cx="181440" cy="87840"/>
              </a:xfrm>
            </p:grpSpPr>
            <p:sp>
              <p:nvSpPr>
                <p:cNvPr id="1327" name=""/>
                <p:cNvSpPr/>
                <p:nvPr/>
              </p:nvSpPr>
              <p:spPr>
                <a:xfrm flipH="1">
                  <a:off x="4844520" y="2710080"/>
                  <a:ext cx="9036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935240" y="2710080"/>
                  <a:ext cx="9072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9" name=""/>
            <p:cNvSpPr/>
            <p:nvPr/>
          </p:nvSpPr>
          <p:spPr>
            <a:xfrm>
              <a:off x="4797360" y="27954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1857240" y="2179080"/>
              <a:ext cx="90720" cy="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57240" y="2268360"/>
              <a:ext cx="9072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56520" y="1935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7240" y="204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10840" y="184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99400" y="196056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09760" y="21794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80480" y="263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70480" y="27511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38560" y="2676600"/>
              <a:ext cx="261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9960" y="3031920"/>
              <a:ext cx="634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33720" y="2268360"/>
              <a:ext cx="153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6876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87680" y="270972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87680" y="279540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668760" y="279540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78040" y="32367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57200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6416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64160" y="2268360"/>
              <a:ext cx="27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1140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45000" y="2246400"/>
              <a:ext cx="489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78280" y="2714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67560" y="282888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6640" y="1935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03000" y="204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940280" y="1738440"/>
              <a:ext cx="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672000" y="174420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671640" y="174456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04520" y="128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94880" y="140184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610080" y="13510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30600" y="17193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68560" y="99216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24280" y="1254240"/>
              <a:ext cx="62712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66960" y="166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99080" y="22701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05480" y="263664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99000" y="32497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8840" y="223056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62400" y="1833480"/>
              <a:ext cx="2632320" cy="183204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54720" y="157644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86040" y="3668400"/>
            <a:ext cx="6854040" cy="2978640"/>
            <a:chOff x="1886040" y="3668400"/>
            <a:chExt cx="6854040" cy="2978640"/>
          </a:xfrm>
        </p:grpSpPr>
        <p:sp>
          <p:nvSpPr>
            <p:cNvPr id="48" name=""/>
            <p:cNvSpPr/>
            <p:nvPr/>
          </p:nvSpPr>
          <p:spPr>
            <a:xfrm>
              <a:off x="4948200" y="4802040"/>
              <a:ext cx="193680" cy="570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41720" y="4263480"/>
              <a:ext cx="19044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002360" y="4695840"/>
              <a:ext cx="456480" cy="771120"/>
              <a:chOff x="7002360" y="4695840"/>
              <a:chExt cx="456480" cy="771120"/>
            </a:xfrm>
          </p:grpSpPr>
          <p:sp>
            <p:nvSpPr>
              <p:cNvPr id="51" name=""/>
              <p:cNvSpPr/>
              <p:nvPr/>
            </p:nvSpPr>
            <p:spPr>
              <a:xfrm>
                <a:off x="7002360" y="4695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14240" y="4973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54360" y="4884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315040" y="4960800"/>
              <a:ext cx="353520" cy="87120"/>
              <a:chOff x="5315040" y="4960800"/>
              <a:chExt cx="353520" cy="871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1880" y="496080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15040" y="504792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981760" y="4406760"/>
              <a:ext cx="88560" cy="349200"/>
              <a:chOff x="5981760" y="4406760"/>
              <a:chExt cx="88560" cy="349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5981760" y="440676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070320" y="441360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3481560" y="4560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45799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49720" y="45795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495760" y="4579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49720" y="5376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840" y="50547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49720" y="5737320"/>
              <a:ext cx="31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75360" y="459900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6520" y="459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744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15000" y="432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56680" y="4309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64440" y="55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18480" y="4908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5320" y="4599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440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3360" y="3909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12720" y="48974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4878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54760" y="3890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040" y="480384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519000" y="4712760"/>
              <a:ext cx="155880" cy="123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0" y="512460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778280" y="48272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6560" y="3909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0560" y="5697360"/>
              <a:ext cx="8244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74080" y="5665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96240" y="5676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0760" y="4518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6920" y="4568760"/>
              <a:ext cx="80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5080" y="4548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6149880" y="347148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95760" y="37260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3743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56520" y="3742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40480" y="3743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549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32240" y="5724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5097600" y="6060960"/>
                  <a:ext cx="335268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3500280" y="4560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39672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86040" y="4457880"/>
              <a:ext cx="1077840" cy="1329480"/>
              <a:chOff x="1886040" y="4457880"/>
              <a:chExt cx="1077840" cy="132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095200" y="451692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95200" y="57852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0360" y="464616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095200" y="450324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00000">
                <a:off x="2402280" y="432936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86040" y="488268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095200" y="493884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9200" y="518148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493560" y="853920"/>
            <a:ext cx="4944600" cy="2800440"/>
            <a:chOff x="493560" y="853920"/>
            <a:chExt cx="4944600" cy="2800440"/>
          </a:xfrm>
        </p:grpSpPr>
        <p:sp>
          <p:nvSpPr>
            <p:cNvPr id="111" name=""/>
            <p:cNvSpPr/>
            <p:nvPr/>
          </p:nvSpPr>
          <p:spPr>
            <a:xfrm>
              <a:off x="2495520" y="1844640"/>
              <a:ext cx="583920" cy="37008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5360" y="2952720"/>
              <a:ext cx="43344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160" y="3000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21680" y="311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96800" y="110340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8680" y="9064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98680" y="1612800"/>
              <a:ext cx="144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70040" y="1214280"/>
              <a:ext cx="4366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160" y="1260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1680" y="137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6720" y="2860560"/>
              <a:ext cx="201600" cy="522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240" y="266400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8240" y="337032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92200" y="29448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080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7840" y="3127320"/>
              <a:ext cx="35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7840" y="3254400"/>
              <a:ext cx="35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81000" y="2679840"/>
              <a:ext cx="612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1360" y="3271680"/>
              <a:ext cx="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5480" y="2727360"/>
              <a:ext cx="434880" cy="371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9160" y="28447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0280" y="194472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4240" y="2065320"/>
              <a:ext cx="7920" cy="33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09800" y="2012760"/>
              <a:ext cx="298440" cy="12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809800" y="2281320"/>
              <a:ext cx="183600" cy="120240"/>
              <a:chOff x="2809800" y="2281320"/>
              <a:chExt cx="183600" cy="120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809800" y="2304360"/>
                <a:ext cx="183600" cy="9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45080" y="22813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993760" y="2397240"/>
              <a:ext cx="11448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599920" y="2239920"/>
              <a:ext cx="191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08240" y="179820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8680" y="2239920"/>
              <a:ext cx="209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08240" y="244944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6720" y="1087560"/>
              <a:ext cx="2016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8240" y="882720"/>
              <a:ext cx="14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8240" y="1596960"/>
              <a:ext cx="144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3120" y="1195560"/>
              <a:ext cx="43668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56640" y="1243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0720" y="135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6800" y="284328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98680" y="182880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8680" y="334656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1520" y="3608280"/>
              <a:ext cx="270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1520" y="888840"/>
              <a:ext cx="266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267984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3080" y="214308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3440" y="221148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3080" y="196848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2043000"/>
              <a:ext cx="20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2211480"/>
              <a:ext cx="144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888840"/>
              <a:ext cx="1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8920" y="8539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952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8920" y="264636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080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8920" y="356868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46440" y="3568680"/>
              <a:ext cx="824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1952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13000" y="1927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6000" y="20430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4800" y="1521000"/>
              <a:ext cx="35712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1568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7520" y="2281320"/>
              <a:ext cx="35856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0640" y="2314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2600" y="2174760"/>
              <a:ext cx="824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68400" y="2209680"/>
              <a:ext cx="369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93560" y="2131920"/>
              <a:ext cx="1025280" cy="1454040"/>
              <a:chOff x="493560" y="2131920"/>
              <a:chExt cx="1025280" cy="1454040"/>
            </a:xfrm>
          </p:grpSpPr>
          <p:sp>
            <p:nvSpPr>
              <p:cNvPr id="177" name=""/>
              <p:cNvSpPr/>
              <p:nvPr/>
            </p:nvSpPr>
            <p:spPr>
              <a:xfrm>
                <a:off x="692280" y="21963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2280" y="358308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6640" y="2337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92280" y="2181960"/>
                <a:ext cx="0" cy="14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975600" y="20185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3560" y="2596320"/>
                <a:ext cx="395280" cy="41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92280" y="26578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4760" y="292212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509640" y="165888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4800" y="165096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05000" y="181764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179856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92480" y="1798200"/>
              <a:ext cx="0" cy="18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6800" y="2155680"/>
              <a:ext cx="201600" cy="52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35798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2160" y="17636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2760" y="1301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894120" y="1387440"/>
                <a:ext cx="28735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22640" y="2465280"/>
                <a:ext cx="4021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167360" y="3468600"/>
                <a:ext cx="3990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91120" y="4640400"/>
                <a:ext cx="1266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35480" y="53481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4960" y="1011240"/>
            <a:ext cx="4614840" cy="2788920"/>
            <a:chOff x="264960" y="1011240"/>
            <a:chExt cx="4614840" cy="2788920"/>
          </a:xfrm>
        </p:grpSpPr>
        <p:grpSp>
          <p:nvGrpSpPr>
            <p:cNvPr id="209" name=""/>
            <p:cNvGrpSpPr/>
            <p:nvPr/>
          </p:nvGrpSpPr>
          <p:grpSpPr>
            <a:xfrm>
              <a:off x="1420560" y="1011240"/>
              <a:ext cx="3459240" cy="2788920"/>
              <a:chOff x="1420560" y="1011240"/>
              <a:chExt cx="3459240" cy="2788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365280" y="283824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03440" y="2833200"/>
                <a:ext cx="576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49400" y="3109680"/>
                <a:ext cx="43344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0560" y="31572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6080" y="32731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81200" y="1260360"/>
                <a:ext cx="20304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2720" y="106344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2720" y="1769760"/>
                <a:ext cx="144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4080" y="1371600"/>
                <a:ext cx="436680" cy="3697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50560" y="1417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06080" y="15332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90760" y="301752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92280" y="282096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92280" y="352728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7520" y="3127320"/>
                <a:ext cx="436320" cy="3715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400" y="31734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95120" y="32889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5200" y="1011240"/>
                <a:ext cx="8388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49440" y="2474640"/>
                <a:ext cx="6955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320" y="2101680"/>
                <a:ext cx="608040" cy="5842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68280" y="2222280"/>
                <a:ext cx="7920" cy="331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193840" y="2169720"/>
                <a:ext cx="298440" cy="129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193840" y="2438280"/>
                <a:ext cx="183600" cy="120240"/>
                <a:chOff x="2193840" y="2438280"/>
                <a:chExt cx="183600" cy="120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193840" y="2461320"/>
                  <a:ext cx="183600" cy="9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29120" y="2438280"/>
                  <a:ext cx="148320" cy="120240"/>
                </a:xfrm>
                <a:custGeom>
                  <a:avLst/>
                  <a:gdLst/>
                  <a:ahLst/>
                  <a:rect l="l" t="t" r="r" b="b"/>
                  <a:pathLst>
                    <a:path w="80" h="67">
                      <a:moveTo>
                        <a:pt x="0" y="67"/>
                      </a:moveTo>
                      <a:lnTo>
                        <a:pt x="8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377800" y="2554200"/>
                <a:ext cx="11448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83960" y="2396880"/>
                <a:ext cx="191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492280" y="1955160"/>
                <a:ext cx="144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2720" y="2396880"/>
                <a:ext cx="209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509560" y="2606400"/>
                <a:ext cx="180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87600" y="1011240"/>
                <a:ext cx="612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57520" y="1352520"/>
                <a:ext cx="43632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400" y="14000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95480" y="151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81200" y="3000240"/>
                <a:ext cx="203040" cy="515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2720" y="1985760"/>
                <a:ext cx="144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2720" y="350352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55560" y="3765240"/>
                <a:ext cx="2700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55560" y="1046160"/>
                <a:ext cx="2662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7120" y="23000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57480" y="2368440"/>
                <a:ext cx="208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7120" y="21254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57480" y="2199960"/>
                <a:ext cx="20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2880" y="2368440"/>
                <a:ext cx="144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2880" y="1046160"/>
                <a:ext cx="14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2960" y="1011240"/>
                <a:ext cx="777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03560" y="1011240"/>
                <a:ext cx="8424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42960" y="2803320"/>
                <a:ext cx="777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35200" y="3725640"/>
                <a:ext cx="83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2960" y="3725640"/>
                <a:ext cx="777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03560" y="372564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95520" y="2038320"/>
                <a:ext cx="584280" cy="369720"/>
              </a:xfrm>
              <a:prstGeom prst="rect">
                <a:avLst/>
              </a:prstGeom>
              <a:noFill/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97040" y="20840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0760" y="219996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28840" y="1677960"/>
                <a:ext cx="35748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7040" y="1725480"/>
                <a:ext cx="13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11560" y="2438280"/>
                <a:ext cx="35856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7200" y="24714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093840" y="2705040"/>
                <a:ext cx="57240" cy="263520"/>
                <a:chOff x="3093840" y="2705040"/>
                <a:chExt cx="57240" cy="263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09384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5108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163680" y="28429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36640" y="23349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20560" y="2385720"/>
                <a:ext cx="257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81400" y="3011400"/>
                <a:ext cx="193680" cy="56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17760" y="37065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678120" y="2880720"/>
                <a:ext cx="0" cy="7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9560" y="3133440"/>
                <a:ext cx="43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64960" y="2308320"/>
              <a:ext cx="1025280" cy="1453320"/>
              <a:chOff x="264960" y="2308320"/>
              <a:chExt cx="1025280" cy="14533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" y="23727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" y="375912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8040" y="25142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63680" y="2358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6200000">
                <a:off x="747000" y="21949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4960" y="2772720"/>
                <a:ext cx="395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3680" y="283392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6160" y="309816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252440" y="3355920"/>
            <a:ext cx="7877160" cy="3502080"/>
            <a:chOff x="1252440" y="3355920"/>
            <a:chExt cx="7877160" cy="3502080"/>
          </a:xfrm>
        </p:grpSpPr>
        <p:sp>
          <p:nvSpPr>
            <p:cNvPr id="288" name=""/>
            <p:cNvSpPr/>
            <p:nvPr/>
          </p:nvSpPr>
          <p:spPr>
            <a:xfrm>
              <a:off x="4273560" y="501336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367080" y="4475160"/>
              <a:ext cx="19080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27720" y="518472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340320" y="490680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80080" y="50353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520" y="5172120"/>
              <a:ext cx="3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0400" y="525924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305320" y="4615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94240" y="462240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6560" y="47721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4440" y="479124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375080" y="47912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821120" y="47908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080" y="55879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0200" y="5265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1320" y="5948280"/>
              <a:ext cx="46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0720" y="480996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1880" y="4809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280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360" y="45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4712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0160" y="571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43840" y="51195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40680" y="48096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720" y="4121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38080" y="51084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89600" y="5089680"/>
              <a:ext cx="76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80120" y="41022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520" y="5121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51440" y="49496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0120" y="414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5920" y="590868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9080" y="589608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1600" y="59072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25760" y="4729320"/>
              <a:ext cx="828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1920" y="47800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10440" y="47592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5475240" y="368244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821120" y="39366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21120" y="3954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81880" y="395460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5840" y="39546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0360" y="47610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57600" y="593568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825720" y="6324480"/>
                  <a:ext cx="4141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2825640" y="47721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760" y="41781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90920" y="335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40000" y="48085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7080" y="424008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089560" y="4854240"/>
              <a:ext cx="456120" cy="1128960"/>
              <a:chOff x="8089560" y="4854240"/>
              <a:chExt cx="456120" cy="112896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8352000" y="5118120"/>
                <a:ext cx="193680" cy="569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8461440" y="4854240"/>
                <a:ext cx="0" cy="26532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089560" y="48722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1440" y="568800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8096040" y="59594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8578440" y="450360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0800" y="591984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2440" y="4633920"/>
              <a:ext cx="1077840" cy="1329480"/>
              <a:chOff x="1252440" y="4633920"/>
              <a:chExt cx="1077840" cy="1329480"/>
            </a:xfrm>
          </p:grpSpPr>
          <p:sp>
            <p:nvSpPr>
              <p:cNvPr id="348" name=""/>
              <p:cNvSpPr/>
              <p:nvPr/>
            </p:nvSpPr>
            <p:spPr>
              <a:xfrm>
                <a:off x="1461600" y="469296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61600" y="59612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16760" y="4822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461600" y="467928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6200000">
                <a:off x="1768680" y="45054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52440" y="505872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461600" y="51148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5600" y="535752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606840" y="1387440"/>
                <a:ext cx="3448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086360" y="2465280"/>
                <a:ext cx="38923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925800" y="3672000"/>
                <a:ext cx="4475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807000" y="4552920"/>
                <a:ext cx="4714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843520" y="5316480"/>
                <a:ext cx="24591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39560" y="950760"/>
            <a:ext cx="7299000" cy="2351160"/>
            <a:chOff x="439560" y="950760"/>
            <a:chExt cx="7299000" cy="2351160"/>
          </a:xfrm>
        </p:grpSpPr>
        <p:sp>
          <p:nvSpPr>
            <p:cNvPr id="371" name=""/>
            <p:cNvSpPr/>
            <p:nvPr/>
          </p:nvSpPr>
          <p:spPr>
            <a:xfrm flipH="1" flipV="1">
              <a:off x="2325240" y="108396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2009880" y="108756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3095640" y="100044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238200" y="1405080"/>
              <a:ext cx="33156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493440" y="1088640"/>
              <a:ext cx="1299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235320" y="1203480"/>
              <a:ext cx="120240" cy="183600"/>
              <a:chOff x="3235320" y="1203480"/>
              <a:chExt cx="120240" cy="183600"/>
            </a:xfrm>
          </p:grpSpPr>
          <p:sp>
            <p:nvSpPr>
              <p:cNvPr id="377" name=""/>
              <p:cNvSpPr/>
              <p:nvPr/>
            </p:nvSpPr>
            <p:spPr>
              <a:xfrm flipH="1" flipV="1">
                <a:off x="3240720" y="1203480"/>
                <a:ext cx="91800" cy="18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5400000">
                <a:off x="3221280" y="12175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 flipV="1">
              <a:off x="3186000" y="1089000"/>
              <a:ext cx="52560" cy="114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394080" y="1405080"/>
              <a:ext cx="1440" cy="19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635280" y="1073160"/>
              <a:ext cx="1906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8280" y="1087560"/>
              <a:ext cx="209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5400000">
              <a:off x="4708440" y="1065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5400000">
              <a:off x="2586960" y="106452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593960" y="25779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65600" y="264636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593960" y="24033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65600" y="2478240"/>
              <a:ext cx="20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133960" y="229860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39120" y="2079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860720" y="2749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790720" y="2511000"/>
              <a:ext cx="263520" cy="57240"/>
              <a:chOff x="2790720" y="2511000"/>
              <a:chExt cx="263520" cy="5724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2790720" y="25682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790720" y="251100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773360" y="1979640"/>
              <a:ext cx="257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279160" y="974880"/>
              <a:ext cx="57240" cy="263520"/>
              <a:chOff x="2279160" y="974880"/>
              <a:chExt cx="57240" cy="26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33640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7916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2627280" y="1071720"/>
              <a:ext cx="0" cy="19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76440" y="159228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57400" y="2049480"/>
              <a:ext cx="18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773600" y="109656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5400000">
              <a:off x="3348720" y="2017800"/>
              <a:ext cx="777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4746600" y="1992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544840" y="1376280"/>
              <a:ext cx="201600" cy="52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72080" y="137952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3887640" y="178164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263040" y="226692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57400" y="2595600"/>
              <a:ext cx="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57400" y="204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26463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8680" y="1303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6880" y="1328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9040" y="2141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554800" y="950760"/>
              <a:ext cx="56880" cy="263520"/>
              <a:chOff x="5554800" y="950760"/>
              <a:chExt cx="5688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561168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5480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629320" y="1074600"/>
              <a:ext cx="49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951600" y="1287360"/>
              <a:ext cx="0" cy="15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44120" y="1106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39560" y="966960"/>
              <a:ext cx="1465560" cy="2106000"/>
              <a:chOff x="439560" y="966960"/>
              <a:chExt cx="1465560" cy="210600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1060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3960" y="3068640"/>
                <a:ext cx="89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25200" y="126540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23960" y="1039320"/>
                <a:ext cx="0" cy="20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6200000">
                <a:off x="1127520" y="80640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9560" y="1639800"/>
                <a:ext cx="565200" cy="60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23960" y="1728360"/>
                <a:ext cx="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7560" y="211284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6138720" y="10764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59520" y="165420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4160" y="1725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3400" y="3005280"/>
            <a:ext cx="8330040" cy="3595680"/>
            <a:chOff x="563400" y="3005280"/>
            <a:chExt cx="8330040" cy="3595680"/>
          </a:xfrm>
        </p:grpSpPr>
        <p:grpSp>
          <p:nvGrpSpPr>
            <p:cNvPr id="434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439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52760" y="42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69440" y="3979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7080" y="5772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7720" y="38703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5400000">
              <a:off x="4742640" y="30193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20960" y="306540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5400000">
              <a:off x="3336840" y="30337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5400000">
              <a:off x="2905200" y="30463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0320" y="3132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4200" y="329724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5400000">
              <a:off x="2589120" y="300996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63400" y="4440240"/>
              <a:ext cx="1078200" cy="1329480"/>
              <a:chOff x="563400" y="4440240"/>
              <a:chExt cx="1078200" cy="1329480"/>
            </a:xfrm>
          </p:grpSpPr>
          <p:sp>
            <p:nvSpPr>
              <p:cNvPr id="511" name=""/>
              <p:cNvSpPr/>
              <p:nvPr/>
            </p:nvSpPr>
            <p:spPr>
              <a:xfrm>
                <a:off x="772560" y="4499280"/>
                <a:ext cx="8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560" y="5767560"/>
                <a:ext cx="66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2772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7256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16200000">
                <a:off x="107964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3400" y="4865040"/>
                <a:ext cx="41580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7256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16920" y="516384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19240" y="1835280"/>
          <a:ext cx="870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35280"/>
                    <a:ext cx="870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03-15T13:48:44Z</dcterms:modified>
  <cp:revision>76</cp:revision>
  <dc:subject/>
  <dc:title>Właściwości częstotliwościowe wzmacniaczy tranzystorowych</dc:title>
</cp:coreProperties>
</file>