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46B-8AA8-48C0-A065-6B2DC331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04C-40B7-43A3-924E-9B7745A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58E-8793-4C0F-B1F1-0F8B6EEC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082-C91F-4FD2-8633-0B9483B2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40E-28B4-40C3-B538-00D825E2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63E-6EDD-40EB-943D-460D0FA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EDD-71AD-41F2-9A46-BB72B6A7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633-2DD2-43F5-A9EF-ACCF5166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C8D-6B54-4786-A5B3-388118E0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FEA-65F4-41CF-8258-2C85541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BCD-5648-4A2D-92AB-7F9EFD9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818-1AB3-4554-988A-FAB5B5A0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2C4-BCD5-41C5-B4B8-C14A63487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5920" y="62856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O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3240" y="550800"/>
            <a:ext cx="77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O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720" y="566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O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5520" y="3830760"/>
            <a:ext cx="8256600" cy="2805120"/>
            <a:chOff x="155520" y="3830760"/>
            <a:chExt cx="8256600" cy="2805120"/>
          </a:xfrm>
        </p:grpSpPr>
        <p:grpSp>
          <p:nvGrpSpPr>
            <p:cNvPr id="491" name=""/>
            <p:cNvGrpSpPr/>
            <p:nvPr/>
          </p:nvGrpSpPr>
          <p:grpSpPr>
            <a:xfrm>
              <a:off x="155520" y="3830760"/>
              <a:ext cx="8256600" cy="2805120"/>
              <a:chOff x="155520" y="3830760"/>
              <a:chExt cx="8256600" cy="2805120"/>
            </a:xfrm>
          </p:grpSpPr>
          <mc:AlternateContent>
            <mc:Choice xmlns:a14="http://schemas.microsoft.com/office/drawing/2010/main" Requires="a14">
              <p:sp>
                <p:nvSpPr>
                  <p:cNvPr id="492" name=""/>
                  <p:cNvSpPr txBox="1"/>
                  <p:nvPr/>
                </p:nvSpPr>
                <p:spPr>
                  <a:xfrm>
                    <a:off x="4832280" y="6181920"/>
                    <a:ext cx="30034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3" name=""/>
              <p:cNvSpPr/>
              <p:nvPr/>
            </p:nvSpPr>
            <p:spPr>
              <a:xfrm>
                <a:off x="3206880" y="4964040"/>
                <a:ext cx="193680" cy="569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5665680" y="4857840"/>
                <a:ext cx="456480" cy="771120"/>
                <a:chOff x="5665680" y="4857840"/>
                <a:chExt cx="456480" cy="7711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665680" y="4857840"/>
                  <a:ext cx="444600" cy="492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77560" y="5135760"/>
                  <a:ext cx="444600" cy="493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17680" y="5046840"/>
                  <a:ext cx="0" cy="45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978360" y="5122800"/>
                <a:ext cx="353520" cy="87120"/>
                <a:chOff x="3978360" y="5122800"/>
                <a:chExt cx="353520" cy="87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985200" y="512280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978360" y="520992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645080" y="4569120"/>
                <a:ext cx="88560" cy="348840"/>
                <a:chOff x="4645080" y="4569120"/>
                <a:chExt cx="88560" cy="348840"/>
              </a:xfrm>
            </p:grpSpPr>
            <p:sp>
              <p:nvSpPr>
                <p:cNvPr id="502" name=""/>
                <p:cNvSpPr/>
                <p:nvPr/>
              </p:nvSpPr>
              <p:spPr>
                <a:xfrm flipV="1">
                  <a:off x="4645080" y="456912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4733640" y="457596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751040" y="47228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97040" y="4741920"/>
                <a:ext cx="202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308400" y="47419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159080" y="474192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08400" y="55389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78160" y="521640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58880" y="5899320"/>
                <a:ext cx="519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38680" y="4761000"/>
                <a:ext cx="21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19840" y="47610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0076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46400" y="419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19640" y="44719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27760" y="56674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81800" y="5070600"/>
                <a:ext cx="193680" cy="571320"/>
              </a:xfrm>
              <a:prstGeom prst="rect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8640" y="47610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9772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12840" y="4071960"/>
                <a:ext cx="51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b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44480" y="50482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27560" y="5040360"/>
                <a:ext cx="77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8080" y="4052880"/>
                <a:ext cx="60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5680" y="496584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1789200" y="4874760"/>
                <a:ext cx="7920" cy="8254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94680" y="506412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2936880" y="4890960"/>
                <a:ext cx="0" cy="873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92880" y="4221000"/>
                <a:ext cx="586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3880" y="5859360"/>
                <a:ext cx="82440" cy="7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37400" y="582768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59560" y="5838840"/>
                <a:ext cx="8100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59080" y="468000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80240" y="47307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48400" y="471024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6200000">
                <a:off x="4813200" y="3633480"/>
                <a:ext cx="188640" cy="582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159080" y="3887280"/>
                <a:ext cx="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919840" y="3904920"/>
                <a:ext cx="0" cy="8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08320" y="47116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602080" y="5886360"/>
                    <a:ext cx="12348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40" name=""/>
              <p:cNvSpPr/>
              <p:nvPr/>
            </p:nvSpPr>
            <p:spPr>
              <a:xfrm>
                <a:off x="1770120" y="472284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58520" y="41292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5040" y="59468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0200" y="480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6200000">
                <a:off x="67212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5520" y="5045040"/>
                <a:ext cx="41616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08320" y="53434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0" name=""/>
                  <p:cNvSpPr txBox="1"/>
                  <p:nvPr/>
                </p:nvSpPr>
                <p:spPr>
                  <a:xfrm>
                    <a:off x="6207120" y="4052880"/>
                    <a:ext cx="220500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51" name=""/>
              <p:cNvSpPr/>
              <p:nvPr/>
            </p:nvSpPr>
            <p:spPr>
              <a:xfrm flipV="1">
                <a:off x="5059440" y="5417640"/>
                <a:ext cx="53172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59080" y="5837400"/>
                <a:ext cx="824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311200" y="4425480"/>
                <a:ext cx="190440" cy="581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583400" y="4824000"/>
                <a:ext cx="0" cy="1089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57920" y="49672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8000"/>
                    </a:solidFill>
                    <a:latin typeface="Times New Roman"/>
                  </a:rPr>
                  <a:t>u</a:t>
                </a:r>
                <a:r>
                  <a:rPr b="0" lang="pl-PL" sz="2000" spc="-1" strike="noStrike" baseline="-25000">
                    <a:solidFill>
                      <a:srgbClr val="008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415908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203800" y="3905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384200" y="770040"/>
            <a:ext cx="5982840" cy="2617200"/>
            <a:chOff x="1384200" y="770040"/>
            <a:chExt cx="5982840" cy="2617200"/>
          </a:xfrm>
        </p:grpSpPr>
        <p:sp>
          <p:nvSpPr>
            <p:cNvPr id="559" name=""/>
            <p:cNvSpPr/>
            <p:nvPr/>
          </p:nvSpPr>
          <p:spPr>
            <a:xfrm>
              <a:off x="3821760" y="1662840"/>
              <a:ext cx="507960" cy="3337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2240" y="2661480"/>
              <a:ext cx="376200" cy="336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9720" y="27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360" y="2809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0040" y="994680"/>
              <a:ext cx="176040" cy="47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38240" y="816480"/>
              <a:ext cx="108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8240" y="14540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86920" y="1094400"/>
              <a:ext cx="3794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9720" y="1135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360" y="124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66720" y="2577960"/>
              <a:ext cx="174600" cy="471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54560" y="2401200"/>
              <a:ext cx="144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54560" y="3037320"/>
              <a:ext cx="144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760" y="265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96480" y="770040"/>
              <a:ext cx="7236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01240" y="281880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701240" y="293292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852080" y="2415960"/>
              <a:ext cx="576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2080" y="2949120"/>
              <a:ext cx="576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05080" y="2459160"/>
              <a:ext cx="3776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85560" y="256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13200" y="1752840"/>
              <a:ext cx="528120" cy="5263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3040" y="1861920"/>
              <a:ext cx="75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094280" y="1815120"/>
              <a:ext cx="259920" cy="11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4094280" y="2055960"/>
              <a:ext cx="160560" cy="108720"/>
              <a:chOff x="4094280" y="2055960"/>
              <a:chExt cx="160560" cy="108720"/>
            </a:xfrm>
          </p:grpSpPr>
          <p:sp>
            <p:nvSpPr>
              <p:cNvPr id="584" name=""/>
              <p:cNvSpPr/>
              <p:nvPr/>
            </p:nvSpPr>
            <p:spPr>
              <a:xfrm>
                <a:off x="4094280" y="2076840"/>
                <a:ext cx="16056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25240" y="2055960"/>
                <a:ext cx="12960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255560" y="2160720"/>
              <a:ext cx="9900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912840" y="2019240"/>
              <a:ext cx="167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54560" y="162072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8600" y="2011320"/>
              <a:ext cx="11707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354560" y="2208240"/>
              <a:ext cx="1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66720" y="980280"/>
              <a:ext cx="174600" cy="4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54560" y="795600"/>
              <a:ext cx="14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4560" y="1439640"/>
              <a:ext cx="14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97480" y="1078200"/>
              <a:ext cx="379080" cy="3351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69120" y="1119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03760" y="1224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0040" y="2563560"/>
              <a:ext cx="176040" cy="46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38240" y="1648080"/>
              <a:ext cx="108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38240" y="30164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8160" y="3252240"/>
              <a:ext cx="402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1680" y="802080"/>
              <a:ext cx="30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64280" y="2415960"/>
              <a:ext cx="493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01240" y="1932480"/>
              <a:ext cx="32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80440" y="1993320"/>
              <a:ext cx="181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1240" y="177480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80440" y="1840680"/>
              <a:ext cx="18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63960" y="199332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63960" y="802080"/>
              <a:ext cx="0" cy="9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11360" y="770040"/>
              <a:ext cx="680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11360" y="2385360"/>
              <a:ext cx="680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480" y="3216960"/>
              <a:ext cx="723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1360" y="321696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0760" y="321696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1320" y="1736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94880" y="18406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29120" y="1370520"/>
              <a:ext cx="31140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160" y="14137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15440" y="2055960"/>
              <a:ext cx="31104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23800" y="2086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97920" y="1959840"/>
              <a:ext cx="7128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384200" y="1921320"/>
              <a:ext cx="890280" cy="1311120"/>
              <a:chOff x="1384200" y="1921320"/>
              <a:chExt cx="890280" cy="1311120"/>
            </a:xfrm>
          </p:grpSpPr>
          <p:sp>
            <p:nvSpPr>
              <p:cNvPr id="622" name=""/>
              <p:cNvSpPr/>
              <p:nvPr/>
            </p:nvSpPr>
            <p:spPr>
              <a:xfrm>
                <a:off x="1557360" y="197856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57360" y="322956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82280" y="2103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557360" y="1965960"/>
                <a:ext cx="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rot="16200000">
                <a:off x="1799640" y="1825200"/>
                <a:ext cx="12492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84200" y="2340360"/>
                <a:ext cx="343800" cy="37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1557360" y="2395800"/>
                <a:ext cx="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73280" y="26308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703040" y="14958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58840" y="148752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51680" y="1638720"/>
              <a:ext cx="3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65320" y="1620720"/>
              <a:ext cx="139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163920" y="1620360"/>
              <a:ext cx="0" cy="163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87960" y="1943640"/>
              <a:ext cx="174600" cy="46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25040" y="3226680"/>
              <a:ext cx="7272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14240" y="159048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77160" y="11728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00800" y="14670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2840" y="252324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331960" y="2468520"/>
              <a:ext cx="54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60800" y="1123200"/>
              <a:ext cx="41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53240" y="14396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302640" y="2171520"/>
              <a:ext cx="7560" cy="834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63120" y="25909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26600" y="18972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04600" y="3030840"/>
              <a:ext cx="591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>
            <a:off x="6086160" y="463860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34040" y="3807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53160" y="3462480"/>
                <a:ext cx="1897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699000" y="138744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933720" y="2465280"/>
                <a:ext cx="4200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046400" y="3454560"/>
                <a:ext cx="423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46480" y="3635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608120" y="682560"/>
            <a:ext cx="5101560" cy="2777760"/>
            <a:chOff x="1608120" y="682560"/>
            <a:chExt cx="5101560" cy="2777760"/>
          </a:xfrm>
        </p:grpSpPr>
        <p:sp>
          <p:nvSpPr>
            <p:cNvPr id="669" name=""/>
            <p:cNvSpPr/>
            <p:nvPr/>
          </p:nvSpPr>
          <p:spPr>
            <a:xfrm>
              <a:off x="5385960" y="208476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97080" y="2081880"/>
              <a:ext cx="49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2796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01880" y="873360"/>
              <a:ext cx="173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88640" y="722160"/>
              <a:ext cx="10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8640" y="1264680"/>
              <a:ext cx="108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24760" y="95832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51720" y="9500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99520" y="2223000"/>
              <a:ext cx="17388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88080" y="207216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230724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01920" y="2342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46520" y="682560"/>
              <a:ext cx="738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72280" y="180576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51760" y="1519920"/>
              <a:ext cx="522000" cy="4485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9080" y="1612080"/>
              <a:ext cx="7200" cy="254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731400" y="1572120"/>
              <a:ext cx="256320" cy="9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731400" y="1777320"/>
              <a:ext cx="156960" cy="92520"/>
              <a:chOff x="3731400" y="1777320"/>
              <a:chExt cx="156960" cy="92520"/>
            </a:xfrm>
          </p:grpSpPr>
          <p:sp>
            <p:nvSpPr>
              <p:cNvPr id="687" name=""/>
              <p:cNvSpPr/>
              <p:nvPr/>
            </p:nvSpPr>
            <p:spPr>
              <a:xfrm>
                <a:off x="3731400" y="1794960"/>
                <a:ext cx="156960" cy="70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61640" y="1777320"/>
                <a:ext cx="126720" cy="925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889080" y="1867320"/>
              <a:ext cx="986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551760" y="1746000"/>
              <a:ext cx="1648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88080" y="1406880"/>
              <a:ext cx="144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61200" y="1743120"/>
              <a:ext cx="7963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002840" y="1906920"/>
              <a:ext cx="144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83760" y="682560"/>
              <a:ext cx="612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29200" y="944280"/>
              <a:ext cx="374760" cy="286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1880" y="2208960"/>
              <a:ext cx="17388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88640" y="1429920"/>
              <a:ext cx="1080" cy="7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52640" y="709560"/>
              <a:ext cx="3106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16520" y="167220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94280" y="1724760"/>
              <a:ext cx="17820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16520" y="153828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4280" y="1595160"/>
              <a:ext cx="178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77080" y="1724760"/>
              <a:ext cx="0" cy="10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77080" y="70956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44520" y="682560"/>
              <a:ext cx="6768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33520" y="682560"/>
              <a:ext cx="73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44520" y="2058120"/>
              <a:ext cx="6768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85160" y="1471320"/>
              <a:ext cx="500760" cy="282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1560" y="1506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04040" y="15951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1160" y="1193760"/>
              <a:ext cx="30744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17120" y="1230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26400" y="1777320"/>
              <a:ext cx="30852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36920" y="18028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503960" y="1982520"/>
              <a:ext cx="49320" cy="201960"/>
              <a:chOff x="4503960" y="1982520"/>
              <a:chExt cx="49320" cy="201960"/>
            </a:xfrm>
          </p:grpSpPr>
          <p:sp>
            <p:nvSpPr>
              <p:cNvPr id="716" name=""/>
              <p:cNvSpPr/>
              <p:nvPr/>
            </p:nvSpPr>
            <p:spPr>
              <a:xfrm>
                <a:off x="450396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55328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564080" y="2089440"/>
              <a:ext cx="81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48320" y="1698840"/>
              <a:ext cx="734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3600" y="2217600"/>
              <a:ext cx="166320" cy="43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654160" y="21175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2176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5000" y="1727640"/>
              <a:ext cx="7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79200" y="18342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755000" y="171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16200000">
              <a:off x="2003400" y="1574640"/>
              <a:ext cx="108000" cy="313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08120" y="2025000"/>
              <a:ext cx="338760" cy="31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755000" y="208224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70200" y="22845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3880" y="12704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70520" y="1413000"/>
              <a:ext cx="0" cy="19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88080" y="2615040"/>
              <a:ext cx="14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32600" y="2430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88640" y="2596320"/>
              <a:ext cx="10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08200" y="279684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46520" y="2767320"/>
              <a:ext cx="7380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44520" y="2767320"/>
              <a:ext cx="6768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33520" y="2767320"/>
              <a:ext cx="7344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45280" y="2751480"/>
              <a:ext cx="7200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55000" y="279144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29160" y="302220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3760" y="303624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63760" y="305460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751280" y="305460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118040" y="5159520"/>
            <a:ext cx="185760" cy="52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3249360" y="4650840"/>
            <a:ext cx="174600" cy="55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094440" y="5316480"/>
            <a:ext cx="42696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105600" y="5060880"/>
            <a:ext cx="42840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337440" y="5180040"/>
            <a:ext cx="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76600" y="53053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70480" y="5386320"/>
            <a:ext cx="33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110200" y="479412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95880" y="479880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06840" y="493704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18000" y="4954680"/>
            <a:ext cx="14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214880" y="49546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645080" y="4954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14880" y="56880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62360" y="5391000"/>
            <a:ext cx="0" cy="66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98680" y="601992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02360" y="49719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38880" y="49719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1980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78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64160" y="46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1152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78520" y="5257800"/>
            <a:ext cx="187560" cy="525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972480" y="49719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8976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56040" y="433692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00120" y="52466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07080" y="5229360"/>
            <a:ext cx="7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07040" y="446868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79840" y="52578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19520" y="598320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59680" y="5972040"/>
            <a:ext cx="7920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53400" y="5981760"/>
            <a:ext cx="777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67360" y="4897440"/>
            <a:ext cx="806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4943520"/>
            <a:ext cx="777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943680" y="492588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645080" y="41670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338880" y="418428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20960" y="418464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95760" y="4925880"/>
            <a:ext cx="7776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524400" y="6008760"/>
                <a:ext cx="1188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497400" y="6367320"/>
                <a:ext cx="43639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1498680" y="493704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617920" y="43894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586560" y="497052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9680" y="44467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7789680" y="5013360"/>
            <a:ext cx="437760" cy="1039320"/>
            <a:chOff x="7789680" y="5013360"/>
            <a:chExt cx="437760" cy="1039320"/>
          </a:xfrm>
        </p:grpSpPr>
        <p:sp>
          <p:nvSpPr>
            <p:cNvPr id="792" name=""/>
            <p:cNvSpPr/>
            <p:nvPr/>
          </p:nvSpPr>
          <p:spPr>
            <a:xfrm flipH="1">
              <a:off x="8040960" y="5256000"/>
              <a:ext cx="186120" cy="52488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147160" y="5013360"/>
              <a:ext cx="0" cy="2440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789680" y="502956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47160" y="5780880"/>
              <a:ext cx="0" cy="2718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795800" y="603108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8259480" y="46893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72040" y="5994360"/>
            <a:ext cx="792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55520" y="4809960"/>
            <a:ext cx="1036440" cy="1225080"/>
            <a:chOff x="155520" y="4809960"/>
            <a:chExt cx="1036440" cy="1225080"/>
          </a:xfrm>
        </p:grpSpPr>
        <p:sp>
          <p:nvSpPr>
            <p:cNvPr id="800" name=""/>
            <p:cNvSpPr/>
            <p:nvPr/>
          </p:nvSpPr>
          <p:spPr>
            <a:xfrm>
              <a:off x="356400" y="486432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6400" y="6032880"/>
              <a:ext cx="63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6880" y="498348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56400" y="4851720"/>
              <a:ext cx="0" cy="11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16200000">
              <a:off x="655560" y="4683600"/>
              <a:ext cx="117000" cy="36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5520" y="5201280"/>
              <a:ext cx="39960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56400" y="5253120"/>
              <a:ext cx="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5720" y="5476680"/>
              <a:ext cx="50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669840" y="4438800"/>
            <a:ext cx="49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889440" y="509220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59160" y="4451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5253840" y="3940920"/>
            <a:ext cx="149040" cy="50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602400" y="3905280"/>
                <a:ext cx="220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6850080" y="3225960"/>
                <a:ext cx="1897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606840" y="1427040"/>
                <a:ext cx="3298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86360" y="2536920"/>
                <a:ext cx="3579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708360" y="3635280"/>
                <a:ext cx="4910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751200" y="4454640"/>
                <a:ext cx="4903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5520" y="3870360"/>
            <a:ext cx="8737920" cy="2730600"/>
            <a:chOff x="155520" y="3870360"/>
            <a:chExt cx="8737920" cy="2730600"/>
          </a:xfrm>
        </p:grpSpPr>
        <p:grpSp>
          <p:nvGrpSpPr>
            <p:cNvPr id="829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834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52040" y="4281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68720" y="3979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7080" y="577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67360" y="387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8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874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892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155520" y="4440240"/>
              <a:ext cx="1077840" cy="1329480"/>
              <a:chOff x="155520" y="4440240"/>
              <a:chExt cx="1077840" cy="1329480"/>
            </a:xfrm>
          </p:grpSpPr>
          <p:sp>
            <p:nvSpPr>
              <p:cNvPr id="899" name=""/>
              <p:cNvSpPr/>
              <p:nvPr/>
            </p:nvSpPr>
            <p:spPr>
              <a:xfrm>
                <a:off x="364680" y="449928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4680" y="576756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984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6468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16200000">
                <a:off x="67176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55520" y="486504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36468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7960" y="516384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674640" y="717480"/>
            <a:ext cx="6967440" cy="2670120"/>
            <a:chOff x="674640" y="717480"/>
            <a:chExt cx="6967440" cy="2670120"/>
          </a:xfrm>
        </p:grpSpPr>
        <p:sp>
          <p:nvSpPr>
            <p:cNvPr id="908" name=""/>
            <p:cNvSpPr/>
            <p:nvPr/>
          </p:nvSpPr>
          <p:spPr>
            <a:xfrm flipH="1" flipV="1">
              <a:off x="2289240" y="1032840"/>
              <a:ext cx="9367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2004840" y="103716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5400000">
              <a:off x="3358800" y="943560"/>
              <a:ext cx="498960" cy="5223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463560" y="1296720"/>
              <a:ext cx="2970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692520" y="1036800"/>
              <a:ext cx="117360" cy="245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462480" y="1131840"/>
              <a:ext cx="107280" cy="150480"/>
              <a:chOff x="3462480" y="1131840"/>
              <a:chExt cx="107280" cy="150480"/>
            </a:xfrm>
          </p:grpSpPr>
          <p:sp>
            <p:nvSpPr>
              <p:cNvPr id="914" name=""/>
              <p:cNvSpPr/>
              <p:nvPr/>
            </p:nvSpPr>
            <p:spPr>
              <a:xfrm flipH="1" flipV="1">
                <a:off x="3467160" y="1131840"/>
                <a:ext cx="82080" cy="150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rot="5400000">
                <a:off x="3455280" y="1139040"/>
                <a:ext cx="121320" cy="10728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H="1" flipV="1">
              <a:off x="3417840" y="1037160"/>
              <a:ext cx="46080" cy="94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3603240" y="1297080"/>
              <a:ext cx="1800" cy="157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818880" y="1017000"/>
              <a:ext cx="25606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9920" y="10371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5400000">
              <a:off x="5668560" y="99900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5400000">
              <a:off x="2451960" y="101484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32120" y="2261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595840" y="2317320"/>
              <a:ext cx="1857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532120" y="2117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595840" y="2179440"/>
              <a:ext cx="18576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016680" y="203112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753520" y="185220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777280" y="2402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3063960" y="2206080"/>
              <a:ext cx="234720" cy="46080"/>
              <a:chOff x="3063960" y="2206080"/>
              <a:chExt cx="234720" cy="46080"/>
            </a:xfrm>
          </p:grpSpPr>
          <p:sp>
            <p:nvSpPr>
              <p:cNvPr id="930" name=""/>
              <p:cNvSpPr/>
              <p:nvPr/>
            </p:nvSpPr>
            <p:spPr>
              <a:xfrm flipH="1">
                <a:off x="3063960" y="225216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063960" y="220608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2247480" y="944280"/>
              <a:ext cx="50760" cy="215640"/>
              <a:chOff x="2247480" y="944280"/>
              <a:chExt cx="50760" cy="215640"/>
            </a:xfrm>
          </p:grpSpPr>
          <p:sp>
            <p:nvSpPr>
              <p:cNvPr id="933" name=""/>
              <p:cNvSpPr/>
              <p:nvPr/>
            </p:nvSpPr>
            <p:spPr>
              <a:xfrm>
                <a:off x="229824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24748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V="1">
              <a:off x="2486160" y="1023120"/>
              <a:ext cx="0" cy="16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7760" y="1451880"/>
              <a:ext cx="0" cy="12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13000" y="1827000"/>
              <a:ext cx="24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692680" y="1044000"/>
              <a:ext cx="0" cy="10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5400000">
              <a:off x="3567240" y="1797840"/>
              <a:ext cx="63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5400000">
              <a:off x="5653800" y="179712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410560" y="1274400"/>
              <a:ext cx="181080" cy="428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601600" y="127728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5400000">
              <a:off x="4053960" y="1587240"/>
              <a:ext cx="16596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3486960" y="2005920"/>
              <a:ext cx="181080" cy="42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13000" y="227520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13000" y="18270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92680" y="2317320"/>
              <a:ext cx="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84640" y="12135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44720" y="123480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02480" y="1902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391080" y="924480"/>
              <a:ext cx="52200" cy="215640"/>
              <a:chOff x="6391080" y="924480"/>
              <a:chExt cx="52200" cy="215640"/>
            </a:xfrm>
          </p:grpSpPr>
          <p:sp>
            <p:nvSpPr>
              <p:cNvPr id="952" name=""/>
              <p:cNvSpPr/>
              <p:nvPr/>
            </p:nvSpPr>
            <p:spPr>
              <a:xfrm>
                <a:off x="64432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910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6459480" y="102600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642080" y="120060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74200" y="105300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74640" y="937080"/>
              <a:ext cx="1311120" cy="1729080"/>
              <a:chOff x="674640" y="937080"/>
              <a:chExt cx="1311120" cy="1729080"/>
            </a:xfrm>
          </p:grpSpPr>
          <p:sp>
            <p:nvSpPr>
              <p:cNvPr id="958" name=""/>
              <p:cNvSpPr/>
              <p:nvPr/>
            </p:nvSpPr>
            <p:spPr>
              <a:xfrm>
                <a:off x="928800" y="1013760"/>
                <a:ext cx="10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28800" y="2662920"/>
                <a:ext cx="80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10600" y="11818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928800" y="996120"/>
                <a:ext cx="0" cy="16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6200000">
                <a:off x="1298520" y="785880"/>
                <a:ext cx="165240" cy="46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640" y="1489320"/>
                <a:ext cx="505440" cy="49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928800" y="1562040"/>
                <a:ext cx="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94040" y="1878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 flipV="1">
              <a:off x="6915240" y="1027440"/>
              <a:ext cx="0" cy="16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842880" y="150264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6560" y="156024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5400000">
              <a:off x="5649480" y="2620080"/>
              <a:ext cx="630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84560" y="2661480"/>
              <a:ext cx="46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5400000">
              <a:off x="3555360" y="2632680"/>
              <a:ext cx="648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5400000">
              <a:off x="3168720" y="2643120"/>
              <a:ext cx="6336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2440" y="2716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94200" y="285192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5400000">
              <a:off x="2453760" y="261324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24440" y="290664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38560" y="290412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98320" y="295452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4749480" y="28785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0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22120" y="1830240"/>
          <a:ext cx="87537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830240"/>
                    <a:ext cx="87537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007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008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1039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063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064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070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25920" y="1187280"/>
            <a:ext cx="1644480" cy="4788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759120" y="3675240"/>
            <a:ext cx="96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O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155520" y="1822320"/>
            <a:ext cx="8331840" cy="4335840"/>
            <a:chOff x="155520" y="1822320"/>
            <a:chExt cx="8331840" cy="4335840"/>
          </a:xfrm>
        </p:grpSpPr>
        <p:sp>
          <p:nvSpPr>
            <p:cNvPr id="1108" name=""/>
            <p:cNvSpPr/>
            <p:nvPr/>
          </p:nvSpPr>
          <p:spPr>
            <a:xfrm flipV="1">
              <a:off x="141624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1416240" y="5459400"/>
              <a:ext cx="68770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155520" y="1822320"/>
                  <a:ext cx="11527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11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1560600" y="3370320"/>
              <a:ext cx="3321720" cy="1828440"/>
              <a:chOff x="1560600" y="3370320"/>
              <a:chExt cx="3321720" cy="182844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156060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86440" y="575928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m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7520" y="572436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d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66480" y="5724360"/>
              <a:ext cx="33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częstotliwości średn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4640" y="1641600"/>
            <a:ext cx="6769800" cy="4202640"/>
            <a:chOff x="764640" y="1641600"/>
            <a:chExt cx="6769800" cy="4202640"/>
          </a:xfrm>
        </p:grpSpPr>
        <p:sp>
          <p:nvSpPr>
            <p:cNvPr id="1151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82880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4640" y="3733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165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167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193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1270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1304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1323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1349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1369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1402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1420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1431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1434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7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588960" y="1049400"/>
            <a:ext cx="5340240" cy="2674800"/>
            <a:chOff x="588960" y="1049400"/>
            <a:chExt cx="5340240" cy="2674800"/>
          </a:xfrm>
        </p:grpSpPr>
        <mc:AlternateContent>
          <mc:Choice xmlns:a14="http://schemas.microsoft.com/office/drawing/2010/main" Requires="a14">
            <p:sp>
              <p:nvSpPr>
                <p:cNvPr id="1463" name=""/>
                <p:cNvSpPr txBox="1"/>
                <p:nvPr/>
              </p:nvSpPr>
              <p:spPr>
                <a:xfrm>
                  <a:off x="588960" y="1049400"/>
                  <a:ext cx="5340240" cy="24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64" name=""/>
            <p:cNvSpPr/>
            <p:nvPr/>
          </p:nvSpPr>
          <p:spPr>
            <a:xfrm>
              <a:off x="4230720" y="2895480"/>
              <a:ext cx="198360" cy="828720"/>
            </a:xfrm>
            <a:prstGeom prst="downArrow">
              <a:avLst>
                <a:gd name="adj1" fmla="val 50000"/>
                <a:gd name="adj2" fmla="val 10444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150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52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55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56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58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61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65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65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 flipV="1">
            <a:off x="2886120" y="2622240"/>
            <a:ext cx="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90800" y="470520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762440" y="337140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762440" y="337356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24240" y="45529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3430440" y="4849920"/>
                <a:ext cx="804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0" name=""/>
          <p:cNvSpPr/>
          <p:nvPr/>
        </p:nvSpPr>
        <p:spPr>
          <a:xfrm>
            <a:off x="3213720" y="28605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B/dekad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97080" y="3094920"/>
            <a:ext cx="26892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854440" y="3373560"/>
            <a:ext cx="194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165400" y="312732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7163000">
            <a:off x="4188600" y="342684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2854440" y="348156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094120" y="3479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51160" y="3373560"/>
            <a:ext cx="611280" cy="6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3033720" y="405756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151160" y="40575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6316200">
            <a:off x="2831760" y="220716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2882880" y="40575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4630680" y="4892760"/>
                <a:ext cx="1755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8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568520" y="1477800"/>
            <a:ext cx="5478480" cy="2620800"/>
            <a:chOff x="1568520" y="1477800"/>
            <a:chExt cx="5478480" cy="2620800"/>
          </a:xfrm>
        </p:grpSpPr>
        <p:sp>
          <p:nvSpPr>
            <p:cNvPr id="1700" name=""/>
            <p:cNvSpPr/>
            <p:nvPr/>
          </p:nvSpPr>
          <p:spPr>
            <a:xfrm>
              <a:off x="5429160" y="2317680"/>
              <a:ext cx="0" cy="17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6320" y="1711080"/>
              <a:ext cx="199800" cy="48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86040" y="1527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11800" y="35794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3852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10200" y="2495520"/>
              <a:ext cx="596880" cy="545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414680" y="2558520"/>
              <a:ext cx="293760" cy="122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714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4594320" y="2917800"/>
              <a:ext cx="11412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210200" y="276984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4708440" y="1477800"/>
              <a:ext cx="792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84600" y="2768400"/>
              <a:ext cx="533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716360" y="296676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586320" y="333504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86040" y="238896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86040" y="380340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400560" y="1509480"/>
              <a:ext cx="299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054840" y="268092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43760" y="2744640"/>
              <a:ext cx="204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54840" y="2517480"/>
              <a:ext cx="36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35560" y="150948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659120" y="1477800"/>
              <a:ext cx="781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18804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659120" y="4011480"/>
              <a:ext cx="781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73880" y="2436480"/>
              <a:ext cx="573120" cy="3463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75400" y="2479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03680" y="2144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4480" y="283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5078520" y="2192040"/>
              <a:ext cx="56880" cy="246240"/>
              <a:chOff x="5078520" y="2192040"/>
              <a:chExt cx="56880" cy="24624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7852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13540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5157720" y="232056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48160" y="2512800"/>
              <a:ext cx="1904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83080" y="40287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19880" y="30952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62200" y="27493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62200" y="404316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29320" y="288108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1762200" y="273492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rot="16200000">
              <a:off x="2190960" y="2572920"/>
              <a:ext cx="13032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68520" y="3122280"/>
              <a:ext cx="387360" cy="38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762200" y="317772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8892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99000" y="1652400"/>
              <a:ext cx="190440" cy="53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72080" y="226512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08360" y="3350880"/>
              <a:ext cx="198720" cy="48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23040" y="22935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3017880" y="2890440"/>
              <a:ext cx="0" cy="9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090960" y="17730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68720" y="3311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 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1769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1770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1803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1843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9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1857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5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1866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1868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0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6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8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4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6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7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8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99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1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12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917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940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943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1980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6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7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8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9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067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10-19T15:19:59Z</dcterms:modified>
  <cp:revision>116</cp:revision>
  <dc:subject/>
  <dc:title>Właściwości częstotliwościowe wzmacniaczy tranzystorowych</dc:title>
</cp:coreProperties>
</file>